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352-498F-4765-9C38-95224BB7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08A-D8FA-487E-B211-47BC6C87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1CD-C9F7-483F-BCE5-43A115B6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541-9463-4D5E-BB59-BB65A47D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51D-72DB-45E5-ACBE-E386663F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E51-E16E-48F2-BEA9-283863CE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1A8-F97F-46A0-9AFE-292E5A76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A2F-A640-42D9-AE6A-4512CDDC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BE5-1D35-4DAF-8167-2B6DF87A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5E2-FF53-4C82-BE1E-C2852E6C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9C1-67C3-48F5-8492-D4E7F169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EAD-52B8-4D22-8CFA-E1AA6ABF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13F4-B8DE-47BC-86AE-B6FD81BCD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lienque@ing.uchile.c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seño de Bio-reactores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br>
              <a:rPr sz="4400"/>
            </a:br>
            <a:br>
              <a:rPr sz="4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.Elena Lienqueo</a:t>
            </a:r>
            <a:br>
              <a:rPr sz="2400"/>
            </a:b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lienque@ing.uchile.cl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ficina 1 CIBy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rmentación e Ingeniería Metab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2224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817560" y="-5025960"/>
            <a:ext cx="2626920" cy="2057760"/>
            <a:chOff x="817560" y="-5025960"/>
            <a:chExt cx="2626920" cy="2057760"/>
          </a:xfrm>
        </p:grpSpPr>
        <p:sp>
          <p:nvSpPr>
            <p:cNvPr id="82" name=""/>
            <p:cNvSpPr/>
            <p:nvPr/>
          </p:nvSpPr>
          <p:spPr>
            <a:xfrm>
              <a:off x="1272600" y="-4454280"/>
              <a:ext cx="1371600" cy="1486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7560" y="-4911480"/>
              <a:ext cx="1143000" cy="800280"/>
            </a:xfrm>
            <a:prstGeom prst="uturnArrow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01480" y="-5025960"/>
              <a:ext cx="1143000" cy="799920"/>
            </a:xfrm>
            <a:prstGeom prst="uturnArrow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58760" y="-5025960"/>
              <a:ext cx="0" cy="1714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15680" y="-3425400"/>
              <a:ext cx="3427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58760" y="-3425400"/>
              <a:ext cx="3427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88960" y="-5162400"/>
            <a:ext cx="4572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89440" y="-5102280"/>
            <a:ext cx="45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389240" y="-5048280"/>
            <a:ext cx="1143000" cy="571680"/>
            <a:chOff x="1389240" y="-5048280"/>
            <a:chExt cx="1143000" cy="571680"/>
          </a:xfrm>
        </p:grpSpPr>
        <p:sp>
          <p:nvSpPr>
            <p:cNvPr id="91" name=""/>
            <p:cNvSpPr/>
            <p:nvPr/>
          </p:nvSpPr>
          <p:spPr>
            <a:xfrm>
              <a:off x="2075040" y="-5048280"/>
              <a:ext cx="4572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89240" y="-481932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475160" y="-5025960"/>
            <a:ext cx="217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y Fs: Flujos Volumétricos de entrada y sal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xo y po: Concentración de sustrato, biomasa y producto a la entr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x y p: Concentración de sustrato, biomasa y producto a la salida y al interior del fermentador o biore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-51768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mensionamiento del bior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dimensionamiento  de un biorreactor no sólo implica el volumen del bioreactor, sino que  la potencia que  se le debe entregar a los agitadores y soplad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eterminar el volumen del bioreactor es necesario plantear los balances de mas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3624120"/>
            <a:ext cx="9144000" cy="35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5400" rIns="90000" tIns="46800" bIns="0" anchor="t">
            <a:spAutoFit/>
          </a:bodyPr>
          <a:p>
            <a:pPr algn="just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masa total o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Biomasa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sustrato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producto de interés, p (PROPUES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estos balance solo 3 son independien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-5222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-5222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-5222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095880" cy="208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masa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sa de Entrada – Masa de Salida = Acumulación de M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62160" y="1433520"/>
                <a:ext cx="3233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09480" y="4648320"/>
                <a:ext cx="45244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sSub>
                          <m:e>
                            <m:r>
                              <m:t xml:space="preserve">d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5880" y="3657600"/>
            <a:ext cx="262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1295280"/>
            <a:ext cx="533160" cy="19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1219320"/>
            <a:ext cx="533160" cy="19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362320"/>
            <a:ext cx="52578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 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nsidad de entrada y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ensidades se mantienen constantes:      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opera sin flujos de entrada ni salida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477120" y="838080"/>
          <a:ext cx="181908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838080"/>
                    <a:ext cx="181908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8600" y="5943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hay variación de volume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0"/>
            <a:ext cx="8686800" cy="50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élulas entran – Células salen + Crecimiento celular – Muerte celular  = Acumulació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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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79560" y="212724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09680" y="4419720"/>
                <a:ext cx="36594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Biomasa (cont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i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situación ocurre principalmente en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505320" y="2743200"/>
                <a:ext cx="1635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μ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1547640"/>
                <a:ext cx="24368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429000" y="5105520"/>
                <a:ext cx="16923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609480" y="4343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tiempo del batch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228600"/>
            <a:ext cx="868680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Nutriente limit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strato entran – Sustrato salen -  Sustrato consumido crecimiento – Sustrato utilizado  mantención –   Formación de producto =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umulació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62120" y="2057400"/>
                <a:ext cx="73022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57200" y="3886200"/>
            <a:ext cx="800100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r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: Velocidad específica o Coeficiente de consumo de sustrato por mantención, relaciona los moles de sustrato consumidos para mantener la bio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célula/gr sustrato] : Rendimiento o Conversión  (yield) de células referidas a nutriente consumido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/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producto /gr sustrato] : Rendimiento o Conversión de producto producido referidos a nutriente consumido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533520"/>
            <a:ext cx="80010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producto/gr célula hora] : Velocidad específica de formación de produc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r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: : Velocidad específica o Coeficiente de formación de producto debido a la  manten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/x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producto /gr biomasa] : Rendimiento o Conversión de producto producido referidos a biomasa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1447920"/>
                <a:ext cx="2341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09480" y="2590920"/>
                <a:ext cx="749772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90720" y="1219320"/>
            <a:ext cx="4572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No hay entrada ni salida de sustrato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51160" y="22860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Nutriente limitante 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41600" y="4648320"/>
                <a:ext cx="3817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60948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o dV/dt =0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181320" y="3048120"/>
                <a:ext cx="1806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609480" y="236232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oniendo que se opera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mplaz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09840" y="685800"/>
                <a:ext cx="3817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419720" y="2286000"/>
                <a:ext cx="1204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897200" y="4419720"/>
                <a:ext cx="49053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sub>
                                </m:sSub>
                              </m:den>
                            </m:f>
                          </m:e>
                          <m:sub/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143000" y="2438280"/>
                <a:ext cx="6248520" cy="22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762120" y="762120"/>
            <a:ext cx="7696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ordenando, suponiendo que todos los términos dentro del paréntesis son constante e Integrando entre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0  s=s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 t=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=s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tiene que la siguiente ecu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5257800"/>
            <a:ext cx="76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nde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tiempo del cultivo b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09680" y="2971800"/>
                <a:ext cx="466416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762120" y="1523880"/>
            <a:ext cx="76960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no se forman productos (q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0)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producción está directamente asociada al metabolismo energé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os particul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86000" y="3276720"/>
                <a:ext cx="41083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62120" y="1523880"/>
            <a:ext cx="7696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 Si no se forman productos (q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0) o si la producción está directamente asociada al metabolismo energético y se pueden despreciar los requerimientos de mantención (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os particul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tes y Jueves 10:15-12:00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rnes: 14:30-16:00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224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228600"/>
            <a:ext cx="868680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o entran – Producto salen +  Formación de producto =  Acumulació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041560" y="2362320"/>
                <a:ext cx="4738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685800" y="3657600"/>
            <a:ext cx="70866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entrada ni salida de producto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consumo de 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29080" y="228600"/>
            <a:ext cx="556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producto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733920" y="3124080"/>
                <a:ext cx="15048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60948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o dV/dt =0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082960" y="1447920"/>
                <a:ext cx="4654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762120" y="44197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la muerte es despreciable y se está crecien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on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162920" y="4343400"/>
                <a:ext cx="1204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581280" y="5410080"/>
                <a:ext cx="1806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71840" y="228600"/>
            <a:ext cx="567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producto 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79800" y="1752480"/>
                <a:ext cx="25081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609480" y="114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mplaz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2743200"/>
            <a:ext cx="7772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q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 constante, se puede integrar entre t=0   p=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y  t=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=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, con es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989000" y="4092480"/>
                <a:ext cx="4552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228600"/>
            <a:ext cx="853452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tiliz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momonas mobili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vertir la glucosa en etanol en un fermentador batch  en condiciones anaerobias. El rendimiento de biomasa a partir de sustrato 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06g/g;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/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de  7.7 g/g. El coeficiente de mantenimiento es 2.2g/g h y la velocidad específica de formación de producto debido a mantenimiento es 1.1 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a velocidad específica máxima de crecimiento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momonas mobili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aproximadamente 0.3 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e inoculan 5 g de bacterias en 50 L de cultivo que contienen 12 g/L de glucosa. Determine los tiempos de cultivo par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roducir 10 g y 30 g de bioma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lcanzar una conversión de sustrato del 90% y 10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Producir 100 g de etano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 Considere que la síntesis de etanol está directamente asociada al metabolismos energético de la célu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estionario 1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 grupos y responda las siguientes pregunta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empo 10 minuto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 Indique en la producción de que tipo de productos se utilizan los bio-reac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 ¿Cuáles pueden ser las formas de operar un bio-re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 ¿Qué elementos se deben considerar en el diseño de un bio-re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 ¿Qué diferencias hay entre un reactor químico y un bio-re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5. En un cultivo BATCH, ¿cuanta glucosa pueden soportar los m.o? 2, 20, 200g/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6. En un cultivo BATCH ¿A cuanto puede llegar la concentración de biomasa? 10, 50, 100 g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nálisis y Diseño de Reactores Biológ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Cultivo Batch,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Modificaciones del Quimios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Fermentadores Fed-batch, alimentaciones, ecuaciones dinámicas;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formación de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Relación entre batch y contínu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ireación  y  agi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scal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Instru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Uso de computadores en control de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strategias d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Optim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steri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0"/>
            <a:ext cx="8686800" cy="6819840"/>
            <a:chOff x="228600" y="0"/>
            <a:chExt cx="8686800" cy="681984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4572000" cy="29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4800600" y="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228600" y="3429000"/>
              <a:ext cx="4038480" cy="339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3352680" y="1752480"/>
            <a:ext cx="5457960" cy="5105520"/>
            <a:chOff x="3352680" y="1752480"/>
            <a:chExt cx="5457960" cy="5105520"/>
          </a:xfrm>
        </p:grpSpPr>
        <p:grpSp>
          <p:nvGrpSpPr>
            <p:cNvPr id="55" name=""/>
            <p:cNvGrpSpPr/>
            <p:nvPr/>
          </p:nvGrpSpPr>
          <p:grpSpPr>
            <a:xfrm>
              <a:off x="3352680" y="2971800"/>
              <a:ext cx="5457960" cy="3886200"/>
              <a:chOff x="3352680" y="2971800"/>
              <a:chExt cx="5457960" cy="3886200"/>
            </a:xfrm>
          </p:grpSpPr>
          <p:pic>
            <p:nvPicPr>
              <p:cNvPr id="5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2971800"/>
                <a:ext cx="3781440" cy="38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3352680" y="5029200"/>
                <a:ext cx="1524240" cy="533520"/>
              </a:xfrm>
              <a:prstGeom prst="rightArrow">
                <a:avLst>
                  <a:gd name="adj1" fmla="val 50000"/>
                  <a:gd name="adj2" fmla="val 7142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6858000" y="1752480"/>
              <a:ext cx="304920" cy="1295640"/>
            </a:xfrm>
            <a:prstGeom prst="downArrow">
              <a:avLst>
                <a:gd name="adj1" fmla="val 50000"/>
                <a:gd name="adj2" fmla="val 1062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61722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304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a lixiv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6400800"/>
            <a:ext cx="3810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QU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295280" y="1219320"/>
            <a:ext cx="7515360" cy="5638680"/>
            <a:chOff x="1295280" y="1219320"/>
            <a:chExt cx="7515360" cy="5638680"/>
          </a:xfrm>
        </p:grpSpPr>
        <p:grpSp>
          <p:nvGrpSpPr>
            <p:cNvPr id="64" name=""/>
            <p:cNvGrpSpPr/>
            <p:nvPr/>
          </p:nvGrpSpPr>
          <p:grpSpPr>
            <a:xfrm>
              <a:off x="3352680" y="1752480"/>
              <a:ext cx="5457960" cy="5105520"/>
              <a:chOff x="3352680" y="1752480"/>
              <a:chExt cx="5457960" cy="510552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3352680" y="2971800"/>
                <a:ext cx="5457960" cy="3886200"/>
                <a:chOff x="3352680" y="2971800"/>
                <a:chExt cx="5457960" cy="388620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029200" y="2971800"/>
                  <a:ext cx="3781440" cy="38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3352680" y="5029200"/>
                  <a:ext cx="1524240" cy="533520"/>
                </a:xfrm>
                <a:prstGeom prst="rightArrow">
                  <a:avLst>
                    <a:gd name="adj1" fmla="val 50000"/>
                    <a:gd name="adj2" fmla="val 71424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6858000" y="1752480"/>
                <a:ext cx="304920" cy="1295640"/>
              </a:xfrm>
              <a:prstGeom prst="downArrow">
                <a:avLst>
                  <a:gd name="adj1" fmla="val 50000"/>
                  <a:gd name="adj2" fmla="val 106228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1295280" y="121932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qu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ultivo BATCH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cuaciones de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414600" cy="4556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9880" y="3124080"/>
            <a:ext cx="50659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ivo B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bio-reactores operan en forma discontinua (carga, fermentación, descarg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33520" y="2743200"/>
            <a:ext cx="5486400" cy="3881520"/>
            <a:chOff x="533520" y="2743200"/>
            <a:chExt cx="5486400" cy="388152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533520" y="3276720"/>
              <a:ext cx="5333760" cy="33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914400" y="274320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rva de Crecimiento en forma b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8" name=""/>
          <p:cNvGraphicFramePr/>
          <p:nvPr/>
        </p:nvGraphicFramePr>
        <p:xfrm>
          <a:off x="6095880" y="2743200"/>
          <a:ext cx="2667240" cy="3929040"/>
        </p:xfrm>
        <a:graphic>
          <a:graphicData uri="http://schemas.openxmlformats.org/drawingml/2006/table">
            <a:tbl>
              <a:tblPr/>
              <a:tblGrid>
                <a:gridCol w="1333800"/>
                <a:gridCol w="13334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uaciones de Diseño de un Bioreactor se obtienen a partir de los Balance de Mas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a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Ing Quimica</cp:lastModifiedBy>
  <dcterms:modified xsi:type="dcterms:W3CDTF">2007-05-08T16:17:08Z</dcterms:modified>
  <cp:revision>70</cp:revision>
  <dc:subject/>
  <dc:title>Cultivo Continuo</dc:title>
</cp:coreProperties>
</file>