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2D7-B7DE-42AE-BCC5-B28DE9AA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C58-685A-4989-BA56-F4475107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EBE-60D8-4D43-9F31-34ADA00B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44B-FC26-45CA-98A1-5F33AD26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B6A-3AF3-4A36-8E19-23D3125A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7F7-A4F1-42EB-B7B0-B4515F83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4E6-CFCA-4795-8071-AA3A42EF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B44-AC57-4B7E-8B2F-19D2E21C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6BE-F741-4C90-9D90-EFAE73CA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575-C0DC-425B-922A-17E693F4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301-6235-4E5C-AC37-54399E5B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98F-65D7-406C-AFA6-59308A8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6BF7-11AF-42A8-B270-56D197237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Ordenar 4 números generados al a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ción. Ordene los 3 primeros y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uida determine el lugar del 4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. Escribir la func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atic public int mayor(int x,int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 usar la función Math.max ni Math.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80960" y="444600"/>
          <a:ext cx="8458200" cy="58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44600"/>
                    <a:ext cx="845820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7-03-09T18:16:15Z</dcterms:modified>
  <cp:revision>31</cp:revision>
  <dc:subject/>
  <dc:title>Sin título de diapositiva</dc:title>
</cp:coreProperties>
</file>