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40B-E46B-42E5-8647-2B1B4689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201-F7E6-4FD7-8036-70873F9B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33A-D326-4513-A2DF-D012DE3C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E1C-8913-4F11-AA38-BAFD719E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2BE-79D0-4022-A3A9-AD5C7D0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0AE-B35C-4044-AA8D-ABF524E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F55-7E27-47D4-8F88-B2635039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754-58C3-48D6-80FD-3C01D1E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272-4BC1-4D01-B03E-202CC4D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DF6-2094-48E6-A80C-AE6CA24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4C7-FD6B-444E-B4C8-23E578B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67D-3A44-43B7-8262-54094B1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10A9-48AB-497D-96E3-4963948F7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73200" y="528480"/>
          <a:ext cx="836280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28480"/>
                    <a:ext cx="836280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68440"/>
          <a:ext cx="839952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68440"/>
                    <a:ext cx="839952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28480" y="541440"/>
          <a:ext cx="8302680" cy="61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41440"/>
                    <a:ext cx="830268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3440" y="601560"/>
          <a:ext cx="855324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1560"/>
                    <a:ext cx="855324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681120"/>
          <a:ext cx="812628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81262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20840" y="528480"/>
          <a:ext cx="85309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5309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5200" y="554040"/>
          <a:ext cx="839772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54040"/>
                    <a:ext cx="839772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8400" y="638280"/>
          <a:ext cx="79408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38280"/>
                    <a:ext cx="79408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446040"/>
          <a:ext cx="8326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26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4200" y="70488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0488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554040"/>
          <a:ext cx="859140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4040"/>
                    <a:ext cx="85914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77760" y="596880"/>
          <a:ext cx="72518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96880"/>
                    <a:ext cx="7251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7-04-05T15:04:48Z</dcterms:modified>
  <cp:revision>40</cp:revision>
  <dc:subject/>
  <dc:title>Sin título de diapositiva</dc:title>
</cp:coreProperties>
</file>