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812-648D-4831-B8DD-2CDADE6E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ED3-E156-4C76-B7D4-13EDE42A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494-036B-48E0-8A3B-2F404582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1B8-5097-4B8F-A7D1-C50D4399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07E-DD3A-4CEA-B674-B4CC77ED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314-8348-4571-BB24-89DCC9C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7D1-C9C1-44D5-A4BE-43FF1EE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1CF-EA2D-4762-8C1F-377B5957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81D-35DE-4EF5-8B2C-32E39679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A98-4E6A-4B05-8E02-0A6EDE9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ED9-15A2-48C1-8892-2BF3830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37A-216B-46EB-837C-5071EB2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F6E-5D82-41AA-8B2D-9F328FA289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12T23:25:21Z</dcterms:modified>
  <cp:revision>15</cp:revision>
  <dc:subject/>
  <dc:title>EL63A-Taller de Proyecto en Control II</dc:title>
</cp:coreProperties>
</file>