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DF2-130F-4EEB-A824-D7FF9E35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0DB-FA08-45B5-85DF-CBBEBC5C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68E-E27C-4FA6-A955-9FFFFAD8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72F-F61A-4E9D-B94E-CF4D8E9B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293-E641-4B0D-AF87-80B099FF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45B-F523-433A-A373-46991966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8C8-1E24-4142-AD1D-1B4925F2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CAB-D94E-4FA7-8B97-6CFA310A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2D6-C1C5-45DE-AA7E-1477BE0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512-0180-4C5C-BC51-162E60CE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7C2-BCCA-4772-AFDC-4C0F7A0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702-AC55-4E12-B2D2-24A66911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4C28-A8EF-4223-88B5-1932C02F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076640"/>
            <a:ext cx="8964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ap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78200" y="141300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511280"/>
          <a:ext cx="8713800" cy="458172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nstrucción diseño- Correc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ueba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02T15:34:42Z</dcterms:modified>
  <cp:revision>32</cp:revision>
  <dc:subject/>
  <dc:title>EL63A-Taller de Proyecto en Control II</dc:title>
</cp:coreProperties>
</file>