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325-7A87-4AD8-8938-390BEB39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84C-52D8-42BE-85B9-8945B0FB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DD8-61C0-4028-9464-A021EBE9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0651-B684-498F-9803-3E239EA0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62C1-E6F0-4E7F-9E71-01D0ED1E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205F-47C0-49B2-B274-8221B935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44EC-95A8-4157-8A6B-B27D20A2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8FC0-4A30-4034-98DC-376AD311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FCF5-3E0D-42CD-93C8-67034BD9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2514-63FE-40AF-8387-78F6BD0C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4F16-D432-4DE7-954E-4D94402C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295-28B6-4FBD-9EF4-D01E172A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C0B4-74B1-4CDC-AFB3-CA7DC341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FE41-6D86-4634-B66B-50AA7D7D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D208-CF83-4810-B943-699A811F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A07F-2811-4951-AF8D-1145B26C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9A56-71FA-4D75-B6D2-47EB883D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A10-154D-4021-9293-A449E63B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78B5-0701-438E-9F1E-C9331335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E1AE-7E76-49E5-BED0-0C766F33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664-20CC-44D0-A0A4-A92AF50F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9E7-9D0D-40D3-B36B-BFC1B5D3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A20B-55BD-4930-9412-30F113D8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FB5-BC9F-4C69-9CC1-783DF00D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92B9-FBBD-4352-8A10-91ACDF613DA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F64E-AC62-4615-9C83-1F839A1AC6F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086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rebuchet MS"/>
              </a:rPr>
              <a:t>Presentaciones orales</a:t>
            </a:r>
            <a:br>
              <a:rPr sz="4000"/>
            </a:br>
            <a:br>
              <a:rPr sz="2100"/>
            </a:br>
            <a:r>
              <a:rPr b="1" lang="en-US" sz="2800" spc="-1" strike="noStrike">
                <a:solidFill>
                  <a:srgbClr val="eaeaea"/>
                </a:solidFill>
                <a:latin typeface="Trebuchet MS"/>
              </a:rPr>
              <a:t>Método común para evaluar tanto el progreso de un proyecto como el del individuo.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7199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El cuerp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3534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30060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Al hablar de los resultados esperados, es importante interpretarlos y compararlos con los reale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30060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Es trascendente referirse a cómo las decisiones o diseños finales se relacionan directamente con los resultad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El cuerpo</a:t>
            </a:r>
            <a:br>
              <a:rPr sz="4000"/>
            </a:br>
            <a:br>
              <a:rPr sz="800"/>
            </a:br>
            <a:r>
              <a:rPr b="0" lang="en-US" sz="3100" spc="-1" strike="noStrike">
                <a:solidFill>
                  <a:srgbClr val="eaeaea"/>
                </a:solidFill>
                <a:latin typeface="Trebuchet MS"/>
              </a:rPr>
              <a:t>Se recomienda el uso de diapositivas con bosquejos para ilustrar puntos y títulos.</a:t>
            </a:r>
            <a:br>
              <a:rPr sz="31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en-US" sz="3100" spc="-1" strike="noStrike">
                <a:solidFill>
                  <a:srgbClr val="eaeaea"/>
                </a:solidFill>
                <a:latin typeface="Trebuchet MS"/>
              </a:rPr>
              <a:t>Es factible incluir tres o cuatro líneas de texto que pueden usarse como elemento de discusión para cada una de las diapositivas.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35344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El cierr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8496360" cy="38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as dos últimas diapositivas presentan un resumen de los puntos clave de la exposi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ada punto mencionado en esta fase debe haber sido tratado en el cuerpo de la conversación.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Apoyo visu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Toda presentación debe ocupar apoyo visual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 objetivo de este tipo de material es transmitir información suficiente para la audiencia; en consecuencia, debe ser cuidadosamente desarroll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¿Cómo preparar apoyos visuales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recomienda una diapositiva por cada minuto de presentación. Si ésta toma más de dos minutos, contiene demasiada información y puede confundir a la audi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o se debe hablar sin una diapositiva que enfatice los puntos trat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_tradnl" sz="3000" spc="-1" strike="noStrike">
                <a:solidFill>
                  <a:srgbClr val="ffcc00"/>
                </a:solidFill>
                <a:latin typeface="Tahoma"/>
              </a:rPr>
              <a:t>¿Cuál es el formato ideal para cada diapositiva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-312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Las diapositivas se deben mantener simples y orden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-312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Se sugiere la elección de plantillas simples para evitar añadir gráficas distracto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-312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La elección de colores debe agregar impacto y realzar la legibilidad de cualquier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5172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5172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Trebuchet MS"/>
              </a:rPr>
              <a:t>Otras consideraciones al elaborar diaposi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itular cada diaposi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ar letra grande (24 puntos mínim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tilizar una orientación horizontal (permite que la diapositiva sea mostrada en la parte superior de la pantal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egir las palabras adecuadas y concisas de los comentarios del present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forzar las palabras habladas por el expositor, no con la finalidad de repetir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antener una lista de las diapositivas para identificar el orden que debe te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636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vitar superponer diapositivas, así como usar objetos de apoyo vis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aborar fotocopias claras de informaciones de textos y libros, así como gráficos de buena c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ar pocos números; su exceso puede aburrir a los recept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l incluir ecuaciones, es imprescindible explicar su relevancia y result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nificar gráficos armonios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rear transiciones sutiles entre cada nueva diaposi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Elementos de las presentaciones orale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5327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Audienci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Contenido y su organización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Apoyo visual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Presentador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00"/>
                </a:solidFill>
                <a:latin typeface="Trebuchet MS"/>
              </a:rPr>
              <a:t>Respecto del presentador, es necesario considerar qu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l expositor -y su equipo- posee más conocimiento acerca del te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la audiencia presenta interés en lo que se va a exponer.</a:t>
            </a:r>
            <a:r>
              <a:rPr b="0" lang="es-ES_tradnl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846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Objetivos de los presentad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Ganar la atención de la audiencia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Convencer a la audiencia del valor de las ideas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Hacer una presentación memorable, con apoyo visual efectivo y un estilo atractivo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Estimular a la audiencia con movimientos, voz y apropiado apoyo visual.</a:t>
            </a: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7599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Sugerencias para entregar un mensaje pertin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ransmitir información a través del lenguaje corpor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5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antener contacto visual con la audi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5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ituarse donde no bloquee las diapositiv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57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ar las manos para enfatizar, especificar y realizar gestos que ilustren lo que se está diciendo.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496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Transmitir un mensaje a través del dis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tilizar un tono  y volumen apropi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vitar muletillas (tratar de hacer una presentación previa con el fin de corregirla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acticar el estilo de cada expositor, con el fin de ayudarse entre to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2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Respecto de los recursos a utilizar en la 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visar condiciones 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unter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royector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Micrófon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Luce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A modo de suger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Trebuchet MS"/>
              </a:rPr>
              <a:t>Nunc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concluir una presentación con las siguientes fras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so es todo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Alguna pregunta?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Evaluación de la 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sugiere evaluar la exposición, grabándola en video, sea como ensayo o como presentación fi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820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00"/>
                </a:solidFill>
                <a:latin typeface="Trebuchet MS"/>
              </a:rPr>
              <a:t>Preguntas para evaluar la expos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-385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rganizacionalmente, ¿qué se puede hacer para que la presentación resulte más fluid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-385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tan efectivos resultan los apoyos visual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636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Preguntas para evaluar la expos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252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cambios se pueden realizar en las diapositivas para hacerlas más pertinent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2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tan efectivas son las técnicas de comunicació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Se evidencian gestos molestos o distracción verbal que distraigan a la audienci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Preguntas para evaluar la expos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parte de la presentación es la más efectiv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se requiere para mejorar la próxima exposició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Audiencia</a:t>
            </a:r>
            <a:br>
              <a:rPr sz="4000"/>
            </a:br>
            <a:br>
              <a:rPr sz="8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El presentador debe evaluar a la audiencia, con el fin de capturar su interés.</a:t>
            </a:r>
            <a:br>
              <a:rPr sz="2900"/>
            </a:br>
            <a:br>
              <a:rPr sz="8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El expositor reunirá información sobre el grado de conocimiento de la audiencia respecto del tema a tratar.</a:t>
            </a:r>
            <a:endParaRPr b="1" lang="en-US" sz="2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cc00"/>
                </a:solidFill>
                <a:latin typeface="Trebuchet MS"/>
              </a:rPr>
              <a:t>Fin de la presentación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Audiencia</a:t>
            </a:r>
            <a:br>
              <a:rPr sz="4000"/>
            </a:br>
            <a:r>
              <a:rPr b="1" i="1" lang="en-US" sz="3200" spc="-1" strike="noStrike">
                <a:solidFill>
                  <a:srgbClr val="eaeaea"/>
                </a:solidFill>
                <a:latin typeface="Trebuchet MS"/>
              </a:rPr>
              <a:t>Puede estar compuesta por:</a:t>
            </a: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Colega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Gerente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Contratista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Vendedore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Clientes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El contenido y su organización</a:t>
            </a:r>
            <a:br>
              <a:rPr sz="4000"/>
            </a:br>
            <a:br>
              <a:rPr sz="800"/>
            </a:br>
            <a:br>
              <a:rPr sz="800"/>
            </a:b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Una presentación efectiva implica reflexión y esfuerzo.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Esto se logra con un método organizado para desarrollar la conversación.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El contenido y su organización</a:t>
            </a:r>
            <a:br>
              <a:rPr sz="4000"/>
            </a:br>
            <a:br>
              <a:rPr sz="40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Trebuchet MS"/>
              </a:rPr>
              <a:t>Organizar las ideas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Es necesario distinguir entre aquéllas que son más apropiadas para presentarlas en la exposi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Utilizar formatos gráficos, ilustracion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La primera diapositiva o transparencia proporciona el título de la presentación: título del proyecto, objetivo, nombre de los miembros del equipo y fech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7058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00"/>
                </a:solidFill>
                <a:latin typeface="Trebuchet MS"/>
              </a:rPr>
              <a:t>Organización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La Introducción: informar qué se va a decir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l cuerpo: exponer los puntos centrale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l cierre: sintetizar a grandes rasgos lo que se presentó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La introducción</a:t>
            </a:r>
            <a:br>
              <a:rPr sz="2900"/>
            </a:br>
            <a:br>
              <a:rPr sz="8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Breve detalle de los puntos a tratar (10 a 15 segundos). Provee un mapa con los puntos importantes de la presentación.</a:t>
            </a:r>
            <a:br>
              <a:rPr sz="2900"/>
            </a:br>
            <a:br>
              <a:rPr sz="29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Habitualmente se titula como “Descripción”, “Puntos a tratar” o, simplemente,“Introducción”.</a:t>
            </a:r>
            <a:endParaRPr b="1" lang="en-US" sz="2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s-ES_tradnl" sz="4000" spc="-1" strike="noStrike">
                <a:solidFill>
                  <a:srgbClr val="ffcc00"/>
                </a:solidFill>
                <a:latin typeface="Trebuchet MS"/>
              </a:rPr>
              <a:t>El cuerpo</a:t>
            </a:r>
            <a:br>
              <a:rPr sz="4000"/>
            </a:br>
            <a:br>
              <a:rPr sz="800"/>
            </a:br>
            <a:r>
              <a:rPr b="0" i="1" lang="es-ES_tradnl" sz="2800" spc="-1" strike="noStrike">
                <a:solidFill>
                  <a:srgbClr val="eaeaea"/>
                </a:solidFill>
                <a:latin typeface="Trebuchet MS"/>
              </a:rPr>
              <a:t>Posee los detalles importantes y los contenidos de la presentación.</a:t>
            </a:r>
            <a:br>
              <a:rPr sz="2800"/>
            </a:br>
            <a:br>
              <a:rPr sz="2800"/>
            </a:br>
            <a:r>
              <a:rPr b="0" i="1" lang="es-ES_tradnl" sz="2800" spc="-1" strike="noStrike">
                <a:solidFill>
                  <a:srgbClr val="ffcc00"/>
                </a:solidFill>
                <a:latin typeface="Trebuchet MS"/>
              </a:rPr>
              <a:t>Incluye:</a:t>
            </a:r>
            <a:r>
              <a:rPr b="0" i="1" lang="es-ES_tradnl" sz="2800" spc="-1" strike="noStrike">
                <a:solidFill>
                  <a:srgbClr val="eaeaea"/>
                </a:solidFill>
                <a:latin typeface="Trebuchet MS"/>
              </a:rPr>
              <a:t> </a:t>
            </a:r>
            <a:br>
              <a:rPr sz="2800"/>
            </a:br>
            <a:br>
              <a:rPr sz="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1. Exposición de la base o teoría del  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    trabajo.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2. Presentación de los diseños o de los    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    métodos de la investigación.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3. Evidenciación de los resultados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0872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3:55:30Z</dcterms:created>
  <dc:creator>WinuE</dc:creator>
  <dc:description/>
  <dc:language>en-US</dc:language>
  <cp:lastModifiedBy>LI2</cp:lastModifiedBy>
  <dcterms:modified xsi:type="dcterms:W3CDTF">2007-06-11T18:22:24Z</dcterms:modified>
  <cp:revision>15</cp:revision>
  <dc:subject/>
  <dc:title>Expresión Escrita</dc:title>
</cp:coreProperties>
</file>