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997-3E48-4606-A683-617CE72A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639-36A4-4AE4-9D9F-ED9FD228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859-C506-496A-B28F-505CB5A2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5C2-15DE-48C5-8B90-12F28ED6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B0FE-6C96-4528-A0C0-BF01DD9A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D895-8C86-454D-A060-44626D36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5952-0FD4-49A1-8BE7-76D4F253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AE74-683A-4E54-B82B-3D4B315E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8091-AA40-437C-9C6B-AFB2BA3D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F170-AE9C-43C0-B46B-629D6F82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8D9E-4A1B-498B-B025-B5EE17B0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099-9F3D-4FAB-AA50-26A964AE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7E72-D3A1-4B77-899B-D7C2D23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689E-CE6D-4153-9AE5-1F441807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329F-D489-4062-8757-63188131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9F7F-C271-4293-981D-35CAEAAB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D1BE-F9C4-4990-A070-12CBB61F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651-D8E1-44DA-BF99-05BFBB2D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78E-26AF-4ADE-B193-867AB2DD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1B7-4BD0-4291-9967-213FEE3E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A7F-0629-49EB-B77A-1D74B71F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02C-E92F-49CF-900F-CA260DB0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ABB-1CD5-4238-A264-7B3CC88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00A-968F-484E-97BE-11C9F1A8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E796-1160-427F-B619-61341732C9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341E-D259-4169-B833-42BF4DE7CB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órfidos Cuprífero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Auxiliar Metalogénes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Otoño 200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curren asociados a sistemas estructura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Ej. Zona de Falla de Atacama: Chuqui, RT, Mina Sur, MM, El Ab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general no ocurren solos </a:t>
            </a: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(CLUST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égimen extensivo </a:t>
            </a:r>
            <a:r>
              <a:rPr b="0" lang="es-C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en la zona de subducción durante el Jurásico y Cretácico Inferior, 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0000" y="692280"/>
            <a:ext cx="338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Cr-inf: Andacollo, Domeyk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Paleoceno-Eoceno Inf: Cerro Colorado, Lomas Bayas, Sp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Eoceno Sup- Oligoceno Inf: Qda. Blanca, Rosario, Ujina, El Abra, RT, Chuquicamata, La Escondida, El Salvado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Mioceno sup-plioceno: Los Pelambres, Río Blanco, Los Bronces, El Tenient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ación de Alteración y miner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ncipalmente diseminada y en vetil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maria: Py, Cpy, B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úcleo de baja ley con Py, que grada hacia fuera en una zona de me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odelo de alteración y mineralización de Lowell y Guilbert, 197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332160" cy="371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43280" y="3618000"/>
            <a:ext cx="3311280" cy="32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238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istribución de sulfuros hipóge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41320" y="1773360"/>
            <a:ext cx="5659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teración Supérgena y Enriquecimiento Secundar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roceso de reequilibrio de la mineralogía hipógena (hidrotermal) a las condiciones oxidantes cerca de la superfici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 mayor parte de los pórfidos cupríferos no son económicos a menos que hayan desarrollado enriquecimiento secundario o supérgen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92360" y="1100160"/>
            <a:ext cx="5757840" cy="5757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il de Enriquecimiento Secunda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es un pórfido cuprífero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Yacimiento de mena de Cu-(Mo-Au) de origen hidrote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 alto tonelaje y baja le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néticamente relacionados a complejos intr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ás del 50% de la producción de Cu mundial proviene de este tipo de depósi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ile: 16 pórfidos cupríferos en explo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de los más grandes del mundo: Chuquicamata y El Ten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ocas de caja intruídas por los pórfidos pueden ser de cualquier ti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ineralización primaria constituida por sulfuros en forma diseminada y en vetill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Zonación de alteración hidrotermal alrededor del intrus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en magmático hidroterm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mbiente típico: Arcos magmáticos relacionados a subduc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18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cas calco-alcalinas (típicas de ambiente de subducció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2133720"/>
            <a:ext cx="5977080" cy="4484520"/>
            <a:chOff x="1619280" y="2133720"/>
            <a:chExt cx="5977080" cy="44845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5977080" cy="44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06640" y="236304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9280" y="382788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7080" y="550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formación de estos depósitos incluye un mecanismo llamad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GUNDA EBULLICIÓN o EBULLICIÓN RETRÓGRAD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 hidrofractura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724280"/>
            <a:ext cx="1584360" cy="649440"/>
          </a:xfrm>
          <a:prstGeom prst="rightArrow">
            <a:avLst>
              <a:gd name="adj1" fmla="val 50000"/>
              <a:gd name="adj2" fmla="val 609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Stockwork, brech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125360"/>
            <a:ext cx="3313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irculación de aguas magmáticas hidroterm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friamiento del sistema producto de la circulación de aguas subterráneas (celdas convectiva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jos iónicos desestabilizan y precipitan sulfuros metálic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n principalmente de Cu-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tienen Au (Potrerillos, El Salvad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sociados a rocas calco-alcalinas de composición variable, generalmente intrusivos granodioríticos y tonalít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24:25Z</dcterms:created>
  <dc:creator>marisoto</dc:creator>
  <dc:description/>
  <dc:language>en-US</dc:language>
  <cp:lastModifiedBy>marisoto</cp:lastModifiedBy>
  <dcterms:modified xsi:type="dcterms:W3CDTF">2007-03-26T09:59:18Z</dcterms:modified>
  <cp:revision>2</cp:revision>
  <dc:subject/>
  <dc:title>Pórfidos Cupríferos</dc:title>
</cp:coreProperties>
</file>