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704B-CD4E-4144-B28B-2932AD8FDF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7BCF-FCC8-470F-A733-06957038A5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8987-9D2C-4619-BC63-BB16A01DF4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B208-6216-4D91-8AC0-2433F6F3D1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7356-4A8C-4E43-B5D4-3100F37628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3738-F6FE-41F5-82B4-A3D0FAEF3D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2D42-62F6-4032-84BF-9815D5D92D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ABA13-1630-4684-A7EE-26066183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D5512-9EF3-4AF2-A304-78A1DEB3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B1849-4CD4-4AAB-B964-30AB243C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A6AA6-D98F-41DD-B491-B73C0B79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6DB25-D393-41A1-A709-96B7FCDA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890F5-8455-41BE-9D1C-3E947CDE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A911E-B2FC-4E66-9E06-01F2805D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1DBCF-F3E9-46EF-8134-12BE1CFF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DE89B-7291-4ABA-BB15-A20BAAA4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D8AD2-222F-4DAC-AEFA-7AF89C32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0330D-BB45-48CF-B1E9-66D42FF7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8DE3D-7802-473F-85F1-4E30DC36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9B9D-DD3A-4FCB-8C72-4AEA62CE4448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078440"/>
            <a:ext cx="7488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Contabilidad, ingresos potenciales y costos</a:t>
            </a:r>
            <a:br>
              <a:rPr sz="3600"/>
            </a:b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2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Modelo de operación contable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Registrar los asientos contables (libros de doble entrada o cuentas T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cumular los ingresos y gastos en el Estado de Resultad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nalizar “otros ítems” que no han sido ya considerados en el P&amp;L (ex: depreciación, impuestos, corrección monetaria,…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Balance de cierre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Estado de fuentes y u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Fuentes y usos de efec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969080" cy="234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00720" y="3521160"/>
            <a:ext cx="4643280" cy="3292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4880" y="4292640"/>
            <a:ext cx="33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Unos US$ 32 millones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por cada av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576360"/>
            <a:ext cx="8001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Metodología para calcular ingresos potenciale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197000"/>
            <a:ext cx="7550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Diseño y aplicación del estudio de mercado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1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para determinar los ingresos 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potenciales de un 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Tabulación de datos y proyección sobre de resultados sobre el mercado total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45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Análisis: el método estadístico más típicamente utilizado es la regresión lineal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583236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“Metodología para estudiar necesidades” IN 42 A Sesión 6 de Marzo 200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Ingresos (I) = Precio del producto/servicio (P) * Cantidad de personas que compran (Q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Ver Capítulo 5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Diseño del estudio de mercad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abu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2592360" cy="104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419640" y="2565360"/>
            <a:ext cx="5473440" cy="382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1971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Análisis por regresión lineal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étodo econométrico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de estimación de demanda, asumiendo comportamiento lineal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dond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: preci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Q: número de persona que pagarían el precio y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0" algn="just"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asume que las “n”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personas entrevistadas son representativas del mercad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635280" y="1990800"/>
                <a:ext cx="1790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39640" y="4941720"/>
            <a:ext cx="8064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Método también es conocido como “mínimos cuadrados” , dado que los parámetros de la recta (a,b) son estimados al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minimiza la distancia al cuadrado entre los puntos observados y la recta de la ecuació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El coeficiente de determinación (R2) indica cuan bueno es el ajuste de la ecuación estimada a los datos reales. Así por ejemplo, R2=0,9 indica que la variable independiente explica un 90% del comportamiento de la variable dependiente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El número de personas a entrevistar se determina según la significación estadística requerida. Por ejemplo si se asume que la decisión sigue una distribución Normal (0,1), entonces con un n= 33 se alcanza un 99% de intervalo de confianza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– 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Ver literatura de Estadística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c3300"/>
                </a:solidFill>
                <a:latin typeface="Verdana"/>
              </a:rPr>
              <a:t>Ingresos potenciales dada la demanda estimada por regresión lineal</a:t>
            </a:r>
            <a:endParaRPr b="1" lang="en-US" sz="25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627280" y="6308640"/>
                <a:ext cx="245124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asticidad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76520" y="1052640"/>
            <a:ext cx="5127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Información de costos para tomar: Conceptos básico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109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fijo versus variable y punto de equlibrio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directos versus costos indirectos (ejemplo: “ABC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Costing” para Servipag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marginal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versión (costo hundido y de oportunidad), capital de trabajo (operación) y costo salida (provisiones emplead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(valor) mercado versus costo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56000" y="1828800"/>
            <a:ext cx="1873080" cy="124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88000" y="1830240"/>
            <a:ext cx="1800000" cy="1220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39760" y="5967360"/>
            <a:ext cx="908532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6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2. Ingeniería Económica, Sulliva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d4d4d"/>
                </a:solidFill>
                <a:latin typeface="Verdana"/>
              </a:rPr>
              <a:t>3. ABC (Activity Based Costing) puede ser una complejidad virtuosa... si puedo separar mercados… discriminar por preci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aso: Activo fijo y su depreciación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406520"/>
            <a:ext cx="0" cy="460836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187280" y="6014880"/>
            <a:ext cx="6624720" cy="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58800" y="57340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ñ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1040" y="10526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$ Cos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1695600"/>
            <a:ext cx="0" cy="41767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9000" y="3344760"/>
            <a:ext cx="32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0" cy="12193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7760" y="5149800"/>
            <a:ext cx="33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547640" y="6230880"/>
            <a:ext cx="5329440" cy="648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37000" y="6086520"/>
            <a:ext cx="32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71040" y="6006960"/>
            <a:ext cx="5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id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út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56960" y="422100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alo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residua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1557360"/>
            <a:ext cx="5688360" cy="2951280"/>
          </a:xfrm>
          <a:prstGeom prst="line">
            <a:avLst/>
          </a:prstGeom>
          <a:ln w="2844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1628640"/>
            <a:ext cx="5616720" cy="3024360"/>
          </a:xfrm>
          <a:custGeom>
            <a:avLst/>
            <a:gdLst/>
            <a:ahLst/>
            <a:rect l="l" t="t" r="r" b="b"/>
            <a:pathLst>
              <a:path w="3538" h="1905">
                <a:moveTo>
                  <a:pt x="0" y="0"/>
                </a:moveTo>
                <a:cubicBezTo>
                  <a:pt x="498" y="566"/>
                  <a:pt x="997" y="1133"/>
                  <a:pt x="1587" y="1451"/>
                </a:cubicBezTo>
                <a:cubicBezTo>
                  <a:pt x="2177" y="1769"/>
                  <a:pt x="2857" y="1837"/>
                  <a:pt x="3538" y="1905"/>
                </a:cubicBezTo>
              </a:path>
            </a:pathLst>
          </a:custGeom>
          <a:noFill/>
          <a:ln w="2844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6240" y="28526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linear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4960" y="38354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acelerad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72200" y="1355760"/>
            <a:ext cx="32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Verdana"/>
              </a:rPr>
              <a:t>Depreciación es el cargo por utilización de un activo para producción, no representa flujo de efectiv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8230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57800" y="2133720"/>
            <a:ext cx="719280" cy="2887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321300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638172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Ustedes son …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400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7775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mpues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Impuestos son recaudados para pagar el gasto del gobierno, luego son territoriales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Los principales tipos de impuestos en Chile so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 la Renta*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Primer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capital (utilidades de empresas, rentas de capitales mobiliarios, rentas de bienes raíces, etc.) – régimen de renta presunta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Segund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trabajo y es progresivo (porcentaje a pagar aumenta con el monto de la renta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Global Complementario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el total de las rentas obtenidas (consolidadas) por personas naturales y es progresivo. Dadas las provisiones mensuales realizadas por los impuestos de 1ra y 2da categoría es necesario realizar una re-liquidación anual (mes de Abril), tomando la 1ra categoría como crédito (para evitar doble tributación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Adicional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 fuente chilena obtenidas por personas extranjera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l consumo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al Valor Agregado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 (19% IVA) calculado sobre la diferencia entre las ventas (débito fiscal) y las compras (crédito fiscal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de timbres y estampillas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, graba las operaciones de crédito y movimientos de dinero (ex: cheque o retiro del cajero automático $ 129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Otros: Combustible, Aranceles o Comercio exterior, Tabaco,…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682560" y="6021360"/>
            <a:ext cx="792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*Se realiza una declaración en Abril de cada año, donde se calcula pago o devolución según los PPM enterados mensualment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nf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394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Inflación es términos simples es “mucho dinero persiguiendo muy pocos bienes”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La inflación es un problema para la contabilidad dado que “cambia la unidad de medida” utilizada (dinero) 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Para solucionar este problema se puede ajustar la unidad de medida utilizada (dinero) según su variación en la capacidad de compra (IPC) de cada año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monetarios no están afectos a corrección por paridad de compra, luego “pierden 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No monetarios si son corregidos para mantener su “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Esta cuenta se incorpora en el EERR como Corrección Monetaria  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392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Newscorporation: Interesante y controversial</a:t>
            </a:r>
            <a:br>
              <a:rPr sz="2600"/>
            </a:b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(Tax Havens)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Ruppert Murdoch es presidente de News 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tiene aproximadamente un 70% de sus operaciones en USA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USA tiene impuestos significativamente mayores que países como: Bahamas, Islas Caimán, Antillas Holandesas … (paraísos fiscales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(USA) ha transferido sus utilidades a News Corporation (Antillas) logrando prácticamente NO pagar impuestos en USA y reduciendo de manera notable el total de impuestos pagados por el Grupo News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Murdoch dice, “mover activos de esta forma es uno de los beneficios de ser global…” ; si bien esta actividad es legal, otros cuestionan la ética…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quien gana??? quien pierde??? que políticas sobre inversiones se pueden tomar???..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Fundamentals of Financial Management, Brigham &amp; Houston, 1998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5200" y="436572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Verdana"/>
              </a:rPr>
              <a:t>Contabilidad</a:t>
            </a:r>
            <a:r>
              <a:rPr b="1" lang="es-CL" sz="2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760" y="3638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35440" y="320832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8920" y="5013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49680" y="544500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5016200">
            <a:off x="5058360" y="1933920"/>
            <a:ext cx="2448000" cy="558036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69240" y="1125360"/>
            <a:ext cx="19954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(quedo pendiente de clase anterior Proyección de Beneficios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Conta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296720"/>
            <a:ext cx="8785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ontabi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incipios contables fundamen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Estados conta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odelo de operación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álculo de ingresos potenc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Información de Costos para tomar dec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onceptos básic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Activo fijo (depreciación), Impuestos e Inflació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News Corporation (Interesante y controversial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Principios contables fundamentale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asume que la empresa se mantiene en funcionamiento (“going concern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conocen los ingresos y costos cuando los eventos ocurren, no cuando se realiza el flujo monetario (devengado o “accuals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consistencia, de un periodo a otro, en el tratamiento de los ítems similares (“consistency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ser conservador, contabilizar ingresos sólo cuando estos han sido realizados y hacer provisiones para los gastos o perdidas aún si no son totalmente seguras (“prudence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ados contables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menos una vez al año las empresas deben emiti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de resultados (“profit and loss statement” o “P&amp;L” o EE.RR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de las ventas, gastos y utilidad para un periodo con contable (ex: Q4 2006 – cuarto trimestre del año 2006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(“ balance shee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a una fecha (ex: 31-12-2006) de la acumulación de recursos que han sido provistos por terceros a una empresa y como estos han sido utilizados en activo fijo y capital de trabaj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Presentación de la posición financiera de una empresa en un momento del tiemp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lujo de caja (“cash flow statemen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á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lculo de diferencia de activos entre periodos contables consecutivos, que muestra las fuentes de efectivo y como esta ha sido utilizado para el período contable (ex: año 2006 vs. 2005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Resumen del impacto, en la caja ($) de una empresa durante un periodo, de las actividades de la operación, inversiones y financiamiento; en oposición al estado de resultados. 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7920" y="-27000"/>
            <a:ext cx="91519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6360" y="0"/>
            <a:ext cx="8388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08T12:19:34Z</dcterms:modified>
  <cp:revision>413</cp:revision>
  <dc:subject/>
  <dc:title>Formulación de Proyectos</dc:title>
</cp:coreProperties>
</file>