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3EB2-B2C8-4EDF-8C4E-9BC976633C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B520-2B13-4D08-9623-DA1DD599FFE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7AD5-569E-47A2-B3A0-28C6DC8A5E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F0C71-C493-405D-B8F5-2D2B4A68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36E63-FE58-425F-94C5-36FB7C15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03E0B-43ED-46BF-AAAB-E80F8386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7B17A-FAF5-4A03-9358-4C8B73D8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F7678-39D3-4F52-8492-D874705E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D4348-3F2E-4AAB-BA9A-701C0DEE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AD410-57EA-49D0-8A91-6D9A6BD6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EFB10-D565-43C8-A68D-2AA03666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A1EBF-1FD8-4BB7-B378-AB64C1AE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02ABB-8CBF-45D6-ACB2-383EFDF4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88EE5-DB34-44EE-9AAA-9F786987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60ADA-D0B7-4718-8610-4C7B4724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CA2B-26B5-46FF-855C-FE56C33B2D76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365720"/>
            <a:ext cx="7488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Principios de administración financiera</a:t>
            </a:r>
            <a:br>
              <a:rPr sz="3600"/>
            </a:b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3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4 determinantes de la tasa de interé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982800" y="1197000"/>
                <a:ext cx="7148520" cy="520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RP</m:t>
                        </m:r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/>
                        </m:sSub>
                        <m:r>
                          <m:t xml:space="preserve">+</m:t>
                        </m:r>
                        <m:r>
                          <m:t xml:space="preserve">Π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nomin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zarra seg</m:t>
                        </m:r>
                        <m:r>
                          <m:t xml:space="preserve">ú</m:t>
                        </m:r>
                        <m:r>
                          <m:rPr>
                            <m:lit/>
                            <m:nor/>
                          </m:rPr>
                          <m:t xml:space="preserve">n producto financie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/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para un producto financiero libre de riesgo </m:t>
                        </m:r>
                      </m:e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ndencia de los precios a subir en el tiemp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flaci</m:t>
                        </m:r>
                        <m:r>
                          <m:t xml:space="preserve">ón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de la deuda del Banco Centr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quidity premium o premio por liquidez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eferencia de consumo  en  el tiemp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efault risk premiu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esgo de no pag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turity risk premium o premio por madurez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esgo de fluctuaci</m:t>
                        </m:r>
                        <m:r>
                          <m:t xml:space="preserve">ó</m:t>
                        </m:r>
                        <m:r>
                          <m:rPr>
                            <m:lit/>
                            <m:nor/>
                          </m:rPr>
                          <m:t xml:space="preserve">n de tasas de interé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7840" y="182160"/>
            <a:ext cx="87501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Métodos para calcular el riesgo de un proyecto…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l riesgo de un proyecto se mide a partir de la “tasa de descuento” y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lo veremos en detalle 2 clases más adelante…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3 stake holders y 3 objetivos finaciero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307960" y="2081160"/>
            <a:ext cx="1942920" cy="3168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240" y="2081160"/>
            <a:ext cx="2521080" cy="3168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06520" y="5249880"/>
            <a:ext cx="44658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5321160"/>
            <a:ext cx="154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ccionista busca rentabilidad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8520" y="532116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erentes buscan un “buen trabajo”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4760" y="1092240"/>
            <a:ext cx="19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liente busca satisfacer una necesidad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6280" y="3429000"/>
            <a:ext cx="164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Problemas de agencia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en la Empresa/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yec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9575600">
            <a:off x="2371680" y="480060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3165200">
            <a:off x="5651280" y="472392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792600" y="257796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1960" y="5575320"/>
            <a:ext cx="24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simetrías de información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y conflictos de interes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340000" y="5805360"/>
            <a:ext cx="792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5805360"/>
            <a:ext cx="79236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0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Mercados financieros globa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319280" cy="2801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87640" cy="303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292720" y="6208560"/>
            <a:ext cx="33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emoria del Banco Central (año 2003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280" y="4653000"/>
            <a:ext cx="89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“…</a:t>
            </a: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l Carry Trade* no podrá mantenerse por mucho más tiempo…”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Verdana"/>
              </a:rPr>
              <a:t>Alan Greenspan, ex Presidente de la Reserva Federal de USA - Jueves 8 Marzo 07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* Carry Trade es una jugada popular entre inversionistas, mediante la cual piden préstamos barartos (hoy yenes) para comprar activos de alto rendimiento en mercados, también llamada maquina de hacer dinero o arbitraje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Midiendo la rentabilidad: </a:t>
            </a:r>
            <a:br>
              <a:rPr sz="3000"/>
            </a:b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alternativas a la conta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413000"/>
            <a:ext cx="82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a contabilidad entrega mucha información valiosa, pero también presenta limitaciones. En respuesta a estas limitaciones, analistan han creado medidas alternativas de medición de resultados: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VA (Market Value Added) de la empres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Valor de mercado (accionario) – Patrimonio (a portado por socio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VA (Economic Value Added) creado por la gerencia en un añ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EBIT * (1 – tasa impuesto)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–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(Patrimonio + Pasivo LP) * (Costo capital después de impuesto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8000" y="5435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Notas: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EBIT es Earnings (utilidades) before interest and tax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W.Smithburg (CEO Quaker Oat’s) dice: EVA hace que gerentes se comporten como accionist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Costo del capital – WACC*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859200" y="3178080"/>
                <a:ext cx="4954680" cy="21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deuda nueva 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capit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eferred stoc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utilidades acumuladas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tained earnin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rcetanje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e deud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eva, capital y utilidades retenida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uest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920" y="3716280"/>
            <a:ext cx="2930400" cy="2444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435200" y="610884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* Weighted average cost of capit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4920" y="1125360"/>
            <a:ext cx="35384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Valor del dinero en el futur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2747880" y="3317760"/>
            <a:ext cx="3479760" cy="3996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7880" y="3235320"/>
            <a:ext cx="0" cy="155520"/>
          </a:xfrm>
          <a:prstGeom prst="line">
            <a:avLst/>
          </a:prstGeom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7760" y="3246480"/>
            <a:ext cx="0" cy="155520"/>
          </a:xfrm>
          <a:prstGeom prst="line">
            <a:avLst/>
          </a:prstGeom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42252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342108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7880" y="2752560"/>
            <a:ext cx="0" cy="57168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7640" y="2781360"/>
            <a:ext cx="0" cy="57132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7880" y="2752560"/>
            <a:ext cx="59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4d4d4d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2752560"/>
            <a:ext cx="59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3063960"/>
            <a:ext cx="3425760" cy="201600"/>
          </a:xfrm>
          <a:custGeom>
            <a:avLst/>
            <a:gdLst>
              <a:gd name="textAreaLeft" fmla="*/ 599400 w 3425760"/>
              <a:gd name="textAreaRight" fmla="*/ 2483640 w 3425760"/>
              <a:gd name="textAreaTop" fmla="*/ 27000 h 201600"/>
              <a:gd name="textAreaBottom" fmla="*/ 1746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14840" y="26892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3280" y="4292640"/>
            <a:ext cx="66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alor futuro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</a:t>
            </a:r>
            <a:r>
              <a:rPr b="1" lang="es-CL" sz="2400" spc="-1" strike="noStrike" baseline="-25000">
                <a:solidFill>
                  <a:srgbClr val="4d4d4d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Valor presente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* (1+r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1333440"/>
            <a:ext cx="63356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d4d4d"/>
                </a:solidFill>
                <a:latin typeface="Verdana"/>
              </a:rPr>
              <a:t>Ahorrante o inversionista: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Si hoy deposito F</a:t>
            </a:r>
            <a:r>
              <a:rPr b="1" lang="es-CL" sz="2400" spc="-1" strike="noStrike" baseline="-25000">
                <a:solidFill>
                  <a:srgbClr val="4d4d4d"/>
                </a:solidFill>
                <a:latin typeface="Arial"/>
              </a:rPr>
              <a:t>t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uanto recibiré mañana???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Valor del dinero en el tiemp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75640" cy="2341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9640" y="4365720"/>
            <a:ext cx="777744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uando se invierte a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interés compuesto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, los intereses devengados son reinvertidos para obtener más interes en los siguientes períodos 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 (1+r)^(n-t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actor de descuento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1/ (1+r) 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Valor presente neto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00000" y="2133720"/>
                <a:ext cx="734400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30200" y="479736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 un método para rankear alternativas de inversión, usando el monto absoluto (VPN), y considerando el concepto del “valor del dinero el el tiempo”. Invierto hasta maximizar el VPN!!!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Supuesto: La tasa de interés “r” se asume como tasa de descuento del proyect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asa interna de retorno (TIR)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00000" y="2336760"/>
                <a:ext cx="734400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50920" y="4508640"/>
            <a:ext cx="871380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 un método para rankear alternativas de inversión, usando la tasa de descuento (porcentaje), y considerando el concepto del “valor del dinero el el tiempo”. Invierto hasta que la rentabilidad marginal es igual al mercado!!!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* es la tasa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(TIR)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a la cual la suma de los flujos descontados del proyecto pagan la inversión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0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haciendo el VPN =0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72360" y="4221000"/>
            <a:ext cx="23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ntabilidad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(pendiente: impuestos, inflación y depreciación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55800" y="35622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Finan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35440" y="320832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91280" y="5164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2040" y="55958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5016200">
            <a:off x="4698000" y="1862640"/>
            <a:ext cx="2664000" cy="5796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69240" y="11253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Payback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900000" y="2295360"/>
                <a:ext cx="734400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50920" y="5373720"/>
            <a:ext cx="8713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n* es extensión de tiempo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(Payback)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necesaria para que la suma de los flujos descontados cubran la inversión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0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- haciendo el VPN =0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reak even y Capital de trabaj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1225440"/>
            <a:ext cx="7632720" cy="5011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421080" y="3746520"/>
            <a:ext cx="5745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95080" y="6093000"/>
            <a:ext cx="65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omento del tiempo en el cual los flujos se hacen positiv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908000" y="4149360"/>
            <a:ext cx="863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08000" y="4149360"/>
            <a:ext cx="1295640" cy="93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8000" y="4149360"/>
            <a:ext cx="503280" cy="358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Que proyecto te quedas???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6640" y="2708280"/>
            <a:ext cx="8001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Agend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rincipios de las finanzas y aversión a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Mercado de capitales y evolución de crédit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Oferta/Demanda por dinero y determinantes de la tasa de interé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Stake holders y problemas de agenci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sto de oportunidad del capital en mercados glob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sto de capital (WACC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VA y EV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Valor del dinero en el futuro y en el tiemp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P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ayback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Break-even y capital de traba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R múltip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40464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cc3300"/>
                </a:solidFill>
                <a:latin typeface="Verdana"/>
              </a:rPr>
              <a:t>Principios de administración financier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798640"/>
            <a:ext cx="7346880" cy="1295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ahoma"/>
              </a:rPr>
              <a:t>¡Es lo mismo tener un peso hoy que un peso mañana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37000"/>
            <a:ext cx="5638680" cy="17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600" spc="-1" strike="noStrike">
                <a:solidFill>
                  <a:srgbClr val="006699"/>
                </a:solidFill>
                <a:latin typeface="Arial Narrow"/>
              </a:rPr>
              <a:t>?</a:t>
            </a:r>
            <a:endParaRPr b="0" lang="en-US" sz="1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Principios financieros fundamentale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imer Principio: Costo de oportunidad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 peso hoy vale más que un peso mañana, dado que ese peso hoy puede ser invertido para comenzar a obtener intereses inmediatament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Segundo Principio: Aversión al riesg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 peso seguro vale más que un precio con riesgo, dado que el riesgo puede significar que ese peso no lo tenga mañana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60930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Fundamentos de financiación empresarial. Brealey &amp; Myers. Cap. 2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Personas con distinta aversión al riesg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16000" y="1197000"/>
          <a:ext cx="655164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655164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01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Mercado de capital e instituciones financiera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846000" y="1700280"/>
            <a:ext cx="1527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62720" y="1674720"/>
            <a:ext cx="1854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57280" y="177336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7280" y="198900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1413000"/>
            <a:ext cx="23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78080" y="20606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556080"/>
            <a:ext cx="152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3530520"/>
            <a:ext cx="185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362916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384480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3349800"/>
            <a:ext cx="165744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Banco de inversion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47960" y="39877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81280" y="305280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39877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1640" y="305280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429160"/>
            <a:ext cx="152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5403960"/>
            <a:ext cx="185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550224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571824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5222880"/>
            <a:ext cx="208764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ntermediarios  Financier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7960" y="58611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27880" y="4941720"/>
            <a:ext cx="136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Instrumento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financier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7040" y="58611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1640" y="500076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Evolución en credi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4176720" cy="3475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4211640" cy="3359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292720" y="6208560"/>
            <a:ext cx="33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emoria del Banco Central (año 2003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Oferta/Demanda por dinero </a:t>
            </a:r>
            <a:br>
              <a:rPr sz="3000"/>
            </a:b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Tasa de interé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0320" y="4438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Un mercado de capital perfectamente compititivo*, tiene un precio llamado tasa de interés “r” o costo del dinero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617840" y="1179360"/>
            <a:ext cx="0" cy="28814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840" y="4060800"/>
            <a:ext cx="540216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5680" y="1252440"/>
            <a:ext cx="86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(%)Tas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inter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9040" y="39164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428920" y="1754280"/>
            <a:ext cx="388944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0760" y="140976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fert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1754280"/>
            <a:ext cx="3528720" cy="1584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86120" y="31161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2619360"/>
            <a:ext cx="2808360" cy="17640"/>
          </a:xfrm>
          <a:prstGeom prst="line">
            <a:avLst/>
          </a:prstGeom>
          <a:ln w="9360">
            <a:solidFill>
              <a:srgbClr val="4d4d4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2619360"/>
            <a:ext cx="0" cy="1440000"/>
          </a:xfrm>
          <a:prstGeom prst="line">
            <a:avLst/>
          </a:prstGeom>
          <a:ln w="9360">
            <a:solidFill>
              <a:srgbClr val="4d4d4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3200" y="23716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93720" y="41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$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6320" y="5805360"/>
            <a:ext cx="77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500" spc="-1" strike="noStrike">
                <a:solidFill>
                  <a:srgbClr val="4d4d4d"/>
                </a:solidFill>
                <a:latin typeface="Verdana"/>
              </a:rPr>
              <a:t>* La realidad esta distorsionada por: actores dominantes que afectan el precio, costos de transacción, asimetrías de información e impuestos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13T00:24:37Z</dcterms:modified>
  <cp:revision>437</cp:revision>
  <dc:subject/>
  <dc:title>Matemáticas Financieras</dc:title>
</cp:coreProperties>
</file>