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B1EC8D-F007-4115-9413-8FAB047AF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5B333E-A5EF-4B66-875E-5E4B81D1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EE906AC-696D-4948-A0AF-1294BC9F4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455F24A-341A-46C4-A092-70496180E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1BFD2-7CC3-40F0-AB63-4A8B4DC65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36DAF-E5FF-4677-82E5-6B0E8A223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ABED0-EEA4-4776-B00A-BFCF599E1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D5084-FD70-4230-B741-951E6BC2B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CF553-74A0-4301-82EE-F15AE2401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3A121-0E82-4CBF-B53E-0FC4DE7E7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FA7BA-F251-4869-8668-6E2184060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63FE4D-5F29-4F3A-B6F3-1C524A967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10877-DB70-4499-AF51-8466BAF2F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7C265-ABDA-43FA-A12A-751F88795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6391E-A1C0-4DE0-8074-48BEC983B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E99EF-3C0A-401F-A2F4-5150392D3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2621D-EBDB-440B-80DC-9B95FD43A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0841E5-EB52-47D4-9CFE-54EFE8D83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03C113-C4E9-447F-A2D5-D30CBFD1E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9E5F8E-BF11-4CA8-8F79-3BBB8271B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A80F3B-1197-4F8B-84D0-9E18F5E3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2D1441-DE6E-4240-9BB8-D653597F5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92C8A4-C44C-4F20-BB32-2084A7AD9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B40672-2070-4B05-A346-F9C7BA2CC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0A45-D947-41D8-91A7-D1458BACAC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94FB-966E-4403-B5FB-AE78E42175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LEGISLACIÓN  Y PRÁCTICAS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SA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49"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5" name="PlaceHolder 2"/>
          <p:cNvSpPr>
            <a:spLocks noGrp="1"/>
          </p:cNvSpPr>
          <p:nvPr>
            <p:ph/>
          </p:nvPr>
        </p:nvSpPr>
        <p:spPr>
          <a:xfrm>
            <a:off x="468360" y="1844640"/>
            <a:ext cx="8229600" cy="4276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ar-SA" sz="4000" spc="-1" strike="noStrike">
                <a:solidFill>
                  <a:srgbClr val="e5e5ff"/>
                </a:solidFill>
                <a:latin typeface="Garamond"/>
              </a:rPr>
              <a:t>(E.I.R.L.)</a:t>
            </a:r>
            <a:r>
              <a:rPr b="0"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ar-SA"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cente Astorga Pizarro</cp:lastModifiedBy>
  <dcterms:modified xsi:type="dcterms:W3CDTF">2007-03-01T20:28:41Z</dcterms:modified>
  <cp:revision>33</cp:revision>
  <dc:subject/>
  <dc:title>Diapositiva 1</dc:title>
</cp:coreProperties>
</file>