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498-FA8D-438F-AF2B-1A58CB93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506-ECF6-423F-BD9B-22FCFDF1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5A7-FF04-43B6-99E9-5F859E6B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E5D-563E-45C5-BB58-2A4B3124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07A-9746-43E4-9BD4-A8806C15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0846-360A-44DC-A358-F4C0464E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3AE-D99F-4DF4-B3C4-0AB12A4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095-65D2-4C99-B1C3-143D344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53D-439D-4ABE-A643-0F2B8CD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3ED-FB20-4C47-AFF4-79C7D65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1B58-6B7D-46C0-8646-F39C59E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1A2-00C2-4E49-9AFB-604A00E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CE45-D73B-475C-AE92-5B3F4C7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6B0-56C5-43D9-80B3-1393531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E4D-B3EB-4ADD-B81E-FA38DC36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3C3-01AF-49C3-8466-F6A5F35E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20DB-E6D2-4AF7-A491-EBA455D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D4A3-65EC-4DEC-912A-D6AACDB0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8B1C-8A9A-4D33-BA46-1D63144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8C61-753C-486D-A1E2-49BFD0C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8B6D-4276-4781-87C8-EDCBD6A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C71B-B9F3-406F-B246-6163D09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B8D-1B27-4BCD-8512-0D5AE24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7B39-7AC3-427F-AA5C-E3A6A48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AE8C-7643-4A9F-B9AD-51548C5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064C-5BC9-4DB0-BD18-7311410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05A3-76C2-4903-BC87-F8C5A16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0EAE-4BBE-4EE2-AC53-231511A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1743-8747-468A-AEB2-1B6F5ED8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C167-F31F-4C22-AEFB-8AAFF381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448-6115-4BFB-AFDC-1D1C3C1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9F8-92FB-427F-B909-BF8123A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B40-CE31-4D19-B21B-227D1231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110-A5B5-413F-8963-E97B06A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370-A1FF-4061-A46C-0BB9BAC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5B7-85A8-4D57-A0D5-D661EBE3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F38E-699F-4567-A4D3-4911C1C3556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4DF-4349-45BA-AFDF-B64EF8270A0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DC3-5951-4B42-A5CD-345CCC1EF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varez@ing.uchile.c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00360" y="2133720"/>
            <a:ext cx="35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2232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Departamento de Ingeniería Indust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Universidad de 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661000"/>
            <a:ext cx="29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Profesor: Vicente Asto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Auxiliar: Héctor Alv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Ingres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bienes y derechos obtenidos por la empresa, durante un período, a cambio de la venta de bienes o prestación de servicios. Aumento del activo o disminución del pasivo, producto de las actividades comerciales de la ent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Gast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recursos empleados (bienes, derechos o servicios utilizados o consumidos) durante un período, con el objeto de generar los ingresos correspondientes al mismo período. Disminución del activo o aumento del pasivo resultante de los recursos consum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ltad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Diferencia entre los ingresos generados y los gastos incurridos, en un período determinado. Utilidad: resultado positivo, aumento del patrimonio. Pérdida: resultado negativo, disminución del p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589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ADO = INGRESO -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589720"/>
            <a:ext cx="5256360" cy="50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cipio de Deve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0028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enta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559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ormato de trabajo que permite agrupar y ordenar las transacciones sobre un mismo concepto y calcular su saldo a una fecha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iste en agrupar todos los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carg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abon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de una misma cuenta en un período determinado. El saldo final de un período es el inicial de un período sigu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9324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Los socios hacen un aporte de capital de $100.000, de los cuales $70.000 son en efectivo y el resto en muebles y equipos de ofi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2708280"/>
          <a:ext cx="7632360" cy="2054160"/>
        </p:xfrm>
        <a:graphic>
          <a:graphicData uri="http://schemas.openxmlformats.org/drawingml/2006/table">
            <a:tbl>
              <a:tblPr/>
              <a:tblGrid>
                <a:gridCol w="1821240"/>
                <a:gridCol w="1851480"/>
                <a:gridCol w="1906200"/>
                <a:gridCol w="205344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Se compra mercadería por $20.000, pagando el 30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133720"/>
          <a:ext cx="7704000" cy="2342520"/>
        </p:xfrm>
        <a:graphic>
          <a:graphicData uri="http://schemas.openxmlformats.org/drawingml/2006/table">
            <a:tbl>
              <a:tblPr/>
              <a:tblGrid>
                <a:gridCol w="1689480"/>
                <a:gridCol w="2660400"/>
                <a:gridCol w="1676880"/>
                <a:gridCol w="16772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6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4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Se vende mercadería por $10.000, que tenía un costo de $7.500, pagando el 25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05000"/>
          <a:ext cx="8353440" cy="3411720"/>
        </p:xfrm>
        <a:graphic>
          <a:graphicData uri="http://schemas.openxmlformats.org/drawingml/2006/table">
            <a:tbl>
              <a:tblPr/>
              <a:tblGrid>
                <a:gridCol w="1876320"/>
                <a:gridCol w="2917800"/>
                <a:gridCol w="1779840"/>
                <a:gridCol w="177948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 Se paga el arriendo de un mes por $2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2349360"/>
          <a:ext cx="8362440" cy="1622160"/>
        </p:xfrm>
        <a:graphic>
          <a:graphicData uri="http://schemas.openxmlformats.org/drawingml/2006/table">
            <a:tbl>
              <a:tblPr/>
              <a:tblGrid>
                <a:gridCol w="1812960"/>
                <a:gridCol w="2950200"/>
                <a:gridCol w="1799640"/>
                <a:gridCol w="1799640"/>
              </a:tblGrid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 Adm. Y Venta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) Se recibe la cuenta de luz por $1.500 (no hay políticas de pre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no tener políticas de previsión, la cuenta no se asume hasta el momento de pagarla, por lo que no hay transacción en est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) Se pagan remuneraciones por $20.000, cancelando $15.000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76640"/>
          <a:ext cx="8435880" cy="2093400"/>
        </p:xfrm>
        <a:graphic>
          <a:graphicData uri="http://schemas.openxmlformats.org/drawingml/2006/table">
            <a:tbl>
              <a:tblPr/>
              <a:tblGrid>
                <a:gridCol w="1828800"/>
                <a:gridCol w="2976480"/>
                <a:gridCol w="1814400"/>
                <a:gridCol w="1816200"/>
              </a:tblGrid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muneraciones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2803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Auxiliar: Héctor Alva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s-E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alvarez@ing.uchile.c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dar e-mails con asunto “[IN46A] Asunto”, para que sea tomado en cuenta. Si no, lo consideraré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) Se paga el 50% de la deuda con proveedores (de la deuda adquirida en este ejerc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11280" y="2637000"/>
          <a:ext cx="8229600" cy="1461960"/>
        </p:xfrm>
        <a:graphic>
          <a:graphicData uri="http://schemas.openxmlformats.org/drawingml/2006/table">
            <a:tbl>
              <a:tblPr/>
              <a:tblGrid>
                <a:gridCol w="1784160"/>
                <a:gridCol w="2903760"/>
                <a:gridCol w="1769760"/>
                <a:gridCol w="177192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) Se paga la cuenta de la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35280" y="2349360"/>
          <a:ext cx="5616000" cy="1461960"/>
        </p:xfrm>
        <a:graphic>
          <a:graphicData uri="http://schemas.openxmlformats.org/drawingml/2006/table">
            <a:tbl>
              <a:tblPr/>
              <a:tblGrid>
                <a:gridCol w="886680"/>
                <a:gridCol w="1746720"/>
                <a:gridCol w="1478160"/>
                <a:gridCol w="15044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) Se hace un retiro de capital de $2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47640" y="2205000"/>
          <a:ext cx="5483160" cy="1461960"/>
        </p:xfrm>
        <a:graphic>
          <a:graphicData uri="http://schemas.openxmlformats.org/drawingml/2006/table">
            <a:tbl>
              <a:tblPr/>
              <a:tblGrid>
                <a:gridCol w="817560"/>
                <a:gridCol w="1608120"/>
                <a:gridCol w="1522440"/>
                <a:gridCol w="1535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2060640"/>
          <a:ext cx="8229240" cy="2845800"/>
        </p:xfrm>
        <a:graphic>
          <a:graphicData uri="http://schemas.openxmlformats.org/drawingml/2006/table">
            <a:tbl>
              <a:tblPr/>
              <a:tblGrid>
                <a:gridCol w="5927400"/>
                <a:gridCol w="2301840"/>
              </a:tblGrid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argen de Explo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s de Adm. y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3.5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773360"/>
          <a:ext cx="8229600" cy="4357080"/>
        </p:xfrm>
        <a:graphic>
          <a:graphicData uri="http://schemas.openxmlformats.org/drawingml/2006/table">
            <a:tbl>
              <a:tblPr/>
              <a:tblGrid>
                <a:gridCol w="2458080"/>
                <a:gridCol w="1383840"/>
                <a:gridCol w="629280"/>
                <a:gridCol w="2374560"/>
                <a:gridCol w="138384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SIVO Y 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     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8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 Perío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5545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incipi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moneda común denom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ntidad empr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mpresa en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l costo como base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eríodo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dos Financi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ce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stado de Flujo de Ef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1484280"/>
            <a:ext cx="6264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Act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recursos económicos, bienes y derechos de propiedad de la empresa, a un momento del tiempo, y que han sido obtenidos con el propósito de obtener beneficios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s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obligaciones de la empresa con terceros o derechos de terceros acreedores sobre la empresa, a la misma f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trimoni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diferencia entre Activo y Pasivo, o derechos sobre el Activo que corresponden a los propietarios, una vez deducidas las obligaciones de la empresa con terc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522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O = PASIVO +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13360"/>
            <a:ext cx="5759640" cy="936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alumnodii</cp:lastModifiedBy>
  <dcterms:modified xsi:type="dcterms:W3CDTF">2007-03-21T15:15:52Z</dcterms:modified>
  <cp:revision>10</cp:revision>
  <dc:subject/>
  <dc:title>Diapositiva 1</dc:title>
</cp:coreProperties>
</file>