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763C-91FB-4B84-AC1F-858D5FCAF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39D5-417D-45D1-B9AB-CA72EC7C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C696-543C-4716-A379-82E9BAB37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E2B4-1970-429A-AF37-18BADF6E7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E353-C4DC-42A1-82C9-EF838ADA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1910-267F-433F-8B98-C9848A14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6D60-0896-4E7A-9177-A7E40834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1B34-8139-4350-9CD9-B725E536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4A6C-488F-47BE-9809-49410388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68F5-222E-42DE-B7E4-6C9FDE41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3A6B-B27A-4F4B-B828-3DF07493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364D-EC9A-49E3-87B5-18C063FC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F89D-934E-4A6B-BD69-070243E4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06B1-A5B2-4819-B3E1-CA3538DE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ACCB-5C07-4981-870E-2A815ECA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02AB-46DD-4540-ADCB-34FDDD94C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EF71-13D2-43E2-A2FD-59C1F8870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98BC-5427-4833-BC0A-680BC15A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AD40-C4DC-4138-8314-FBB18C51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240E-424D-4906-A64F-4E93EEC2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A42A-9A26-41A5-BAAD-18EEDAB0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34E7-635A-40E5-94D4-121E97A8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E26D-A707-4A26-86A1-2E3B8DC3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1FCA-E455-44BC-BCA0-1DB146ED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82E1-0E52-4F32-A457-56EB20DEC122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571A-C5E2-4869-9391-7004E554A4F4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80629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Flujo Neto Originado por Actividades de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Variación Neta del Efectivo y Efectivo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quival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477720" indent="0">
              <a:buNone/>
              <a:tabLst>
                <a:tab algn="l" pos="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  <a:tab algn="l" pos="10034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que no son flujo de efectivo (depreciación, provisione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activos circulantes (clientes, existencia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pasivos circulantes (proveedores, retencione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Fluj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207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jemplo de E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9080" y="1092240"/>
            <a:ext cx="85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alance Inicial (en M$)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1773360"/>
          <a:ext cx="86868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6868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urante los tres meses siguientes realiza las siguientes transac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vende mercadería por un monto de M$ 1.200, pagándose 50% a plazo y el resto al contado. El costo de la mercadería fue de M$ 9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lientes pagan M$ 500 que adeudaban a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400 que se adeudaba a los provee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ntrega el 50% de los bienes pagados por anticipado, obteniendo un margen de ganancia, sobre ingresos, del 4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200 por concepto de remuner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mite acciones de pago por M$ 7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ide un préstamo bancario por M$ 800, a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compra activo fijo por M$ 2000, pagando al con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amortiza el 10% de las obligaciones con bancos vigentes a fines del ejercicio anterior y se cancelan los intereses devengados en el trimest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4978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NOTA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deuda inicial se contrajo a un tasa de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l activo fijo le resta una vida útil de 20 años y su valor residual es c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seguro tiene una duración de 1 año y fue contratado hace 2 m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5543640" cy="5976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24000" y="189000"/>
            <a:ext cx="256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ibro Di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08000" y="1611360"/>
            <a:ext cx="8964720" cy="37098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Balance F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87280" y="1781280"/>
            <a:ext cx="6337440" cy="42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78000" y="677880"/>
            <a:ext cx="838800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Operac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1.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a proveedor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uneracion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2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1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Operació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316,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Financiamient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7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éstamos obteni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3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Financiamiento      1.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Invers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a de activo fij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Negativo por Actividades de Inversión  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Total Negativ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(4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85720" y="1057320"/>
            <a:ext cx="8307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iliación entre el flujo neto originado por actividades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ración y el resultado ne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érdida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71,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reciación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37,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mento deudores por ven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(1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existenci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1.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segur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cuentas por pagar                     (4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ingresos anticipados                 (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ujo Neto Operacion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316,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generación de flujos de efectivo es un objetivo relevante dentro del contexto de la administración financiera de las empre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apacidad para producirlos es materia de constante atención por parte de quienes se interesan por la marcha financiera de la entidad, tales como inversionistas, acreedores y otros entes involucr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l situación hace necesario incorporar un estado financiero que de cuenta de e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stado de Flujo de Efectivo (EFE) es un estado financie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yo  objetivo es proveer información relevante sobre l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Egresos de Efectivo de una entidad producid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ante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5084640"/>
            <a:ext cx="8699400" cy="130932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ibliografía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eigs &amp; Meigs: “Contabilidad, la base para las decisiones gerenciales”, capítulo 19 (“Medición del Flujo de Efectiv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oletín Técnico N° 50 del Colegio de Contad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ircular N° 1312 de la Superintendencia de Valores y Segu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EFE ayuda a los inversionistas, acreedores y otros 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generar flujos de efectivo netos positiv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cumplir con sus obligaciones y repartir utilidades en efectiv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ar sus necesidades de financiamiento exte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icar las causas que explican la diferencia entre el Resultado del Ejercicio y el flujo de efectivo neto operac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ocer los efectos que producen, en la posición financiera de la empresa, las actividades de financiamiento e inversiones que involucran efectivo y aquellas que no lo involucr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concepto de Efectivo incluye dos elementos: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Saldos disponibles en caja y bancos</a:t>
            </a:r>
            <a:br>
              <a:rPr sz="2400"/>
            </a:br>
            <a:br>
              <a:rPr sz="2400"/>
            </a:b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 equivalente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Inversiones de corto plazo que cumplen los siguientes requisitos: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pueden convertir rápidamente en efectivo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intención de convertirlos en efectivo ant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 días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riesgo mínimo de pérdida significativa de va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ducto de la conversión, (Ej: depósitos a plazo 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eriores a 90 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52280" y="691920"/>
            <a:ext cx="8839440" cy="51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FE tiene dos part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jo neto total del periodo, o flujo clasificado por activ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B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4200" y="1052280"/>
            <a:ext cx="7489800" cy="56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la 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y otros repart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a proveedores y pers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 pagado, IVA y ot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gastos pagados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260360" y="260280"/>
            <a:ext cx="763272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2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tención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as fuent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dividen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t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por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588680" y="333000"/>
            <a:ext cx="7015320" cy="62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3"/>
              <a:tabLst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 activo fi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 de 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Venta de otras inver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rporación de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instrumen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5T18:02:10Z</dcterms:created>
  <dc:creator>I. D. I. E. M.</dc:creator>
  <dc:description/>
  <dc:language>en-US</dc:language>
  <cp:lastModifiedBy>ivan.alvarez</cp:lastModifiedBy>
  <cp:lastPrinted>1999-03-18T21:04:38Z</cp:lastPrinted>
  <dcterms:modified xsi:type="dcterms:W3CDTF">2006-04-24T12:13:23Z</dcterms:modified>
  <cp:revision>24</cp:revision>
  <dc:subject/>
  <dc:title>ESTADISTICAS DE POLIMEROS</dc:title>
</cp:coreProperties>
</file>