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2938-FB06-4F5B-8966-878D3F288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4818-CC4C-42AD-AB69-A79F93EF7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46F3-294A-444F-B806-ABA16A437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43CF-5D23-4A38-809C-F3952CD1C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A0FD-2880-4276-B4A2-12C877C2E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AF37-C003-4F71-B2F8-2BA6DA0C4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077A-8E65-4F34-A70B-817706F30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9C0E-DD32-4380-93D7-62922A176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9DDF-6A8B-4888-BF66-67C877B89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1FB9-EAFA-47D9-BEDA-802848B6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5AAC-981D-4D9D-8E41-F3C380B3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4EB7-BAB8-4E85-86AA-F61A6AFB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A745B7A-E16B-4320-9EA7-B0A04D0950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75888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ontrol Presupuestario y Costos Estánd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58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3.1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Formulación de Presupue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58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3.2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nálisis de Desvi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58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3.3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stos Estánd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ben especificar tanto los objetivos concretos que se quieren alcanzar como los medios necesarios para conseguirl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Times New Roman"/>
              </a:rPr>
              <a:t>Ejemplo: Para poder alcanzar las ventas deseadas, Anfersa deberá incurrir en los siguientes gasto de vent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362320" y="3524400"/>
            <a:ext cx="52578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s diferentes variables o conceptos que lo componen deben venir desagregadas por centros de responsabilidad. Esto facilita la evaluación en base a los objetivos asignados a cada unidad de la organización (control de gestió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75888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Presupuestos parciales e integración presupuest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s distintas actividades llevadas a cabo dentro de la organización dará lugar a la necesidad de elaborar presupuesto en cada centro de responsabilidad, que se conocen como presupuestos parciales. Por ejemplo: presupuesto de ventas, presupuestos de fabricación, presupuestos de compras, presupuestos financiero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in embargo, la empresa debe ser vista como un todo unitario, coordinado y coherente, en busca de un objetivo comú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integración de los presupuestos parciales dará lugar al presupuesto maest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38224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ormalmente se usa el método de integración sucesiva, en donde el punto de partida es el presupuesto de ventas. La secuencia de la integración sucesiva es la siguien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de ventas y gastos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de existencias de productos en proceso y productos termin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Times New Roman"/>
              </a:rPr>
              <a:t>La empresa Anfersa tiene un stock de 1.200 computadores valorados en $60 millones. Desea mantener un stock de seguridad de 900 unidades. Luego, necesitará producir 9.200 computadores el próximo añ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440" y="533160"/>
            <a:ext cx="800100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s de costos de producción por departamentos o centros de actividad. Con la información anterior es posible planificar la producción, señalando los recursos necesar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Times New Roman"/>
              </a:rPr>
              <a:t>Anfersa a determinado que para producir 9.200 computadores requerirá los siguientes recurs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752480" y="3643200"/>
            <a:ext cx="6477120" cy="26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440" y="609120"/>
            <a:ext cx="8001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de existencias de materias primas. En función del inventario actual y de las necesidades de producción, el responsable del almacén deberá determinar el volumen de existencias a mantener a lo largo del perío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Times New Roman"/>
              </a:rPr>
              <a:t>El responsable del almacén de Anfersa SA, ha estimado mantener siempre un stock de seguridad que le permitan atender la producción de 850 unida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s de compras y gastos de compras. Con la información del punto anterior, el responsable de las compras determinará los volúmenes que deberá solicitar mensualmente a los proveedores, así como los precios, las fechas de pago y los demás costos asociados a las comp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600200" y="3389400"/>
            <a:ext cx="640080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de inversiones. Paralelamente, los ingenieros de producción determinarán las necesidades de nuevos equipos, para llevar a cabo la fabricación previs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de gastos de administración. El responsable de administración calculará las necesidades de la empresa en estas fun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00200" y="3530520"/>
            <a:ext cx="640080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33520" y="609480"/>
            <a:ext cx="815328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8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de caja y de gastos financiero. El centro de administración financiera estimará los recursos líquidos necesarios para hacer frente a todos los pagos y las necesidades de financiamiento. Además, deberá presupuestar los costos del propio cent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95280" y="3525840"/>
            <a:ext cx="7086600" cy="27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JEMPLO DE ELABORACIÓN DE PRESUPUE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58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a empresa comercial se encuentra en el proceso de elaboración del presupuesto maestro para los primeros cuatro meses de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2004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, para lo cual dispone de la siguiente inform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58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.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per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58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nóstico de ventas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proyecta vender las siguientes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ntidades de mercaderí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8915400" cy="892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85800" y="4842000"/>
            <a:ext cx="815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s ventas en diciembre pasado alcanzaron a las 4.000 unidades. El precio de venta es de $10 por unidad y se espera que no cambie en el futuro. Las ventas se efectúan 60% al contado y el resto pagadero al mes sigu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1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ulación de Presupues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upuesto y Ciclo Presupuest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esupues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s la expresión en términos monetarios de los planes de acción que una empresa tiene previsto llevar a cabo a lo largo de un período determin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de ventas y niveles de exist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empresa vende con un margen de explotación del 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desea mantener existencias de $20.000 como base más un 80% del costo de venta del mes sigu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s mercaderías se compran pagando un 50% al contado y el resto al mes sigu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astos de administración y 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muneraciones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 pagan cada 15 días, en el período siguiente al que son ganadas, ascendiendo a $2.500 por 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misiones sobre ventas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scienden al 15% de las ventas y se pagan de la misma forma que las remuneraciones fij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tros gastos variables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lcanzan al 5% de las ventas y se pagan al con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tros gastos de administración y ventas fijos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be pagarse $2.000 al mes por concepto de arriendo, se consumen seguros por $200 y la depreciación se calcula en $400 al 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80520" y="45720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ver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proyecta realizar una inversión de $3.000, al contado, durante el primer mes, en un vehículo que se destinará al transporte de mercadería. Este se deprecia en 30 me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II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aja y financiamien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desea mantener, por motivos de seguridad, un saldo de caja mínimo de $10.000 a fines de cada 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 casos de déficit de caja, la empresa dispone de una línea de crédito, cuya tasa de interés es del 2% mensual. Las amortizaciones y el pago de intereses pueden efectuarse cuando la empresa lo des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V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Balance general al 31 de diciembre de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200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763120" cy="26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1201680"/>
            <a:ext cx="9144000" cy="51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6320" y="1509840"/>
            <a:ext cx="891540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6320" y="1143000"/>
            <a:ext cx="88390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52280" y="139680"/>
            <a:ext cx="8686800" cy="64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143000" y="658800"/>
            <a:ext cx="7162920" cy="57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52280" y="1490760"/>
            <a:ext cx="8915400" cy="39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) Otros tipos de presupue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acuerdo al período temporal que comprend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estancado: se efectua una vez al añ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progresivo: una vez transcurrido un subperiodo (mes, trimestre o cuatrimestre) se agrega el sigu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acuerdo a la posibilidad de introducir modificac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único: se mantiene pase lo que p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revisado: se actualiza, para reflejar los cambios en las condiciones que sirvieron de base para su elabor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3520" y="457200"/>
            <a:ext cx="807696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iclo Presupuestari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s el proceso por el cual una empresa elabora el presupuesto para un determinado período. En él se definen tres concep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440" indent="-3744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440" indent="-3744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lanes de acción y sus respectivos progra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440" indent="-3744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sultados previstos de los planes de a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acuerdo a la adaptación de los valores presupuestados a los volúmenes realmente alcanzad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fi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flexible: se ajusta o se rehace con los valores reales de cantidades vendidas y produc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75888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2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 Presupuestario y Análisis de Desvi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rol presupuestari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ceso permanente de comparación entre lo planificado (plasmado en los presupuestos) y lo acontecido en la real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sviació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erencia entre el resultado real y el proyectado (puede ser favorable o desfavorabl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l análisis de las desviaciones es importante porqu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on indicadores de gran utilidad para saber si los responsables están cumpliendo o no con los objetivos especific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ermite el feed-back o proceso de retroalimentación, mediante el cual la empresa tomará las medidas correctivas para ajustarse a lo plane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848720" cy="62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318960"/>
            <a:ext cx="868680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04920" y="1530360"/>
            <a:ext cx="853416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04920" y="1450800"/>
            <a:ext cx="8458200" cy="39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838188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86108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7200" y="2484360"/>
            <a:ext cx="838188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ntajas del Proceso Presupuest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bliga a los ejecutivos o administradores a pensar en forma estructurada sobre el futur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ermite establecer metas que posibiliten la evaluación del desempeñ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 obtiene una mayor coordinación y coherencia en el trabajo de las distintas unidades o centros de responsabilida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rve como motivació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ermite comunicar los objetivos de la alta dirección a las divisiones operativa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3.3</a:t>
            </a: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Costos Estánd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Técnica de la contabilidad de costos que compara el costo considerado normal de cada producto, servicio o elemento con su costo real. Son una herramienta del control presupuestario.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ermite evaluar la eficiencia de la gestión y tomar inmediatamente las acciones correctivas que se estimen pertin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on costos preestablecidos, se calculan antes de comenzar las operaci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440" y="685440"/>
            <a:ext cx="807732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l igual que con los costos históricos, se pueden conbinar con los métodos de costeo variable y absobente, y con los sistemas de costos por procesos y por órdenes de trabaj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 medida que se conocen los costos e ingresos reales, se van registrando en la contabilidad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stos datos reales se comparan con los estándar, y las desviaciones entre unos y otros se ponen de manifiesto por el propio sistema con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entajas de los costos estánd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Facilitan la “dirección por excepción”, que consiste en centrar la atención de la dirección en aquellas situaciones que se apartan de la normal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Facilitan la valoración de los stocks y la fijación de precios, entre otr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xigen una definición de responsabilidades por centros de cos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Tipos de estánd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 partir de datos de la empresa en ejercicios anteri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 partir de datos de la empresa en ejercicios anteriores, pero correg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 partir de estudios técnicos. En este caso el estándar puede represent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a mejor actuación po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Una actuación efic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05120" y="934920"/>
            <a:ext cx="640080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219320" y="581040"/>
            <a:ext cx="685800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sviaciones en Materias Prim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sviación Global = 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500 x 800 x 6 – 550 x 800 x 5 = 2.400.000 – 2.200.000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2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sviación por causa de las cantidades (técnica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)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500x800 – 550x800) x 6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- 24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sviación por causa de los precios (económica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) 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6 - 5) x 550 x 800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+ 44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sviaciones en Mano de Ob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sviación Global = 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25 x 800 x 40 – 26,25 x 800 x 45 = 800.000 – 945.000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- 145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sviación por causa de las cantidades (técnica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)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25x800 – 26,25x800) x 40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- 4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sviación por causa de los precios (económica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) 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40 - 45) x 26,25 x 800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- 105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pos de Presupue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2209320"/>
            <a:ext cx="815364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pendiendo del horizonte de planifica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Presupuestos Maestros (1 añ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upuesto Oper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upuesto Financi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4960" y="4554360"/>
            <a:ext cx="7347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Presupuesto de Capital (más de 1 añ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upuesto Maestr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)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upuesto Operacion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 de Ven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 de Produ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 de MP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 de M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 de Gastos de Fabr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 de Exist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4495680"/>
            <a:ext cx="51814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)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upuestos Financier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 de Caj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G. presupues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ERR presupues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72800" y="5370480"/>
            <a:ext cx="5050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Symbol"/>
                <a:ea typeface="Symbol"/>
              </a:rPr>
              <a:t>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18280" y="5546880"/>
            <a:ext cx="24541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stado Financiero Profo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05320" y="365760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05320" y="36576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86400" y="36576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81280" y="3733920"/>
            <a:ext cx="1828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upue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er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441972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81280" y="4479840"/>
            <a:ext cx="1828800" cy="19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eva Tecn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novación-A.F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evas Instal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me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504960" y="647712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30492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30492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312408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0492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380880"/>
            <a:ext cx="1828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raté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106668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1432080"/>
            <a:ext cx="1981080" cy="15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interno y exte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trateg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es de A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72200" y="22860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72200" y="22860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312408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153280" y="22860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248520" y="304920"/>
            <a:ext cx="1828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upue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nci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72200" y="99072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1295280"/>
            <a:ext cx="182880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ER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upuesto de Ca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30492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05320" y="30492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86400" y="30492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380880"/>
            <a:ext cx="1828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upue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106668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81280" y="1127160"/>
            <a:ext cx="1981440" cy="19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stos Administra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504960" y="312408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16765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486400" y="16765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31240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426708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86400" y="434340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162920" y="312372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75888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Características de los presupuestos operaci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ben compreder todas y cada una de las funciones que se desarrollan en la empresa, en situación de normalidad. Entonces habrán presupuestos de ventas, de compras, de remuneraciones, de producción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presentan la actuación futura de la organización, por lo que la información que contienen se refiere a proyecciones y no a hechos histór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uelen comprender el horizonte temporal correspondiente al ejercicio contable, generalmente un añ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68680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ben presentar información en términos cuantitat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Times New Roman"/>
              </a:rPr>
              <a:t>Ejemplo: La empresa Anfersa SA planea vender 9.500 computadores el próximo año. Su presupuesto de ventas es el siguien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286000" y="2363760"/>
            <a:ext cx="434340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0T16:31:30Z</dcterms:created>
  <dc:creator>mmv</dc:creator>
  <dc:description/>
  <dc:language>en-US</dc:language>
  <cp:lastModifiedBy>Mjorrat</cp:lastModifiedBy>
  <cp:lastPrinted>1999-04-29T23:00:42Z</cp:lastPrinted>
  <dcterms:modified xsi:type="dcterms:W3CDTF">2003-11-07T05:00:15Z</dcterms:modified>
  <cp:revision>9</cp:revision>
  <dc:subject/>
  <dc:title>Sin título de diapositiva</dc:title>
</cp:coreProperties>
</file>