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086-BAF0-4E6D-B6D4-79358A86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0E6-229F-4400-B210-9C9E7E72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3BA-D766-422C-A528-C19B44E0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1EF-B03E-401C-A039-46DBC85F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ACE-A089-4103-A39B-6E4F0E8E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1DE-BE98-4AC6-8868-4EB29EFC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E3F-5E43-4E25-B593-D7AF41C9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131-2248-47B1-8B1D-28F2AFB8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1FA-F70B-4D42-A3B3-B6167E2A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E6B-0536-4418-97B8-40A9E5E4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866-B456-40A4-BEA0-DDA1A6CC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372-A922-4D10-823D-5F7FE749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0D0B-B580-4921-B5F1-285AEA5E54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mente los clientes de empresas de telefonía móvil, de todas las maneras posibles que se le ocurra, independiente de si el micro segmento tendrá o no masa crítica para que se justifique atend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sicione a Iquique como lugar tur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es dueño de una empresa, y ha decidido internacionalizar sus operaciones dentro de Sud América. Indique las variables que considerará y las alternativas estratégicas que prevé le darían mayore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7-06-25T01:27:33Z</dcterms:modified>
  <cp:revision>12</cp:revision>
  <dc:subject/>
  <dc:title>Dirección de Marketing</dc:title>
</cp:coreProperties>
</file>