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9C1-739E-48C2-9A49-5A786D69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B75-178D-404C-8E0E-02FE4885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7F4-B502-4297-9DFD-0D6E078E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028-4713-4E3C-AFA3-7F7A0481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8FC-C4FF-41B4-95B9-1C25AB67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6E0-86E7-4E44-820F-491FB6BD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8AE-3B2D-492B-9843-E1AC41F1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1AC-5322-43E8-86BD-6C7014C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AE9-6614-404C-8153-ED46AF2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A36-2A04-4F33-946B-140FCB40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FC1-3300-4F7F-AE20-9374EF04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635-EDBA-4195-8251-ECEEC071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AA78E-A484-4247-BCB2-1C22F928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DBF9E5-AB51-448D-97D6-6BC6D232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247BB-7244-4A16-BF6A-7BEDAF63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840BE-7102-4986-A2BA-1DEA0BC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3D7B6-E6BD-41BB-8A0C-C7CE7AA6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36EC2-2923-4BF0-A052-90FB4338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D042A-535F-4D8B-9BDA-F0FB8BD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7DAD48-2BEB-446A-90DC-B34CE317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1AEBD-9230-4150-80EC-6BFD061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08116-3180-49F9-B765-AD8C8A37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C92F11-E45D-4ABB-96D6-9C244ABE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687B5-6855-4067-9BE5-3F593677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A327-4B98-4307-A3CE-5EB229DBE2D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41A2-42E7-4929-817F-08628771DDE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MACRO SEGMENTACIÓN Y CICLO DE VID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fase de incertid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la información sobre el consumidor, los canales y la compe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ialéctica principal se establece entre el producto innovador y los sustitu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roducto suele ser el principal protagonista de la fase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Tendrá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87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mbios en las motivaciones del consumid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mbios sociales  o económicos que favorecen nuevos usos del produc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uevos grupos de consumidores que se empiezan a incorporar al consumo del product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sa de fracasos muy elevada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l público no acepta la innov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se consigue distribución (en los canales tradicionales o nuev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os líderes (de los productos a sustituir) dominan el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arece otra tecnología que si es acept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1. FASE DE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764640"/>
            <a:ext cx="8066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uesta a punto del producto y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orientación del público inno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ar a conocer el producto y convencer al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laboración de la distribución o la creación de nuevos c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mento (tiempo) y form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tección por patentes, barreras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encia de los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guir entre prueba y repetición en la compra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imiento lento, faltan consumidores/usuarios y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sh-flow neg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que soportar inversiones en  producción e I+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explosiva en crecimiento, en la que aparecen las claves que determinarán la dinámica competitiva futura. En esta etapa se desarrolla el mercado de referencia y se cubren distintas posiciones P/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207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usuario acepta el producto (incorporación de los primeros adoptadores y de la primera mayor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tribución se amplía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éxito atrae a muchos competidores que conjuntamente contribuyen a desarrollar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de la industria entran en juego y marcan su hegemo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tasa de fracasos es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unas empresas tienen dificultades para financiar el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deres futuros suelen crecer por encima  de la media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71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2. FASE DE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9792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er participación de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bajar en el desarrollo de la Imagen de marca (fidelidad fu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n los costos (efecto volumen y aprendiza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usión de la 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bertura de la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tamente comienza el aprendizaje por parte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rse para bajadas de precios hacia el final de la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perfila la definición de roles: líder, seguidor, retador, especia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ción de recurs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flujos de caja  son positivos y crecen rápid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ación de la inversión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desaceleración del crecimiento  como consecuencia de la saturación del merc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ele tomar  a los desprevenidos con ampliaciones de capacidad y endeudamiento financie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ventas totales crecen a tasas más bajas pero mayores aún que el promedio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134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y una inflexión brusca en la tasa de cr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tribución encaja con dificultades y traslada la crisis a los fabric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rte caída de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 de conservadu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band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roduce un abandono masivo de los competidores más débiles que no consiguen aguantar el cambio de velo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cen los “nicheros” o especialis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fuertes se reestructur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se prepar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afrontar la madurez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98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3. FASE DE TURBUL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685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ionalización de todos los procesos. Hay que bajar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os competidores aguantan por reputación, activos especializados, barreras de salida y ... Se incrementa la rivalidad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ar la línea de productos con diferentes tamaños, sabores y variantes. Buscar satisfacer a segmentos y necesidades “aledañ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geográfica e inter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uantan los más fuertes (preparados en la etapa de crecimiento) y preparan la madurez (reestructu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ón de la imagen versus promociones continu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se puede hacer lo anterior, hay que buscar ni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durez se caracteriza por la estabilidad y por ser la más larga del ciclo y en la que se encuentran la mayoría de los merc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209680"/>
            <a:ext cx="8001000" cy="157212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CROSEGMENTACION = DEFINICIÓN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rk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líderes de mercado empiezan a imponer su hegemonía y se instaura un relativo oligopolio que favorece mantener un “statuo quo” de h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Concentr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r cuota es caro y se tiende a mantener las pos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iende a cumplir la llamada ley de Henderson (3*4). Tres competidores importantes con  un reparto de cuotas de 4 a 1 entre el primero y el últ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4. FASE DE MADU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tasa de penetración es máxima: el consumidor es experto (última mayorí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iversificar al máximo la línea de produ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ompras de reposición de bienes dura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bilización tecnológica y estandarización de produc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crecer en mercados madu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Gaps de us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más cantidad, más frecuente, nuevos us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sarrollo de periféricos de servic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¿Cómo mantener la rent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lección de los segmentos rentab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ar más en Fidelizar cliente que en Penet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e caracterizada  p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scenso de la demanda, la certidumbre respecto la decadenci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incertidumbre respecto a su du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 una etapa que discrimina los competidor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desinvierten, que cosech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especializan en mercados residuales rentables e invierten para seg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¿Cómo empiez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parecen productos sustituto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s consumidores (mayorías) cambian de hábitos y abandonan el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s que quedan rezagados y el entorno en general apuntan a la obsolescencia del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VP: 5. FASE DE DEC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 tasa de abando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mpetidores que abandonan el P/M son significativos. Algunos practican la obsolescencia planificada o buscan la expansión geográfica en mercados exteriores de otro nivel (Ciclo de Vida Intern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actores cr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barreras de salida y la calidad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de precios (pueden subir) y fidelidad de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selectiva o marketing di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dad de nicho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io del mercado por un competi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RCADO POTENCIAL (ABSOLUTO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ERCADO POTENCIAL  (ACT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38080" y="1981080"/>
            <a:ext cx="7772400" cy="230364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s interesará en general, sobretodo  respecto de la visión estratégica, buenas estimaciones del MERCADO POTENCIAL ABSOL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 llamaremos sólo Mercado Po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87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RCADO POTENCIAL (ABSOLU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10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 de unidades de consumo potenci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lquier persona de 5 o más años es usuario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 representa el 90% de la población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 en Chile: 15 millones de habit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tiene pues: 90% de 15 millones = 13,5 millones de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úmero de ocasiones de uso por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 consumos semanales  por  usuario (cada uso equivale a 0,25  litros de coca co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usos por año: 13,5 millones de usuarios * 2/semana*52 semanas =1.404  millones de ocasiones de uso por año o 351 litros de bebidas gase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a de consumo por  ocasión de us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utilización normal implica 0.25 litros por 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mercado potencial absoluto es pues de: 1.404 millones de litros po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botella promedio  contiene 1,5  litros; lo que hace: 936 millones de botellas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7440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o alcanzamos el Pote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19432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12800" y="1333440"/>
            <a:ext cx="1905120" cy="4648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12800" y="1104840"/>
            <a:ext cx="19051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12800" y="2324160"/>
            <a:ext cx="190512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2800" y="3543480"/>
            <a:ext cx="1905120" cy="1218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12800" y="4762440"/>
            <a:ext cx="190512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12800" y="5524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560" y="7239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rcado Potencial Absol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59520" y="11430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3040" y="2362320"/>
            <a:ext cx="19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59520" y="358128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ficiencia en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04680" y="47624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95480" y="5600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60" y="4994280"/>
            <a:ext cx="127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84200" y="476244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75120" y="2324160"/>
            <a:ext cx="609480" cy="36576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41800" y="3543480"/>
            <a:ext cx="609840" cy="2438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08840" y="4762440"/>
            <a:ext cx="609480" cy="12193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99200" y="5524560"/>
            <a:ext cx="60984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60520" y="47624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60520" y="598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4400" y="106668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ma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2840" y="11048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98800" y="110484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89520" y="2324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65840" y="2324160"/>
            <a:ext cx="0" cy="1219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7760" y="22860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lia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56200" y="3543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2520" y="3543480"/>
            <a:ext cx="0" cy="1218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080" y="35053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i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s 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46920" y="4838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23240" y="4838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08840" y="4724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acar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440" y="544824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fender 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U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19672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IDORES POTENCIALES QUE NO SON USU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A FRECUENCIA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JA CANT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259092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52480" y="281952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ASO    POUPARIÑ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31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DISTRIB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2680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BERTURA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DAD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SICIÓN INSUFIC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FICIENCIA DE PRODU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6800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M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7240" y="591840"/>
            <a:ext cx="876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- DEFIN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426708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1360" y="419112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1 Precio promedio de X mayor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09520" y="5486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 1 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440" y="4648320"/>
            <a:ext cx="12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5029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371600" y="1828800"/>
                <a:ext cx="4457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Marca 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l Prod-Md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371600" y="3429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3657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9257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olumen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V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valor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  P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- OBSERV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-  Cuidado con cual es el MP de re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-  A veces algunas marcas incluyen ventas de otros M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-  Análisis en el tiempo (mejor Promedios Móviles para observar tendenci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- DESCOMPOSICIÓN DE LA PARTICIP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MERC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86200"/>
            <a:ext cx="8153280" cy="459720"/>
          </a:xfrm>
          <a:prstGeom prst="rect">
            <a:avLst/>
          </a:prstGeom>
          <a:solidFill>
            <a:srgbClr val="99ff33"/>
          </a:solidFill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ARTICIP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f(Penetración, Lealtad, Intens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360" y="123336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LTAD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dad que tiene una persona promedio de comprar la marca X cuando va a comprar el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ET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del Mercado Potencial que consume alguna vez la marca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NSIDAD (de uso)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úmero de veces en un período de tiempo que el consumid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edio compra (consume) el product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radores de Nescafé (Personas que compran café, y algunas veces al menos,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scaf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radores de café.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Cantidad de café comprado por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café en un períod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c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café (cualquier marca)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a por los compradores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scaf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tidad de Nescafé comprada por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Nescafé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xx/Qc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icipación en Volum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x/Nc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xx/Qcx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altad por el Nescafé de l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adores de Nescaf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N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x/N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c/N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umo promedio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radores de 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cx/Nx)/(Qcc/Nc)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nsidad relativa de consumo de 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café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de los compradores de 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Nescafé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MERCADOS Y PRODU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ES DIMENSIONES PARA DEFINIR UN MERC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QUÉ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UPO DE COMPRADOR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QUIÉ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¿CÓMO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6160" y="2712960"/>
            <a:ext cx="60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09480" y="286056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15920" y="2712960"/>
            <a:ext cx="58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7652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64600" y="2712960"/>
            <a:ext cx="104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3124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244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520" y="2712960"/>
            <a:ext cx="1033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124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3520" y="3855960"/>
            <a:ext cx="77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ótese que matemáticamente esta es una igual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35080" y="1949400"/>
          <a:ext cx="8650080" cy="28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949400"/>
                    <a:ext cx="86500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88880" y="51912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cc = 1.550.000 * 1,63225806  =  2.529.999,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cx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* 1.8) + (200.000 * 1.7) + (50.000 *1.6) +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50.000 * 1.5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 1.75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xx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* 1.8) + (200.000 * 0.9) + (50.000 * 1.0) +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50.000 * 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.51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x =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700.000 + 200.000 + 50.000 + 5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.0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c =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.55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Qc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5988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ne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x/Nc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645161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al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xx/Qcx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863247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nsidad rel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cx/Nx)/(Qcc/Nc)  =  1.075197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jemplo: Mercado de Café Soluble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cipación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netración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altad de Nescafé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,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nsidad relativa de Nescaf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,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icipación = Penetración * Lealtad * 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0,6      =       0,65      *   0,86   *     1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25320" y="30636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Unicode MS"/>
              </a:rPr>
              <a:t>DIMENSIONES DEL MERCADO DE RE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4760" y="1782000"/>
            <a:ext cx="8836920" cy="4361040"/>
            <a:chOff x="194760" y="1782000"/>
            <a:chExt cx="8836920" cy="4361040"/>
          </a:xfrm>
        </p:grpSpPr>
        <p:sp>
          <p:nvSpPr>
            <p:cNvPr id="158" name=""/>
            <p:cNvSpPr/>
            <p:nvPr/>
          </p:nvSpPr>
          <p:spPr>
            <a:xfrm flipV="1">
              <a:off x="1674000" y="1842480"/>
              <a:ext cx="360" cy="205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6600" y="3889080"/>
              <a:ext cx="1344240" cy="1376640"/>
            </a:xfrm>
            <a:custGeom>
              <a:avLst/>
              <a:gdLst/>
              <a:ahLst/>
              <a:rect l="l" t="t" r="r" b="b"/>
              <a:pathLst>
                <a:path w="2152" h="2168">
                  <a:moveTo>
                    <a:pt x="2152" y="0"/>
                  </a:moveTo>
                  <a:lnTo>
                    <a:pt x="0" y="216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4000" y="3900600"/>
              <a:ext cx="448092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16560" y="1782000"/>
              <a:ext cx="4580640" cy="86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Funciones o necesidad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Qué necesidades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4760" y="5279760"/>
              <a:ext cx="4113360" cy="86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Cómo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95240" y="3557520"/>
              <a:ext cx="283644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Grupos de comprador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Book Antiqua"/>
                </a:rPr>
                <a:t>¿«A quién» satisfacer?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388520" y="743040"/>
            <a:ext cx="7345080" cy="5942520"/>
            <a:chOff x="1388520" y="743040"/>
            <a:chExt cx="7345080" cy="5942520"/>
          </a:xfrm>
        </p:grpSpPr>
        <p:sp>
          <p:nvSpPr>
            <p:cNvPr id="165" name=""/>
            <p:cNvSpPr/>
            <p:nvPr/>
          </p:nvSpPr>
          <p:spPr>
            <a:xfrm flipV="1">
              <a:off x="5347080" y="74304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47080" y="193896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83880" y="193032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07920" y="744840"/>
              <a:ext cx="125604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3160" y="169740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0560" y="1549440"/>
              <a:ext cx="313920" cy="28548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88520" y="977760"/>
              <a:ext cx="345420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Nego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 producto mercado se sitúa 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la intersección de un grupo de 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y de una función bas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en una tecnología correc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98160" y="250812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344920" y="269244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47080" y="386064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565520" y="386064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0560" y="2647800"/>
              <a:ext cx="12560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54800" y="360252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47040" y="445140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363600">
              <a:off x="5838480" y="319824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363600">
              <a:off x="5742360" y="326988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363600">
              <a:off x="5648040" y="333972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63600">
              <a:off x="5555160" y="3416040"/>
              <a:ext cx="31248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363600">
              <a:off x="5463360" y="3492000"/>
              <a:ext cx="312840" cy="280080"/>
            </a:xfrm>
            <a:prstGeom prst="cube">
              <a:avLst>
                <a:gd name="adj" fmla="val 3074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344920" y="4692600"/>
              <a:ext cx="360" cy="117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565520" y="5869440"/>
              <a:ext cx="771480" cy="57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09960" y="6442920"/>
              <a:ext cx="125604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Tecnologí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47080" y="5868360"/>
              <a:ext cx="1988640" cy="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73160" y="5640840"/>
              <a:ext cx="1360440" cy="66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Grupo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0560" y="4658760"/>
              <a:ext cx="12560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Fun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2920" y="4978440"/>
              <a:ext cx="1137240" cy="1142640"/>
            </a:xfrm>
            <a:prstGeom prst="cube">
              <a:avLst>
                <a:gd name="adj" fmla="val 102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37200" y="5006520"/>
              <a:ext cx="8640" cy="996120"/>
            </a:xfrm>
            <a:custGeom>
              <a:avLst/>
              <a:gdLst/>
              <a:ahLst/>
              <a:rect l="l" t="t" r="r" b="b"/>
              <a:pathLst>
                <a:path w="15" h="1883">
                  <a:moveTo>
                    <a:pt x="0" y="0"/>
                  </a:moveTo>
                  <a:lnTo>
                    <a:pt x="15" y="18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5200" y="5996520"/>
              <a:ext cx="962280" cy="6120"/>
            </a:xfrm>
            <a:custGeom>
              <a:avLst/>
              <a:gdLst/>
              <a:ahLst/>
              <a:rect l="l" t="t" r="r" b="b"/>
              <a:pathLst>
                <a:path w="1883" h="12">
                  <a:moveTo>
                    <a:pt x="0" y="0"/>
                  </a:moveTo>
                  <a:lnTo>
                    <a:pt x="1883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90680" y="3263760"/>
              <a:ext cx="2721240" cy="85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 mercado cubre el conju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de las tecnologías para una función y un grupo de comp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90680" y="5168880"/>
              <a:ext cx="2721240" cy="10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Book Antiqua"/>
                </a:rPr>
                <a:t>Ind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Book Antiqua"/>
                </a:rPr>
                <a:t>Una industria está definida por una tecnología cualesquiera que las funciones y los grupos de compradores afec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iclo de V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s u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o concep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esante pa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i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ractivo y evolución de un mercado-produc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s: Mayonesa, Productos Die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9480" y="1499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terminantes del Ciclo de V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ecnología (productos sustitutivo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rcado (nuevos hábitos, variaciones de la población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fuerzo de Marketing de las empresas (no es neutro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bre la unidad de análi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ducto/mercado   versus   marca o produc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CICLO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62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CLO DE VIDA PRODUCTO/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317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94200" y="5791320"/>
            <a:ext cx="35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: Adaptado de Lambin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23623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19320" y="1557360"/>
          <a:ext cx="693396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57360"/>
                    <a:ext cx="69339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571760" y="2671920"/>
            <a:ext cx="5667120" cy="2690640"/>
          </a:xfrm>
          <a:custGeom>
            <a:avLst/>
            <a:gdLst/>
            <a:ahLst/>
            <a:rect l="l" t="t" r="r" b="b"/>
            <a:pathLst>
              <a:path w="3570" h="1695">
                <a:moveTo>
                  <a:pt x="0" y="1692"/>
                </a:moveTo>
                <a:cubicBezTo>
                  <a:pt x="143" y="1677"/>
                  <a:pt x="637" y="1695"/>
                  <a:pt x="859" y="1591"/>
                </a:cubicBezTo>
                <a:cubicBezTo>
                  <a:pt x="1081" y="1487"/>
                  <a:pt x="1216" y="1221"/>
                  <a:pt x="1334" y="1066"/>
                </a:cubicBezTo>
                <a:cubicBezTo>
                  <a:pt x="1452" y="911"/>
                  <a:pt x="1474" y="799"/>
                  <a:pt x="1567" y="661"/>
                </a:cubicBezTo>
                <a:cubicBezTo>
                  <a:pt x="1660" y="523"/>
                  <a:pt x="1745" y="343"/>
                  <a:pt x="1890" y="237"/>
                </a:cubicBezTo>
                <a:cubicBezTo>
                  <a:pt x="2035" y="131"/>
                  <a:pt x="2222" y="50"/>
                  <a:pt x="2436" y="25"/>
                </a:cubicBezTo>
                <a:cubicBezTo>
                  <a:pt x="2650" y="0"/>
                  <a:pt x="2984" y="10"/>
                  <a:pt x="3173" y="85"/>
                </a:cubicBezTo>
                <a:cubicBezTo>
                  <a:pt x="3362" y="160"/>
                  <a:pt x="3487" y="395"/>
                  <a:pt x="3570" y="477"/>
                </a:cubicBezTo>
              </a:path>
            </a:pathLst>
          </a:custGeom>
          <a:noFill/>
          <a:ln w="442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83680" y="177336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olución de la demanda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22:08:22Z</dcterms:created>
  <dc:creator>Dii</dc:creator>
  <dc:description/>
  <dc:language>en-US</dc:language>
  <cp:lastModifiedBy>William Young</cp:lastModifiedBy>
  <dcterms:modified xsi:type="dcterms:W3CDTF">2007-06-12T01:46:16Z</dcterms:modified>
  <cp:revision>127</cp:revision>
  <dc:subject/>
  <dc:title>Sin título de diapositiva</dc:title>
</cp:coreProperties>
</file>