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5F0-69A3-402D-A4A0-2F9A262C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83E-3D4C-4CED-8588-EC0BE12E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EE81-49B6-43C2-9592-10497D2A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E94-0D6C-4809-B34C-85CFFDC4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1AA1-2AAE-4901-8877-FD2D988B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254-9F5E-4BDD-BFAF-3401A1D7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1FC-9E79-4EDD-A3CD-EDCFB6AC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8972-67B7-4358-8A21-6A0C776C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7D0-184C-4818-AF75-68ADCADE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E31-799D-44CC-AE44-74C1BEAA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CDF5-D40F-44FA-B05B-F0041C08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55F8-9644-4323-9806-C79D4EAB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9580-2CFA-4BE4-8F13-EA9A52643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17:17:32Z</dcterms:created>
  <dc:creator>Jorge</dc:creator>
  <dc:description/>
  <dc:language>en-US</dc:language>
  <cp:lastModifiedBy>Jorge</cp:lastModifiedBy>
  <dcterms:modified xsi:type="dcterms:W3CDTF">2007-05-19T17:17:58Z</dcterms:modified>
  <cp:revision>1</cp:revision>
  <dc:subject/>
  <dc:title>Diapositiva 1</dc:title>
</cp:coreProperties>
</file>