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68E-8E8B-41A9-8063-813BFB3D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0FE-FE97-4BA1-BFEB-BC66675B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254A-CB70-4693-BCEA-E6AA1BA8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44F-A73F-4D37-90E4-BF771E63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85B2-5CAE-4CB2-AC02-6E41FA8D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D67F-24D9-4CB0-8C3D-CD67F0FD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19E7-C75E-4487-9F2C-3F7C98FB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EE61-D741-4F91-B24D-281937BE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C715-3482-47F5-9C11-606CEF66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9F21-FE7A-465F-9D66-D74251AD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DE33-0EB0-437C-9BB4-62C0B9E1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81A-6FB9-4485-BBD0-0BAB9C6F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A429-F5B9-46B2-879C-923D5B35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1E22-2EB3-441E-926E-9D418E1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A6F2-1A97-4EAB-887E-96FDB778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5E76-D7F4-4263-982C-2C040184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C9B1-F71D-4746-AFA1-8D11BE96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509-1E9D-408B-9DA2-68DAC4A3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DC2-A5AD-4883-A65A-AD7E01F8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132-4011-4EA4-822A-5965AE9B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6F7-36D1-438F-88E4-669F0E54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709-4EC8-4B02-BA16-64FF1A6B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FF1D-B054-4428-B0F6-0EBB3D89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D5C-9DBC-4714-92BC-7953845A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BC54-B9A0-4AEA-8CC2-02E052CE4D6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585A-6B1B-4FB8-AFF4-1902B3A9633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69560" y="19080"/>
            <a:ext cx="8212320" cy="5698440"/>
            <a:chOff x="169560" y="19080"/>
            <a:chExt cx="8212320" cy="5698440"/>
          </a:xfrm>
        </p:grpSpPr>
        <p:sp>
          <p:nvSpPr>
            <p:cNvPr id="83" name=""/>
            <p:cNvSpPr txBox="1"/>
            <p:nvPr/>
          </p:nvSpPr>
          <p:spPr>
            <a:xfrm>
              <a:off x="3048120" y="4191120"/>
              <a:ext cx="282888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Nancy Lacourly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63880" y="525780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Times New Roman"/>
                </a:rPr>
                <a:t>junio 200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34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38080" y="1219320"/>
              <a:ext cx="7543800" cy="22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álisis en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 </a:t>
              </a: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Componentes Principales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FE8-C471-40A3-857A-982D225E15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611280" y="299880"/>
            <a:ext cx="8145000" cy="6251760"/>
            <a:chOff x="611280" y="299880"/>
            <a:chExt cx="8145000" cy="6251760"/>
          </a:xfrm>
        </p:grpSpPr>
        <p:sp>
          <p:nvSpPr>
            <p:cNvPr id="648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8376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649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383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28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592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0924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8372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6200000">
              <a:off x="30564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56672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6672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6672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672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9940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9940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15360" y="5532480"/>
              <a:ext cx="381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415360" y="5532480"/>
              <a:ext cx="381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8876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8876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5172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5172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24760" y="5532480"/>
              <a:ext cx="2988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24760" y="5532480"/>
              <a:ext cx="2988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8988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8988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6256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6256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22960" y="60012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22960" y="60012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22960" y="15825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22960" y="15825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22960" y="25653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22960" y="25653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22960" y="35481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22960" y="35481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22960" y="45306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22960" y="45306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22960" y="55134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22960" y="55134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72280" y="609480"/>
              <a:ext cx="666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72280" y="609480"/>
              <a:ext cx="666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72280" y="609480"/>
              <a:ext cx="666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40200" y="1544760"/>
              <a:ext cx="576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3680" y="467028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21840" y="3125880"/>
              <a:ext cx="5940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75720" y="2097000"/>
              <a:ext cx="594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57720" y="401472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65840" y="4689360"/>
              <a:ext cx="594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52200" y="2583000"/>
              <a:ext cx="5760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454800" y="278928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96680" y="381960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79440" y="5138640"/>
              <a:ext cx="576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1680" y="412740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00760" y="436248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73280" y="333216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93960" y="313524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810200" y="4614840"/>
              <a:ext cx="590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81120" y="452124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83240" y="315432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917320" y="245268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45360" y="284652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81120" y="354816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72280" y="5522760"/>
              <a:ext cx="666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17722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1388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6196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03208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4388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819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907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01760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9444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9052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533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93652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5796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4152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6604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3496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1556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6074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60664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9220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334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822-4AFF-4E50-99B3-2C715B3381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304920" y="141120"/>
            <a:ext cx="8610480" cy="645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959-8DB0-4610-BCC1-89A6090683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866880" y="11592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La correlación entre la primera componente principal y 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TASA NAT. se obtiene como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00080" y="1015920"/>
            <a:ext cx="5181480" cy="236556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2505240" y="1674720"/>
            <a:ext cx="91440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1116000" y="3979800"/>
          <a:ext cx="7510320" cy="232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979800"/>
                    <a:ext cx="751032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144880" y="4629240"/>
            <a:ext cx="91440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28720" y="15048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= -0.4365*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√4.15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987640" y="1988640"/>
            <a:ext cx="4321080" cy="25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39" idx="6"/>
            <a:endCxn id="743" idx="3"/>
          </p:cNvCxnSpPr>
          <p:nvPr/>
        </p:nvCxnSpPr>
        <p:spPr>
          <a:xfrm flipV="1">
            <a:off x="3433680" y="1733040"/>
            <a:ext cx="5392080" cy="121680"/>
          </a:xfrm>
          <a:prstGeom prst="curvedConnector5">
            <a:avLst>
              <a:gd name="adj1" fmla="val 25759"/>
              <a:gd name="adj2" fmla="val -139465"/>
              <a:gd name="adj3" fmla="val 25759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CF2-509B-4334-AD6D-71F2D471EC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971640" y="3789360"/>
          <a:ext cx="7543800" cy="25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78936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866880" y="18900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La correlación entre la primera componente principal y 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TASA NAT. se obtiene como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362320" y="4497480"/>
            <a:ext cx="91440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979560" y="1135080"/>
            <a:ext cx="5181480" cy="236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2484360" y="1793880"/>
            <a:ext cx="91440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228720" y="15048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= -0,4365*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√4,15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01800" y="2035080"/>
            <a:ext cx="15217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es-MX" sz="2400" spc="-1" strike="noStrike" u="sng">
                <a:solidFill>
                  <a:srgbClr val="333333"/>
                </a:solidFill>
                <a:uFillTx/>
                <a:latin typeface="Times New Roman"/>
              </a:rPr>
              <a:t>-0,889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3132000" y="2565360"/>
            <a:ext cx="4104000" cy="1943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C6E-1359-459F-B370-D72CFF6CE0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6" name=""/>
          <p:cNvGraphicFramePr/>
          <p:nvPr/>
        </p:nvGraphicFramePr>
        <p:xfrm>
          <a:off x="773280" y="2054160"/>
          <a:ext cx="7543800" cy="25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205416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>
            <a:off x="319320" y="6681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Correlaciones entre variables antiguas y componente princip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57A-6DCE-4AA0-969D-FAF9308D5C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7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898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6BB-1DCD-4FCF-A737-13E4279EDE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0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"/>
          <p:cNvSpPr/>
          <p:nvPr/>
        </p:nvSpPr>
        <p:spPr>
          <a:xfrm>
            <a:off x="3119400" y="26028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ff"/>
                </a:solidFill>
                <a:latin typeface="Arial"/>
              </a:rPr>
              <a:t>Otro cas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44F-9319-4CF3-AA18-B60652B2AC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F9D-A03B-4777-B52E-0601AD470C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885-C32D-4E4B-B498-F5FE25998C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C21-7036-42BA-9E4B-441FB645C0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92760" y="228600"/>
            <a:ext cx="8751240" cy="6585120"/>
            <a:chOff x="392760" y="228600"/>
            <a:chExt cx="8751240" cy="6585120"/>
          </a:xfrm>
        </p:grpSpPr>
        <p:sp>
          <p:nvSpPr>
            <p:cNvPr id="89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692360" y="1098720"/>
              <a:ext cx="7451640" cy="5715000"/>
              <a:chOff x="1692360" y="1098720"/>
              <a:chExt cx="7451640" cy="5715000"/>
            </a:xfrm>
          </p:grpSpPr>
          <p:pic>
            <p:nvPicPr>
              <p:cNvPr id="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5061240"/>
                <a:ext cx="6858000" cy="175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2360" y="1098720"/>
                <a:ext cx="7451640" cy="406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466-0C1A-439C-94C7-6AE2B28CE5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2917800" y="2602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Jugadores de Ten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3480" y="1531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6012000" y="1125360"/>
          <a:ext cx="1728720" cy="5024520"/>
        </p:xfrm>
        <a:graphic>
          <a:graphicData uri="http://schemas.openxmlformats.org/drawingml/2006/table">
            <a:tbl>
              <a:tblPr/>
              <a:tblGrid>
                <a:gridCol w="1728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erech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ve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ervic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ole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ueltaServic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mash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uegoPiern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o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morti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assing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gularidad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ToquePelot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sic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isic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uegoDobl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2" name=""/>
          <p:cNvSpPr/>
          <p:nvPr/>
        </p:nvSpPr>
        <p:spPr>
          <a:xfrm>
            <a:off x="809280" y="20098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35 jugadores y sus cualidad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3FB-3A83-4BAE-AC29-D82F98F9EB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2773440" y="404640"/>
            <a:ext cx="6119640" cy="576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4" name=""/>
          <p:cNvGraphicFramePr/>
          <p:nvPr/>
        </p:nvGraphicFramePr>
        <p:xfrm>
          <a:off x="468360" y="836640"/>
          <a:ext cx="1871640" cy="4551480"/>
        </p:xfrm>
        <a:graphic>
          <a:graphicData uri="http://schemas.openxmlformats.org/drawingml/2006/table">
            <a:tbl>
              <a:tblPr/>
              <a:tblGrid>
                <a:gridCol w="960480"/>
                <a:gridCol w="9111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alor propi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acumulad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,26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1,7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,52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1,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39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1,2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54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4,8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4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8,0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43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0,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37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3,4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30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5,4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23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7,0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13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7,9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8,5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0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5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4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5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3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906-9B15-44E8-87D8-CC206F0780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1280" y="228600"/>
            <a:ext cx="89647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71C-05AA-48D0-B539-E572AA976C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441360" y="258840"/>
            <a:ext cx="8163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326-D050-40E5-803B-32708B0B91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7" name=""/>
          <p:cNvGraphicFramePr/>
          <p:nvPr/>
        </p:nvGraphicFramePr>
        <p:xfrm>
          <a:off x="324000" y="692280"/>
          <a:ext cx="4014720" cy="5486400"/>
        </p:xfrm>
        <a:graphic>
          <a:graphicData uri="http://schemas.openxmlformats.org/drawingml/2006/table">
            <a:tbl>
              <a:tblPr/>
              <a:tblGrid>
                <a:gridCol w="1271520"/>
                <a:gridCol w="762120"/>
                <a:gridCol w="1320840"/>
                <a:gridCol w="6602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CENRO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8,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YOT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O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7,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RRY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ONN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7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CCI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ND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URRE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ECK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FORGET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OA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M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WILAND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ZIVOJINOVI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ERULAITI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2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EK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TTFRIE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2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LER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EDBE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HIGUER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VIL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CKSTEI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YSTROEM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ELTSCH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ANN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ANCH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ECI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ARI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CON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I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RNF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RLSS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S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ULASN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OLOM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8" name=""/>
          <p:cNvSpPr/>
          <p:nvPr/>
        </p:nvSpPr>
        <p:spPr>
          <a:xfrm>
            <a:off x="951120" y="3960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Puntaje promedi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5614920" y="685800"/>
          <a:ext cx="2629080" cy="5486400"/>
        </p:xfrm>
        <a:graphic>
          <a:graphicData uri="http://schemas.openxmlformats.org/drawingml/2006/table">
            <a:tbl>
              <a:tblPr/>
              <a:tblGrid>
                <a:gridCol w="1295280"/>
                <a:gridCol w="13338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O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CON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ONN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RLSS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ND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ELTSCH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CENRO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CKSTEI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VIL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ANN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WILAND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I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YSTROEM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M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OLOM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ANCH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ECK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EK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RNF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S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HIGUER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ULASN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ECI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RRY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TTFRIE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FORGET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LER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YOT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OA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CCI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EDBE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URRE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ARI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ZIVOJINOVI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ERULAITI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0" name=""/>
          <p:cNvSpPr/>
          <p:nvPr/>
        </p:nvSpPr>
        <p:spPr>
          <a:xfrm>
            <a:off x="5506560" y="1890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Arial"/>
              </a:rPr>
              <a:t>Orden de la 1era C.P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A6B-3052-4E51-BE65-0BAD23B523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5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BCF-C965-4A25-AD15-50D49150FB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0F5-DF0E-43E9-BF8E-1C57838390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6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60B-49FF-45A6-95B5-F56F4DB982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1A2-63EF-4A26-B5DB-D034115B0D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380880" y="990720"/>
            <a:ext cx="8425080" cy="4876560"/>
            <a:chOff x="380880" y="990720"/>
            <a:chExt cx="8425080" cy="4876560"/>
          </a:xfrm>
        </p:grpSpPr>
        <p:sp>
          <p:nvSpPr>
            <p:cNvPr id="434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565440" y="33336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Arial"/>
              </a:rPr>
              <a:t>Matriz 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E94-26FC-43D5-AB65-2A132D39BE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7" name=""/>
          <p:cNvGraphicFramePr/>
          <p:nvPr/>
        </p:nvGraphicFramePr>
        <p:xfrm>
          <a:off x="987480" y="3352680"/>
          <a:ext cx="7510320" cy="232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3352680"/>
                    <a:ext cx="751032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F89-3347-44B1-8444-CB1803D210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395280" y="404640"/>
            <a:ext cx="8481600" cy="6216480"/>
            <a:chOff x="395280" y="404640"/>
            <a:chExt cx="8481600" cy="6216480"/>
          </a:xfrm>
        </p:grpSpPr>
        <p:sp>
          <p:nvSpPr>
            <p:cNvPr id="560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5112" y="3691"/>
                  </a:moveTo>
                  <a:lnTo>
                    <a:pt x="0" y="0"/>
                  </a:lnTo>
                  <a:lnTo>
                    <a:pt x="0" y="3691"/>
                  </a:lnTo>
                  <a:lnTo>
                    <a:pt x="5112" y="3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0" y="0"/>
                  </a:moveTo>
                  <a:lnTo>
                    <a:pt x="5112" y="0"/>
                  </a:lnTo>
                  <a:lnTo>
                    <a:pt x="5112" y="36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5112" y="3691"/>
                  </a:moveTo>
                  <a:lnTo>
                    <a:pt x="0" y="0"/>
                  </a:lnTo>
                  <a:lnTo>
                    <a:pt x="0" y="3691"/>
                  </a:lnTo>
                  <a:lnTo>
                    <a:pt x="5112" y="3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0" y="0"/>
                  </a:moveTo>
                  <a:lnTo>
                    <a:pt x="5112" y="0"/>
                  </a:lnTo>
                  <a:lnTo>
                    <a:pt x="5112" y="36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35960" y="6205320"/>
              <a:ext cx="178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6612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8912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0276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7860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9332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1416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6200000">
              <a:off x="-59760" y="201132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2    (1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97880" y="60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97880" y="1576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397880" y="255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97880" y="3532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27680" y="451080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27680" y="53899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20480" y="5602320"/>
              <a:ext cx="36360" cy="417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5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20480" y="5602320"/>
              <a:ext cx="36360" cy="417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5"/>
                  </a:moveTo>
                  <a:lnTo>
                    <a:pt x="22" y="25"/>
                  </a:lnTo>
                  <a:lnTo>
                    <a:pt x="22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31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431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75604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5604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6896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6896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815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815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04520" y="5602320"/>
              <a:ext cx="16200" cy="417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25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04520" y="5602320"/>
              <a:ext cx="16200" cy="417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25"/>
                  </a:moveTo>
                  <a:lnTo>
                    <a:pt x="10" y="25"/>
                  </a:lnTo>
                  <a:lnTo>
                    <a:pt x="1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59520" y="697320"/>
              <a:ext cx="71280" cy="334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43" y="2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59520" y="697320"/>
              <a:ext cx="71280" cy="334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0" y="0"/>
                  </a:moveTo>
                  <a:lnTo>
                    <a:pt x="43" y="0"/>
                  </a:lnTo>
                  <a:lnTo>
                    <a:pt x="43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59520" y="16761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9520" y="16761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9520" y="265320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9520" y="265320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0"/>
                  </a:moveTo>
                  <a:lnTo>
                    <a:pt x="43" y="0"/>
                  </a:lnTo>
                  <a:lnTo>
                    <a:pt x="4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9520" y="3631680"/>
              <a:ext cx="71280" cy="2304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9520" y="3631680"/>
              <a:ext cx="71280" cy="2304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9520" y="460836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9520" y="460836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0"/>
                  </a:moveTo>
                  <a:lnTo>
                    <a:pt x="43" y="0"/>
                  </a:lnTo>
                  <a:lnTo>
                    <a:pt x="4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59520" y="55785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59520" y="55785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727560"/>
              <a:ext cx="6925320" cy="4881240"/>
            </a:xfrm>
            <a:custGeom>
              <a:avLst/>
              <a:gdLst/>
              <a:ahLst/>
              <a:rect l="l" t="t" r="r" b="b"/>
              <a:pathLst>
                <a:path w="4174" h="2898">
                  <a:moveTo>
                    <a:pt x="4174" y="2898"/>
                  </a:moveTo>
                  <a:lnTo>
                    <a:pt x="0" y="0"/>
                  </a:lnTo>
                  <a:lnTo>
                    <a:pt x="0" y="2898"/>
                  </a:lnTo>
                  <a:lnTo>
                    <a:pt x="4174" y="28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12800" y="714240"/>
              <a:ext cx="6926040" cy="4880880"/>
            </a:xfrm>
            <a:custGeom>
              <a:avLst/>
              <a:gdLst/>
              <a:ahLst/>
              <a:rect l="l" t="t" r="r" b="b"/>
              <a:pathLst>
                <a:path w="4174" h="2898">
                  <a:moveTo>
                    <a:pt x="0" y="0"/>
                  </a:moveTo>
                  <a:lnTo>
                    <a:pt x="4174" y="0"/>
                  </a:lnTo>
                  <a:lnTo>
                    <a:pt x="4174" y="28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12800" y="714240"/>
              <a:ext cx="6926040" cy="4880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72240" y="3948480"/>
              <a:ext cx="7092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55520" y="15850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21120" y="3752640"/>
              <a:ext cx="694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51960" y="2832840"/>
              <a:ext cx="6984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25680" y="4478760"/>
              <a:ext cx="694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96080" y="4536000"/>
              <a:ext cx="71280" cy="637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01800" y="4478760"/>
              <a:ext cx="7092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76040" y="41284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34040" y="4381200"/>
              <a:ext cx="7128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63520" y="211572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11560" y="45108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56120" y="41284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40160" y="3786480"/>
              <a:ext cx="7128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47240" y="34110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81480" y="3206880"/>
              <a:ext cx="6984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18560" y="5400000"/>
              <a:ext cx="71280" cy="637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10960" y="375264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25240" y="280764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59320" y="25956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26840" y="235116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12800" y="5595480"/>
              <a:ext cx="6926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612800" y="714240"/>
              <a:ext cx="1800" cy="4880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25680" y="3880800"/>
              <a:ext cx="1058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76720" y="1323720"/>
              <a:ext cx="88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URUGUY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24760" y="349200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. DOMINIC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93840" y="257220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94000" y="452772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ARAG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05600" y="444672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6520" y="4527720"/>
              <a:ext cx="55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NICA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85920" y="412308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22160" y="4123080"/>
              <a:ext cx="101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31680" y="18543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12040" y="4608360"/>
              <a:ext cx="109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53880" y="4123080"/>
              <a:ext cx="123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97320" y="3719160"/>
              <a:ext cx="88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71840" y="315000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32720" y="294588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30320" y="5137200"/>
              <a:ext cx="108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05640" y="355752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94760" y="254700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3920" y="233460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58040" y="20818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529-7D3E-4944-9EFE-33B484312D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7T03:27:16Z</dcterms:modified>
  <cp:revision>141</cp:revision>
  <dc:subject/>
  <dc:title>Sin título de diapositiva</dc:title>
</cp:coreProperties>
</file>