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4FF8-E584-482B-AC12-88D7A3FFD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464A-E18A-45AA-8FDE-80A26B29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7B26-E695-4B3C-A9DF-AB365437C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350F-87B4-4D15-8CBB-DC45369BC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95DE-BEDF-4CF7-84D4-91D7D3B80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B2F0-16CD-4182-9248-B8C21701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E4BD-5B2F-4B98-AC91-06D379C2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B469-F478-4219-A1BE-86934364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1CA3-1E11-4EC7-9330-51D0C392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48B2-BFD2-4595-B4FD-B6317E62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776C-D1E2-4762-9655-C09B570A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FFC1-B2AD-4081-B614-74648190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FE22-18C7-4525-8301-FE7F5138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5F1B6-6022-4DB3-BFD3-AD6D302D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1F22-EE7D-42AD-965E-C8C6D716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5812-FD44-4296-B119-78A2BF5BE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080B-6C6C-4D72-A42D-D091D74A7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D5F3-2A6D-4508-B11C-0C190FBD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BC95-70CE-44D9-9BA4-D3C48F8E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49EF-DC58-4EA3-8C15-0D99E362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0389-476D-4C2B-AA61-21A4AAEB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864A-836C-46E2-AFC7-64384C2C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409F-A80F-4D32-9A2D-D2477CDC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D9C6-8C3F-4DCB-8E28-29D7CC7E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11D6-2E73-481C-ACB7-4BF13DD35B3A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0E56-77F0-4A24-BCF5-0E8A07694161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048120" y="4191120"/>
            <a:ext cx="2828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ncy Lacourl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/>
          <p:nvPr/>
        </p:nvSpPr>
        <p:spPr>
          <a:xfrm>
            <a:off x="3863880" y="525780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junio 200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 txBox="1"/>
          <p:nvPr/>
        </p:nvSpPr>
        <p:spPr>
          <a:xfrm>
            <a:off x="838080" y="1219320"/>
            <a:ext cx="7543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álisis en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mponentes Principales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9C30-0F50-4BEA-9BDC-BE03EBBFAF4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"/>
          <p:cNvGrpSpPr/>
          <p:nvPr/>
        </p:nvGrpSpPr>
        <p:grpSpPr>
          <a:xfrm>
            <a:off x="1014480" y="299880"/>
            <a:ext cx="7815240" cy="6251760"/>
            <a:chOff x="1014480" y="299880"/>
            <a:chExt cx="7815240" cy="6251760"/>
          </a:xfrm>
        </p:grpSpPr>
        <p:sp>
          <p:nvSpPr>
            <p:cNvPr id="671" name=""/>
            <p:cNvSpPr/>
            <p:nvPr/>
          </p:nvSpPr>
          <p:spPr>
            <a:xfrm>
              <a:off x="1014480" y="299880"/>
              <a:ext cx="781524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4923" y="3938"/>
                  </a:moveTo>
                  <a:lnTo>
                    <a:pt x="0" y="0"/>
                  </a:lnTo>
                  <a:lnTo>
                    <a:pt x="0" y="3938"/>
                  </a:lnTo>
                  <a:lnTo>
                    <a:pt x="4923" y="39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014480" y="299880"/>
              <a:ext cx="781524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0" y="0"/>
                  </a:moveTo>
                  <a:lnTo>
                    <a:pt x="4923" y="0"/>
                  </a:lnTo>
                  <a:lnTo>
                    <a:pt x="4923" y="39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014480" y="299880"/>
              <a:ext cx="781524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4923" y="3938"/>
                  </a:moveTo>
                  <a:lnTo>
                    <a:pt x="0" y="0"/>
                  </a:lnTo>
                  <a:lnTo>
                    <a:pt x="0" y="3938"/>
                  </a:lnTo>
                  <a:lnTo>
                    <a:pt x="4923" y="39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014480" y="299880"/>
              <a:ext cx="781524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0" y="0"/>
                  </a:moveTo>
                  <a:lnTo>
                    <a:pt x="4923" y="0"/>
                  </a:lnTo>
                  <a:lnTo>
                    <a:pt x="4923" y="39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840720" y="6149880"/>
              <a:ext cx="185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33"/>
                  </a:solidFill>
                  <a:latin typeface="Times New Roman"/>
                </a:rPr>
                <a:t>Factor 1    (69%)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454600" y="5586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181640" y="5586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09760" y="5586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98280" y="558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315600" y="558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044080" y="558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16200000">
              <a:off x="694080" y="1586520"/>
              <a:ext cx="1660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33"/>
                  </a:solidFill>
                  <a:latin typeface="Times New Roman"/>
                </a:rPr>
                <a:t>Factor 3   (7%)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931760" y="4953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931760" y="14778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931760" y="24606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931760" y="34434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866240" y="442584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866240" y="531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502480" y="553248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23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502480" y="553248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23"/>
                  </a:moveTo>
                  <a:lnTo>
                    <a:pt x="23" y="23"/>
                  </a:lnTo>
                  <a:lnTo>
                    <a:pt x="23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229520" y="5532480"/>
              <a:ext cx="2844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229520" y="5532480"/>
              <a:ext cx="2844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23"/>
                  </a:lnTo>
                  <a:lnTo>
                    <a:pt x="18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946840" y="5532480"/>
              <a:ext cx="2844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946840" y="5532480"/>
              <a:ext cx="2844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23"/>
                  </a:lnTo>
                  <a:lnTo>
                    <a:pt x="18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673520" y="5532480"/>
              <a:ext cx="2880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673520" y="5532480"/>
              <a:ext cx="2880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23"/>
                  </a:lnTo>
                  <a:lnTo>
                    <a:pt x="18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92640" y="553248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92640" y="553248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23"/>
                  </a:lnTo>
                  <a:lnTo>
                    <a:pt x="17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119320" y="553248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119320" y="553248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23"/>
                  </a:lnTo>
                  <a:lnTo>
                    <a:pt x="17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081160" y="60012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081160" y="60012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081160" y="15825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81160" y="15825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081160" y="25653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081160" y="25653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081160" y="35481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81160" y="35481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081160" y="453060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081160" y="453060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81160" y="551340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081160" y="551340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128680" y="609480"/>
              <a:ext cx="6392880" cy="4913280"/>
            </a:xfrm>
            <a:custGeom>
              <a:avLst/>
              <a:gdLst/>
              <a:ahLst/>
              <a:rect l="l" t="t" r="r" b="b"/>
              <a:pathLst>
                <a:path w="4027" h="3095">
                  <a:moveTo>
                    <a:pt x="4027" y="3095"/>
                  </a:moveTo>
                  <a:lnTo>
                    <a:pt x="0" y="0"/>
                  </a:lnTo>
                  <a:lnTo>
                    <a:pt x="0" y="3095"/>
                  </a:lnTo>
                  <a:lnTo>
                    <a:pt x="4027" y="30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128680" y="609480"/>
              <a:ext cx="6392880" cy="4913280"/>
            </a:xfrm>
            <a:custGeom>
              <a:avLst/>
              <a:gdLst/>
              <a:ahLst/>
              <a:rect l="l" t="t" r="r" b="b"/>
              <a:pathLst>
                <a:path w="4027" h="3095">
                  <a:moveTo>
                    <a:pt x="0" y="0"/>
                  </a:moveTo>
                  <a:lnTo>
                    <a:pt x="4027" y="0"/>
                  </a:lnTo>
                  <a:lnTo>
                    <a:pt x="4027" y="30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128680" y="609480"/>
              <a:ext cx="6392880" cy="491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799320" y="154476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435800" y="467028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918040" y="3125880"/>
              <a:ext cx="5724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394240" y="2097000"/>
              <a:ext cx="5724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376960" y="401472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919920" y="4689360"/>
              <a:ext cx="5724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795920" y="2583000"/>
              <a:ext cx="5544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621480" y="278928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646520" y="381960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382920" y="5138640"/>
              <a:ext cx="5544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430880" y="412740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226120" y="436248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487840" y="333216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426440" y="313524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921800" y="4614840"/>
              <a:ext cx="5688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126200" y="452124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648480" y="315432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105600" y="245268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925800" y="284652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126200" y="354816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128680" y="5522760"/>
              <a:ext cx="6392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2128680" y="609480"/>
              <a:ext cx="1800" cy="491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294600" y="1273320"/>
              <a:ext cx="1130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VENEZUEL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011720" y="4724280"/>
              <a:ext cx="69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URUGU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256000" y="2819520"/>
              <a:ext cx="687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R. DOM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171400" y="1825560"/>
              <a:ext cx="528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PERU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496120" y="3809880"/>
              <a:ext cx="1055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PARAGUAY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6960" y="4648320"/>
              <a:ext cx="802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PANAM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283280" y="2311560"/>
              <a:ext cx="1130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NICARAGU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275520" y="2517840"/>
              <a:ext cx="750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MEXICO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161600" y="3546360"/>
              <a:ext cx="108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HONDURAS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66560" y="4875120"/>
              <a:ext cx="486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HAITI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245760" y="4038480"/>
              <a:ext cx="117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GUATEMAL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801680" y="4419720"/>
              <a:ext cx="1321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EL SALVADOR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497840" y="3200400"/>
              <a:ext cx="950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ECUADOR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591320" y="3048120"/>
              <a:ext cx="561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HILE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849800" y="4724280"/>
              <a:ext cx="528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UB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584040" y="4248000"/>
              <a:ext cx="1162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OSTA RIC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767640" y="2971800"/>
              <a:ext cx="39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OL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807160" y="2181240"/>
              <a:ext cx="67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BRASIL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587040" y="2573280"/>
              <a:ext cx="741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BOLIVI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272000" y="3505320"/>
              <a:ext cx="1108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ARGENTIN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759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85D3-80D0-4ADD-887E-2012CCF983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152280" y="2057400"/>
            <a:ext cx="3505320" cy="3505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905120" y="2057400"/>
            <a:ext cx="0" cy="35053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52280" y="3809880"/>
            <a:ext cx="350532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33520" y="3276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20040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8088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57200" y="4343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42900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219320" y="22860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742480" y="3048120"/>
            <a:ext cx="134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% Pob. urban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895840" y="4191120"/>
            <a:ext cx="98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Esperanz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Vid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86360" y="3048120"/>
            <a:ext cx="9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Mort. Inf.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170000" y="236232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Mortalidad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84920" y="396252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Fecundidad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84200" y="434340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Natalidad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659040" y="3733920"/>
            <a:ext cx="47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33"/>
                </a:solidFill>
                <a:latin typeface="Times New Roman"/>
              </a:rPr>
              <a:t>C.P.1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662120" y="1736640"/>
            <a:ext cx="47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33"/>
                </a:solidFill>
                <a:latin typeface="Times New Roman"/>
              </a:rPr>
              <a:t>C.P.2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4114800" y="304920"/>
            <a:ext cx="5028840" cy="3805200"/>
            <a:chOff x="4114800" y="304920"/>
            <a:chExt cx="5028840" cy="3805200"/>
          </a:xfrm>
        </p:grpSpPr>
        <p:sp>
          <p:nvSpPr>
            <p:cNvPr id="779" name=""/>
            <p:cNvSpPr/>
            <p:nvPr/>
          </p:nvSpPr>
          <p:spPr>
            <a:xfrm>
              <a:off x="7781760" y="3056040"/>
              <a:ext cx="6537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463600" y="3424320"/>
              <a:ext cx="65376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187520" y="495360"/>
              <a:ext cx="4883040" cy="59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797080" y="426960"/>
              <a:ext cx="22867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700" spc="-1" strike="noStrike">
                  <a:solidFill>
                    <a:srgbClr val="000000"/>
                  </a:solidFill>
                  <a:latin typeface="Arial"/>
                </a:rPr>
                <a:t>Correlaciones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143320" y="1467000"/>
              <a:ext cx="65376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745960" y="1467000"/>
              <a:ext cx="66132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90720" y="1467000"/>
              <a:ext cx="70164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076880" y="1467000"/>
              <a:ext cx="64584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707600" y="1467000"/>
              <a:ext cx="70164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393760" y="1467000"/>
              <a:ext cx="67680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107680" y="1868400"/>
              <a:ext cx="6537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194800" y="187812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3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745960" y="1868400"/>
              <a:ext cx="66132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390720" y="18684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076880" y="1868400"/>
              <a:ext cx="6458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707600" y="18684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393760" y="1868400"/>
              <a:ext cx="67680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107680" y="2270160"/>
              <a:ext cx="6537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07040" y="228600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17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745960" y="2270160"/>
              <a:ext cx="66132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887800" y="230832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0,101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390720" y="227016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076880" y="2270160"/>
              <a:ext cx="6458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707600" y="227016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8393760" y="2270160"/>
              <a:ext cx="67680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107680" y="2673360"/>
              <a:ext cx="6537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251680" y="272736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588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745960" y="2673360"/>
              <a:ext cx="66132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843520" y="27273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23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390720" y="267336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526440" y="27273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60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76880" y="2681280"/>
              <a:ext cx="6458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707600" y="267336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393760" y="2673360"/>
              <a:ext cx="67680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107680" y="3075120"/>
              <a:ext cx="6537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230080" y="31082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35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745960" y="3075120"/>
              <a:ext cx="66132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888160" y="31082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97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390720" y="307512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569640" y="2971800"/>
              <a:ext cx="4352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26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070400" y="3070080"/>
              <a:ext cx="645840" cy="4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207200" y="31082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6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707600" y="307512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393760" y="3075120"/>
              <a:ext cx="67680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107680" y="3475080"/>
              <a:ext cx="6537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207040" y="35654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53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745960" y="3475080"/>
              <a:ext cx="66132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843160" y="35654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68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390720" y="34416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493680" y="3398760"/>
              <a:ext cx="4352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533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076880" y="3475080"/>
              <a:ext cx="6458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207200" y="35654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951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707600" y="347508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843320" y="35654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70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393760" y="3475080"/>
              <a:ext cx="67680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881240" y="1066680"/>
              <a:ext cx="24156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881240" y="1467000"/>
              <a:ext cx="24156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881240" y="1868400"/>
              <a:ext cx="2415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881240" y="2270160"/>
              <a:ext cx="2415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881240" y="2673360"/>
              <a:ext cx="2415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881240" y="3075120"/>
              <a:ext cx="2415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881240" y="3475080"/>
              <a:ext cx="2415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195080" y="1066680"/>
              <a:ext cx="7016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277160" y="188748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252320" y="1595520"/>
              <a:ext cx="8938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POB_URBAN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95080" y="18684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252320" y="2025720"/>
              <a:ext cx="810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TASA NA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95080" y="227016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317840" y="238140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195080" y="267336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342680" y="2811600"/>
              <a:ext cx="58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95080" y="307512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262040" y="3179880"/>
              <a:ext cx="837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FECUNDIDA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95080" y="347508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347000" y="3548160"/>
              <a:ext cx="613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107680" y="1066680"/>
              <a:ext cx="65376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772240" y="1066680"/>
              <a:ext cx="66132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390720" y="1066680"/>
              <a:ext cx="7016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076880" y="1066680"/>
              <a:ext cx="6458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707600" y="1066680"/>
              <a:ext cx="7016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393760" y="1066680"/>
              <a:ext cx="67680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81240" y="1868400"/>
              <a:ext cx="41738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81240" y="2270160"/>
              <a:ext cx="4173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81240" y="2673360"/>
              <a:ext cx="417384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881240" y="3075120"/>
              <a:ext cx="4173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881240" y="3475080"/>
              <a:ext cx="4173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195080" y="1868400"/>
              <a:ext cx="4860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195080" y="2270160"/>
              <a:ext cx="4860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195080" y="2673360"/>
              <a:ext cx="486000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195080" y="3075120"/>
              <a:ext cx="4860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195080" y="3475080"/>
              <a:ext cx="4860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745960" y="1066680"/>
              <a:ext cx="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390720" y="1066680"/>
              <a:ext cx="108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076880" y="1066680"/>
              <a:ext cx="108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707600" y="1066680"/>
              <a:ext cx="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393760" y="1066680"/>
              <a:ext cx="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114800" y="3876840"/>
              <a:ext cx="50212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9055440" y="3855960"/>
              <a:ext cx="8820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9136080" y="1044720"/>
              <a:ext cx="7560" cy="30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195080" y="1023840"/>
              <a:ext cx="494856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9055440" y="304920"/>
              <a:ext cx="88200" cy="78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114800" y="304920"/>
              <a:ext cx="50212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114800" y="304920"/>
              <a:ext cx="8028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9055440" y="304920"/>
              <a:ext cx="8820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114800" y="3876840"/>
              <a:ext cx="5021280" cy="23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202640" y="1087560"/>
              <a:ext cx="1080" cy="2768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9047520" y="1087560"/>
              <a:ext cx="0" cy="2768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202640" y="1087560"/>
              <a:ext cx="4844520" cy="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202640" y="3855960"/>
              <a:ext cx="484452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202640" y="1488960"/>
              <a:ext cx="484452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115240" y="1087560"/>
              <a:ext cx="1440" cy="2768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114800" y="304920"/>
              <a:ext cx="50212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114800" y="304920"/>
              <a:ext cx="8028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9078480" y="304920"/>
              <a:ext cx="5760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114800" y="3941640"/>
              <a:ext cx="502128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797440" y="1227240"/>
              <a:ext cx="578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T. NA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410520" y="122724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162560" y="1227240"/>
              <a:ext cx="58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844400" y="1212840"/>
              <a:ext cx="52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FECUN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434800" y="1227240"/>
              <a:ext cx="613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115240" y="1212840"/>
              <a:ext cx="6195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POB  URB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901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903" name=""/>
          <p:cNvGraphicFramePr/>
          <p:nvPr/>
        </p:nvGraphicFramePr>
        <p:xfrm>
          <a:off x="3419640" y="4724280"/>
          <a:ext cx="5690880" cy="1960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19640" y="4724280"/>
                    <a:ext cx="569088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F363-6B98-48FD-99E2-17C9BAF75F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" descr=""/>
          <p:cNvPicPr/>
          <p:nvPr/>
        </p:nvPicPr>
        <p:blipFill>
          <a:blip r:embed="rId1"/>
          <a:stretch/>
        </p:blipFill>
        <p:spPr>
          <a:xfrm>
            <a:off x="304920" y="96840"/>
            <a:ext cx="8610480" cy="645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E19D-D66E-4C58-9680-B8AFF7F4D7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907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8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909" name=""/>
          <p:cNvGraphicFramePr/>
          <p:nvPr/>
        </p:nvGraphicFramePr>
        <p:xfrm>
          <a:off x="41400" y="1246320"/>
          <a:ext cx="9063000" cy="4367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400" y="1246320"/>
                    <a:ext cx="9063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3F7A-A975-4404-86BA-552D03968A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1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912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3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914" name="" descr=""/>
          <p:cNvPicPr/>
          <p:nvPr/>
        </p:nvPicPr>
        <p:blipFill>
          <a:blip r:embed="rId2"/>
          <a:stretch/>
        </p:blipFill>
        <p:spPr>
          <a:xfrm>
            <a:off x="137160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356E-DBAC-4206-ABFC-7DA44768D6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5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916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7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918" name="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7646760" cy="573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D83E-DFF1-4FF4-927E-9780633680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9" name="" descr=""/>
          <p:cNvPicPr/>
          <p:nvPr/>
        </p:nvPicPr>
        <p:blipFill>
          <a:blip r:embed="rId1"/>
          <a:stretch/>
        </p:blipFill>
        <p:spPr>
          <a:xfrm>
            <a:off x="228600" y="138240"/>
            <a:ext cx="8686800" cy="641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3BB5-B68F-4DCD-B0F0-AC7EED8E1D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0" name=""/>
          <p:cNvGraphicFramePr/>
          <p:nvPr/>
        </p:nvGraphicFramePr>
        <p:xfrm>
          <a:off x="973080" y="1773360"/>
          <a:ext cx="7559640" cy="3259080"/>
        </p:xfrm>
        <a:graphic>
          <a:graphicData uri="http://schemas.openxmlformats.org/drawingml/2006/table">
            <a:tbl>
              <a:tblPr/>
              <a:tblGrid>
                <a:gridCol w="2016000"/>
                <a:gridCol w="1001520"/>
                <a:gridCol w="1230480"/>
                <a:gridCol w="1041480"/>
                <a:gridCol w="1135080"/>
                <a:gridCol w="1135080"/>
              </a:tblGrid>
              <a:tr h="95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Dens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Alfabetizaci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 infantil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Na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Dens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39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425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52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298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Alfabetizaci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39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83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815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418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 infantil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425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83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865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633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Na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52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815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865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74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298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418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633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74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1" name=""/>
          <p:cNvSpPr/>
          <p:nvPr/>
        </p:nvSpPr>
        <p:spPr>
          <a:xfrm>
            <a:off x="2988720" y="590400"/>
            <a:ext cx="37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Times New Roman"/>
              </a:rPr>
              <a:t>Matriz de correlacion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8FBB-B613-463D-88AF-86589C255B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2" name=""/>
          <p:cNvGraphicFramePr/>
          <p:nvPr/>
        </p:nvGraphicFramePr>
        <p:xfrm>
          <a:off x="1279440" y="1628640"/>
          <a:ext cx="6964560" cy="3338640"/>
        </p:xfrm>
        <a:graphic>
          <a:graphicData uri="http://schemas.openxmlformats.org/drawingml/2006/table">
            <a:tbl>
              <a:tblPr/>
              <a:tblGrid>
                <a:gridCol w="1706760"/>
                <a:gridCol w="1022400"/>
                <a:gridCol w="1184040"/>
                <a:gridCol w="1017720"/>
                <a:gridCol w="1015920"/>
                <a:gridCol w="1017720"/>
              </a:tblGrid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 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3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Valor propio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29.95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990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701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231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081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Dens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14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974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606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107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19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Alfabetizaci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5060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191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265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797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27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 infantil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5559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406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21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29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619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Na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5209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580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78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4903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584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87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97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871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576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277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3" name=""/>
          <p:cNvSpPr/>
          <p:nvPr/>
        </p:nvSpPr>
        <p:spPr>
          <a:xfrm>
            <a:off x="2342160" y="606600"/>
            <a:ext cx="496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Times New Roman"/>
              </a:rPr>
              <a:t>Valores y vectores propios de 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3E56-FA3D-4657-A31A-D62BB843A4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4" name=""/>
          <p:cNvGraphicFramePr/>
          <p:nvPr/>
        </p:nvGraphicFramePr>
        <p:xfrm>
          <a:off x="1136520" y="2251080"/>
          <a:ext cx="6870600" cy="2355840"/>
        </p:xfrm>
        <a:graphic>
          <a:graphicData uri="http://schemas.openxmlformats.org/drawingml/2006/table">
            <a:tbl>
              <a:tblPr/>
              <a:tblGrid>
                <a:gridCol w="1689120"/>
                <a:gridCol w="1003320"/>
                <a:gridCol w="1168200"/>
                <a:gridCol w="1003320"/>
                <a:gridCol w="1003320"/>
                <a:gridCol w="10033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 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3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Valor propio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29.95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990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701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231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081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Dens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986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969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34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519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05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Alfabetizaci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875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190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222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84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07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 infantil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962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40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17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158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2170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Na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901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57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17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236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166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6713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96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30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27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789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5" name=""/>
          <p:cNvSpPr/>
          <p:nvPr/>
        </p:nvSpPr>
        <p:spPr>
          <a:xfrm>
            <a:off x="1764000" y="404640"/>
            <a:ext cx="637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Times New Roman"/>
              </a:rPr>
              <a:t>Correlaciones entre variables antiguas y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Times New Roman"/>
              </a:rPr>
              <a:t>componentes principales (factore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28E0-EB98-4BB9-819C-29EB7064C3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169560" y="19080"/>
            <a:ext cx="8974440" cy="6838920"/>
            <a:chOff x="169560" y="19080"/>
            <a:chExt cx="8974440" cy="683892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1981080" y="5105520"/>
              <a:ext cx="68580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 txBox="1"/>
            <p:nvPr/>
          </p:nvSpPr>
          <p:spPr>
            <a:xfrm>
              <a:off x="3398760" y="228600"/>
              <a:ext cx="3251160" cy="70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Garamond"/>
                </a:rPr>
                <a:t>EJEMPLO</a:t>
              </a:r>
              <a:endParaRPr b="1" i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  <a:ea typeface="Garamond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92760" y="2743200"/>
              <a:ext cx="66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33"/>
                  </a:solidFill>
                  <a:latin typeface="Times New Roman"/>
                </a:rPr>
                <a:t>PNUD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33"/>
                  </a:solidFill>
                  <a:latin typeface="Times New Roman"/>
                </a:rPr>
                <a:t>1992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692360" y="1143000"/>
              <a:ext cx="7451640" cy="4068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3" name=""/>
            <p:cNvGrpSpPr/>
            <p:nvPr/>
          </p:nvGrpSpPr>
          <p:grpSpPr>
            <a:xfrm>
              <a:off x="169560" y="19080"/>
              <a:ext cx="590760" cy="1047600"/>
              <a:chOff x="169560" y="19080"/>
              <a:chExt cx="590760" cy="1047600"/>
            </a:xfrm>
          </p:grpSpPr>
          <p:pic>
            <p:nvPicPr>
              <p:cNvPr id="9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28600" y="247680"/>
                <a:ext cx="450720" cy="81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>
                <a:off x="169560" y="19080"/>
                <a:ext cx="59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333333"/>
                    </a:solidFill>
                    <a:latin typeface="Times New Roman"/>
                  </a:rPr>
                  <a:t>MA44E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3957-27C2-4ABA-A1D2-F6933240BA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1402-4066-4F91-83DD-B271411B97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FB37-09BE-4C3F-AE7C-269FD4DC97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136520" y="754200"/>
            <a:ext cx="6861240" cy="5494320"/>
            <a:chOff x="1136520" y="754200"/>
            <a:chExt cx="6861240" cy="5494320"/>
          </a:xfrm>
        </p:grpSpPr>
        <p:sp>
          <p:nvSpPr>
            <p:cNvPr id="97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4322" y="3461"/>
                  </a:moveTo>
                  <a:lnTo>
                    <a:pt x="0" y="0"/>
                  </a:lnTo>
                  <a:lnTo>
                    <a:pt x="0" y="3461"/>
                  </a:lnTo>
                  <a:lnTo>
                    <a:pt x="4322" y="34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0" y="0"/>
                  </a:moveTo>
                  <a:lnTo>
                    <a:pt x="4322" y="0"/>
                  </a:lnTo>
                  <a:lnTo>
                    <a:pt x="4322" y="34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4322" y="3461"/>
                  </a:moveTo>
                  <a:lnTo>
                    <a:pt x="0" y="0"/>
                  </a:lnTo>
                  <a:lnTo>
                    <a:pt x="0" y="3461"/>
                  </a:lnTo>
                  <a:lnTo>
                    <a:pt x="4322" y="34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0" y="0"/>
                  </a:moveTo>
                  <a:lnTo>
                    <a:pt x="4322" y="0"/>
                  </a:lnTo>
                  <a:lnTo>
                    <a:pt x="4322" y="34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35880" y="5884920"/>
              <a:ext cx="2099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ESPERANZA DE VID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2336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7080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0708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5452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00000">
              <a:off x="477360" y="4087800"/>
              <a:ext cx="2254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TASA DE MORTALIDA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76680" y="9223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76680" y="17827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69920" y="26449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69920" y="35053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69920" y="43671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969920" y="51436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707240" y="534996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707240" y="534996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18"/>
                  </a:lnTo>
                  <a:lnTo>
                    <a:pt x="24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85468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5468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9096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9096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3840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3840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09960" y="1015920"/>
              <a:ext cx="47520" cy="1908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30" y="12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3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09960" y="1015920"/>
              <a:ext cx="47520" cy="1908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0" y="0"/>
                  </a:moveTo>
                  <a:lnTo>
                    <a:pt x="30" y="0"/>
                  </a:lnTo>
                  <a:lnTo>
                    <a:pt x="3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09960" y="187812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09960" y="187812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0"/>
                  </a:moveTo>
                  <a:lnTo>
                    <a:pt x="30" y="0"/>
                  </a:lnTo>
                  <a:lnTo>
                    <a:pt x="3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09960" y="27385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09960" y="27385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09960" y="35989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09960" y="35989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09960" y="4460760"/>
              <a:ext cx="47520" cy="2880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09960" y="4460760"/>
              <a:ext cx="47520" cy="2880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09960" y="533088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09960" y="533088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47760" y="1025640"/>
              <a:ext cx="5578560" cy="4314600"/>
            </a:xfrm>
            <a:custGeom>
              <a:avLst/>
              <a:gdLst/>
              <a:ahLst/>
              <a:rect l="l" t="t" r="r" b="b"/>
              <a:pathLst>
                <a:path w="3514" h="2718">
                  <a:moveTo>
                    <a:pt x="3514" y="2718"/>
                  </a:moveTo>
                  <a:lnTo>
                    <a:pt x="0" y="0"/>
                  </a:lnTo>
                  <a:lnTo>
                    <a:pt x="0" y="2718"/>
                  </a:lnTo>
                  <a:lnTo>
                    <a:pt x="3514" y="27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47760" y="1025640"/>
              <a:ext cx="5578560" cy="4314600"/>
            </a:xfrm>
            <a:custGeom>
              <a:avLst/>
              <a:gdLst/>
              <a:ahLst/>
              <a:rect l="l" t="t" r="r" b="b"/>
              <a:pathLst>
                <a:path w="3514" h="2718">
                  <a:moveTo>
                    <a:pt x="0" y="0"/>
                  </a:moveTo>
                  <a:lnTo>
                    <a:pt x="3514" y="0"/>
                  </a:lnTo>
                  <a:lnTo>
                    <a:pt x="3514" y="27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47760" y="1025640"/>
              <a:ext cx="5578560" cy="4314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35600" y="384336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46720" y="1727280"/>
              <a:ext cx="572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27560" y="349740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33840" y="2897280"/>
              <a:ext cx="5724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2080" y="341316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84880" y="392760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71880" y="3197160"/>
              <a:ext cx="5580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80160" y="384336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89520" y="3065400"/>
              <a:ext cx="572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76640" y="104472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10160" y="2897280"/>
              <a:ext cx="5544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97360" y="3112920"/>
              <a:ext cx="5580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95800" y="3197160"/>
              <a:ext cx="5724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72200" y="341316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46840" y="328140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53240" y="458316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11680" y="3627360"/>
              <a:ext cx="5580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21280" y="293544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52720" y="215748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22800" y="246708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47760" y="5340240"/>
              <a:ext cx="5578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2147760" y="1025280"/>
              <a:ext cx="1800" cy="43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13560" y="360828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Ven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35840" y="1494000"/>
              <a:ext cx="266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Uru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78360" y="33084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RDo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91120" y="285120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Per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29360" y="312588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Par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62840" y="369252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Pan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2000" y="315612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34480" y="3613320"/>
              <a:ext cx="31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Mex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724640" y="283212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Hon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78760" y="2654280"/>
              <a:ext cx="31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Gua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72000" y="300348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Sal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49720" y="295272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Ecu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68880" y="316872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hi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15440" y="304632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ub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21480" y="433872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os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08720" y="338472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ol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08600" y="266868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Bra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59120" y="192420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Bol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919840" y="222408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34080" y="1090440"/>
              <a:ext cx="427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333333"/>
                  </a:solidFill>
                  <a:latin typeface="Arial"/>
                </a:rPr>
                <a:t>Hai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243400" y="5743440"/>
            <a:ext cx="162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</a:t>
            </a:r>
            <a:r>
              <a:rPr b="1" lang="es-CL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 0.6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2475-FE17-461D-86FF-38915EAAEA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4747" y="3761"/>
                </a:moveTo>
                <a:lnTo>
                  <a:pt x="0" y="0"/>
                </a:lnTo>
                <a:lnTo>
                  <a:pt x="0" y="3761"/>
                </a:lnTo>
                <a:lnTo>
                  <a:pt x="4747" y="37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0" y="0"/>
                </a:moveTo>
                <a:lnTo>
                  <a:pt x="4747" y="0"/>
                </a:lnTo>
                <a:lnTo>
                  <a:pt x="4747" y="376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4747" y="3761"/>
                </a:moveTo>
                <a:lnTo>
                  <a:pt x="0" y="0"/>
                </a:lnTo>
                <a:lnTo>
                  <a:pt x="0" y="3761"/>
                </a:lnTo>
                <a:lnTo>
                  <a:pt x="4747" y="37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0" y="0"/>
                </a:moveTo>
                <a:lnTo>
                  <a:pt x="4747" y="0"/>
                </a:lnTo>
                <a:lnTo>
                  <a:pt x="4747" y="376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29560" y="6248520"/>
            <a:ext cx="111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P_VIDA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220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4168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3360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3344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6200000">
            <a:off x="1034280" y="4943520"/>
            <a:ext cx="109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B_URB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48680" y="86688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0920" y="1455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0920" y="20430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26240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0920" y="32115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50920" y="38005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0920" y="43797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50920" y="49687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0920" y="5460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8036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28036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21"/>
                </a:lnTo>
                <a:lnTo>
                  <a:pt x="22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89560" y="5678640"/>
            <a:ext cx="17640" cy="33120"/>
          </a:xfrm>
          <a:custGeom>
            <a:avLst/>
            <a:gdLst/>
            <a:ahLst/>
            <a:rect l="l" t="t" r="r" b="b"/>
            <a:pathLst>
              <a:path w="11" h="21">
                <a:moveTo>
                  <a:pt x="0" y="21"/>
                </a:moveTo>
                <a:lnTo>
                  <a:pt x="11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89560" y="5678640"/>
            <a:ext cx="17640" cy="33120"/>
          </a:xfrm>
          <a:custGeom>
            <a:avLst/>
            <a:gdLst/>
            <a:ahLst/>
            <a:rect l="l" t="t" r="r" b="b"/>
            <a:pathLst>
              <a:path w="11" h="21">
                <a:moveTo>
                  <a:pt x="0" y="21"/>
                </a:moveTo>
                <a:lnTo>
                  <a:pt x="11" y="21"/>
                </a:lnTo>
                <a:lnTo>
                  <a:pt x="11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8004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8004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21"/>
                </a:lnTo>
                <a:lnTo>
                  <a:pt x="22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9240" y="567864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21"/>
                </a:moveTo>
                <a:lnTo>
                  <a:pt x="17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9240" y="567864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21"/>
                </a:moveTo>
                <a:lnTo>
                  <a:pt x="17" y="21"/>
                </a:lnTo>
                <a:lnTo>
                  <a:pt x="17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54320" y="979560"/>
            <a:ext cx="61920" cy="17280"/>
          </a:xfrm>
          <a:custGeom>
            <a:avLst/>
            <a:gdLst/>
            <a:ahLst/>
            <a:rect l="l" t="t" r="r" b="b"/>
            <a:pathLst>
              <a:path w="39" h="11">
                <a:moveTo>
                  <a:pt x="39" y="11"/>
                </a:moveTo>
                <a:lnTo>
                  <a:pt x="0" y="0"/>
                </a:lnTo>
                <a:lnTo>
                  <a:pt x="0" y="11"/>
                </a:lnTo>
                <a:lnTo>
                  <a:pt x="39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54320" y="979560"/>
            <a:ext cx="61920" cy="17280"/>
          </a:xfrm>
          <a:custGeom>
            <a:avLst/>
            <a:gdLst/>
            <a:ahLst/>
            <a:rect l="l" t="t" r="r" b="b"/>
            <a:pathLst>
              <a:path w="39" h="11">
                <a:moveTo>
                  <a:pt x="0" y="0"/>
                </a:moveTo>
                <a:lnTo>
                  <a:pt x="39" y="0"/>
                </a:lnTo>
                <a:lnTo>
                  <a:pt x="39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54320" y="155880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54320" y="155880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54320" y="214776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54320" y="214776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54320" y="272736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54320" y="272736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54320" y="3316320"/>
            <a:ext cx="61920" cy="2520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54320" y="3316320"/>
            <a:ext cx="61920" cy="2520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54320" y="3903840"/>
            <a:ext cx="61920" cy="2664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54320" y="3903840"/>
            <a:ext cx="61920" cy="2664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54320" y="448452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54320" y="448452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54320" y="507204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54320" y="507204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54320" y="566100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54320" y="566100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98600" y="988920"/>
            <a:ext cx="5999400" cy="4680000"/>
          </a:xfrm>
          <a:custGeom>
            <a:avLst/>
            <a:gdLst/>
            <a:ahLst/>
            <a:rect l="l" t="t" r="r" b="b"/>
            <a:pathLst>
              <a:path w="3779" h="2948">
                <a:moveTo>
                  <a:pt x="3779" y="2948"/>
                </a:moveTo>
                <a:lnTo>
                  <a:pt x="0" y="0"/>
                </a:lnTo>
                <a:lnTo>
                  <a:pt x="0" y="2948"/>
                </a:lnTo>
                <a:lnTo>
                  <a:pt x="3779" y="29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98600" y="988920"/>
            <a:ext cx="5999400" cy="4680000"/>
          </a:xfrm>
          <a:custGeom>
            <a:avLst/>
            <a:gdLst/>
            <a:ahLst/>
            <a:rect l="l" t="t" r="r" b="b"/>
            <a:pathLst>
              <a:path w="3779" h="2948">
                <a:moveTo>
                  <a:pt x="0" y="0"/>
                </a:moveTo>
                <a:lnTo>
                  <a:pt x="3779" y="0"/>
                </a:lnTo>
                <a:lnTo>
                  <a:pt x="3779" y="294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98600" y="988920"/>
            <a:ext cx="59994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272280" y="151596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08600" y="1811160"/>
            <a:ext cx="52560" cy="51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08800" y="328140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75120" y="270972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695920" y="403380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51800" y="361008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32240" y="3316320"/>
            <a:ext cx="5256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210360" y="256392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49880" y="425916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16400" y="503712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52880" y="4354560"/>
            <a:ext cx="5256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54480" y="421632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68760" y="347976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29400" y="180180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54800" y="243360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250040" y="367992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35760" y="270180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89560" y="231300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71960" y="380844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472080" y="176688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98600" y="5668920"/>
            <a:ext cx="5999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298600" y="988920"/>
            <a:ext cx="1800" cy="46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56480" y="125748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ENEZUE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360" y="1752480"/>
            <a:ext cx="38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URU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637960" y="3048120"/>
            <a:ext cx="59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.D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13480" y="244152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10360" y="3773520"/>
            <a:ext cx="98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RAGUAY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85040" y="334980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NAM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38840" y="312408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ICARAGU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954400" y="2303640"/>
            <a:ext cx="70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10800" y="4114800"/>
            <a:ext cx="101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ONDUR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79240" y="47782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AITI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95320" y="4419720"/>
            <a:ext cx="109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UATEMA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120" y="4038480"/>
            <a:ext cx="123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L SALVADO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720" y="3429000"/>
            <a:ext cx="88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CUADO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703560" y="153972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194960" y="217332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B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7280" y="3733920"/>
            <a:ext cx="1089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STA RIC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3040" y="2590920"/>
            <a:ext cx="65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L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64200" y="2052720"/>
            <a:ext cx="63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19240" y="3549600"/>
            <a:ext cx="69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OLIVI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43600" y="167652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RG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243400" y="6010200"/>
            <a:ext cx="14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0.59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274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41D1-CFDC-4A3F-B343-A0096CADB1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900000" y="982800"/>
            <a:ext cx="7992720" cy="5541480"/>
            <a:chOff x="900000" y="982800"/>
            <a:chExt cx="7992720" cy="5541480"/>
          </a:xfrm>
        </p:grpSpPr>
        <p:sp>
          <p:nvSpPr>
            <p:cNvPr id="277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3897" y="3119"/>
                  </a:moveTo>
                  <a:lnTo>
                    <a:pt x="0" y="0"/>
                  </a:lnTo>
                  <a:lnTo>
                    <a:pt x="0" y="3119"/>
                  </a:lnTo>
                  <a:lnTo>
                    <a:pt x="3897" y="3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0" y="0"/>
                  </a:moveTo>
                  <a:lnTo>
                    <a:pt x="3897" y="0"/>
                  </a:lnTo>
                  <a:lnTo>
                    <a:pt x="3897" y="31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3897" y="3119"/>
                  </a:moveTo>
                  <a:lnTo>
                    <a:pt x="0" y="0"/>
                  </a:lnTo>
                  <a:lnTo>
                    <a:pt x="0" y="3119"/>
                  </a:lnTo>
                  <a:lnTo>
                    <a:pt x="3897" y="3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0" y="0"/>
                  </a:moveTo>
                  <a:lnTo>
                    <a:pt x="3897" y="0"/>
                  </a:lnTo>
                  <a:lnTo>
                    <a:pt x="3897" y="31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087640" y="6156720"/>
              <a:ext cx="19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Arial"/>
                </a:rPr>
                <a:t>ESPERANZA DE VID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45604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9244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13892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97496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6200000">
              <a:off x="457560" y="4514040"/>
              <a:ext cx="1933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Arial"/>
                </a:rPr>
                <a:t>TASA DE NATALIDAD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780200" y="1160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780200" y="2251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780200" y="3329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780200" y="4418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780200" y="5424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541720" y="5612760"/>
              <a:ext cx="48960" cy="320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541720" y="5612760"/>
              <a:ext cx="48960" cy="320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18"/>
                  </a:lnTo>
                  <a:lnTo>
                    <a:pt x="24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90360" y="5612760"/>
              <a:ext cx="34560" cy="32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8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90360" y="5612760"/>
              <a:ext cx="34560" cy="32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8"/>
                  </a:moveTo>
                  <a:lnTo>
                    <a:pt x="17" y="18"/>
                  </a:lnTo>
                  <a:lnTo>
                    <a:pt x="17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236480" y="5612760"/>
              <a:ext cx="37080" cy="32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36480" y="5612760"/>
              <a:ext cx="37080" cy="32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085480" y="5612760"/>
              <a:ext cx="24480" cy="320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18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085480" y="5612760"/>
              <a:ext cx="24480" cy="320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18"/>
                  </a:moveTo>
                  <a:lnTo>
                    <a:pt x="12" y="18"/>
                  </a:lnTo>
                  <a:lnTo>
                    <a:pt x="12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048040" y="1254240"/>
              <a:ext cx="61560" cy="2124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30" y="12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3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48040" y="1254240"/>
              <a:ext cx="61560" cy="2124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0" y="0"/>
                  </a:moveTo>
                  <a:lnTo>
                    <a:pt x="30" y="0"/>
                  </a:lnTo>
                  <a:lnTo>
                    <a:pt x="3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48040" y="2334600"/>
              <a:ext cx="61560" cy="2988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48040" y="2334600"/>
              <a:ext cx="61560" cy="2988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0"/>
                  </a:moveTo>
                  <a:lnTo>
                    <a:pt x="30" y="0"/>
                  </a:lnTo>
                  <a:lnTo>
                    <a:pt x="3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48040" y="3413160"/>
              <a:ext cx="61560" cy="4248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30" y="24"/>
                  </a:moveTo>
                  <a:lnTo>
                    <a:pt x="0" y="0"/>
                  </a:lnTo>
                  <a:lnTo>
                    <a:pt x="0" y="24"/>
                  </a:lnTo>
                  <a:lnTo>
                    <a:pt x="3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48040" y="3413160"/>
              <a:ext cx="61560" cy="4248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0" y="0"/>
                  </a:moveTo>
                  <a:lnTo>
                    <a:pt x="30" y="0"/>
                  </a:lnTo>
                  <a:lnTo>
                    <a:pt x="30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48040" y="4502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048040" y="4502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48040" y="5591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48040" y="5591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097360" y="1265040"/>
              <a:ext cx="6468480" cy="4336920"/>
            </a:xfrm>
            <a:custGeom>
              <a:avLst/>
              <a:gdLst/>
              <a:ahLst/>
              <a:rect l="l" t="t" r="r" b="b"/>
              <a:pathLst>
                <a:path w="3154" h="2441">
                  <a:moveTo>
                    <a:pt x="3154" y="2441"/>
                  </a:moveTo>
                  <a:lnTo>
                    <a:pt x="0" y="0"/>
                  </a:lnTo>
                  <a:lnTo>
                    <a:pt x="0" y="2441"/>
                  </a:lnTo>
                  <a:lnTo>
                    <a:pt x="3154" y="24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097360" y="1265040"/>
              <a:ext cx="6468480" cy="4336920"/>
            </a:xfrm>
            <a:custGeom>
              <a:avLst/>
              <a:gdLst/>
              <a:ahLst/>
              <a:rect l="l" t="t" r="r" b="b"/>
              <a:pathLst>
                <a:path w="3154" h="2441">
                  <a:moveTo>
                    <a:pt x="0" y="0"/>
                  </a:moveTo>
                  <a:lnTo>
                    <a:pt x="3154" y="0"/>
                  </a:lnTo>
                  <a:lnTo>
                    <a:pt x="3154" y="24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97360" y="1265040"/>
              <a:ext cx="6468480" cy="433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390360" y="3601440"/>
              <a:ext cx="46800" cy="42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61960" y="4816800"/>
              <a:ext cx="4680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76480" y="3601440"/>
              <a:ext cx="47160" cy="42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878720" y="3517920"/>
              <a:ext cx="4680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60720" y="308772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96880" y="396756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64280" y="227088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316560" y="3643920"/>
              <a:ext cx="4896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89120" y="2649240"/>
              <a:ext cx="4860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305520" y="2837160"/>
              <a:ext cx="4896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962960" y="2469960"/>
              <a:ext cx="48600" cy="42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0400" y="3036240"/>
              <a:ext cx="4896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18800" y="3318840"/>
              <a:ext cx="4860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775920" y="4230720"/>
              <a:ext cx="4896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51360" y="4773960"/>
              <a:ext cx="4680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442640" y="3810960"/>
              <a:ext cx="4680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123600" y="386280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434560" y="3832560"/>
              <a:ext cx="4680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041280" y="2931480"/>
              <a:ext cx="4680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607800" y="4461480"/>
              <a:ext cx="4716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97360" y="5601960"/>
              <a:ext cx="6468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097360" y="1264680"/>
              <a:ext cx="2160" cy="433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88920" y="3294360"/>
              <a:ext cx="27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Ven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727680" y="4576680"/>
              <a:ext cx="24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Uru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517720" y="336132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RDo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745520" y="327636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er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26080" y="284832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ar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50720" y="3727800"/>
              <a:ext cx="27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an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142960" y="203076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73480" y="3430800"/>
              <a:ext cx="28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Mex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31800" y="240732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Hon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171240" y="259596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Hai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03480" y="222984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Gua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58360" y="279504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Sal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371920" y="307728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Ecu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42000" y="398880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hi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92240" y="454500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ub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283880" y="3571560"/>
              <a:ext cx="27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os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01920" y="363348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ol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301360" y="359064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Bra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701440" y="283392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Bol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474240" y="423072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5564160" y="5791320"/>
            <a:ext cx="162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</a:t>
            </a:r>
            <a:r>
              <a:rPr b="1" lang="es-CL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 0.7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357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7D7B-3318-4BC8-8A82-3DBC44F473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4884" y="3793"/>
                </a:moveTo>
                <a:lnTo>
                  <a:pt x="0" y="0"/>
                </a:lnTo>
                <a:lnTo>
                  <a:pt x="0" y="3793"/>
                </a:lnTo>
                <a:lnTo>
                  <a:pt x="4884" y="37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0" y="0"/>
                </a:moveTo>
                <a:lnTo>
                  <a:pt x="4884" y="0"/>
                </a:lnTo>
                <a:lnTo>
                  <a:pt x="4884" y="3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4884" y="3793"/>
                </a:moveTo>
                <a:lnTo>
                  <a:pt x="0" y="0"/>
                </a:lnTo>
                <a:lnTo>
                  <a:pt x="0" y="3793"/>
                </a:lnTo>
                <a:lnTo>
                  <a:pt x="4884" y="37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0" y="0"/>
                </a:moveTo>
                <a:lnTo>
                  <a:pt x="4884" y="0"/>
                </a:lnTo>
                <a:lnTo>
                  <a:pt x="4884" y="3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410200" y="6294600"/>
            <a:ext cx="118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_NAT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53272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5952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424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2896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5576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16200000">
            <a:off x="1065600" y="4835160"/>
            <a:ext cx="125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_MOR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60280" y="874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060280" y="1819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163960" y="2763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163960" y="3708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163960" y="4653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163960" y="55040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578800" y="5718240"/>
            <a:ext cx="36720" cy="34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23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578800" y="5718240"/>
            <a:ext cx="36720" cy="34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23" y="22"/>
                </a:lnTo>
                <a:lnTo>
                  <a:pt x="23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015320" y="5718240"/>
            <a:ext cx="25200" cy="34920"/>
          </a:xfrm>
          <a:custGeom>
            <a:avLst/>
            <a:gdLst/>
            <a:ahLst/>
            <a:rect l="l" t="t" r="r" b="b"/>
            <a:pathLst>
              <a:path w="16" h="22">
                <a:moveTo>
                  <a:pt x="0" y="22"/>
                </a:moveTo>
                <a:lnTo>
                  <a:pt x="16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15320" y="5718240"/>
            <a:ext cx="25200" cy="34920"/>
          </a:xfrm>
          <a:custGeom>
            <a:avLst/>
            <a:gdLst/>
            <a:ahLst/>
            <a:rect l="l" t="t" r="r" b="b"/>
            <a:pathLst>
              <a:path w="16" h="22">
                <a:moveTo>
                  <a:pt x="0" y="22"/>
                </a:moveTo>
                <a:lnTo>
                  <a:pt x="16" y="22"/>
                </a:lnTo>
                <a:lnTo>
                  <a:pt x="16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450040" y="5718240"/>
            <a:ext cx="17280" cy="34920"/>
          </a:xfrm>
          <a:custGeom>
            <a:avLst/>
            <a:gdLst/>
            <a:ahLst/>
            <a:rect l="l" t="t" r="r" b="b"/>
            <a:pathLst>
              <a:path w="11" h="22">
                <a:moveTo>
                  <a:pt x="0" y="22"/>
                </a:moveTo>
                <a:lnTo>
                  <a:pt x="11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450040" y="5718240"/>
            <a:ext cx="17280" cy="34920"/>
          </a:xfrm>
          <a:custGeom>
            <a:avLst/>
            <a:gdLst/>
            <a:ahLst/>
            <a:rect l="l" t="t" r="r" b="b"/>
            <a:pathLst>
              <a:path w="11" h="22">
                <a:moveTo>
                  <a:pt x="0" y="22"/>
                </a:moveTo>
                <a:lnTo>
                  <a:pt x="11" y="22"/>
                </a:lnTo>
                <a:lnTo>
                  <a:pt x="11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750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750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22"/>
                </a:lnTo>
                <a:lnTo>
                  <a:pt x="17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3018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018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22"/>
                </a:lnTo>
                <a:lnTo>
                  <a:pt x="17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266920" y="97776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44" y="11"/>
                </a:moveTo>
                <a:lnTo>
                  <a:pt x="0" y="0"/>
                </a:lnTo>
                <a:lnTo>
                  <a:pt x="0" y="11"/>
                </a:lnTo>
                <a:lnTo>
                  <a:pt x="44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66920" y="97776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0" y="0"/>
                </a:moveTo>
                <a:lnTo>
                  <a:pt x="44" y="0"/>
                </a:lnTo>
                <a:lnTo>
                  <a:pt x="44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266920" y="192240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44" y="11"/>
                </a:moveTo>
                <a:lnTo>
                  <a:pt x="0" y="0"/>
                </a:lnTo>
                <a:lnTo>
                  <a:pt x="0" y="11"/>
                </a:lnTo>
                <a:lnTo>
                  <a:pt x="44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66920" y="192240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0" y="0"/>
                </a:moveTo>
                <a:lnTo>
                  <a:pt x="44" y="0"/>
                </a:lnTo>
                <a:lnTo>
                  <a:pt x="44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66920" y="2867040"/>
            <a:ext cx="69840" cy="25560"/>
          </a:xfrm>
          <a:custGeom>
            <a:avLst/>
            <a:gdLst/>
            <a:ahLst/>
            <a:rect l="l" t="t" r="r" b="b"/>
            <a:pathLst>
              <a:path w="44" h="16">
                <a:moveTo>
                  <a:pt x="44" y="16"/>
                </a:moveTo>
                <a:lnTo>
                  <a:pt x="0" y="0"/>
                </a:lnTo>
                <a:lnTo>
                  <a:pt x="0" y="16"/>
                </a:lnTo>
                <a:lnTo>
                  <a:pt x="44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66920" y="2867040"/>
            <a:ext cx="69840" cy="25560"/>
          </a:xfrm>
          <a:custGeom>
            <a:avLst/>
            <a:gdLst/>
            <a:ahLst/>
            <a:rect l="l" t="t" r="r" b="b"/>
            <a:pathLst>
              <a:path w="44" h="16">
                <a:moveTo>
                  <a:pt x="0" y="0"/>
                </a:moveTo>
                <a:lnTo>
                  <a:pt x="44" y="0"/>
                </a:lnTo>
                <a:lnTo>
                  <a:pt x="44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266920" y="3811680"/>
            <a:ext cx="69840" cy="17280"/>
          </a:xfrm>
          <a:custGeom>
            <a:avLst/>
            <a:gdLst/>
            <a:ahLst/>
            <a:rect l="l" t="t" r="r" b="b"/>
            <a:pathLst>
              <a:path w="44" h="11">
                <a:moveTo>
                  <a:pt x="44" y="11"/>
                </a:moveTo>
                <a:lnTo>
                  <a:pt x="0" y="0"/>
                </a:lnTo>
                <a:lnTo>
                  <a:pt x="0" y="11"/>
                </a:lnTo>
                <a:lnTo>
                  <a:pt x="44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266920" y="3811680"/>
            <a:ext cx="69840" cy="17280"/>
          </a:xfrm>
          <a:custGeom>
            <a:avLst/>
            <a:gdLst/>
            <a:ahLst/>
            <a:rect l="l" t="t" r="r" b="b"/>
            <a:pathLst>
              <a:path w="44" h="11">
                <a:moveTo>
                  <a:pt x="0" y="0"/>
                </a:moveTo>
                <a:lnTo>
                  <a:pt x="44" y="0"/>
                </a:lnTo>
                <a:lnTo>
                  <a:pt x="44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66920" y="4756320"/>
            <a:ext cx="69840" cy="2664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17"/>
                </a:moveTo>
                <a:lnTo>
                  <a:pt x="0" y="0"/>
                </a:lnTo>
                <a:lnTo>
                  <a:pt x="0" y="17"/>
                </a:lnTo>
                <a:lnTo>
                  <a:pt x="44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66920" y="4756320"/>
            <a:ext cx="69840" cy="26640"/>
          </a:xfrm>
          <a:custGeom>
            <a:avLst/>
            <a:gdLst/>
            <a:ahLst/>
            <a:rect l="l" t="t" r="r" b="b"/>
            <a:pathLst>
              <a:path w="44" h="17">
                <a:moveTo>
                  <a:pt x="0" y="0"/>
                </a:moveTo>
                <a:lnTo>
                  <a:pt x="44" y="0"/>
                </a:lnTo>
                <a:lnTo>
                  <a:pt x="44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266920" y="5702400"/>
            <a:ext cx="69840" cy="15840"/>
          </a:xfrm>
          <a:custGeom>
            <a:avLst/>
            <a:gdLst/>
            <a:ahLst/>
            <a:rect l="l" t="t" r="r" b="b"/>
            <a:pathLst>
              <a:path w="44" h="10">
                <a:moveTo>
                  <a:pt x="44" y="10"/>
                </a:moveTo>
                <a:lnTo>
                  <a:pt x="0" y="0"/>
                </a:lnTo>
                <a:lnTo>
                  <a:pt x="0" y="10"/>
                </a:lnTo>
                <a:lnTo>
                  <a:pt x="44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266920" y="5702400"/>
            <a:ext cx="69840" cy="15840"/>
          </a:xfrm>
          <a:custGeom>
            <a:avLst/>
            <a:gdLst/>
            <a:ahLst/>
            <a:rect l="l" t="t" r="r" b="b"/>
            <a:pathLst>
              <a:path w="44" h="10">
                <a:moveTo>
                  <a:pt x="0" y="0"/>
                </a:moveTo>
                <a:lnTo>
                  <a:pt x="44" y="0"/>
                </a:lnTo>
                <a:lnTo>
                  <a:pt x="44" y="1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319480" y="985680"/>
            <a:ext cx="6276960" cy="4724640"/>
          </a:xfrm>
          <a:custGeom>
            <a:avLst/>
            <a:gdLst/>
            <a:ahLst/>
            <a:rect l="l" t="t" r="r" b="b"/>
            <a:pathLst>
              <a:path w="3954" h="2976">
                <a:moveTo>
                  <a:pt x="3954" y="2976"/>
                </a:moveTo>
                <a:lnTo>
                  <a:pt x="0" y="0"/>
                </a:lnTo>
                <a:lnTo>
                  <a:pt x="0" y="2976"/>
                </a:lnTo>
                <a:lnTo>
                  <a:pt x="3954" y="29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319480" y="985680"/>
            <a:ext cx="6276960" cy="4724640"/>
          </a:xfrm>
          <a:custGeom>
            <a:avLst/>
            <a:gdLst/>
            <a:ahLst/>
            <a:rect l="l" t="t" r="r" b="b"/>
            <a:pathLst>
              <a:path w="3954" h="2976">
                <a:moveTo>
                  <a:pt x="0" y="0"/>
                </a:moveTo>
                <a:lnTo>
                  <a:pt x="3954" y="0"/>
                </a:lnTo>
                <a:lnTo>
                  <a:pt x="3954" y="297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319480" y="985680"/>
            <a:ext cx="627696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167440" y="407844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06680" y="1758960"/>
            <a:ext cx="540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167440" y="370044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272200" y="3038400"/>
            <a:ext cx="540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900760" y="360504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627440" y="417348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077240" y="336564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05520" y="407844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545160" y="3227400"/>
            <a:ext cx="540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262560" y="1003320"/>
            <a:ext cx="540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792840" y="3038400"/>
            <a:ext cx="540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979960" y="327024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573880" y="336564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255920" y="360504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51320" y="346860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848120" y="4876920"/>
            <a:ext cx="5256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68920" y="383868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821120" y="3081240"/>
            <a:ext cx="540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121440" y="223200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11760" y="256716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319480" y="5710320"/>
            <a:ext cx="6276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2319480" y="985680"/>
            <a:ext cx="144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257800" y="397836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ENEZUE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076560" y="1501920"/>
            <a:ext cx="88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URUGUY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180760" y="3733920"/>
            <a:ext cx="59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.D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114520" y="278136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867640" y="3657600"/>
            <a:ext cx="98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RAGUAY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33920" y="403848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NAM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0" y="342900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ICARAGU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257080" y="4206960"/>
            <a:ext cx="70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630120" y="3139920"/>
            <a:ext cx="101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ONDUR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781320" y="2743200"/>
            <a:ext cx="109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UATEMA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475960" y="3013200"/>
            <a:ext cx="123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L SALVADO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991400" y="33526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CU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077720" y="3348000"/>
            <a:ext cx="52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301560" y="320184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B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18640" y="4619520"/>
            <a:ext cx="1089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STA RIC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708720" y="3733920"/>
            <a:ext cx="941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190400" y="2895480"/>
            <a:ext cx="63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871240" y="1973160"/>
            <a:ext cx="69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OLIVI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516120" y="2308320"/>
            <a:ext cx="1038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RGENTIN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564160" y="6097680"/>
            <a:ext cx="14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0.1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80760" y="1066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33"/>
                </a:solidFill>
                <a:latin typeface="Arial"/>
              </a:rPr>
              <a:t>HAITI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445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440B-3412-4B29-8597-8ADE465CDA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"/>
          <p:cNvGrpSpPr/>
          <p:nvPr/>
        </p:nvGrpSpPr>
        <p:grpSpPr>
          <a:xfrm>
            <a:off x="169560" y="19080"/>
            <a:ext cx="8636400" cy="5848200"/>
            <a:chOff x="169560" y="19080"/>
            <a:chExt cx="8636400" cy="5848200"/>
          </a:xfrm>
        </p:grpSpPr>
        <p:sp>
          <p:nvSpPr>
            <p:cNvPr id="448" name=""/>
            <p:cNvSpPr/>
            <p:nvPr/>
          </p:nvSpPr>
          <p:spPr>
            <a:xfrm>
              <a:off x="6524640" y="4516560"/>
              <a:ext cx="10954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67640" y="4987800"/>
              <a:ext cx="1095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03280" y="1235160"/>
              <a:ext cx="8180280" cy="75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200400" y="1265400"/>
              <a:ext cx="2286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700" spc="-1" strike="noStrike">
                  <a:solidFill>
                    <a:srgbClr val="000000"/>
                  </a:solidFill>
                  <a:latin typeface="Arial"/>
                </a:rPr>
                <a:t>Correlaciones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104920" y="2479680"/>
              <a:ext cx="1095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112920" y="2479680"/>
              <a:ext cx="1108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94000" y="247968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343480" y="2479680"/>
              <a:ext cx="10828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399360" y="2479680"/>
              <a:ext cx="1176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548480" y="2479680"/>
              <a:ext cx="1135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044800" y="2995560"/>
              <a:ext cx="1095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189880" y="300672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3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112920" y="2995560"/>
              <a:ext cx="1108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194000" y="299556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343480" y="2995560"/>
              <a:ext cx="10828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399360" y="2995560"/>
              <a:ext cx="1176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548480" y="2995560"/>
              <a:ext cx="1135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044800" y="3510000"/>
              <a:ext cx="1095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208960" y="34797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17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112920" y="3510000"/>
              <a:ext cx="1108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351960" y="355752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101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194000" y="351000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343480" y="3510000"/>
              <a:ext cx="10828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399360" y="3510000"/>
              <a:ext cx="1176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548480" y="3510000"/>
              <a:ext cx="1135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044800" y="4025880"/>
              <a:ext cx="1095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285280" y="40305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588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112920" y="4025880"/>
              <a:ext cx="1108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276000" y="40305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23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94000" y="402588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419000" y="40305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60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343480" y="4025880"/>
              <a:ext cx="10828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399360" y="4025880"/>
              <a:ext cx="1176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548480" y="4025880"/>
              <a:ext cx="1135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044800" y="4540320"/>
              <a:ext cx="109512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208960" y="453384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35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112920" y="4540320"/>
              <a:ext cx="11080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51960" y="445464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97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194000" y="4540320"/>
              <a:ext cx="11764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494960" y="453384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26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334120" y="4533840"/>
              <a:ext cx="10825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562000" y="453384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6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399360" y="4540320"/>
              <a:ext cx="117612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48480" y="4540320"/>
              <a:ext cx="11350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044800" y="5052960"/>
              <a:ext cx="1095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208960" y="508464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53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112920" y="5052960"/>
              <a:ext cx="1108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276000" y="50529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68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94000" y="505296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419000" y="50529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533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343480" y="5052960"/>
              <a:ext cx="10828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62000" y="50529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951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399360" y="5052960"/>
              <a:ext cx="1176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628680" y="50529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70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548480" y="5052960"/>
              <a:ext cx="1135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65360" y="1967040"/>
              <a:ext cx="40644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665360" y="2479680"/>
              <a:ext cx="40644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665360" y="2995560"/>
              <a:ext cx="40644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665360" y="3510000"/>
              <a:ext cx="40644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665360" y="4025880"/>
              <a:ext cx="40644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665360" y="4540320"/>
              <a:ext cx="40644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665360" y="5052960"/>
              <a:ext cx="40644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15880" y="1967040"/>
              <a:ext cx="11764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52320" y="301932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8760" y="2644920"/>
              <a:ext cx="143028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POB_URBAN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15880" y="299556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9120" y="3195720"/>
              <a:ext cx="1294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TASA NA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15880" y="351000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23960" y="3651120"/>
              <a:ext cx="110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15880" y="402588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61040" y="4202280"/>
              <a:ext cx="94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15880" y="4540320"/>
              <a:ext cx="11764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2800" y="4675320"/>
              <a:ext cx="1340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FECUNDIDA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15880" y="505296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71480" y="514656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044800" y="1967040"/>
              <a:ext cx="10951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159000" y="1967040"/>
              <a:ext cx="11080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194000" y="1967040"/>
              <a:ext cx="11764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343480" y="1967040"/>
              <a:ext cx="10828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399360" y="1967040"/>
              <a:ext cx="11761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548480" y="1967040"/>
              <a:ext cx="11350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665360" y="2995560"/>
              <a:ext cx="69912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665360" y="3510000"/>
              <a:ext cx="6991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665360" y="4025880"/>
              <a:ext cx="6991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665360" y="4540320"/>
              <a:ext cx="6991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665360" y="5052960"/>
              <a:ext cx="699120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15880" y="2995560"/>
              <a:ext cx="81406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15880" y="3510000"/>
              <a:ext cx="8140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15880" y="4025880"/>
              <a:ext cx="8140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15880" y="4540320"/>
              <a:ext cx="8140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5880" y="5052960"/>
              <a:ext cx="81406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11292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9400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34348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99360" y="1967040"/>
              <a:ext cx="144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4848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80880" y="5568840"/>
              <a:ext cx="8412120" cy="27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656560" y="5541840"/>
              <a:ext cx="14940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793000" y="1938240"/>
              <a:ext cx="12960" cy="392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15880" y="1913040"/>
              <a:ext cx="8290080" cy="7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656560" y="990720"/>
              <a:ext cx="149400" cy="10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80880" y="990720"/>
              <a:ext cx="8412120" cy="26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80880" y="990720"/>
              <a:ext cx="13500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656560" y="990720"/>
              <a:ext cx="14940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0880" y="5568840"/>
              <a:ext cx="8412120" cy="29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0280" y="1992240"/>
              <a:ext cx="1440" cy="35496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643960" y="1992240"/>
              <a:ext cx="1440" cy="35496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0280" y="1992240"/>
              <a:ext cx="81136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0280" y="5541840"/>
              <a:ext cx="81136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30280" y="2508120"/>
              <a:ext cx="81136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057400" y="1992240"/>
              <a:ext cx="1440" cy="35496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0880" y="990720"/>
              <a:ext cx="8412120" cy="26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80880" y="990720"/>
              <a:ext cx="13500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697960" y="990720"/>
              <a:ext cx="9504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0880" y="5651640"/>
              <a:ext cx="8412120" cy="18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200760" y="2171880"/>
              <a:ext cx="92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T. NA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229280" y="2171880"/>
              <a:ext cx="110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485320" y="2171880"/>
              <a:ext cx="94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628680" y="2155680"/>
              <a:ext cx="844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FECUN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621560" y="217188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057760" y="2155680"/>
              <a:ext cx="99144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POB  URB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169560" y="19080"/>
              <a:ext cx="590760" cy="1047600"/>
              <a:chOff x="169560" y="19080"/>
              <a:chExt cx="590760" cy="1047600"/>
            </a:xfrm>
          </p:grpSpPr>
          <p:pic>
            <p:nvPicPr>
              <p:cNvPr id="57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247680"/>
                <a:ext cx="450720" cy="81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1" name=""/>
              <p:cNvSpPr/>
              <p:nvPr/>
            </p:nvSpPr>
            <p:spPr>
              <a:xfrm>
                <a:off x="169560" y="19080"/>
                <a:ext cx="59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333333"/>
                    </a:solidFill>
                    <a:latin typeface="Times New Roman"/>
                  </a:rPr>
                  <a:t>MA44E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25EF-CB13-4E7A-899E-AB85FC92AD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5181480" cy="2365560"/>
          </a:xfrm>
          <a:prstGeom prst="rect">
            <a:avLst/>
          </a:prstGeom>
          <a:ln w="0">
            <a:noFill/>
          </a:ln>
        </p:spPr>
      </p:pic>
      <p:grpSp>
        <p:nvGrpSpPr>
          <p:cNvPr id="573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574" name="" descr=""/>
            <p:cNvPicPr/>
            <p:nvPr/>
          </p:nvPicPr>
          <p:blipFill>
            <a:blip r:embed="rId2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576" name=""/>
          <p:cNvGraphicFramePr/>
          <p:nvPr/>
        </p:nvGraphicFramePr>
        <p:xfrm>
          <a:off x="990720" y="3352680"/>
          <a:ext cx="7543800" cy="2598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352680"/>
                    <a:ext cx="754380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5501-337D-41DD-90CB-FBA21F4102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"/>
          <p:cNvGrpSpPr/>
          <p:nvPr/>
        </p:nvGrpSpPr>
        <p:grpSpPr>
          <a:xfrm>
            <a:off x="169560" y="19080"/>
            <a:ext cx="8707680" cy="6602400"/>
            <a:chOff x="169560" y="19080"/>
            <a:chExt cx="8707680" cy="6602400"/>
          </a:xfrm>
        </p:grpSpPr>
        <p:grpSp>
          <p:nvGrpSpPr>
            <p:cNvPr id="579" name=""/>
            <p:cNvGrpSpPr/>
            <p:nvPr/>
          </p:nvGrpSpPr>
          <p:grpSpPr>
            <a:xfrm>
              <a:off x="762120" y="762120"/>
              <a:ext cx="8115120" cy="5859360"/>
              <a:chOff x="762120" y="762120"/>
              <a:chExt cx="8115120" cy="5859360"/>
            </a:xfrm>
          </p:grpSpPr>
          <p:sp>
            <p:nvSpPr>
              <p:cNvPr id="580" name=""/>
              <p:cNvSpPr/>
              <p:nvPr/>
            </p:nvSpPr>
            <p:spPr>
              <a:xfrm>
                <a:off x="762120" y="762120"/>
                <a:ext cx="8115120" cy="5859360"/>
              </a:xfrm>
              <a:custGeom>
                <a:avLst/>
                <a:gdLst/>
                <a:ahLst/>
                <a:rect l="l" t="t" r="r" b="b"/>
                <a:pathLst>
                  <a:path w="5112" h="3691">
                    <a:moveTo>
                      <a:pt x="5112" y="3691"/>
                    </a:moveTo>
                    <a:lnTo>
                      <a:pt x="0" y="0"/>
                    </a:lnTo>
                    <a:lnTo>
                      <a:pt x="0" y="3691"/>
                    </a:lnTo>
                    <a:lnTo>
                      <a:pt x="5112" y="36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62120" y="762120"/>
                <a:ext cx="8115120" cy="5859360"/>
              </a:xfrm>
              <a:custGeom>
                <a:avLst/>
                <a:gdLst/>
                <a:ahLst/>
                <a:rect l="l" t="t" r="r" b="b"/>
                <a:pathLst>
                  <a:path w="5112" h="3691">
                    <a:moveTo>
                      <a:pt x="0" y="0"/>
                    </a:moveTo>
                    <a:lnTo>
                      <a:pt x="5112" y="0"/>
                    </a:lnTo>
                    <a:lnTo>
                      <a:pt x="5112" y="36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62120" y="762120"/>
                <a:ext cx="8115120" cy="5859360"/>
              </a:xfrm>
              <a:custGeom>
                <a:avLst/>
                <a:gdLst/>
                <a:ahLst/>
                <a:rect l="l" t="t" r="r" b="b"/>
                <a:pathLst>
                  <a:path w="5112" h="3691">
                    <a:moveTo>
                      <a:pt x="5112" y="3691"/>
                    </a:moveTo>
                    <a:lnTo>
                      <a:pt x="0" y="0"/>
                    </a:lnTo>
                    <a:lnTo>
                      <a:pt x="0" y="3691"/>
                    </a:lnTo>
                    <a:lnTo>
                      <a:pt x="5112" y="36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62120" y="762120"/>
                <a:ext cx="8115120" cy="5859360"/>
              </a:xfrm>
              <a:custGeom>
                <a:avLst/>
                <a:gdLst/>
                <a:ahLst/>
                <a:rect l="l" t="t" r="r" b="b"/>
                <a:pathLst>
                  <a:path w="5112" h="3691">
                    <a:moveTo>
                      <a:pt x="0" y="0"/>
                    </a:moveTo>
                    <a:lnTo>
                      <a:pt x="5112" y="0"/>
                    </a:lnTo>
                    <a:lnTo>
                      <a:pt x="5112" y="36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828120" y="6229440"/>
                <a:ext cx="17884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000" spc="-1" strike="noStrike">
                    <a:solidFill>
                      <a:srgbClr val="333333"/>
                    </a:solidFill>
                    <a:latin typeface="Times New Roman"/>
                  </a:rPr>
                  <a:t>Factor 1   (69%)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484480" y="5715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166880" y="5715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839920" y="5715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477320" y="5715000"/>
                <a:ext cx="15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151800" y="5715000"/>
                <a:ext cx="15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832760" y="5715000"/>
                <a:ext cx="15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-3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6200000">
                <a:off x="293040" y="2214720"/>
                <a:ext cx="185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000" spc="-1" strike="noStrike">
                    <a:solidFill>
                      <a:srgbClr val="333333"/>
                    </a:solidFill>
                    <a:latin typeface="Times New Roman"/>
                  </a:rPr>
                  <a:t>Factor 2    (19%)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721880" y="954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721880" y="18669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721880" y="2789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721880" y="371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654920" y="4632480"/>
                <a:ext cx="15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654920" y="5460840"/>
                <a:ext cx="15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535960" y="5661000"/>
                <a:ext cx="34920" cy="3960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0" y="25"/>
                    </a:moveTo>
                    <a:lnTo>
                      <a:pt x="22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8535960" y="5661000"/>
                <a:ext cx="34920" cy="3960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0" y="25"/>
                    </a:moveTo>
                    <a:lnTo>
                      <a:pt x="22" y="25"/>
                    </a:lnTo>
                    <a:lnTo>
                      <a:pt x="22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21836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21836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25"/>
                    </a:lnTo>
                    <a:lnTo>
                      <a:pt x="16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89104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89104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25"/>
                    </a:lnTo>
                    <a:lnTo>
                      <a:pt x="16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56408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56408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25"/>
                    </a:lnTo>
                    <a:lnTo>
                      <a:pt x="16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23676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23676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25"/>
                    </a:lnTo>
                    <a:lnTo>
                      <a:pt x="16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919160" y="566100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10" h="25">
                    <a:moveTo>
                      <a:pt x="0" y="25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919160" y="566100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10" h="25">
                    <a:moveTo>
                      <a:pt x="0" y="25"/>
                    </a:moveTo>
                    <a:lnTo>
                      <a:pt x="10" y="25"/>
                    </a:lnTo>
                    <a:lnTo>
                      <a:pt x="1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876320" y="1038240"/>
                <a:ext cx="68400" cy="31680"/>
              </a:xfrm>
              <a:custGeom>
                <a:avLst/>
                <a:gdLst/>
                <a:ahLst/>
                <a:rect l="l" t="t" r="r" b="b"/>
                <a:pathLst>
                  <a:path w="43" h="20">
                    <a:moveTo>
                      <a:pt x="43" y="20"/>
                    </a:moveTo>
                    <a:lnTo>
                      <a:pt x="0" y="0"/>
                    </a:lnTo>
                    <a:lnTo>
                      <a:pt x="0" y="2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876320" y="1038240"/>
                <a:ext cx="68400" cy="31680"/>
              </a:xfrm>
              <a:custGeom>
                <a:avLst/>
                <a:gdLst/>
                <a:ahLst/>
                <a:rect l="l" t="t" r="r" b="b"/>
                <a:pathLst>
                  <a:path w="43" h="20">
                    <a:moveTo>
                      <a:pt x="0" y="0"/>
                    </a:moveTo>
                    <a:lnTo>
                      <a:pt x="43" y="0"/>
                    </a:lnTo>
                    <a:lnTo>
                      <a:pt x="4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76320" y="1960560"/>
                <a:ext cx="68400" cy="2232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43" y="14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4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76320" y="1960560"/>
                <a:ext cx="68400" cy="2232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0" y="0"/>
                    </a:moveTo>
                    <a:lnTo>
                      <a:pt x="43" y="0"/>
                    </a:lnTo>
                    <a:lnTo>
                      <a:pt x="4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876320" y="2881440"/>
                <a:ext cx="68400" cy="23760"/>
              </a:xfrm>
              <a:custGeom>
                <a:avLst/>
                <a:gdLst/>
                <a:ahLst/>
                <a:rect l="l" t="t" r="r" b="b"/>
                <a:pathLst>
                  <a:path w="43" h="15">
                    <a:moveTo>
                      <a:pt x="43" y="15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4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876320" y="2881440"/>
                <a:ext cx="68400" cy="23760"/>
              </a:xfrm>
              <a:custGeom>
                <a:avLst/>
                <a:gdLst/>
                <a:ahLst/>
                <a:rect l="l" t="t" r="r" b="b"/>
                <a:pathLst>
                  <a:path w="43" h="15">
                    <a:moveTo>
                      <a:pt x="0" y="0"/>
                    </a:moveTo>
                    <a:lnTo>
                      <a:pt x="43" y="0"/>
                    </a:lnTo>
                    <a:lnTo>
                      <a:pt x="43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876320" y="3803760"/>
                <a:ext cx="68400" cy="2196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43" y="14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4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876320" y="3803760"/>
                <a:ext cx="68400" cy="2196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0" y="0"/>
                    </a:moveTo>
                    <a:lnTo>
                      <a:pt x="43" y="0"/>
                    </a:lnTo>
                    <a:lnTo>
                      <a:pt x="4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876320" y="4724280"/>
                <a:ext cx="68400" cy="23760"/>
              </a:xfrm>
              <a:custGeom>
                <a:avLst/>
                <a:gdLst/>
                <a:ahLst/>
                <a:rect l="l" t="t" r="r" b="b"/>
                <a:pathLst>
                  <a:path w="43" h="15">
                    <a:moveTo>
                      <a:pt x="43" y="15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4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876320" y="4724280"/>
                <a:ext cx="68400" cy="23760"/>
              </a:xfrm>
              <a:custGeom>
                <a:avLst/>
                <a:gdLst/>
                <a:ahLst/>
                <a:rect l="l" t="t" r="r" b="b"/>
                <a:pathLst>
                  <a:path w="43" h="15">
                    <a:moveTo>
                      <a:pt x="0" y="0"/>
                    </a:moveTo>
                    <a:lnTo>
                      <a:pt x="43" y="0"/>
                    </a:lnTo>
                    <a:lnTo>
                      <a:pt x="43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876320" y="5638680"/>
                <a:ext cx="68400" cy="2232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43" y="14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4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876320" y="5638680"/>
                <a:ext cx="68400" cy="2232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0" y="0"/>
                    </a:moveTo>
                    <a:lnTo>
                      <a:pt x="43" y="0"/>
                    </a:lnTo>
                    <a:lnTo>
                      <a:pt x="4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133720" y="1066680"/>
                <a:ext cx="6626160" cy="4600800"/>
              </a:xfrm>
              <a:custGeom>
                <a:avLst/>
                <a:gdLst/>
                <a:ahLst/>
                <a:rect l="l" t="t" r="r" b="b"/>
                <a:pathLst>
                  <a:path w="4174" h="2898">
                    <a:moveTo>
                      <a:pt x="4174" y="2898"/>
                    </a:moveTo>
                    <a:lnTo>
                      <a:pt x="0" y="0"/>
                    </a:lnTo>
                    <a:lnTo>
                      <a:pt x="0" y="2898"/>
                    </a:lnTo>
                    <a:lnTo>
                      <a:pt x="4174" y="28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927080" y="1054080"/>
                <a:ext cx="6626520" cy="4600440"/>
              </a:xfrm>
              <a:custGeom>
                <a:avLst/>
                <a:gdLst/>
                <a:ahLst/>
                <a:rect l="l" t="t" r="r" b="b"/>
                <a:pathLst>
                  <a:path w="4174" h="2898">
                    <a:moveTo>
                      <a:pt x="0" y="0"/>
                    </a:moveTo>
                    <a:lnTo>
                      <a:pt x="4174" y="0"/>
                    </a:lnTo>
                    <a:lnTo>
                      <a:pt x="4174" y="28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927080" y="1054080"/>
                <a:ext cx="6626520" cy="46004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767640" y="4102200"/>
                <a:ext cx="6804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421400" y="187488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857920" y="3917880"/>
                <a:ext cx="666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313240" y="3051000"/>
                <a:ext cx="66960" cy="6048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288040" y="4602240"/>
                <a:ext cx="666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886440" y="4656240"/>
                <a:ext cx="68400" cy="601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691160" y="4602240"/>
                <a:ext cx="6804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580080" y="427212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530600" y="4510080"/>
                <a:ext cx="68400" cy="6048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219480" y="237492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317840" y="463248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126040" y="427212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397480" y="3949560"/>
                <a:ext cx="68400" cy="6048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413480" y="359568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924680" y="3403440"/>
                <a:ext cx="6696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099200" y="5470560"/>
                <a:ext cx="68400" cy="601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613560" y="391788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053040" y="302724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789360" y="282744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107120" y="259704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927080" y="5654520"/>
                <a:ext cx="662652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V="1">
                <a:off x="1927080" y="1053720"/>
                <a:ext cx="1800" cy="4600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010640" y="4038480"/>
                <a:ext cx="10584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VENEZUEL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963480" y="1628640"/>
                <a:ext cx="889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URUGUY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478480" y="3672000"/>
                <a:ext cx="10004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R. DOMINIC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065920" y="2805120"/>
                <a:ext cx="49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PERU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257800" y="4648320"/>
                <a:ext cx="623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PARAG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86600" y="4572000"/>
                <a:ext cx="752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PANAM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572000" y="4648320"/>
                <a:ext cx="554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NICAR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780960" y="4267080"/>
                <a:ext cx="7034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MEXICO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658320" y="4267080"/>
                <a:ext cx="10173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HONDURAS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997720" y="2128680"/>
                <a:ext cx="45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HAITI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169800" y="4724280"/>
                <a:ext cx="1098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GUATEMAL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028480" y="4267080"/>
                <a:ext cx="1238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EL SALVADOR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496400" y="3886200"/>
                <a:ext cx="889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ECUADOR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149600" y="3349800"/>
                <a:ext cx="524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CHILE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687080" y="3157560"/>
                <a:ext cx="49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CUB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536520" y="5222880"/>
                <a:ext cx="1089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COSTA RIC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704280" y="3733920"/>
                <a:ext cx="941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COLOMBI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736600" y="2781360"/>
                <a:ext cx="634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BRASIL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440160" y="2581200"/>
                <a:ext cx="695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BOLIVI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562800" y="2343240"/>
                <a:ext cx="10386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ARGENTIN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169560" y="19080"/>
              <a:ext cx="590760" cy="1047600"/>
              <a:chOff x="169560" y="19080"/>
              <a:chExt cx="590760" cy="1047600"/>
            </a:xfrm>
          </p:grpSpPr>
          <p:pic>
            <p:nvPicPr>
              <p:cNvPr id="66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247680"/>
                <a:ext cx="450720" cy="81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9" name=""/>
              <p:cNvSpPr/>
              <p:nvPr/>
            </p:nvSpPr>
            <p:spPr>
              <a:xfrm>
                <a:off x="169560" y="19080"/>
                <a:ext cx="59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333333"/>
                    </a:solidFill>
                    <a:latin typeface="Times New Roman"/>
                  </a:rPr>
                  <a:t>MA44E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1D88-A14A-4C66-855A-CA48C2BCA3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8T15:55:10Z</dcterms:created>
  <dc:creator>Juan Muñoz</dc:creator>
  <dc:description/>
  <dc:language>en-US</dc:language>
  <cp:lastModifiedBy>nancy Lacourly</cp:lastModifiedBy>
  <dcterms:modified xsi:type="dcterms:W3CDTF">2004-06-23T20:55:39Z</dcterms:modified>
  <cp:revision>114</cp:revision>
  <dc:subject/>
  <dc:title>Sin título de diapositiva</dc:title>
</cp:coreProperties>
</file>