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CE51-1C5A-4D23-83FB-25D4B78B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7E7-3F72-444F-AE8D-3C2326B6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E84F-DB89-4EDF-B456-2315FB99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40C8-75A7-4EFA-B603-FCE99CE1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C6AA-613A-45E2-9B8E-5BD08168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9FBC-C9E4-4C20-AE7E-C13204B9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949C-176B-4AF9-95E2-48C32FF3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3F6-1497-401A-9D18-D1D1AFCC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5FA-30A7-4C52-B9DA-190A0E31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2593-667B-492A-BE5F-E660F9BC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AD5E-E03F-4DBB-9845-9454E398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694-B889-4F76-92E7-28B96BDC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61DF-F49F-4241-8F14-4C73054B8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2324160" cy="2857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421080" y="620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gr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71640" y="4005360"/>
            <a:ext cx="3047760" cy="228600"/>
          </a:xfrm>
          <a:prstGeom prst="rect">
            <a:avLst/>
          </a:prstGeom>
          <a:solidFill>
            <a:srgbClr val="e3da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71640" y="1125360"/>
            <a:ext cx="7561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principal de las moléculas d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hesión célula-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volucradas en interacciones déb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n heterodímeros de subunida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conoce 17 tipos de subunida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8 de subunida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versidad generada por distintas combinaciones d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células expresan distintas integr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intas integrinas se unen a distintos ligando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90720" y="5943600"/>
            <a:ext cx="32004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e de la matriz extracelular (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35320" y="4322880"/>
            <a:ext cx="363600" cy="1082520"/>
          </a:xfrm>
          <a:custGeom>
            <a:avLst/>
            <a:gdLst/>
            <a:ahLst/>
            <a:rect l="l" t="t" r="r" b="b"/>
            <a:pathLst>
              <a:path w="229" h="682">
                <a:moveTo>
                  <a:pt x="85" y="13"/>
                </a:moveTo>
                <a:cubicBezTo>
                  <a:pt x="116" y="5"/>
                  <a:pt x="128" y="0"/>
                  <a:pt x="170" y="13"/>
                </a:cubicBezTo>
                <a:cubicBezTo>
                  <a:pt x="181" y="16"/>
                  <a:pt x="179" y="34"/>
                  <a:pt x="186" y="45"/>
                </a:cubicBezTo>
                <a:cubicBezTo>
                  <a:pt x="197" y="126"/>
                  <a:pt x="199" y="205"/>
                  <a:pt x="218" y="285"/>
                </a:cubicBezTo>
                <a:cubicBezTo>
                  <a:pt x="214" y="413"/>
                  <a:pt x="224" y="436"/>
                  <a:pt x="197" y="525"/>
                </a:cubicBezTo>
                <a:cubicBezTo>
                  <a:pt x="209" y="578"/>
                  <a:pt x="190" y="525"/>
                  <a:pt x="218" y="552"/>
                </a:cubicBezTo>
                <a:cubicBezTo>
                  <a:pt x="219" y="553"/>
                  <a:pt x="228" y="581"/>
                  <a:pt x="229" y="584"/>
                </a:cubicBezTo>
                <a:cubicBezTo>
                  <a:pt x="227" y="596"/>
                  <a:pt x="228" y="609"/>
                  <a:pt x="224" y="621"/>
                </a:cubicBezTo>
                <a:cubicBezTo>
                  <a:pt x="221" y="626"/>
                  <a:pt x="212" y="627"/>
                  <a:pt x="208" y="632"/>
                </a:cubicBezTo>
                <a:cubicBezTo>
                  <a:pt x="200" y="638"/>
                  <a:pt x="187" y="655"/>
                  <a:pt x="176" y="659"/>
                </a:cubicBezTo>
                <a:cubicBezTo>
                  <a:pt x="149" y="666"/>
                  <a:pt x="122" y="665"/>
                  <a:pt x="96" y="675"/>
                </a:cubicBezTo>
                <a:cubicBezTo>
                  <a:pt x="69" y="672"/>
                  <a:pt x="35" y="682"/>
                  <a:pt x="16" y="664"/>
                </a:cubicBezTo>
                <a:cubicBezTo>
                  <a:pt x="3" y="652"/>
                  <a:pt x="0" y="616"/>
                  <a:pt x="0" y="616"/>
                </a:cubicBezTo>
                <a:cubicBezTo>
                  <a:pt x="9" y="584"/>
                  <a:pt x="32" y="561"/>
                  <a:pt x="64" y="552"/>
                </a:cubicBezTo>
                <a:cubicBezTo>
                  <a:pt x="93" y="504"/>
                  <a:pt x="69" y="435"/>
                  <a:pt x="64" y="381"/>
                </a:cubicBezTo>
                <a:cubicBezTo>
                  <a:pt x="60" y="296"/>
                  <a:pt x="53" y="218"/>
                  <a:pt x="42" y="136"/>
                </a:cubicBezTo>
                <a:cubicBezTo>
                  <a:pt x="50" y="65"/>
                  <a:pt x="50" y="8"/>
                  <a:pt x="138" y="8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038320" y="4309920"/>
            <a:ext cx="363600" cy="1082880"/>
          </a:xfrm>
          <a:custGeom>
            <a:avLst/>
            <a:gdLst/>
            <a:ahLst/>
            <a:rect l="l" t="t" r="r" b="b"/>
            <a:pathLst>
              <a:path w="229" h="682">
                <a:moveTo>
                  <a:pt x="85" y="13"/>
                </a:moveTo>
                <a:cubicBezTo>
                  <a:pt x="116" y="5"/>
                  <a:pt x="128" y="0"/>
                  <a:pt x="170" y="13"/>
                </a:cubicBezTo>
                <a:cubicBezTo>
                  <a:pt x="181" y="16"/>
                  <a:pt x="179" y="34"/>
                  <a:pt x="186" y="45"/>
                </a:cubicBezTo>
                <a:cubicBezTo>
                  <a:pt x="197" y="126"/>
                  <a:pt x="199" y="205"/>
                  <a:pt x="218" y="285"/>
                </a:cubicBezTo>
                <a:cubicBezTo>
                  <a:pt x="214" y="413"/>
                  <a:pt x="224" y="436"/>
                  <a:pt x="197" y="525"/>
                </a:cubicBezTo>
                <a:cubicBezTo>
                  <a:pt x="209" y="578"/>
                  <a:pt x="190" y="525"/>
                  <a:pt x="218" y="552"/>
                </a:cubicBezTo>
                <a:cubicBezTo>
                  <a:pt x="219" y="553"/>
                  <a:pt x="228" y="581"/>
                  <a:pt x="229" y="584"/>
                </a:cubicBezTo>
                <a:cubicBezTo>
                  <a:pt x="227" y="596"/>
                  <a:pt x="228" y="609"/>
                  <a:pt x="224" y="621"/>
                </a:cubicBezTo>
                <a:cubicBezTo>
                  <a:pt x="221" y="626"/>
                  <a:pt x="212" y="627"/>
                  <a:pt x="208" y="632"/>
                </a:cubicBezTo>
                <a:cubicBezTo>
                  <a:pt x="200" y="638"/>
                  <a:pt x="187" y="655"/>
                  <a:pt x="176" y="659"/>
                </a:cubicBezTo>
                <a:cubicBezTo>
                  <a:pt x="149" y="666"/>
                  <a:pt x="122" y="665"/>
                  <a:pt x="96" y="675"/>
                </a:cubicBezTo>
                <a:cubicBezTo>
                  <a:pt x="69" y="672"/>
                  <a:pt x="35" y="682"/>
                  <a:pt x="16" y="664"/>
                </a:cubicBezTo>
                <a:cubicBezTo>
                  <a:pt x="3" y="652"/>
                  <a:pt x="0" y="616"/>
                  <a:pt x="0" y="616"/>
                </a:cubicBezTo>
                <a:cubicBezTo>
                  <a:pt x="9" y="584"/>
                  <a:pt x="32" y="561"/>
                  <a:pt x="64" y="552"/>
                </a:cubicBezTo>
                <a:cubicBezTo>
                  <a:pt x="93" y="504"/>
                  <a:pt x="69" y="435"/>
                  <a:pt x="64" y="381"/>
                </a:cubicBezTo>
                <a:cubicBezTo>
                  <a:pt x="60" y="296"/>
                  <a:pt x="53" y="218"/>
                  <a:pt x="42" y="136"/>
                </a:cubicBezTo>
                <a:cubicBezTo>
                  <a:pt x="50" y="65"/>
                  <a:pt x="50" y="8"/>
                  <a:pt x="138" y="8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90600" y="3852720"/>
            <a:ext cx="42840" cy="457200"/>
          </a:xfrm>
          <a:custGeom>
            <a:avLst/>
            <a:gdLst/>
            <a:ahLst/>
            <a:rect l="l" t="t" r="r" b="b"/>
            <a:pathLst>
              <a:path w="27" h="288">
                <a:moveTo>
                  <a:pt x="16" y="288"/>
                </a:moveTo>
                <a:cubicBezTo>
                  <a:pt x="0" y="235"/>
                  <a:pt x="8" y="235"/>
                  <a:pt x="27" y="187"/>
                </a:cubicBezTo>
                <a:cubicBezTo>
                  <a:pt x="22" y="175"/>
                  <a:pt x="12" y="166"/>
                  <a:pt x="11" y="155"/>
                </a:cubicBezTo>
                <a:cubicBezTo>
                  <a:pt x="6" y="103"/>
                  <a:pt x="5" y="0"/>
                  <a:pt x="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494800" y="3852720"/>
            <a:ext cx="42840" cy="457200"/>
          </a:xfrm>
          <a:custGeom>
            <a:avLst/>
            <a:gdLst/>
            <a:ahLst/>
            <a:rect l="l" t="t" r="r" b="b"/>
            <a:pathLst>
              <a:path w="27" h="288">
                <a:moveTo>
                  <a:pt x="16" y="288"/>
                </a:moveTo>
                <a:cubicBezTo>
                  <a:pt x="0" y="235"/>
                  <a:pt x="8" y="235"/>
                  <a:pt x="27" y="187"/>
                </a:cubicBezTo>
                <a:cubicBezTo>
                  <a:pt x="22" y="175"/>
                  <a:pt x="12" y="166"/>
                  <a:pt x="11" y="155"/>
                </a:cubicBezTo>
                <a:cubicBezTo>
                  <a:pt x="6" y="103"/>
                  <a:pt x="5" y="0"/>
                  <a:pt x="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40120" y="491976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21000" y="499572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81520" y="444168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gr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32280" y="3657600"/>
            <a:ext cx="3530520" cy="252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jemp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tegri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gando de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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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lágenos, lami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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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lágenos, lami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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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bronectina, VC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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bronectina, vitrone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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brinógeno, C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a:     exce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ciones célula-célu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44520" y="260280"/>
            <a:ext cx="610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MÓLECULAS DE ADHESION CELULA-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70000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447920" y="56383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295280" y="5338800"/>
            <a:ext cx="2514600" cy="231840"/>
            <a:chOff x="1295280" y="5338800"/>
            <a:chExt cx="2514600" cy="231840"/>
          </a:xfrm>
        </p:grpSpPr>
        <p:sp>
          <p:nvSpPr>
            <p:cNvPr id="302" name=""/>
            <p:cNvSpPr/>
            <p:nvPr/>
          </p:nvSpPr>
          <p:spPr>
            <a:xfrm>
              <a:off x="1295280" y="5410080"/>
              <a:ext cx="2514600" cy="152640"/>
            </a:xfrm>
            <a:prstGeom prst="flowChartMagneticDrum">
              <a:avLst/>
            </a:prstGeom>
            <a:gradFill rotWithShape="0">
              <a:gsLst>
                <a:gs pos="0">
                  <a:srgbClr val="98b6b9"/>
                </a:gs>
                <a:gs pos="50000">
                  <a:srgbClr val="bbe0e3"/>
                </a:gs>
                <a:gs pos="100000">
                  <a:srgbClr val="98b6b9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5428800"/>
              <a:ext cx="1587600" cy="127080"/>
            </a:xfrm>
            <a:custGeom>
              <a:avLst/>
              <a:gdLst/>
              <a:ahLst/>
              <a:rect l="l" t="t" r="r" b="b"/>
              <a:pathLst>
                <a:path w="1546" h="301">
                  <a:moveTo>
                    <a:pt x="0" y="93"/>
                  </a:moveTo>
                  <a:cubicBezTo>
                    <a:pt x="61" y="78"/>
                    <a:pt x="116" y="49"/>
                    <a:pt x="176" y="29"/>
                  </a:cubicBezTo>
                  <a:cubicBezTo>
                    <a:pt x="207" y="19"/>
                    <a:pt x="241" y="21"/>
                    <a:pt x="272" y="13"/>
                  </a:cubicBezTo>
                  <a:cubicBezTo>
                    <a:pt x="287" y="14"/>
                    <a:pt x="509" y="0"/>
                    <a:pt x="576" y="45"/>
                  </a:cubicBezTo>
                  <a:cubicBezTo>
                    <a:pt x="629" y="80"/>
                    <a:pt x="688" y="110"/>
                    <a:pt x="744" y="141"/>
                  </a:cubicBezTo>
                  <a:cubicBezTo>
                    <a:pt x="808" y="177"/>
                    <a:pt x="875" y="220"/>
                    <a:pt x="936" y="261"/>
                  </a:cubicBezTo>
                  <a:cubicBezTo>
                    <a:pt x="974" y="286"/>
                    <a:pt x="1053" y="295"/>
                    <a:pt x="1096" y="301"/>
                  </a:cubicBezTo>
                  <a:cubicBezTo>
                    <a:pt x="1179" y="298"/>
                    <a:pt x="1262" y="300"/>
                    <a:pt x="1344" y="293"/>
                  </a:cubicBezTo>
                  <a:cubicBezTo>
                    <a:pt x="1388" y="289"/>
                    <a:pt x="1429" y="260"/>
                    <a:pt x="1464" y="237"/>
                  </a:cubicBezTo>
                  <a:cubicBezTo>
                    <a:pt x="1472" y="232"/>
                    <a:pt x="1488" y="221"/>
                    <a:pt x="1488" y="221"/>
                  </a:cubicBezTo>
                  <a:cubicBezTo>
                    <a:pt x="1493" y="213"/>
                    <a:pt x="1546" y="157"/>
                    <a:pt x="1546" y="15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8899200">
              <a:off x="2925360" y="5428440"/>
              <a:ext cx="357120" cy="52200"/>
            </a:xfrm>
            <a:custGeom>
              <a:avLst/>
              <a:gdLst/>
              <a:ahLst/>
              <a:rect l="l" t="t" r="r" b="b"/>
              <a:pathLst>
                <a:path w="348" h="139">
                  <a:moveTo>
                    <a:pt x="0" y="0"/>
                  </a:moveTo>
                  <a:cubicBezTo>
                    <a:pt x="9" y="27"/>
                    <a:pt x="5" y="21"/>
                    <a:pt x="28" y="32"/>
                  </a:cubicBezTo>
                  <a:cubicBezTo>
                    <a:pt x="48" y="42"/>
                    <a:pt x="64" y="66"/>
                    <a:pt x="84" y="76"/>
                  </a:cubicBezTo>
                  <a:cubicBezTo>
                    <a:pt x="117" y="92"/>
                    <a:pt x="165" y="111"/>
                    <a:pt x="200" y="120"/>
                  </a:cubicBezTo>
                  <a:cubicBezTo>
                    <a:pt x="232" y="128"/>
                    <a:pt x="260" y="126"/>
                    <a:pt x="292" y="136"/>
                  </a:cubicBezTo>
                  <a:cubicBezTo>
                    <a:pt x="295" y="137"/>
                    <a:pt x="348" y="139"/>
                    <a:pt x="348" y="12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34960" y="5424120"/>
              <a:ext cx="2359440" cy="124920"/>
            </a:xfrm>
            <a:custGeom>
              <a:avLst/>
              <a:gdLst/>
              <a:ahLst/>
              <a:rect l="l" t="t" r="r" b="b"/>
              <a:pathLst>
                <a:path w="2298" h="296">
                  <a:moveTo>
                    <a:pt x="0" y="128"/>
                  </a:moveTo>
                  <a:cubicBezTo>
                    <a:pt x="8" y="131"/>
                    <a:pt x="0" y="128"/>
                    <a:pt x="8" y="132"/>
                  </a:cubicBezTo>
                  <a:cubicBezTo>
                    <a:pt x="17" y="136"/>
                    <a:pt x="27" y="172"/>
                    <a:pt x="36" y="176"/>
                  </a:cubicBezTo>
                  <a:cubicBezTo>
                    <a:pt x="51" y="183"/>
                    <a:pt x="28" y="168"/>
                    <a:pt x="28" y="168"/>
                  </a:cubicBezTo>
                  <a:cubicBezTo>
                    <a:pt x="44" y="184"/>
                    <a:pt x="9" y="116"/>
                    <a:pt x="16" y="137"/>
                  </a:cubicBezTo>
                  <a:cubicBezTo>
                    <a:pt x="19" y="145"/>
                    <a:pt x="19" y="154"/>
                    <a:pt x="24" y="161"/>
                  </a:cubicBezTo>
                  <a:cubicBezTo>
                    <a:pt x="30" y="169"/>
                    <a:pt x="40" y="172"/>
                    <a:pt x="48" y="177"/>
                  </a:cubicBezTo>
                  <a:cubicBezTo>
                    <a:pt x="70" y="210"/>
                    <a:pt x="102" y="216"/>
                    <a:pt x="136" y="233"/>
                  </a:cubicBezTo>
                  <a:cubicBezTo>
                    <a:pt x="218" y="274"/>
                    <a:pt x="232" y="273"/>
                    <a:pt x="328" y="281"/>
                  </a:cubicBezTo>
                  <a:cubicBezTo>
                    <a:pt x="387" y="278"/>
                    <a:pt x="446" y="279"/>
                    <a:pt x="504" y="273"/>
                  </a:cubicBezTo>
                  <a:cubicBezTo>
                    <a:pt x="568" y="266"/>
                    <a:pt x="627" y="217"/>
                    <a:pt x="680" y="185"/>
                  </a:cubicBezTo>
                  <a:cubicBezTo>
                    <a:pt x="696" y="175"/>
                    <a:pt x="710" y="159"/>
                    <a:pt x="728" y="153"/>
                  </a:cubicBezTo>
                  <a:cubicBezTo>
                    <a:pt x="770" y="139"/>
                    <a:pt x="808" y="109"/>
                    <a:pt x="848" y="89"/>
                  </a:cubicBezTo>
                  <a:cubicBezTo>
                    <a:pt x="871" y="77"/>
                    <a:pt x="952" y="34"/>
                    <a:pt x="952" y="34"/>
                  </a:cubicBezTo>
                  <a:cubicBezTo>
                    <a:pt x="993" y="19"/>
                    <a:pt x="1041" y="15"/>
                    <a:pt x="1090" y="10"/>
                  </a:cubicBezTo>
                  <a:cubicBezTo>
                    <a:pt x="1140" y="5"/>
                    <a:pt x="1211" y="0"/>
                    <a:pt x="1252" y="4"/>
                  </a:cubicBezTo>
                  <a:cubicBezTo>
                    <a:pt x="1294" y="22"/>
                    <a:pt x="1280" y="10"/>
                    <a:pt x="1336" y="34"/>
                  </a:cubicBezTo>
                  <a:cubicBezTo>
                    <a:pt x="1342" y="52"/>
                    <a:pt x="1468" y="94"/>
                    <a:pt x="1468" y="94"/>
                  </a:cubicBezTo>
                  <a:cubicBezTo>
                    <a:pt x="1522" y="118"/>
                    <a:pt x="1578" y="167"/>
                    <a:pt x="1612" y="178"/>
                  </a:cubicBezTo>
                  <a:cubicBezTo>
                    <a:pt x="1636" y="186"/>
                    <a:pt x="1702" y="218"/>
                    <a:pt x="1726" y="226"/>
                  </a:cubicBezTo>
                  <a:cubicBezTo>
                    <a:pt x="1734" y="229"/>
                    <a:pt x="1834" y="256"/>
                    <a:pt x="1822" y="262"/>
                  </a:cubicBezTo>
                  <a:cubicBezTo>
                    <a:pt x="1930" y="268"/>
                    <a:pt x="1924" y="296"/>
                    <a:pt x="2056" y="268"/>
                  </a:cubicBezTo>
                  <a:cubicBezTo>
                    <a:pt x="2073" y="267"/>
                    <a:pt x="2135" y="227"/>
                    <a:pt x="2135" y="227"/>
                  </a:cubicBezTo>
                  <a:cubicBezTo>
                    <a:pt x="2157" y="195"/>
                    <a:pt x="2181" y="174"/>
                    <a:pt x="2215" y="151"/>
                  </a:cubicBezTo>
                  <a:cubicBezTo>
                    <a:pt x="2276" y="110"/>
                    <a:pt x="2178" y="136"/>
                    <a:pt x="2270" y="96"/>
                  </a:cubicBezTo>
                  <a:cubicBezTo>
                    <a:pt x="2287" y="77"/>
                    <a:pt x="2279" y="83"/>
                    <a:pt x="2294" y="80"/>
                  </a:cubicBezTo>
                  <a:cubicBezTo>
                    <a:pt x="2298" y="77"/>
                    <a:pt x="2281" y="80"/>
                    <a:pt x="2294" y="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34160" y="5421960"/>
              <a:ext cx="2297160" cy="129600"/>
            </a:xfrm>
            <a:custGeom>
              <a:avLst/>
              <a:gdLst/>
              <a:ahLst/>
              <a:rect l="l" t="t" r="r" b="b"/>
              <a:pathLst>
                <a:path w="2237" h="307">
                  <a:moveTo>
                    <a:pt x="16" y="205"/>
                  </a:moveTo>
                  <a:cubicBezTo>
                    <a:pt x="24" y="208"/>
                    <a:pt x="0" y="193"/>
                    <a:pt x="8" y="197"/>
                  </a:cubicBezTo>
                  <a:cubicBezTo>
                    <a:pt x="17" y="201"/>
                    <a:pt x="23" y="209"/>
                    <a:pt x="32" y="213"/>
                  </a:cubicBezTo>
                  <a:cubicBezTo>
                    <a:pt x="47" y="220"/>
                    <a:pt x="16" y="213"/>
                    <a:pt x="16" y="213"/>
                  </a:cubicBezTo>
                  <a:cubicBezTo>
                    <a:pt x="32" y="229"/>
                    <a:pt x="1" y="176"/>
                    <a:pt x="8" y="197"/>
                  </a:cubicBezTo>
                  <a:cubicBezTo>
                    <a:pt x="11" y="205"/>
                    <a:pt x="27" y="214"/>
                    <a:pt x="32" y="221"/>
                  </a:cubicBezTo>
                  <a:cubicBezTo>
                    <a:pt x="38" y="229"/>
                    <a:pt x="8" y="208"/>
                    <a:pt x="16" y="213"/>
                  </a:cubicBezTo>
                  <a:cubicBezTo>
                    <a:pt x="38" y="246"/>
                    <a:pt x="32" y="221"/>
                    <a:pt x="48" y="221"/>
                  </a:cubicBezTo>
                  <a:cubicBezTo>
                    <a:pt x="130" y="262"/>
                    <a:pt x="80" y="229"/>
                    <a:pt x="24" y="237"/>
                  </a:cubicBezTo>
                  <a:cubicBezTo>
                    <a:pt x="83" y="234"/>
                    <a:pt x="91" y="238"/>
                    <a:pt x="149" y="232"/>
                  </a:cubicBezTo>
                  <a:cubicBezTo>
                    <a:pt x="213" y="225"/>
                    <a:pt x="272" y="176"/>
                    <a:pt x="325" y="144"/>
                  </a:cubicBezTo>
                  <a:cubicBezTo>
                    <a:pt x="341" y="134"/>
                    <a:pt x="355" y="118"/>
                    <a:pt x="373" y="112"/>
                  </a:cubicBezTo>
                  <a:cubicBezTo>
                    <a:pt x="415" y="98"/>
                    <a:pt x="440" y="77"/>
                    <a:pt x="480" y="57"/>
                  </a:cubicBezTo>
                  <a:cubicBezTo>
                    <a:pt x="503" y="45"/>
                    <a:pt x="606" y="15"/>
                    <a:pt x="606" y="15"/>
                  </a:cubicBezTo>
                  <a:cubicBezTo>
                    <a:pt x="726" y="18"/>
                    <a:pt x="805" y="17"/>
                    <a:pt x="925" y="24"/>
                  </a:cubicBezTo>
                  <a:cubicBezTo>
                    <a:pt x="949" y="25"/>
                    <a:pt x="1011" y="47"/>
                    <a:pt x="1037" y="56"/>
                  </a:cubicBezTo>
                  <a:cubicBezTo>
                    <a:pt x="1045" y="59"/>
                    <a:pt x="1061" y="64"/>
                    <a:pt x="1061" y="64"/>
                  </a:cubicBezTo>
                  <a:cubicBezTo>
                    <a:pt x="1084" y="87"/>
                    <a:pt x="1190" y="142"/>
                    <a:pt x="1224" y="153"/>
                  </a:cubicBezTo>
                  <a:cubicBezTo>
                    <a:pt x="1248" y="161"/>
                    <a:pt x="1253" y="184"/>
                    <a:pt x="1277" y="192"/>
                  </a:cubicBezTo>
                  <a:cubicBezTo>
                    <a:pt x="1285" y="195"/>
                    <a:pt x="1404" y="249"/>
                    <a:pt x="1404" y="249"/>
                  </a:cubicBezTo>
                  <a:cubicBezTo>
                    <a:pt x="1564" y="289"/>
                    <a:pt x="1584" y="307"/>
                    <a:pt x="1716" y="279"/>
                  </a:cubicBezTo>
                  <a:cubicBezTo>
                    <a:pt x="1748" y="279"/>
                    <a:pt x="1854" y="225"/>
                    <a:pt x="1854" y="225"/>
                  </a:cubicBezTo>
                  <a:cubicBezTo>
                    <a:pt x="1876" y="193"/>
                    <a:pt x="1916" y="164"/>
                    <a:pt x="1950" y="141"/>
                  </a:cubicBezTo>
                  <a:cubicBezTo>
                    <a:pt x="2022" y="87"/>
                    <a:pt x="2026" y="73"/>
                    <a:pt x="2118" y="33"/>
                  </a:cubicBezTo>
                  <a:cubicBezTo>
                    <a:pt x="2166" y="1"/>
                    <a:pt x="2189" y="6"/>
                    <a:pt x="2202" y="3"/>
                  </a:cubicBezTo>
                  <a:cubicBezTo>
                    <a:pt x="2215" y="0"/>
                    <a:pt x="2237" y="8"/>
                    <a:pt x="2196" y="1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1143000" y="3062160"/>
          <a:ext cx="6858000" cy="45720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468360" y="0"/>
          <a:ext cx="5398920" cy="3645000"/>
        </p:xfrm>
        <a:graphic>
          <a:graphicData uri="http://schemas.openxmlformats.org/drawingml/2006/table">
            <a:tbl>
              <a:tblPr/>
              <a:tblGrid>
                <a:gridCol w="5398920"/>
              </a:tblGrid>
              <a:tr h="364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mayoría de las integrin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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en la matriz extracelular a los filamentos de actina en unas estructuras llamadas contactos foca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pa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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e la matriz extracelular a l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amentos intermedios, en estructur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minadas hemidesmoso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 más adelan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268360" y="5084640"/>
            <a:ext cx="676440" cy="15242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rcRect l="0" t="0" r="37565" b="0"/>
          <a:stretch/>
        </p:blipFill>
        <p:spPr>
          <a:xfrm>
            <a:off x="1295280" y="3429000"/>
            <a:ext cx="3657600" cy="1628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 flipV="1">
            <a:off x="2987640" y="4797000"/>
            <a:ext cx="1152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580000" y="2060640"/>
            <a:ext cx="319248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762120" y="527040"/>
            <a:ext cx="76197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90720" y="570960"/>
            <a:ext cx="7488000" cy="47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pel de las integrinas en señalizac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emás de su papel en las interacciones célula - matriz extracelular, las integrinas participan en transducción de señales hacia el in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mbién desde el interior hacia el extracelu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unión de integrinas a componentes de la matriz  lleva a la agrupación de la integrinas en “parches” en la membrana plasmática. Esto favorece la asociación entre proteínas citoplasmáticas con en dominio intracelular de las integrinas, que gatilla cambios intracelulares, por ejempl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en la activación de quinasas o fosfat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el pH in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la concentración intracelular de [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] que regulan procesos intracelul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ortancia en respuesta inmune, coagulación, diferenciación celular y 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50800" y="765000"/>
            <a:ext cx="3311640" cy="48247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962520" y="1368360"/>
            <a:ext cx="4281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señalización asociada a integr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 fundamental en control de la supervivencia o muerte celu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. Cuando una célula epitelial pierde contacto con su lámina basal, se inicia el proceso de apopt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569080" cy="46576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431640" y="476280"/>
            <a:ext cx="710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as integrin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 control de las interacciones célula-célula en la progresión tum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25520" y="235080"/>
            <a:ext cx="33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riz extracelular  (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840" y="1197000"/>
            <a:ext cx="806112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ribuye a las propiedades estructurales/mecánicas del tejid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istencia a la tra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mortiguación y lubr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ticipa en comunicación inter e in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termina la disponibilidad y concentración de moléculas solubles que actúan com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ñales para proliferación, diferenciación y otras funcion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lula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vee sustrato para movilización celular (organogénesi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omponentes de la ME varía entre tipos celula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Coláge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Lamin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Fibronect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Proteoglic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Cover Figure"/>
          <p:cNvPicPr/>
          <p:nvPr/>
        </p:nvPicPr>
        <p:blipFill>
          <a:blip r:embed="rId1"/>
          <a:srcRect l="0" t="52400" r="0" b="0"/>
          <a:stretch/>
        </p:blipFill>
        <p:spPr>
          <a:xfrm>
            <a:off x="5724360" y="1700280"/>
            <a:ext cx="173700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57200" y="228600"/>
            <a:ext cx="7848720" cy="24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olá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Glicoproteí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Existen 16 t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Los más abundantes 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tipo I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(piel , hueso, ligament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tipo II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   (cartíla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tipo III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  (músculo, vasos sanguíne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olimeriza formado fibras o redes insolu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Resistencia a la tr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06864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structura básica: triple hél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3716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300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88080" y="6049800"/>
            <a:ext cx="501840" cy="567000"/>
          </a:xfrm>
          <a:custGeom>
            <a:avLst/>
            <a:gdLst/>
            <a:ahLst/>
            <a:rect l="l" t="t" r="r" b="b"/>
            <a:pathLst>
              <a:path w="316" h="357">
                <a:moveTo>
                  <a:pt x="136" y="0"/>
                </a:moveTo>
                <a:cubicBezTo>
                  <a:pt x="109" y="7"/>
                  <a:pt x="84" y="23"/>
                  <a:pt x="60" y="36"/>
                </a:cubicBezTo>
                <a:cubicBezTo>
                  <a:pt x="52" y="41"/>
                  <a:pt x="44" y="47"/>
                  <a:pt x="36" y="52"/>
                </a:cubicBezTo>
                <a:cubicBezTo>
                  <a:pt x="32" y="55"/>
                  <a:pt x="24" y="60"/>
                  <a:pt x="24" y="60"/>
                </a:cubicBezTo>
                <a:cubicBezTo>
                  <a:pt x="14" y="75"/>
                  <a:pt x="8" y="87"/>
                  <a:pt x="4" y="104"/>
                </a:cubicBezTo>
                <a:cubicBezTo>
                  <a:pt x="6" y="157"/>
                  <a:pt x="0" y="228"/>
                  <a:pt x="32" y="276"/>
                </a:cubicBezTo>
                <a:cubicBezTo>
                  <a:pt x="40" y="307"/>
                  <a:pt x="81" y="330"/>
                  <a:pt x="112" y="336"/>
                </a:cubicBezTo>
                <a:cubicBezTo>
                  <a:pt x="130" y="348"/>
                  <a:pt x="151" y="352"/>
                  <a:pt x="172" y="356"/>
                </a:cubicBezTo>
                <a:cubicBezTo>
                  <a:pt x="199" y="355"/>
                  <a:pt x="226" y="357"/>
                  <a:pt x="252" y="352"/>
                </a:cubicBezTo>
                <a:cubicBezTo>
                  <a:pt x="261" y="350"/>
                  <a:pt x="269" y="330"/>
                  <a:pt x="272" y="324"/>
                </a:cubicBezTo>
                <a:cubicBezTo>
                  <a:pt x="288" y="296"/>
                  <a:pt x="298" y="267"/>
                  <a:pt x="308" y="236"/>
                </a:cubicBezTo>
                <a:cubicBezTo>
                  <a:pt x="306" y="200"/>
                  <a:pt x="316" y="160"/>
                  <a:pt x="300" y="128"/>
                </a:cubicBezTo>
                <a:cubicBezTo>
                  <a:pt x="287" y="103"/>
                  <a:pt x="242" y="81"/>
                  <a:pt x="216" y="72"/>
                </a:cubicBezTo>
                <a:cubicBezTo>
                  <a:pt x="206" y="57"/>
                  <a:pt x="191" y="42"/>
                  <a:pt x="176" y="32"/>
                </a:cubicBezTo>
                <a:cubicBezTo>
                  <a:pt x="166" y="18"/>
                  <a:pt x="155" y="0"/>
                  <a:pt x="136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564000" y="2905920"/>
            <a:ext cx="3887640" cy="451800"/>
            <a:chOff x="3564000" y="2905920"/>
            <a:chExt cx="3887640" cy="451800"/>
          </a:xfrm>
        </p:grpSpPr>
        <p:sp>
          <p:nvSpPr>
            <p:cNvPr id="328" name=""/>
            <p:cNvSpPr/>
            <p:nvPr/>
          </p:nvSpPr>
          <p:spPr>
            <a:xfrm>
              <a:off x="3564000" y="2997360"/>
              <a:ext cx="3887640" cy="360360"/>
            </a:xfrm>
            <a:prstGeom prst="flowChartMagneticDrum">
              <a:avLst/>
            </a:prstGeom>
            <a:gradFill rotWithShape="0">
              <a:gsLst>
                <a:gs pos="0">
                  <a:srgbClr val="98b6b9"/>
                </a:gs>
                <a:gs pos="50000">
                  <a:srgbClr val="bbe0e3"/>
                </a:gs>
                <a:gs pos="100000">
                  <a:srgbClr val="98b6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35280" y="3041640"/>
              <a:ext cx="2454480" cy="299880"/>
            </a:xfrm>
            <a:custGeom>
              <a:avLst/>
              <a:gdLst/>
              <a:ahLst/>
              <a:rect l="l" t="t" r="r" b="b"/>
              <a:pathLst>
                <a:path w="1546" h="301">
                  <a:moveTo>
                    <a:pt x="0" y="93"/>
                  </a:moveTo>
                  <a:cubicBezTo>
                    <a:pt x="61" y="78"/>
                    <a:pt x="116" y="49"/>
                    <a:pt x="176" y="29"/>
                  </a:cubicBezTo>
                  <a:cubicBezTo>
                    <a:pt x="207" y="19"/>
                    <a:pt x="241" y="21"/>
                    <a:pt x="272" y="13"/>
                  </a:cubicBezTo>
                  <a:cubicBezTo>
                    <a:pt x="287" y="14"/>
                    <a:pt x="509" y="0"/>
                    <a:pt x="576" y="45"/>
                  </a:cubicBezTo>
                  <a:cubicBezTo>
                    <a:pt x="629" y="80"/>
                    <a:pt x="688" y="110"/>
                    <a:pt x="744" y="141"/>
                  </a:cubicBezTo>
                  <a:cubicBezTo>
                    <a:pt x="808" y="177"/>
                    <a:pt x="875" y="220"/>
                    <a:pt x="936" y="261"/>
                  </a:cubicBezTo>
                  <a:cubicBezTo>
                    <a:pt x="974" y="286"/>
                    <a:pt x="1053" y="295"/>
                    <a:pt x="1096" y="301"/>
                  </a:cubicBezTo>
                  <a:cubicBezTo>
                    <a:pt x="1179" y="298"/>
                    <a:pt x="1262" y="300"/>
                    <a:pt x="1344" y="293"/>
                  </a:cubicBezTo>
                  <a:cubicBezTo>
                    <a:pt x="1388" y="289"/>
                    <a:pt x="1429" y="260"/>
                    <a:pt x="1464" y="237"/>
                  </a:cubicBezTo>
                  <a:cubicBezTo>
                    <a:pt x="1472" y="232"/>
                    <a:pt x="1488" y="221"/>
                    <a:pt x="1488" y="221"/>
                  </a:cubicBezTo>
                  <a:cubicBezTo>
                    <a:pt x="1493" y="213"/>
                    <a:pt x="1546" y="157"/>
                    <a:pt x="1546" y="15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8899200">
              <a:off x="6084360" y="3041640"/>
              <a:ext cx="552600" cy="123840"/>
            </a:xfrm>
            <a:custGeom>
              <a:avLst/>
              <a:gdLst/>
              <a:ahLst/>
              <a:rect l="l" t="t" r="r" b="b"/>
              <a:pathLst>
                <a:path w="348" h="139">
                  <a:moveTo>
                    <a:pt x="0" y="0"/>
                  </a:moveTo>
                  <a:cubicBezTo>
                    <a:pt x="9" y="27"/>
                    <a:pt x="5" y="21"/>
                    <a:pt x="28" y="32"/>
                  </a:cubicBezTo>
                  <a:cubicBezTo>
                    <a:pt x="48" y="42"/>
                    <a:pt x="64" y="66"/>
                    <a:pt x="84" y="76"/>
                  </a:cubicBezTo>
                  <a:cubicBezTo>
                    <a:pt x="117" y="92"/>
                    <a:pt x="165" y="111"/>
                    <a:pt x="200" y="120"/>
                  </a:cubicBezTo>
                  <a:cubicBezTo>
                    <a:pt x="232" y="128"/>
                    <a:pt x="260" y="126"/>
                    <a:pt x="292" y="136"/>
                  </a:cubicBezTo>
                  <a:cubicBezTo>
                    <a:pt x="295" y="137"/>
                    <a:pt x="348" y="139"/>
                    <a:pt x="348" y="12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80000" y="3030480"/>
              <a:ext cx="3647880" cy="295200"/>
            </a:xfrm>
            <a:custGeom>
              <a:avLst/>
              <a:gdLst/>
              <a:ahLst/>
              <a:rect l="l" t="t" r="r" b="b"/>
              <a:pathLst>
                <a:path w="2298" h="296">
                  <a:moveTo>
                    <a:pt x="0" y="128"/>
                  </a:moveTo>
                  <a:cubicBezTo>
                    <a:pt x="8" y="131"/>
                    <a:pt x="0" y="128"/>
                    <a:pt x="8" y="132"/>
                  </a:cubicBezTo>
                  <a:cubicBezTo>
                    <a:pt x="17" y="136"/>
                    <a:pt x="27" y="172"/>
                    <a:pt x="36" y="176"/>
                  </a:cubicBezTo>
                  <a:cubicBezTo>
                    <a:pt x="51" y="183"/>
                    <a:pt x="28" y="168"/>
                    <a:pt x="28" y="168"/>
                  </a:cubicBezTo>
                  <a:cubicBezTo>
                    <a:pt x="44" y="184"/>
                    <a:pt x="9" y="116"/>
                    <a:pt x="16" y="137"/>
                  </a:cubicBezTo>
                  <a:cubicBezTo>
                    <a:pt x="19" y="145"/>
                    <a:pt x="19" y="154"/>
                    <a:pt x="24" y="161"/>
                  </a:cubicBezTo>
                  <a:cubicBezTo>
                    <a:pt x="30" y="169"/>
                    <a:pt x="40" y="172"/>
                    <a:pt x="48" y="177"/>
                  </a:cubicBezTo>
                  <a:cubicBezTo>
                    <a:pt x="70" y="210"/>
                    <a:pt x="102" y="216"/>
                    <a:pt x="136" y="233"/>
                  </a:cubicBezTo>
                  <a:cubicBezTo>
                    <a:pt x="218" y="274"/>
                    <a:pt x="232" y="273"/>
                    <a:pt x="328" y="281"/>
                  </a:cubicBezTo>
                  <a:cubicBezTo>
                    <a:pt x="387" y="278"/>
                    <a:pt x="446" y="279"/>
                    <a:pt x="504" y="273"/>
                  </a:cubicBezTo>
                  <a:cubicBezTo>
                    <a:pt x="568" y="266"/>
                    <a:pt x="627" y="217"/>
                    <a:pt x="680" y="185"/>
                  </a:cubicBezTo>
                  <a:cubicBezTo>
                    <a:pt x="696" y="175"/>
                    <a:pt x="710" y="159"/>
                    <a:pt x="728" y="153"/>
                  </a:cubicBezTo>
                  <a:cubicBezTo>
                    <a:pt x="770" y="139"/>
                    <a:pt x="808" y="109"/>
                    <a:pt x="848" y="89"/>
                  </a:cubicBezTo>
                  <a:cubicBezTo>
                    <a:pt x="871" y="77"/>
                    <a:pt x="952" y="34"/>
                    <a:pt x="952" y="34"/>
                  </a:cubicBezTo>
                  <a:cubicBezTo>
                    <a:pt x="993" y="19"/>
                    <a:pt x="1041" y="15"/>
                    <a:pt x="1090" y="10"/>
                  </a:cubicBezTo>
                  <a:cubicBezTo>
                    <a:pt x="1140" y="5"/>
                    <a:pt x="1211" y="0"/>
                    <a:pt x="1252" y="4"/>
                  </a:cubicBezTo>
                  <a:cubicBezTo>
                    <a:pt x="1294" y="22"/>
                    <a:pt x="1280" y="10"/>
                    <a:pt x="1336" y="34"/>
                  </a:cubicBezTo>
                  <a:cubicBezTo>
                    <a:pt x="1342" y="52"/>
                    <a:pt x="1468" y="94"/>
                    <a:pt x="1468" y="94"/>
                  </a:cubicBezTo>
                  <a:cubicBezTo>
                    <a:pt x="1522" y="118"/>
                    <a:pt x="1578" y="167"/>
                    <a:pt x="1612" y="178"/>
                  </a:cubicBezTo>
                  <a:cubicBezTo>
                    <a:pt x="1636" y="186"/>
                    <a:pt x="1702" y="218"/>
                    <a:pt x="1726" y="226"/>
                  </a:cubicBezTo>
                  <a:cubicBezTo>
                    <a:pt x="1734" y="229"/>
                    <a:pt x="1834" y="256"/>
                    <a:pt x="1822" y="262"/>
                  </a:cubicBezTo>
                  <a:cubicBezTo>
                    <a:pt x="1930" y="268"/>
                    <a:pt x="1924" y="296"/>
                    <a:pt x="2056" y="268"/>
                  </a:cubicBezTo>
                  <a:cubicBezTo>
                    <a:pt x="2073" y="267"/>
                    <a:pt x="2135" y="227"/>
                    <a:pt x="2135" y="227"/>
                  </a:cubicBezTo>
                  <a:cubicBezTo>
                    <a:pt x="2157" y="195"/>
                    <a:pt x="2181" y="174"/>
                    <a:pt x="2215" y="151"/>
                  </a:cubicBezTo>
                  <a:cubicBezTo>
                    <a:pt x="2276" y="110"/>
                    <a:pt x="2178" y="136"/>
                    <a:pt x="2270" y="96"/>
                  </a:cubicBezTo>
                  <a:cubicBezTo>
                    <a:pt x="2287" y="77"/>
                    <a:pt x="2279" y="83"/>
                    <a:pt x="2294" y="80"/>
                  </a:cubicBezTo>
                  <a:cubicBezTo>
                    <a:pt x="2298" y="77"/>
                    <a:pt x="2281" y="80"/>
                    <a:pt x="2294" y="8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24120" y="3025800"/>
              <a:ext cx="3551400" cy="306360"/>
            </a:xfrm>
            <a:custGeom>
              <a:avLst/>
              <a:gdLst/>
              <a:ahLst/>
              <a:rect l="l" t="t" r="r" b="b"/>
              <a:pathLst>
                <a:path w="2237" h="307">
                  <a:moveTo>
                    <a:pt x="16" y="205"/>
                  </a:moveTo>
                  <a:cubicBezTo>
                    <a:pt x="24" y="208"/>
                    <a:pt x="0" y="193"/>
                    <a:pt x="8" y="197"/>
                  </a:cubicBezTo>
                  <a:cubicBezTo>
                    <a:pt x="17" y="201"/>
                    <a:pt x="23" y="209"/>
                    <a:pt x="32" y="213"/>
                  </a:cubicBezTo>
                  <a:cubicBezTo>
                    <a:pt x="47" y="220"/>
                    <a:pt x="16" y="213"/>
                    <a:pt x="16" y="213"/>
                  </a:cubicBezTo>
                  <a:cubicBezTo>
                    <a:pt x="32" y="229"/>
                    <a:pt x="1" y="176"/>
                    <a:pt x="8" y="197"/>
                  </a:cubicBezTo>
                  <a:cubicBezTo>
                    <a:pt x="11" y="205"/>
                    <a:pt x="27" y="214"/>
                    <a:pt x="32" y="221"/>
                  </a:cubicBezTo>
                  <a:cubicBezTo>
                    <a:pt x="38" y="229"/>
                    <a:pt x="8" y="208"/>
                    <a:pt x="16" y="213"/>
                  </a:cubicBezTo>
                  <a:cubicBezTo>
                    <a:pt x="38" y="246"/>
                    <a:pt x="32" y="221"/>
                    <a:pt x="48" y="221"/>
                  </a:cubicBezTo>
                  <a:cubicBezTo>
                    <a:pt x="130" y="262"/>
                    <a:pt x="80" y="229"/>
                    <a:pt x="24" y="237"/>
                  </a:cubicBezTo>
                  <a:cubicBezTo>
                    <a:pt x="83" y="234"/>
                    <a:pt x="91" y="238"/>
                    <a:pt x="149" y="232"/>
                  </a:cubicBezTo>
                  <a:cubicBezTo>
                    <a:pt x="213" y="225"/>
                    <a:pt x="272" y="176"/>
                    <a:pt x="325" y="144"/>
                  </a:cubicBezTo>
                  <a:cubicBezTo>
                    <a:pt x="341" y="134"/>
                    <a:pt x="355" y="118"/>
                    <a:pt x="373" y="112"/>
                  </a:cubicBezTo>
                  <a:cubicBezTo>
                    <a:pt x="415" y="98"/>
                    <a:pt x="440" y="77"/>
                    <a:pt x="480" y="57"/>
                  </a:cubicBezTo>
                  <a:cubicBezTo>
                    <a:pt x="503" y="45"/>
                    <a:pt x="606" y="15"/>
                    <a:pt x="606" y="15"/>
                  </a:cubicBezTo>
                  <a:cubicBezTo>
                    <a:pt x="726" y="18"/>
                    <a:pt x="805" y="17"/>
                    <a:pt x="925" y="24"/>
                  </a:cubicBezTo>
                  <a:cubicBezTo>
                    <a:pt x="949" y="25"/>
                    <a:pt x="1011" y="47"/>
                    <a:pt x="1037" y="56"/>
                  </a:cubicBezTo>
                  <a:cubicBezTo>
                    <a:pt x="1045" y="59"/>
                    <a:pt x="1061" y="64"/>
                    <a:pt x="1061" y="64"/>
                  </a:cubicBezTo>
                  <a:cubicBezTo>
                    <a:pt x="1084" y="87"/>
                    <a:pt x="1190" y="142"/>
                    <a:pt x="1224" y="153"/>
                  </a:cubicBezTo>
                  <a:cubicBezTo>
                    <a:pt x="1248" y="161"/>
                    <a:pt x="1253" y="184"/>
                    <a:pt x="1277" y="192"/>
                  </a:cubicBezTo>
                  <a:cubicBezTo>
                    <a:pt x="1285" y="195"/>
                    <a:pt x="1404" y="249"/>
                    <a:pt x="1404" y="249"/>
                  </a:cubicBezTo>
                  <a:cubicBezTo>
                    <a:pt x="1564" y="289"/>
                    <a:pt x="1584" y="307"/>
                    <a:pt x="1716" y="279"/>
                  </a:cubicBezTo>
                  <a:cubicBezTo>
                    <a:pt x="1748" y="279"/>
                    <a:pt x="1854" y="225"/>
                    <a:pt x="1854" y="225"/>
                  </a:cubicBezTo>
                  <a:cubicBezTo>
                    <a:pt x="1876" y="193"/>
                    <a:pt x="1916" y="164"/>
                    <a:pt x="1950" y="141"/>
                  </a:cubicBezTo>
                  <a:cubicBezTo>
                    <a:pt x="2022" y="87"/>
                    <a:pt x="2026" y="73"/>
                    <a:pt x="2118" y="33"/>
                  </a:cubicBezTo>
                  <a:cubicBezTo>
                    <a:pt x="2166" y="1"/>
                    <a:pt x="2189" y="6"/>
                    <a:pt x="2202" y="3"/>
                  </a:cubicBezTo>
                  <a:cubicBezTo>
                    <a:pt x="2215" y="0"/>
                    <a:pt x="2237" y="8"/>
                    <a:pt x="2196" y="15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 rot="5400000">
            <a:off x="5508000" y="2923920"/>
            <a:ext cx="432000" cy="2737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79280" y="4149720"/>
            <a:ext cx="8964720" cy="1511280"/>
            <a:chOff x="179280" y="4149720"/>
            <a:chExt cx="8964720" cy="1511280"/>
          </a:xfrm>
        </p:grpSpPr>
        <p:sp>
          <p:nvSpPr>
            <p:cNvPr id="335" name=""/>
            <p:cNvSpPr/>
            <p:nvPr/>
          </p:nvSpPr>
          <p:spPr>
            <a:xfrm>
              <a:off x="468360" y="4149720"/>
              <a:ext cx="338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Fibrillas (50- 200 nm de diámetr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4000" y="4653000"/>
              <a:ext cx="8640720" cy="100800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>
                    <a:alpha val="36078"/>
                  </a:srgbClr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62240" y="4797360"/>
              <a:ext cx="296352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73720" y="4797360"/>
              <a:ext cx="296388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8240" y="5157720"/>
              <a:ext cx="2963880" cy="7164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07000" y="5157720"/>
              <a:ext cx="2963520" cy="7164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4000" y="5516640"/>
              <a:ext cx="263016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53200" y="5516640"/>
              <a:ext cx="266688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38480" y="5516640"/>
              <a:ext cx="296532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76720" y="4870440"/>
              <a:ext cx="745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954240" y="4870440"/>
              <a:ext cx="745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84520" y="5227560"/>
              <a:ext cx="763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362040" y="5227560"/>
              <a:ext cx="7596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400440" y="5227560"/>
              <a:ext cx="745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22920" y="5227560"/>
              <a:ext cx="7488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19920" y="5157720"/>
              <a:ext cx="2224080" cy="6984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91440" y="4870440"/>
              <a:ext cx="745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068960" y="4870440"/>
              <a:ext cx="7488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9280" y="4653000"/>
              <a:ext cx="324000" cy="100800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64720" y="4653000"/>
              <a:ext cx="179280" cy="1008000"/>
            </a:xfrm>
            <a:prstGeom prst="flowChartDelay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04000" y="3284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58560" y="3716280"/>
            <a:ext cx="21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adena polipeptíd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547640" y="3789360"/>
            <a:ext cx="6337440" cy="1224000"/>
          </a:xfrm>
          <a:prstGeom prst="parallelogram">
            <a:avLst>
              <a:gd name="adj" fmla="val 129441"/>
            </a:avLst>
          </a:prstGeom>
          <a:solidFill>
            <a:srgbClr val="c6c9bb"/>
          </a:solidFill>
          <a:ln w="57240">
            <a:solidFill>
              <a:srgbClr val="c6c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6094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olágeno de tipo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340000" y="1483920"/>
            <a:ext cx="647640" cy="28908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7640" y="1484280"/>
            <a:ext cx="1008000" cy="28908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995640" y="1341360"/>
            <a:ext cx="936720" cy="4320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32360" y="1197000"/>
            <a:ext cx="216000" cy="2174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68360" y="170028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00360" y="4797360"/>
            <a:ext cx="7192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00360" y="4797360"/>
            <a:ext cx="0" cy="36036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419640" y="4581360"/>
            <a:ext cx="43164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00360" y="4653000"/>
            <a:ext cx="7192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410920" y="4437000"/>
            <a:ext cx="28908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19640" y="4653000"/>
            <a:ext cx="0" cy="4316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51280" y="4437000"/>
            <a:ext cx="14436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68360" y="4365720"/>
            <a:ext cx="14472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67280" y="4437000"/>
            <a:ext cx="14436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3280" y="4005360"/>
            <a:ext cx="14472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211640" y="4221000"/>
            <a:ext cx="36036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4221000"/>
            <a:ext cx="7920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364000" y="3860280"/>
            <a:ext cx="0" cy="36036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716360" y="4437000"/>
            <a:ext cx="57636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292720" y="4437000"/>
            <a:ext cx="28728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508720" y="4653000"/>
            <a:ext cx="71280" cy="36036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16360" y="4076640"/>
            <a:ext cx="86364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580000" y="3860640"/>
            <a:ext cx="28728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67280" y="3860640"/>
            <a:ext cx="5050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435640" y="4941720"/>
            <a:ext cx="14436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067280" y="4076640"/>
            <a:ext cx="433440" cy="2890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3564000" y="4076280"/>
            <a:ext cx="503280" cy="2890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564000" y="3789000"/>
            <a:ext cx="0" cy="2890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27640" y="4005360"/>
            <a:ext cx="14436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16360" y="4437000"/>
            <a:ext cx="73080" cy="7164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00720" y="3860640"/>
            <a:ext cx="73080" cy="7164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19640" y="5084640"/>
            <a:ext cx="72720" cy="7164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00360" y="5084640"/>
            <a:ext cx="73080" cy="7164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64000" y="3789360"/>
            <a:ext cx="73080" cy="7128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64000" y="3716280"/>
            <a:ext cx="73080" cy="7164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04000" y="45813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ámina u hoja de colág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067280" y="4724280"/>
            <a:ext cx="73080" cy="1152720"/>
          </a:xfrm>
          <a:prstGeom prst="downArrow">
            <a:avLst>
              <a:gd name="adj1" fmla="val 50000"/>
              <a:gd name="adj2" fmla="val 39433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32000" y="602136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sociación C-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3270000">
            <a:off x="3287880" y="3602520"/>
            <a:ext cx="1152720" cy="71640"/>
          </a:xfrm>
          <a:prstGeom prst="leftArrow">
            <a:avLst>
              <a:gd name="adj1" fmla="val 50000"/>
              <a:gd name="adj2" fmla="val 40226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11280" y="285264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sociación lat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1280" y="2060640"/>
            <a:ext cx="5832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Estructura tipo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onstituye la estructura básica de la lámina ba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92720" y="1341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08000" y="141300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72600" y="3808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min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38720" y="3235320"/>
            <a:ext cx="228600" cy="2895480"/>
          </a:xfrm>
          <a:prstGeom prst="rect">
            <a:avLst/>
          </a:prstGeom>
          <a:solidFill>
            <a:srgbClr val="7dc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43280" y="4149720"/>
            <a:ext cx="152640" cy="1295280"/>
          </a:xfrm>
          <a:prstGeom prst="rect">
            <a:avLst/>
          </a:prstGeom>
          <a:solidFill>
            <a:srgbClr val="59ba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16200000">
            <a:off x="4986360" y="3654000"/>
            <a:ext cx="152280" cy="838440"/>
          </a:xfrm>
          <a:prstGeom prst="rect">
            <a:avLst/>
          </a:prstGeom>
          <a:solidFill>
            <a:srgbClr val="59ba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0120" y="4149720"/>
            <a:ext cx="152280" cy="1295280"/>
          </a:xfrm>
          <a:prstGeom prst="rect">
            <a:avLst/>
          </a:prstGeom>
          <a:solidFill>
            <a:srgbClr val="26e3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16200000">
            <a:off x="3767040" y="3654000"/>
            <a:ext cx="152280" cy="838080"/>
          </a:xfrm>
          <a:prstGeom prst="rect">
            <a:avLst/>
          </a:prstGeom>
          <a:solidFill>
            <a:srgbClr val="26e3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2400" y="42260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62400" y="53690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3840" y="907920"/>
            <a:ext cx="9160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 soluble de 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terotrímero: Cadena A, cadena B y cadena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isten isoformas de las cadenas, las que combinadas generan divers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componente de la lámina ba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ultiadhesiv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Tiene afinidad por receptores de superficie celular y componentes de la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38720" y="2930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57680" y="39211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14480" y="39211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71520" y="8254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67320" y="59022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601400">
            <a:off x="5271840" y="436860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2542200">
            <a:off x="4643280" y="4606920"/>
            <a:ext cx="1219320" cy="76320"/>
          </a:xfrm>
          <a:prstGeom prst="rightArrow">
            <a:avLst>
              <a:gd name="adj1" fmla="val 50000"/>
              <a:gd name="adj2" fmla="val 39941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8424600">
            <a:off x="2356560" y="4530600"/>
            <a:ext cx="1219320" cy="76320"/>
          </a:xfrm>
          <a:prstGeom prst="rightArrow">
            <a:avLst>
              <a:gd name="adj1" fmla="val 50000"/>
              <a:gd name="adj2" fmla="val 39941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5445000">
            <a:off x="3541680" y="4492440"/>
            <a:ext cx="609480" cy="76320"/>
          </a:xfrm>
          <a:prstGeom prst="rightArrow">
            <a:avLst>
              <a:gd name="adj1" fmla="val 50000"/>
              <a:gd name="adj2" fmla="val 199646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57680" y="5749920"/>
            <a:ext cx="167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 a heparán sulf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03960" y="55008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84840" y="55008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20160" y="5084640"/>
            <a:ext cx="16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ípidos sulfa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85880" y="4352760"/>
            <a:ext cx="24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 a colágeno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ípidos sulfa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1680" y="5056200"/>
            <a:ext cx="838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03480" y="506880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 a integri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87760" y="4941720"/>
            <a:ext cx="140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 colágeno  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81560" y="457200"/>
            <a:ext cx="28249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ción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organismos multicelula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7160" y="2565360"/>
            <a:ext cx="2925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1640" indent="-11430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164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164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35053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6160" y="1341360"/>
            <a:ext cx="4712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act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ción de los tejidos (interacción físi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39640" y="2421000"/>
            <a:ext cx="7759440" cy="2160000"/>
            <a:chOff x="539640" y="2421000"/>
            <a:chExt cx="7759440" cy="21600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39640" y="2421000"/>
              <a:ext cx="7759440" cy="20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26920" y="3860640"/>
              <a:ext cx="792360" cy="720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331640" y="3931920"/>
              <a:ext cx="503280" cy="576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611280" y="4869000"/>
            <a:ext cx="705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ción funcional entre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ionamiento integrado     (Comunicación intercelu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483480" y="47628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MINA BA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80" y="2209680"/>
            <a:ext cx="1676520" cy="381240"/>
          </a:xfrm>
          <a:prstGeom prst="parallelogram">
            <a:avLst>
              <a:gd name="adj" fmla="val 109939"/>
            </a:avLst>
          </a:prstGeom>
          <a:solidFill>
            <a:srgbClr val="8f6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90720" y="1676520"/>
            <a:ext cx="609480" cy="83808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838080"/>
              <a:gd name="textAreaBottom" fmla="*/ 808560 h 838080"/>
            </a:gdLst>
            <a:ahLst/>
            <a:rect l="textAreaLeft" t="textAreaTop" r="textAreaRight" b="textAreaBottom"/>
            <a:pathLst>
              <a:path w="21600" h="29697">
                <a:moveTo>
                  <a:pt x="3600" y="0"/>
                </a:moveTo>
                <a:arcTo wR="3600" hR="3600" stAng="16200000" swAng="-5400000"/>
                <a:lnTo>
                  <a:pt x="0" y="26097"/>
                </a:lnTo>
                <a:arcTo wR="3600" hR="3600" stAng="10800000" swAng="-5400000"/>
                <a:lnTo>
                  <a:pt x="18000" y="29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ecf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00200" y="1676520"/>
            <a:ext cx="609480" cy="83808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838080"/>
              <a:gd name="textAreaBottom" fmla="*/ 808560 h 838080"/>
            </a:gdLst>
            <a:ahLst/>
            <a:rect l="textAreaLeft" t="textAreaTop" r="textAreaRight" b="textAreaBottom"/>
            <a:pathLst>
              <a:path w="21600" h="29697">
                <a:moveTo>
                  <a:pt x="3600" y="0"/>
                </a:moveTo>
                <a:arcTo wR="3600" hR="3600" stAng="16200000" swAng="-5400000"/>
                <a:lnTo>
                  <a:pt x="0" y="26097"/>
                </a:lnTo>
                <a:arcTo wR="3600" hR="3600" stAng="10800000" swAng="-5400000"/>
                <a:lnTo>
                  <a:pt x="18000" y="29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ecf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133720" y="1523880"/>
            <a:ext cx="3624480" cy="1427040"/>
            <a:chOff x="2133720" y="1523880"/>
            <a:chExt cx="3624480" cy="1427040"/>
          </a:xfrm>
        </p:grpSpPr>
        <p:sp>
          <p:nvSpPr>
            <p:cNvPr id="436" name=""/>
            <p:cNvSpPr/>
            <p:nvPr/>
          </p:nvSpPr>
          <p:spPr>
            <a:xfrm>
              <a:off x="2286000" y="1752480"/>
              <a:ext cx="3352680" cy="1066680"/>
            </a:xfrm>
            <a:prstGeom prst="parallelogram">
              <a:avLst>
                <a:gd name="adj" fmla="val 122784"/>
              </a:avLst>
            </a:prstGeom>
            <a:solidFill>
              <a:srgbClr val="bb83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30360" y="2670120"/>
              <a:ext cx="2032200" cy="84240"/>
            </a:xfrm>
            <a:custGeom>
              <a:avLst/>
              <a:gdLst/>
              <a:ahLst/>
              <a:rect l="l" t="t" r="r" b="b"/>
              <a:pathLst>
                <a:path w="1280" h="53">
                  <a:moveTo>
                    <a:pt x="0" y="30"/>
                  </a:moveTo>
                  <a:cubicBezTo>
                    <a:pt x="25" y="12"/>
                    <a:pt x="32" y="8"/>
                    <a:pt x="64" y="14"/>
                  </a:cubicBezTo>
                  <a:cubicBezTo>
                    <a:pt x="101" y="10"/>
                    <a:pt x="128" y="7"/>
                    <a:pt x="165" y="19"/>
                  </a:cubicBezTo>
                  <a:cubicBezTo>
                    <a:pt x="212" y="15"/>
                    <a:pt x="228" y="17"/>
                    <a:pt x="266" y="3"/>
                  </a:cubicBezTo>
                  <a:cubicBezTo>
                    <a:pt x="278" y="5"/>
                    <a:pt x="291" y="6"/>
                    <a:pt x="304" y="9"/>
                  </a:cubicBezTo>
                  <a:cubicBezTo>
                    <a:pt x="314" y="11"/>
                    <a:pt x="336" y="19"/>
                    <a:pt x="336" y="19"/>
                  </a:cubicBezTo>
                  <a:cubicBezTo>
                    <a:pt x="364" y="17"/>
                    <a:pt x="392" y="18"/>
                    <a:pt x="421" y="14"/>
                  </a:cubicBezTo>
                  <a:cubicBezTo>
                    <a:pt x="427" y="12"/>
                    <a:pt x="430" y="3"/>
                    <a:pt x="437" y="3"/>
                  </a:cubicBezTo>
                  <a:cubicBezTo>
                    <a:pt x="451" y="0"/>
                    <a:pt x="491" y="19"/>
                    <a:pt x="506" y="25"/>
                  </a:cubicBezTo>
                  <a:cubicBezTo>
                    <a:pt x="537" y="20"/>
                    <a:pt x="566" y="14"/>
                    <a:pt x="597" y="9"/>
                  </a:cubicBezTo>
                  <a:cubicBezTo>
                    <a:pt x="624" y="13"/>
                    <a:pt x="638" y="14"/>
                    <a:pt x="661" y="30"/>
                  </a:cubicBezTo>
                  <a:cubicBezTo>
                    <a:pt x="682" y="26"/>
                    <a:pt x="699" y="20"/>
                    <a:pt x="720" y="14"/>
                  </a:cubicBezTo>
                  <a:cubicBezTo>
                    <a:pt x="768" y="15"/>
                    <a:pt x="816" y="16"/>
                    <a:pt x="864" y="19"/>
                  </a:cubicBezTo>
                  <a:cubicBezTo>
                    <a:pt x="874" y="19"/>
                    <a:pt x="885" y="26"/>
                    <a:pt x="896" y="25"/>
                  </a:cubicBezTo>
                  <a:cubicBezTo>
                    <a:pt x="910" y="23"/>
                    <a:pt x="944" y="6"/>
                    <a:pt x="960" y="3"/>
                  </a:cubicBezTo>
                  <a:cubicBezTo>
                    <a:pt x="1006" y="20"/>
                    <a:pt x="984" y="19"/>
                    <a:pt x="1056" y="14"/>
                  </a:cubicBezTo>
                  <a:cubicBezTo>
                    <a:pt x="1072" y="10"/>
                    <a:pt x="1087" y="1"/>
                    <a:pt x="1104" y="3"/>
                  </a:cubicBezTo>
                  <a:cubicBezTo>
                    <a:pt x="1116" y="4"/>
                    <a:pt x="1141" y="14"/>
                    <a:pt x="1141" y="14"/>
                  </a:cubicBezTo>
                  <a:cubicBezTo>
                    <a:pt x="1168" y="53"/>
                    <a:pt x="1201" y="33"/>
                    <a:pt x="1253" y="30"/>
                  </a:cubicBezTo>
                  <a:cubicBezTo>
                    <a:pt x="1272" y="16"/>
                    <a:pt x="1262" y="19"/>
                    <a:pt x="1280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3809880" y="1688760"/>
              <a:ext cx="1948320" cy="1259280"/>
              <a:chOff x="3809880" y="1688760"/>
              <a:chExt cx="1948320" cy="1259280"/>
            </a:xfrm>
          </p:grpSpPr>
          <p:sp>
            <p:nvSpPr>
              <p:cNvPr id="439" name=""/>
              <p:cNvSpPr/>
              <p:nvPr/>
            </p:nvSpPr>
            <p:spPr>
              <a:xfrm>
                <a:off x="3809880" y="21333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8707800">
                <a:off x="3825360" y="227304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9448400">
                <a:off x="3893760" y="227592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666880" y="2425680"/>
              <a:ext cx="2108160" cy="83880"/>
              <a:chOff x="2666880" y="2425680"/>
              <a:chExt cx="2108160" cy="83880"/>
            </a:xfrm>
          </p:grpSpPr>
          <p:sp>
            <p:nvSpPr>
              <p:cNvPr id="443" name=""/>
              <p:cNvSpPr/>
              <p:nvPr/>
            </p:nvSpPr>
            <p:spPr>
              <a:xfrm>
                <a:off x="2666880" y="243828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743200" y="242568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2971800" y="2209680"/>
              <a:ext cx="2108160" cy="83880"/>
              <a:chOff x="2971800" y="2209680"/>
              <a:chExt cx="2108160" cy="83880"/>
            </a:xfrm>
          </p:grpSpPr>
          <p:sp>
            <p:nvSpPr>
              <p:cNvPr id="446" name=""/>
              <p:cNvSpPr/>
              <p:nvPr/>
            </p:nvSpPr>
            <p:spPr>
              <a:xfrm>
                <a:off x="2971800" y="222228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48120" y="220968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3124080" y="2057400"/>
              <a:ext cx="2108160" cy="83880"/>
              <a:chOff x="3124080" y="2057400"/>
              <a:chExt cx="2108160" cy="83880"/>
            </a:xfrm>
          </p:grpSpPr>
          <p:sp>
            <p:nvSpPr>
              <p:cNvPr id="449" name=""/>
              <p:cNvSpPr/>
              <p:nvPr/>
            </p:nvSpPr>
            <p:spPr>
              <a:xfrm>
                <a:off x="3124080" y="207000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00400" y="205740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3352680" y="1904760"/>
              <a:ext cx="2108160" cy="83880"/>
              <a:chOff x="3352680" y="1904760"/>
              <a:chExt cx="2108160" cy="83880"/>
            </a:xfrm>
          </p:grpSpPr>
          <p:sp>
            <p:nvSpPr>
              <p:cNvPr id="452" name=""/>
              <p:cNvSpPr/>
              <p:nvPr/>
            </p:nvSpPr>
            <p:spPr>
              <a:xfrm>
                <a:off x="3352680" y="191736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29000" y="190476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3505320" y="1752480"/>
              <a:ext cx="2108160" cy="83880"/>
              <a:chOff x="3505320" y="1752480"/>
              <a:chExt cx="2108160" cy="83880"/>
            </a:xfrm>
          </p:grpSpPr>
          <p:sp>
            <p:nvSpPr>
              <p:cNvPr id="455" name=""/>
              <p:cNvSpPr/>
              <p:nvPr/>
            </p:nvSpPr>
            <p:spPr>
              <a:xfrm>
                <a:off x="3505320" y="176508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581640" y="175248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2362320" y="2666880"/>
              <a:ext cx="2108160" cy="83880"/>
              <a:chOff x="2362320" y="2666880"/>
              <a:chExt cx="2108160" cy="83880"/>
            </a:xfrm>
          </p:grpSpPr>
          <p:sp>
            <p:nvSpPr>
              <p:cNvPr id="458" name=""/>
              <p:cNvSpPr/>
              <p:nvPr/>
            </p:nvSpPr>
            <p:spPr>
              <a:xfrm>
                <a:off x="2362320" y="267948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438640" y="266688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429000" y="1688760"/>
              <a:ext cx="1948320" cy="1259280"/>
              <a:chOff x="3429000" y="1688760"/>
              <a:chExt cx="1948320" cy="1259280"/>
            </a:xfrm>
          </p:grpSpPr>
          <p:sp>
            <p:nvSpPr>
              <p:cNvPr id="461" name=""/>
              <p:cNvSpPr/>
              <p:nvPr/>
            </p:nvSpPr>
            <p:spPr>
              <a:xfrm>
                <a:off x="3429000" y="21333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8707800">
                <a:off x="3444480" y="227304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9448400">
                <a:off x="3512880" y="227592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3124080" y="1612800"/>
              <a:ext cx="1948320" cy="1259280"/>
              <a:chOff x="3124080" y="1612800"/>
              <a:chExt cx="1948320" cy="1259280"/>
            </a:xfrm>
          </p:grpSpPr>
          <p:sp>
            <p:nvSpPr>
              <p:cNvPr id="465" name=""/>
              <p:cNvSpPr/>
              <p:nvPr/>
            </p:nvSpPr>
            <p:spPr>
              <a:xfrm>
                <a:off x="3124080" y="205740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8707800">
                <a:off x="3139560" y="219708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19448400">
                <a:off x="3207960" y="219996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362320" y="1688760"/>
              <a:ext cx="1948320" cy="1259280"/>
              <a:chOff x="2362320" y="1688760"/>
              <a:chExt cx="1948320" cy="1259280"/>
            </a:xfrm>
          </p:grpSpPr>
          <p:sp>
            <p:nvSpPr>
              <p:cNvPr id="469" name=""/>
              <p:cNvSpPr/>
              <p:nvPr/>
            </p:nvSpPr>
            <p:spPr>
              <a:xfrm>
                <a:off x="2362320" y="21333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8707800">
                <a:off x="2377800" y="227304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19448400">
                <a:off x="2446200" y="227592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2666880" y="1688760"/>
              <a:ext cx="1948320" cy="1259280"/>
              <a:chOff x="2666880" y="1688760"/>
              <a:chExt cx="1948320" cy="1259280"/>
            </a:xfrm>
          </p:grpSpPr>
          <p:sp>
            <p:nvSpPr>
              <p:cNvPr id="473" name=""/>
              <p:cNvSpPr/>
              <p:nvPr/>
            </p:nvSpPr>
            <p:spPr>
              <a:xfrm>
                <a:off x="2666880" y="21333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8707800">
                <a:off x="2682360" y="227304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19448400">
                <a:off x="2750760" y="227592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2133720" y="1612800"/>
              <a:ext cx="1948320" cy="1259280"/>
              <a:chOff x="2133720" y="1612800"/>
              <a:chExt cx="1948320" cy="1259280"/>
            </a:xfrm>
          </p:grpSpPr>
          <p:sp>
            <p:nvSpPr>
              <p:cNvPr id="477" name=""/>
              <p:cNvSpPr/>
              <p:nvPr/>
            </p:nvSpPr>
            <p:spPr>
              <a:xfrm>
                <a:off x="2133720" y="205740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8707800">
                <a:off x="2149200" y="219708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9448400">
                <a:off x="2217600" y="219996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2666880" y="2361960"/>
              <a:ext cx="122256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05320" y="1523880"/>
              <a:ext cx="122220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81280" y="2361960"/>
              <a:ext cx="122256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76720" y="2057400"/>
              <a:ext cx="122220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91120" y="1828800"/>
              <a:ext cx="122220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90960" y="2328840"/>
              <a:ext cx="24912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09880" y="2057400"/>
              <a:ext cx="24948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00400" y="1828800"/>
              <a:ext cx="24912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14800" y="2286000"/>
              <a:ext cx="24912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48320" y="1752480"/>
              <a:ext cx="249120" cy="44784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38480" y="1676160"/>
              <a:ext cx="249480" cy="44784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52880" y="1600200"/>
              <a:ext cx="24948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2590560"/>
              <a:ext cx="160560" cy="15264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67080" y="1981080"/>
              <a:ext cx="16056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05320" y="2057400"/>
              <a:ext cx="16020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19720" y="2514600"/>
              <a:ext cx="16020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38480" y="2286000"/>
              <a:ext cx="16056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76920" y="1981080"/>
              <a:ext cx="16020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90920" y="2590560"/>
              <a:ext cx="160200" cy="15264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7800" y="1828800"/>
              <a:ext cx="16020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743200" y="304920"/>
            <a:ext cx="5248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tructura básica: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ma de colágeno IV y lamin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tros Componentes: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lecan (proteoglica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tactina (proteína multiadhesiva de 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00640" y="3247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rcRect l="15024" t="9876" r="31564" b="20032"/>
          <a:stretch/>
        </p:blipFill>
        <p:spPr>
          <a:xfrm>
            <a:off x="5791320" y="144792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5943600" y="2743200"/>
            <a:ext cx="198108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24960" y="3251160"/>
            <a:ext cx="577368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pel de la lámina basal en distintos tej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pitelios        filtro de las moléculas que pasan hacia la sang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doteliales   filtro de las moléculas que pasan desde la sangre a los tej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úsculo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ecta células adyacentes, manteniendo  la integridad del tej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33520" y="4343400"/>
            <a:ext cx="7759440" cy="2160720"/>
            <a:chOff x="533520" y="4343400"/>
            <a:chExt cx="7759440" cy="2160720"/>
          </a:xfrm>
        </p:grpSpPr>
        <p:pic>
          <p:nvPicPr>
            <p:cNvPr id="506" name="" descr=""/>
            <p:cNvPicPr/>
            <p:nvPr/>
          </p:nvPicPr>
          <p:blipFill>
            <a:blip r:embed="rId3"/>
            <a:stretch/>
          </p:blipFill>
          <p:spPr>
            <a:xfrm>
              <a:off x="533520" y="4343400"/>
              <a:ext cx="7759440" cy="20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2620800" y="5783400"/>
              <a:ext cx="792360" cy="720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325520" y="5854320"/>
              <a:ext cx="503280" cy="57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863720" y="25700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248000" cy="34099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4648320" y="3048120"/>
            <a:ext cx="42955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473760" y="588960"/>
            <a:ext cx="7264440" cy="17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ronect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coproteín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ultiadhesiv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lub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e células a matrices extracelulares que contengan colágeno (I, II, III y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mé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rededor de 20 monómeros (procesamiento alternativo de mR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838080" y="3048120"/>
            <a:ext cx="6324840" cy="152280"/>
            <a:chOff x="838080" y="3048120"/>
            <a:chExt cx="6324840" cy="152280"/>
          </a:xfrm>
        </p:grpSpPr>
        <p:sp>
          <p:nvSpPr>
            <p:cNvPr id="515" name=""/>
            <p:cNvSpPr/>
            <p:nvPr/>
          </p:nvSpPr>
          <p:spPr>
            <a:xfrm>
              <a:off x="838080" y="3048120"/>
              <a:ext cx="83844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76520" y="30481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14600" y="3048120"/>
              <a:ext cx="144792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62520" y="30481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38680" y="3048120"/>
              <a:ext cx="152424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00600" y="30481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838080" y="3505320"/>
            <a:ext cx="6324840" cy="152280"/>
            <a:chOff x="838080" y="3505320"/>
            <a:chExt cx="6324840" cy="152280"/>
          </a:xfrm>
        </p:grpSpPr>
        <p:sp>
          <p:nvSpPr>
            <p:cNvPr id="522" name=""/>
            <p:cNvSpPr/>
            <p:nvPr/>
          </p:nvSpPr>
          <p:spPr>
            <a:xfrm>
              <a:off x="838080" y="3505320"/>
              <a:ext cx="83844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76520" y="35053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14600" y="3505320"/>
              <a:ext cx="144792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62520" y="35053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8680" y="3505320"/>
              <a:ext cx="152424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800600" y="35053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6705720" y="3200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58000" y="3200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120" y="4373640"/>
            <a:ext cx="160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heparánsulf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b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43120" y="449568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integ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12280" y="4114800"/>
            <a:ext cx="116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colág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43120" y="4114800"/>
            <a:ext cx="16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heparánsulf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60360" y="4419720"/>
            <a:ext cx="10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fib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66680" y="380988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91120" y="3733920"/>
            <a:ext cx="75960" cy="685800"/>
          </a:xfrm>
          <a:prstGeom prst="downArrow">
            <a:avLst>
              <a:gd name="adj1" fmla="val 50000"/>
              <a:gd name="adj2" fmla="val 225711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3733920"/>
            <a:ext cx="76320" cy="304560"/>
          </a:xfrm>
          <a:prstGeom prst="downArrow">
            <a:avLst>
              <a:gd name="adj1" fmla="val 50000"/>
              <a:gd name="adj2" fmla="val 99764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248520" y="3733920"/>
            <a:ext cx="75960" cy="533160"/>
          </a:xfrm>
          <a:prstGeom prst="downArrow">
            <a:avLst>
              <a:gd name="adj1" fmla="val 50000"/>
              <a:gd name="adj2" fmla="val 175474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981080" y="3733920"/>
            <a:ext cx="76320" cy="304560"/>
          </a:xfrm>
          <a:prstGeom prst="downArrow">
            <a:avLst>
              <a:gd name="adj1" fmla="val 50000"/>
              <a:gd name="adj2" fmla="val 99764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1680" y="5084640"/>
            <a:ext cx="634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ula la forma de las células y la organización del 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 el migración de células y desarrollo embrio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58200" y="12952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308720" y="3141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ím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609480" y="228600"/>
            <a:ext cx="77724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teoglic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s grandes, hidartadas, visco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porcionan amortigu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onentes de la ME y de la superficie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án constituidos por polímeros de disacáridos (glicosaminoglicanos o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) unidos a una proteí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1720" y="3500280"/>
            <a:ext cx="6445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últiples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licosaminoglicanos penden de una proteí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licosaminoglicano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ás comunes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droití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alurón (ácido hialurónic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parán sulfato (hepar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rmatá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eratán o keratán sult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elen contener resíduos sulfato que confieren cargas negat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87880" y="3255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1040" y="2133720"/>
            <a:ext cx="263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cosaminoglic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0 -100 unidades del tip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41320" y="162864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H2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492360" y="1700280"/>
            <a:ext cx="3517920" cy="1887120"/>
            <a:chOff x="3492360" y="1700280"/>
            <a:chExt cx="3517920" cy="1887120"/>
          </a:xfrm>
        </p:grpSpPr>
        <p:sp>
          <p:nvSpPr>
            <p:cNvPr id="550" name=""/>
            <p:cNvSpPr/>
            <p:nvPr/>
          </p:nvSpPr>
          <p:spPr>
            <a:xfrm>
              <a:off x="3851280" y="2132280"/>
              <a:ext cx="1057320" cy="685800"/>
            </a:xfrm>
            <a:prstGeom prst="hexagon">
              <a:avLst>
                <a:gd name="adj" fmla="val 38543"/>
                <a:gd name="vf" fmla="val 1154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34120" y="2035440"/>
              <a:ext cx="1057320" cy="685800"/>
            </a:xfrm>
            <a:prstGeom prst="hexagon">
              <a:avLst>
                <a:gd name="adj" fmla="val 38543"/>
                <a:gd name="vf" fmla="val 1154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47840" y="226404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564000" y="270828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38560" y="188280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14320" y="195912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51280" y="23479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3850920" y="2708280"/>
              <a:ext cx="2890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492360" y="2924280"/>
              <a:ext cx="14472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4876920" y="2340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34120" y="2111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6920" y="23400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81480" y="2492640"/>
              <a:ext cx="1526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6400800" y="2187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>
              <a:off x="6400440" y="21873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4360" y="218772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58000" y="241632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095880" y="2492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27760" y="2851200"/>
              <a:ext cx="58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H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067280" y="19162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40360" y="270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43280" y="270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0000" y="19162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0000" y="2635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28600" y="1700280"/>
              <a:ext cx="79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CH2O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92360" y="2132280"/>
              <a:ext cx="45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H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500720" y="3067200"/>
              <a:ext cx="45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35640" y="2419560"/>
              <a:ext cx="45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6588000" y="6885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877080" y="3213000"/>
            <a:ext cx="1079640" cy="1224000"/>
            <a:chOff x="6877080" y="3213000"/>
            <a:chExt cx="1079640" cy="1224000"/>
          </a:xfrm>
        </p:grpSpPr>
        <p:sp>
          <p:nvSpPr>
            <p:cNvPr id="580" name=""/>
            <p:cNvSpPr/>
            <p:nvPr/>
          </p:nvSpPr>
          <p:spPr>
            <a:xfrm>
              <a:off x="7380360" y="321300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451640" y="3284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236000" y="3284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451640" y="33577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236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51640" y="3429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3600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451640" y="35020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36000" y="35020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451640" y="3573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51640" y="3645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451640" y="3718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451640" y="3789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77080" y="3789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877080" y="37180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77080" y="3645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7080" y="3573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77080" y="400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77080" y="3933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77080" y="3861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5164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51640" y="4005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51640" y="39337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51640" y="386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7708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77080" y="4149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87708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51640" y="43657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5164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5164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51640" y="41497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877080" y="4365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7708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276720" y="190512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00720" y="37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"/>
          <p:cNvGrpSpPr/>
          <p:nvPr/>
        </p:nvGrpSpPr>
        <p:grpSpPr>
          <a:xfrm>
            <a:off x="1619280" y="3716280"/>
            <a:ext cx="1079640" cy="1224000"/>
            <a:chOff x="1619280" y="3716280"/>
            <a:chExt cx="1079640" cy="1224000"/>
          </a:xfrm>
        </p:grpSpPr>
        <p:sp>
          <p:nvSpPr>
            <p:cNvPr id="617" name=""/>
            <p:cNvSpPr/>
            <p:nvPr/>
          </p:nvSpPr>
          <p:spPr>
            <a:xfrm>
              <a:off x="2122560" y="371628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93840" y="3787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7820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93840" y="3861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97820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93840" y="3932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7820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93840" y="4005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97820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9384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193840" y="414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9384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9384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61928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1928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61928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61928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1928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93840" y="457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193840" y="450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93840" y="443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193840" y="436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1928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61928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61928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193840" y="4869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193840" y="4795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93840" y="472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9384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1928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61928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619280" y="3645000"/>
            <a:ext cx="5113440" cy="71280"/>
          </a:xfrm>
          <a:prstGeom prst="roundRect">
            <a:avLst>
              <a:gd name="adj" fmla="val 16667"/>
            </a:avLst>
          </a:prstGeom>
          <a:solidFill>
            <a:srgbClr val="fae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35640" y="2421000"/>
            <a:ext cx="1078920" cy="1224000"/>
            <a:chOff x="1835640" y="2421000"/>
            <a:chExt cx="1078920" cy="1224000"/>
          </a:xfrm>
        </p:grpSpPr>
        <p:sp>
          <p:nvSpPr>
            <p:cNvPr id="652" name=""/>
            <p:cNvSpPr/>
            <p:nvPr/>
          </p:nvSpPr>
          <p:spPr>
            <a:xfrm rot="10800000">
              <a:off x="2340720" y="242100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2196000" y="357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2412000" y="357336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2196000" y="3500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412000" y="35002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219600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2412000" y="342900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2196000" y="3355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2412000" y="335592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1835640" y="328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1835640" y="32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1835640" y="313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1835640" y="30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410200" y="3068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2410200" y="3139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2410200" y="3213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2410200" y="3284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2410200" y="2852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2410200" y="292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2410200" y="2997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1835640" y="278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1835640" y="285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1835640" y="29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1835640" y="299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2410200" y="2636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2410200" y="2708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2410200" y="2781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1835640" y="2492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1835640" y="256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1835640" y="263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1835640" y="270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2410200" y="2492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2410200" y="2565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2556000" y="3716280"/>
            <a:ext cx="1078920" cy="1224000"/>
            <a:chOff x="2556000" y="3716280"/>
            <a:chExt cx="1078920" cy="1224000"/>
          </a:xfrm>
        </p:grpSpPr>
        <p:sp>
          <p:nvSpPr>
            <p:cNvPr id="686" name=""/>
            <p:cNvSpPr/>
            <p:nvPr/>
          </p:nvSpPr>
          <p:spPr>
            <a:xfrm>
              <a:off x="3058920" y="371628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13020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14560" y="378792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13020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914560" y="386100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3020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14560" y="39322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3020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14560" y="400536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13020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3020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3020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13020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556000" y="4292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556000" y="4221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56000" y="4148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556000" y="4076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556000" y="4508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556000" y="4437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56000" y="436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020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3020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13020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3020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556000" y="4724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56000" y="4653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56000" y="4579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3020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13020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3020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13020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556000" y="4869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556000" y="4795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3708360" y="3716280"/>
            <a:ext cx="1079640" cy="1224000"/>
            <a:chOff x="3708360" y="3716280"/>
            <a:chExt cx="1079640" cy="1224000"/>
          </a:xfrm>
        </p:grpSpPr>
        <p:sp>
          <p:nvSpPr>
            <p:cNvPr id="720" name=""/>
            <p:cNvSpPr/>
            <p:nvPr/>
          </p:nvSpPr>
          <p:spPr>
            <a:xfrm>
              <a:off x="4211640" y="371628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282920" y="3787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06728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282920" y="3861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06728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82920" y="3932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06728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82920" y="4005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6728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8292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82920" y="414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8292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28292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70836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70836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70836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0836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0836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70836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0836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282920" y="457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282920" y="450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82920" y="443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282920" y="436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0836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0836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70836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282920" y="4869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282920" y="4795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82920" y="472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282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70836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70836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932360" y="3716280"/>
            <a:ext cx="1079640" cy="1224000"/>
            <a:chOff x="4932360" y="3716280"/>
            <a:chExt cx="1079640" cy="1224000"/>
          </a:xfrm>
        </p:grpSpPr>
        <p:sp>
          <p:nvSpPr>
            <p:cNvPr id="754" name=""/>
            <p:cNvSpPr/>
            <p:nvPr/>
          </p:nvSpPr>
          <p:spPr>
            <a:xfrm>
              <a:off x="5435640" y="371628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06920" y="3787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9128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06920" y="3861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9128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506920" y="3932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9128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06920" y="4005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29128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0692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06920" y="414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50692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0692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93236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93236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93236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93236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93236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93236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93236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506920" y="457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506920" y="450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506920" y="443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506920" y="436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3236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3236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3236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506920" y="4869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506920" y="4795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06920" y="472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06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93236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3236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6084720" y="3716280"/>
            <a:ext cx="1079640" cy="1224000"/>
            <a:chOff x="6084720" y="3716280"/>
            <a:chExt cx="1079640" cy="1224000"/>
          </a:xfrm>
        </p:grpSpPr>
        <p:sp>
          <p:nvSpPr>
            <p:cNvPr id="788" name=""/>
            <p:cNvSpPr/>
            <p:nvPr/>
          </p:nvSpPr>
          <p:spPr>
            <a:xfrm>
              <a:off x="6588000" y="371628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59280" y="3787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44364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59280" y="3861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44364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659280" y="3932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44364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659280" y="4005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44364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65928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659280" y="414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65928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65928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08472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8472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8472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08472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8472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08472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08472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659280" y="457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659280" y="450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659280" y="443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659280" y="436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08472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08472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08472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659280" y="4869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659280" y="4795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659280" y="472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65928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8472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08472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3131640" y="2421000"/>
            <a:ext cx="1079640" cy="1224000"/>
            <a:chOff x="3131640" y="2421000"/>
            <a:chExt cx="1079640" cy="1224000"/>
          </a:xfrm>
        </p:grpSpPr>
        <p:sp>
          <p:nvSpPr>
            <p:cNvPr id="822" name=""/>
            <p:cNvSpPr/>
            <p:nvPr/>
          </p:nvSpPr>
          <p:spPr>
            <a:xfrm rot="10800000">
              <a:off x="3636720" y="242100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492000" y="3573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708000" y="357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492000" y="3500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708000" y="3500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492000" y="3429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370800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3492000" y="3355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3708000" y="3355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3131640" y="328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3131640" y="321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3131640" y="313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3131640" y="306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3706560" y="30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706560" y="313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706560" y="32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706560" y="328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706560" y="285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706560" y="29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706560" y="299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131640" y="278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131640" y="285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131640" y="292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131640" y="299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706560" y="263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3706560" y="270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706560" y="278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131640" y="2492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131640" y="2565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131640" y="263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131640" y="270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706560" y="2492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3706560" y="256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4285080" y="2421000"/>
            <a:ext cx="1078920" cy="1224000"/>
            <a:chOff x="4285080" y="2421000"/>
            <a:chExt cx="1078920" cy="1224000"/>
          </a:xfrm>
        </p:grpSpPr>
        <p:sp>
          <p:nvSpPr>
            <p:cNvPr id="856" name=""/>
            <p:cNvSpPr/>
            <p:nvPr/>
          </p:nvSpPr>
          <p:spPr>
            <a:xfrm rot="10800000">
              <a:off x="4790160" y="242100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4645440" y="357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4861440" y="357336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4645440" y="3500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4861440" y="35002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464544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4861440" y="342900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4645440" y="3355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4861440" y="335592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4285080" y="328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285080" y="32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4285080" y="313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4285080" y="30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4859640" y="3068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4859640" y="3139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859640" y="3213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4859640" y="3284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4859640" y="2852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4859640" y="292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4859640" y="2997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4285080" y="278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4285080" y="285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4285080" y="29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4285080" y="299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4859640" y="2636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4859640" y="2708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4859640" y="2781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4285080" y="2492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4285080" y="256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4285080" y="263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4285080" y="270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4859640" y="2492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4859640" y="2565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509080" y="2421000"/>
            <a:ext cx="1078920" cy="1224000"/>
            <a:chOff x="5509080" y="2421000"/>
            <a:chExt cx="1078920" cy="1224000"/>
          </a:xfrm>
        </p:grpSpPr>
        <p:sp>
          <p:nvSpPr>
            <p:cNvPr id="890" name=""/>
            <p:cNvSpPr/>
            <p:nvPr/>
          </p:nvSpPr>
          <p:spPr>
            <a:xfrm rot="10800000">
              <a:off x="6014160" y="242100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5869440" y="357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6085440" y="357336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869440" y="3500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085440" y="35002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586944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6085440" y="342900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5869440" y="3355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6085440" y="335592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509080" y="328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5509080" y="32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5509080" y="313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5509080" y="30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6083640" y="3068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083640" y="3139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083640" y="3213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6083640" y="3284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6083640" y="2852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6083640" y="292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6083640" y="2997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5509080" y="278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5509080" y="285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5509080" y="29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5509080" y="299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6083640" y="2636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083640" y="2708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083640" y="2781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5509080" y="2492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5509080" y="256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5509080" y="263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5509080" y="270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6083640" y="2492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6083640" y="2565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 flipH="1">
            <a:off x="2700000" y="4869000"/>
            <a:ext cx="35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692360" y="537372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ína agrec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451640" y="4221000"/>
            <a:ext cx="12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ndroití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467280" y="2347200"/>
            <a:ext cx="1338480" cy="1295280"/>
            <a:chOff x="467280" y="2347200"/>
            <a:chExt cx="1338480" cy="1295280"/>
          </a:xfrm>
        </p:grpSpPr>
        <p:sp>
          <p:nvSpPr>
            <p:cNvPr id="927" name=""/>
            <p:cNvSpPr/>
            <p:nvPr/>
          </p:nvSpPr>
          <p:spPr>
            <a:xfrm rot="8562000">
              <a:off x="1189080" y="249120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1409040" y="3555000"/>
              <a:ext cx="11484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1581120" y="3424320"/>
              <a:ext cx="1144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1364760" y="3497040"/>
              <a:ext cx="11484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1536840" y="3366360"/>
              <a:ext cx="1144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1321560" y="3440160"/>
              <a:ext cx="11484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1493640" y="3309480"/>
              <a:ext cx="1144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1277280" y="3382200"/>
              <a:ext cx="11484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1449360" y="3251520"/>
              <a:ext cx="1144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947520" y="3325320"/>
              <a:ext cx="4014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903960" y="3268440"/>
              <a:ext cx="40176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859680" y="3210120"/>
              <a:ext cx="40176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816480" y="3153600"/>
              <a:ext cx="40176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1273680" y="280548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1316880" y="286236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1361160" y="292032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1404720" y="297756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1142640" y="263376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1186200" y="269064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1230120" y="274860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642600" y="2925000"/>
              <a:ext cx="4014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85800" y="298188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729000" y="3038760"/>
              <a:ext cx="40176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773280" y="309672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1011960" y="246204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055160" y="251892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1099440" y="257724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467280" y="2694960"/>
              <a:ext cx="4014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511560" y="275328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554760" y="2809800"/>
              <a:ext cx="4014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598320" y="286704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924480" y="234720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968760" y="240516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0" name=""/>
          <p:cNvSpPr/>
          <p:nvPr/>
        </p:nvSpPr>
        <p:spPr>
          <a:xfrm rot="10800000">
            <a:off x="7308360" y="4076280"/>
            <a:ext cx="71640" cy="792360"/>
          </a:xfrm>
          <a:custGeom>
            <a:avLst/>
            <a:gdLst>
              <a:gd name="textAreaLeft" fmla="*/ 45720 w 71640"/>
              <a:gd name="textAreaRight" fmla="*/ 72000 w 71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rot="10800000">
            <a:off x="7019640" y="3573000"/>
            <a:ext cx="73080" cy="505080"/>
          </a:xfrm>
          <a:custGeom>
            <a:avLst/>
            <a:gdLst>
              <a:gd name="textAreaLeft" fmla="*/ 46800 w 73080"/>
              <a:gd name="textAreaRight" fmla="*/ 73440 w 7308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115760" y="364500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Keratá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6372360" y="314172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236000" y="2781360"/>
            <a:ext cx="190800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Hialuron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(ácido hialurónic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979640" y="371628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916360" y="371628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067280" y="371628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619280" y="3573360"/>
            <a:ext cx="7308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364000" y="3716280"/>
            <a:ext cx="14472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340000" y="357336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35280" y="3573360"/>
            <a:ext cx="14472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716360" y="3573360"/>
            <a:ext cx="14472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43640" y="371628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940360" y="357336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733920" y="5638680"/>
            <a:ext cx="38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Estructura del cartíl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316800" y="3620520"/>
            <a:ext cx="1317960" cy="1327680"/>
            <a:chOff x="316800" y="3620520"/>
            <a:chExt cx="1317960" cy="1327680"/>
          </a:xfrm>
        </p:grpSpPr>
        <p:sp>
          <p:nvSpPr>
            <p:cNvPr id="977" name=""/>
            <p:cNvSpPr/>
            <p:nvPr/>
          </p:nvSpPr>
          <p:spPr>
            <a:xfrm rot="2781600">
              <a:off x="1044000" y="357156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95080" y="3836520"/>
              <a:ext cx="9972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346400" y="3680640"/>
              <a:ext cx="9936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442160" y="3887280"/>
              <a:ext cx="9972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293480" y="3731040"/>
              <a:ext cx="9936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390680" y="3936240"/>
              <a:ext cx="9972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242000" y="3780360"/>
              <a:ext cx="9936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337760" y="3986640"/>
              <a:ext cx="9972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189080" y="3830760"/>
              <a:ext cx="9936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286280" y="4035960"/>
              <a:ext cx="34848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234440" y="408528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181520" y="413568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130040" y="418500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33680" y="376956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85160" y="372024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38080" y="366984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89920" y="362052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77440" y="391860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29280" y="386928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81840" y="381888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21960" y="4383360"/>
              <a:ext cx="34848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73800" y="4334040"/>
              <a:ext cx="34812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25640" y="428472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78200" y="423432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21200" y="406764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73040" y="401832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5960" y="396792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2800" y="458280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65720" y="453240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17560" y="4483080"/>
              <a:ext cx="34812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69400" y="4433760"/>
              <a:ext cx="34812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16800" y="416736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69360" y="411696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1619280" y="3716280"/>
            <a:ext cx="7308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987480" y="476280"/>
            <a:ext cx="398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roteoglicanos de 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983520" y="1052640"/>
            <a:ext cx="49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Agrecán: componente mayoritario del cartíl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459640" y="299736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588000" y="765000"/>
            <a:ext cx="71640" cy="1224000"/>
          </a:xfrm>
          <a:prstGeom prst="flowChartTerminator">
            <a:avLst/>
          </a:prstGeom>
          <a:solidFill>
            <a:srgbClr val="8f6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659640" y="83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443640" y="83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659640" y="90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443640" y="90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659640" y="98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443640" y="98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659640" y="105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443640" y="105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659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659640" y="119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659640" y="1270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659640" y="134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084720" y="1341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84720" y="127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084720" y="119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084720" y="1125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084720" y="1557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84720" y="1486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84720" y="1413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659640" y="1628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659640" y="155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659640" y="1486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659640" y="141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084720" y="1773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084720" y="1701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084720" y="1628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9640" y="191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659640" y="184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659640" y="17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659640" y="1701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084720" y="1917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084720" y="1844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755640" y="476280"/>
            <a:ext cx="504036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Hialuronán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(ácido hialurónic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olímero de hasta 50.000 unidades del disacár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851280" y="1773360"/>
            <a:ext cx="1057320" cy="685800"/>
          </a:xfrm>
          <a:prstGeom prst="hexagon">
            <a:avLst>
              <a:gd name="adj" fmla="val 3854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334120" y="1676520"/>
            <a:ext cx="1057320" cy="685800"/>
          </a:xfrm>
          <a:prstGeom prst="hexagon">
            <a:avLst>
              <a:gd name="adj" fmla="val 3854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998600" y="19890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3132000" y="20592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938560" y="15238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414320" y="16002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851280" y="1989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 flipV="1">
            <a:off x="3492000" y="2276640"/>
            <a:ext cx="36036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87692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64000" y="1844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876920" y="1981080"/>
            <a:ext cx="271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19640" y="213372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64008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 flipV="1">
            <a:off x="6400440" y="18284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624360" y="18288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0" y="20574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58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927760" y="2492280"/>
            <a:ext cx="87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HCOH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067280" y="15573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140360" y="2349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643280" y="2349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580000" y="15573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58000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840120" y="1341360"/>
            <a:ext cx="6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OO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341320" y="126828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H2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924360" y="2060640"/>
            <a:ext cx="4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00720" y="2708280"/>
            <a:ext cx="4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219640" y="2205000"/>
            <a:ext cx="4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348000" y="306864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ácido glucuró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651640" y="3141720"/>
            <a:ext cx="30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343480" y="310824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-acetilglucosa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900000" y="4076640"/>
            <a:ext cx="64803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orma un polímero hidratado con la consistencia de un gel visco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porciona turgencia y resistencia a la pr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Facilita la migración celular e impide adhesión célula-célu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Importante durante desarrollo/morfogénesi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358920" y="533520"/>
            <a:ext cx="84610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teoglicanos de superficie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léculas más pequeñas que los de la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iones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ilitan interacciones de la ME con las célula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imilar a CA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en moléculas involucradas en señalizac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76360" y="4941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47920" y="5257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362320" y="5029200"/>
            <a:ext cx="115920" cy="838080"/>
          </a:xfrm>
          <a:custGeom>
            <a:avLst/>
            <a:gdLst/>
            <a:ahLst/>
            <a:rect l="l" t="t" r="r" b="b"/>
            <a:pathLst>
              <a:path w="95" h="514">
                <a:moveTo>
                  <a:pt x="54" y="514"/>
                </a:moveTo>
                <a:cubicBezTo>
                  <a:pt x="49" y="464"/>
                  <a:pt x="33" y="410"/>
                  <a:pt x="46" y="362"/>
                </a:cubicBezTo>
                <a:cubicBezTo>
                  <a:pt x="43" y="303"/>
                  <a:pt x="48" y="243"/>
                  <a:pt x="38" y="186"/>
                </a:cubicBezTo>
                <a:cubicBezTo>
                  <a:pt x="34" y="167"/>
                  <a:pt x="6" y="138"/>
                  <a:pt x="6" y="138"/>
                </a:cubicBezTo>
                <a:cubicBezTo>
                  <a:pt x="16" y="96"/>
                  <a:pt x="23" y="76"/>
                  <a:pt x="54" y="122"/>
                </a:cubicBezTo>
                <a:cubicBezTo>
                  <a:pt x="46" y="124"/>
                  <a:pt x="37" y="133"/>
                  <a:pt x="30" y="130"/>
                </a:cubicBezTo>
                <a:cubicBezTo>
                  <a:pt x="11" y="122"/>
                  <a:pt x="9" y="94"/>
                  <a:pt x="22" y="82"/>
                </a:cubicBezTo>
                <a:cubicBezTo>
                  <a:pt x="27" y="76"/>
                  <a:pt x="38" y="76"/>
                  <a:pt x="46" y="74"/>
                </a:cubicBezTo>
                <a:cubicBezTo>
                  <a:pt x="78" y="122"/>
                  <a:pt x="66" y="124"/>
                  <a:pt x="14" y="114"/>
                </a:cubicBezTo>
                <a:cubicBezTo>
                  <a:pt x="0" y="73"/>
                  <a:pt x="6" y="37"/>
                  <a:pt x="30" y="2"/>
                </a:cubicBezTo>
                <a:cubicBezTo>
                  <a:pt x="40" y="4"/>
                  <a:pt x="57" y="0"/>
                  <a:pt x="62" y="10"/>
                </a:cubicBezTo>
                <a:cubicBezTo>
                  <a:pt x="95" y="76"/>
                  <a:pt x="19" y="39"/>
                  <a:pt x="6" y="26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67040" y="51354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13080" y="3327480"/>
            <a:ext cx="533160" cy="1689120"/>
          </a:xfrm>
          <a:custGeom>
            <a:avLst/>
            <a:gdLst/>
            <a:ahLst/>
            <a:rect l="l" t="t" r="r" b="b"/>
            <a:pathLst>
              <a:path w="336" h="1064">
                <a:moveTo>
                  <a:pt x="0" y="1064"/>
                </a:moveTo>
                <a:cubicBezTo>
                  <a:pt x="13" y="1023"/>
                  <a:pt x="47" y="1005"/>
                  <a:pt x="64" y="968"/>
                </a:cubicBezTo>
                <a:cubicBezTo>
                  <a:pt x="70" y="952"/>
                  <a:pt x="80" y="920"/>
                  <a:pt x="80" y="920"/>
                </a:cubicBezTo>
                <a:cubicBezTo>
                  <a:pt x="82" y="901"/>
                  <a:pt x="83" y="882"/>
                  <a:pt x="88" y="864"/>
                </a:cubicBezTo>
                <a:cubicBezTo>
                  <a:pt x="91" y="852"/>
                  <a:pt x="103" y="843"/>
                  <a:pt x="104" y="832"/>
                </a:cubicBezTo>
                <a:cubicBezTo>
                  <a:pt x="107" y="768"/>
                  <a:pt x="98" y="734"/>
                  <a:pt x="88" y="680"/>
                </a:cubicBezTo>
                <a:cubicBezTo>
                  <a:pt x="93" y="632"/>
                  <a:pt x="95" y="575"/>
                  <a:pt x="128" y="536"/>
                </a:cubicBezTo>
                <a:cubicBezTo>
                  <a:pt x="171" y="483"/>
                  <a:pt x="131" y="540"/>
                  <a:pt x="184" y="488"/>
                </a:cubicBezTo>
                <a:cubicBezTo>
                  <a:pt x="237" y="434"/>
                  <a:pt x="160" y="490"/>
                  <a:pt x="224" y="448"/>
                </a:cubicBezTo>
                <a:cubicBezTo>
                  <a:pt x="260" y="392"/>
                  <a:pt x="232" y="327"/>
                  <a:pt x="280" y="280"/>
                </a:cubicBezTo>
                <a:cubicBezTo>
                  <a:pt x="289" y="236"/>
                  <a:pt x="297" y="194"/>
                  <a:pt x="312" y="152"/>
                </a:cubicBezTo>
                <a:cubicBezTo>
                  <a:pt x="316" y="83"/>
                  <a:pt x="310" y="51"/>
                  <a:pt x="336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82880" y="3639960"/>
            <a:ext cx="681120" cy="76320"/>
          </a:xfrm>
          <a:custGeom>
            <a:avLst/>
            <a:gdLst/>
            <a:ahLst/>
            <a:rect l="l" t="t" r="r" b="b"/>
            <a:pathLst>
              <a:path w="296" h="35">
                <a:moveTo>
                  <a:pt x="0" y="35"/>
                </a:moveTo>
                <a:cubicBezTo>
                  <a:pt x="104" y="0"/>
                  <a:pt x="152" y="19"/>
                  <a:pt x="296" y="19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195640" y="3716280"/>
            <a:ext cx="596880" cy="114480"/>
          </a:xfrm>
          <a:custGeom>
            <a:avLst/>
            <a:gdLst/>
            <a:ahLst/>
            <a:rect l="l" t="t" r="r" b="b"/>
            <a:pathLst>
              <a:path w="376" h="72">
                <a:moveTo>
                  <a:pt x="376" y="72"/>
                </a:moveTo>
                <a:cubicBezTo>
                  <a:pt x="254" y="47"/>
                  <a:pt x="125" y="0"/>
                  <a:pt x="0" y="0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268360" y="3284640"/>
            <a:ext cx="640080" cy="207720"/>
          </a:xfrm>
          <a:custGeom>
            <a:avLst/>
            <a:gdLst/>
            <a:ahLst/>
            <a:rect l="l" t="t" r="r" b="b"/>
            <a:pathLst>
              <a:path w="120" h="28">
                <a:moveTo>
                  <a:pt x="120" y="28"/>
                </a:moveTo>
                <a:cubicBezTo>
                  <a:pt x="78" y="0"/>
                  <a:pt x="52" y="4"/>
                  <a:pt x="0" y="4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050920" y="5013360"/>
            <a:ext cx="115920" cy="838080"/>
          </a:xfrm>
          <a:custGeom>
            <a:avLst/>
            <a:gdLst/>
            <a:ahLst/>
            <a:rect l="l" t="t" r="r" b="b"/>
            <a:pathLst>
              <a:path w="95" h="514">
                <a:moveTo>
                  <a:pt x="54" y="514"/>
                </a:moveTo>
                <a:cubicBezTo>
                  <a:pt x="49" y="464"/>
                  <a:pt x="33" y="410"/>
                  <a:pt x="46" y="362"/>
                </a:cubicBezTo>
                <a:cubicBezTo>
                  <a:pt x="43" y="303"/>
                  <a:pt x="48" y="243"/>
                  <a:pt x="38" y="186"/>
                </a:cubicBezTo>
                <a:cubicBezTo>
                  <a:pt x="34" y="167"/>
                  <a:pt x="6" y="138"/>
                  <a:pt x="6" y="138"/>
                </a:cubicBezTo>
                <a:cubicBezTo>
                  <a:pt x="16" y="96"/>
                  <a:pt x="23" y="76"/>
                  <a:pt x="54" y="122"/>
                </a:cubicBezTo>
                <a:cubicBezTo>
                  <a:pt x="46" y="124"/>
                  <a:pt x="37" y="133"/>
                  <a:pt x="30" y="130"/>
                </a:cubicBezTo>
                <a:cubicBezTo>
                  <a:pt x="11" y="122"/>
                  <a:pt x="9" y="94"/>
                  <a:pt x="22" y="82"/>
                </a:cubicBezTo>
                <a:cubicBezTo>
                  <a:pt x="27" y="76"/>
                  <a:pt x="38" y="76"/>
                  <a:pt x="46" y="74"/>
                </a:cubicBezTo>
                <a:cubicBezTo>
                  <a:pt x="78" y="122"/>
                  <a:pt x="66" y="124"/>
                  <a:pt x="14" y="114"/>
                </a:cubicBezTo>
                <a:cubicBezTo>
                  <a:pt x="0" y="73"/>
                  <a:pt x="6" y="37"/>
                  <a:pt x="30" y="2"/>
                </a:cubicBezTo>
                <a:cubicBezTo>
                  <a:pt x="40" y="4"/>
                  <a:pt x="57" y="0"/>
                  <a:pt x="62" y="10"/>
                </a:cubicBezTo>
                <a:cubicBezTo>
                  <a:pt x="95" y="76"/>
                  <a:pt x="19" y="39"/>
                  <a:pt x="6" y="26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1763640" y="3213000"/>
            <a:ext cx="390600" cy="1841760"/>
          </a:xfrm>
          <a:custGeom>
            <a:avLst/>
            <a:gdLst/>
            <a:ahLst/>
            <a:rect l="l" t="t" r="r" b="b"/>
            <a:pathLst>
              <a:path w="336" h="1064">
                <a:moveTo>
                  <a:pt x="0" y="1064"/>
                </a:moveTo>
                <a:cubicBezTo>
                  <a:pt x="13" y="1023"/>
                  <a:pt x="47" y="1005"/>
                  <a:pt x="64" y="968"/>
                </a:cubicBezTo>
                <a:cubicBezTo>
                  <a:pt x="70" y="952"/>
                  <a:pt x="80" y="920"/>
                  <a:pt x="80" y="920"/>
                </a:cubicBezTo>
                <a:cubicBezTo>
                  <a:pt x="82" y="901"/>
                  <a:pt x="83" y="882"/>
                  <a:pt x="88" y="864"/>
                </a:cubicBezTo>
                <a:cubicBezTo>
                  <a:pt x="91" y="852"/>
                  <a:pt x="103" y="843"/>
                  <a:pt x="104" y="832"/>
                </a:cubicBezTo>
                <a:cubicBezTo>
                  <a:pt x="107" y="768"/>
                  <a:pt x="98" y="734"/>
                  <a:pt x="88" y="680"/>
                </a:cubicBezTo>
                <a:cubicBezTo>
                  <a:pt x="93" y="632"/>
                  <a:pt x="95" y="575"/>
                  <a:pt x="128" y="536"/>
                </a:cubicBezTo>
                <a:cubicBezTo>
                  <a:pt x="171" y="483"/>
                  <a:pt x="131" y="540"/>
                  <a:pt x="184" y="488"/>
                </a:cubicBezTo>
                <a:cubicBezTo>
                  <a:pt x="237" y="434"/>
                  <a:pt x="160" y="490"/>
                  <a:pt x="224" y="448"/>
                </a:cubicBezTo>
                <a:cubicBezTo>
                  <a:pt x="260" y="392"/>
                  <a:pt x="232" y="327"/>
                  <a:pt x="280" y="280"/>
                </a:cubicBezTo>
                <a:cubicBezTo>
                  <a:pt x="289" y="236"/>
                  <a:pt x="297" y="194"/>
                  <a:pt x="312" y="152"/>
                </a:cubicBezTo>
                <a:cubicBezTo>
                  <a:pt x="316" y="83"/>
                  <a:pt x="310" y="51"/>
                  <a:pt x="336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258920" y="3716280"/>
            <a:ext cx="596880" cy="114480"/>
          </a:xfrm>
          <a:custGeom>
            <a:avLst/>
            <a:gdLst/>
            <a:ahLst/>
            <a:rect l="l" t="t" r="r" b="b"/>
            <a:pathLst>
              <a:path w="376" h="72">
                <a:moveTo>
                  <a:pt x="376" y="72"/>
                </a:moveTo>
                <a:cubicBezTo>
                  <a:pt x="254" y="47"/>
                  <a:pt x="125" y="0"/>
                  <a:pt x="0" y="0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187280" y="3141720"/>
            <a:ext cx="640080" cy="208080"/>
          </a:xfrm>
          <a:custGeom>
            <a:avLst/>
            <a:gdLst/>
            <a:ahLst/>
            <a:rect l="l" t="t" r="r" b="b"/>
            <a:pathLst>
              <a:path w="120" h="28">
                <a:moveTo>
                  <a:pt x="120" y="28"/>
                </a:moveTo>
                <a:cubicBezTo>
                  <a:pt x="78" y="0"/>
                  <a:pt x="52" y="4"/>
                  <a:pt x="0" y="4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908000" y="3500280"/>
            <a:ext cx="470160" cy="55800"/>
          </a:xfrm>
          <a:custGeom>
            <a:avLst/>
            <a:gdLst/>
            <a:ahLst/>
            <a:rect l="l" t="t" r="r" b="b"/>
            <a:pathLst>
              <a:path w="296" h="35">
                <a:moveTo>
                  <a:pt x="0" y="35"/>
                </a:moveTo>
                <a:cubicBezTo>
                  <a:pt x="104" y="0"/>
                  <a:pt x="152" y="19"/>
                  <a:pt x="296" y="19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042920" y="227664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ímero de sindec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7280" y="4581360"/>
            <a:ext cx="504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203640" y="450864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í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476360" y="4941720"/>
            <a:ext cx="1513080" cy="287640"/>
          </a:xfrm>
          <a:prstGeom prst="rect">
            <a:avLst/>
          </a:prstGeom>
          <a:gradFill rotWithShape="0">
            <a:gsLst>
              <a:gs pos="0">
                <a:srgbClr val="fcf5c3"/>
              </a:gs>
              <a:gs pos="50000">
                <a:srgbClr val="fae33c">
                  <a:alpha val="0"/>
                </a:srgbClr>
              </a:gs>
              <a:gs pos="100000">
                <a:srgbClr val="fcf5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900000" y="378936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68360" y="422100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Hepará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rot="18760800">
            <a:off x="3131280" y="2853720"/>
            <a:ext cx="287280" cy="863640"/>
          </a:xfrm>
          <a:custGeom>
            <a:avLst/>
            <a:gdLst>
              <a:gd name="textAreaLeft" fmla="*/ 0 w 287280"/>
              <a:gd name="textAreaRight" fmla="*/ 103680 w 287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215160" y="2637000"/>
            <a:ext cx="263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orción que une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colágenos y fibronect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258920" y="5373720"/>
            <a:ext cx="7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ito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rot="5400000">
            <a:off x="2122920" y="5588640"/>
            <a:ext cx="287280" cy="863640"/>
          </a:xfrm>
          <a:custGeom>
            <a:avLst/>
            <a:gdLst>
              <a:gd name="textAreaLeft" fmla="*/ 0 w 287280"/>
              <a:gd name="textAreaRight" fmla="*/ 103680 w 287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26920" y="616572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teracción con 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643280" y="3789360"/>
            <a:ext cx="4500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decán: más abundant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os tipos (sindecán 1, 2, 3 y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fieren en la proteína y 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cosaminoglic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860760" y="549360"/>
            <a:ext cx="756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pel de proteoglicanos de superficie celular en señalización in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688200" y="914400"/>
            <a:ext cx="436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servorio de fact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ctivación del fa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ntrol de la concentración de factor li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1066680" y="2286000"/>
            <a:ext cx="6677280" cy="3822120"/>
            <a:chOff x="1066680" y="2286000"/>
            <a:chExt cx="6677280" cy="3822120"/>
          </a:xfrm>
        </p:grpSpPr>
        <p:sp>
          <p:nvSpPr>
            <p:cNvPr id="1112" name=""/>
            <p:cNvSpPr/>
            <p:nvPr/>
          </p:nvSpPr>
          <p:spPr>
            <a:xfrm>
              <a:off x="2271600" y="4951440"/>
              <a:ext cx="3673440" cy="215640"/>
            </a:xfrm>
            <a:prstGeom prst="rect">
              <a:avLst/>
            </a:prstGeom>
            <a:solidFill>
              <a:srgbClr val="fae3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000320" y="4951440"/>
              <a:ext cx="142920" cy="647640"/>
            </a:xfrm>
            <a:custGeom>
              <a:avLst/>
              <a:gdLst/>
              <a:ahLst/>
              <a:rect l="l" t="t" r="r" b="b"/>
              <a:pathLst>
                <a:path w="95" h="514">
                  <a:moveTo>
                    <a:pt x="54" y="514"/>
                  </a:moveTo>
                  <a:cubicBezTo>
                    <a:pt x="49" y="464"/>
                    <a:pt x="33" y="410"/>
                    <a:pt x="46" y="362"/>
                  </a:cubicBezTo>
                  <a:cubicBezTo>
                    <a:pt x="43" y="303"/>
                    <a:pt x="48" y="243"/>
                    <a:pt x="38" y="186"/>
                  </a:cubicBezTo>
                  <a:cubicBezTo>
                    <a:pt x="34" y="167"/>
                    <a:pt x="6" y="138"/>
                    <a:pt x="6" y="138"/>
                  </a:cubicBezTo>
                  <a:cubicBezTo>
                    <a:pt x="16" y="96"/>
                    <a:pt x="23" y="76"/>
                    <a:pt x="54" y="122"/>
                  </a:cubicBezTo>
                  <a:cubicBezTo>
                    <a:pt x="46" y="124"/>
                    <a:pt x="37" y="133"/>
                    <a:pt x="30" y="130"/>
                  </a:cubicBezTo>
                  <a:cubicBezTo>
                    <a:pt x="11" y="122"/>
                    <a:pt x="9" y="94"/>
                    <a:pt x="22" y="82"/>
                  </a:cubicBezTo>
                  <a:cubicBezTo>
                    <a:pt x="27" y="76"/>
                    <a:pt x="38" y="76"/>
                    <a:pt x="46" y="74"/>
                  </a:cubicBezTo>
                  <a:cubicBezTo>
                    <a:pt x="78" y="122"/>
                    <a:pt x="66" y="124"/>
                    <a:pt x="14" y="114"/>
                  </a:cubicBezTo>
                  <a:cubicBezTo>
                    <a:pt x="0" y="73"/>
                    <a:pt x="6" y="37"/>
                    <a:pt x="30" y="2"/>
                  </a:cubicBezTo>
                  <a:cubicBezTo>
                    <a:pt x="40" y="4"/>
                    <a:pt x="57" y="0"/>
                    <a:pt x="62" y="10"/>
                  </a:cubicBezTo>
                  <a:cubicBezTo>
                    <a:pt x="95" y="76"/>
                    <a:pt x="19" y="39"/>
                    <a:pt x="6" y="26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rot="16422600">
              <a:off x="2739960" y="4482360"/>
              <a:ext cx="215640" cy="43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16422600">
              <a:off x="3171960" y="4482720"/>
              <a:ext cx="215640" cy="43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847960" y="4806720"/>
              <a:ext cx="71280" cy="647640"/>
            </a:xfrm>
            <a:prstGeom prst="rect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279600" y="4806720"/>
              <a:ext cx="71640" cy="647640"/>
            </a:xfrm>
            <a:prstGeom prst="rect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rot="16422600">
              <a:off x="4971960" y="4482360"/>
              <a:ext cx="215640" cy="43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rot="16422600">
              <a:off x="5403960" y="4482720"/>
              <a:ext cx="215640" cy="43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79960" y="4806720"/>
              <a:ext cx="71280" cy="647640"/>
            </a:xfrm>
            <a:prstGeom prst="rect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511600" y="4806720"/>
              <a:ext cx="71640" cy="647640"/>
            </a:xfrm>
            <a:prstGeom prst="rect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703600" y="4375080"/>
              <a:ext cx="287280" cy="287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927600" y="3798720"/>
              <a:ext cx="287280" cy="287280"/>
            </a:xfrm>
            <a:custGeom>
              <a:avLst/>
              <a:gdLst>
                <a:gd name="textAreaLeft" fmla="*/ 33840 w 287280"/>
                <a:gd name="textAreaRight" fmla="*/ 253440 w 287280"/>
                <a:gd name="textAreaTop" fmla="*/ 33840 h 287280"/>
                <a:gd name="textAreaBottom" fmla="*/ 2534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935600" y="4375080"/>
              <a:ext cx="287280" cy="287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100400" y="3537000"/>
              <a:ext cx="1551240" cy="1409400"/>
            </a:xfrm>
            <a:custGeom>
              <a:avLst/>
              <a:gdLst/>
              <a:ahLst/>
              <a:rect l="l" t="t" r="r" b="b"/>
              <a:pathLst>
                <a:path w="977" h="888">
                  <a:moveTo>
                    <a:pt x="9" y="888"/>
                  </a:moveTo>
                  <a:cubicBezTo>
                    <a:pt x="12" y="824"/>
                    <a:pt x="0" y="758"/>
                    <a:pt x="17" y="696"/>
                  </a:cubicBezTo>
                  <a:cubicBezTo>
                    <a:pt x="21" y="680"/>
                    <a:pt x="65" y="680"/>
                    <a:pt x="65" y="680"/>
                  </a:cubicBezTo>
                  <a:cubicBezTo>
                    <a:pt x="86" y="648"/>
                    <a:pt x="76" y="636"/>
                    <a:pt x="113" y="624"/>
                  </a:cubicBezTo>
                  <a:cubicBezTo>
                    <a:pt x="141" y="583"/>
                    <a:pt x="192" y="564"/>
                    <a:pt x="209" y="512"/>
                  </a:cubicBezTo>
                  <a:cubicBezTo>
                    <a:pt x="219" y="482"/>
                    <a:pt x="247" y="389"/>
                    <a:pt x="273" y="368"/>
                  </a:cubicBezTo>
                  <a:cubicBezTo>
                    <a:pt x="307" y="341"/>
                    <a:pt x="358" y="355"/>
                    <a:pt x="401" y="352"/>
                  </a:cubicBezTo>
                  <a:cubicBezTo>
                    <a:pt x="444" y="338"/>
                    <a:pt x="436" y="311"/>
                    <a:pt x="449" y="272"/>
                  </a:cubicBezTo>
                  <a:cubicBezTo>
                    <a:pt x="453" y="261"/>
                    <a:pt x="466" y="257"/>
                    <a:pt x="473" y="248"/>
                  </a:cubicBezTo>
                  <a:cubicBezTo>
                    <a:pt x="512" y="202"/>
                    <a:pt x="525" y="204"/>
                    <a:pt x="585" y="192"/>
                  </a:cubicBezTo>
                  <a:cubicBezTo>
                    <a:pt x="624" y="134"/>
                    <a:pt x="645" y="78"/>
                    <a:pt x="721" y="56"/>
                  </a:cubicBezTo>
                  <a:cubicBezTo>
                    <a:pt x="758" y="46"/>
                    <a:pt x="833" y="32"/>
                    <a:pt x="833" y="32"/>
                  </a:cubicBezTo>
                  <a:cubicBezTo>
                    <a:pt x="850" y="21"/>
                    <a:pt x="860" y="11"/>
                    <a:pt x="881" y="8"/>
                  </a:cubicBezTo>
                  <a:cubicBezTo>
                    <a:pt x="913" y="4"/>
                    <a:pt x="977" y="0"/>
                    <a:pt x="977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876920" y="3917880"/>
              <a:ext cx="266400" cy="546120"/>
            </a:xfrm>
            <a:custGeom>
              <a:avLst/>
              <a:gdLst/>
              <a:ahLst/>
              <a:rect l="l" t="t" r="r" b="b"/>
              <a:pathLst>
                <a:path w="168" h="344">
                  <a:moveTo>
                    <a:pt x="0" y="0"/>
                  </a:moveTo>
                  <a:cubicBezTo>
                    <a:pt x="16" y="11"/>
                    <a:pt x="32" y="21"/>
                    <a:pt x="48" y="32"/>
                  </a:cubicBezTo>
                  <a:cubicBezTo>
                    <a:pt x="62" y="41"/>
                    <a:pt x="64" y="80"/>
                    <a:pt x="64" y="80"/>
                  </a:cubicBezTo>
                  <a:cubicBezTo>
                    <a:pt x="67" y="123"/>
                    <a:pt x="63" y="166"/>
                    <a:pt x="72" y="208"/>
                  </a:cubicBezTo>
                  <a:cubicBezTo>
                    <a:pt x="74" y="217"/>
                    <a:pt x="91" y="216"/>
                    <a:pt x="96" y="224"/>
                  </a:cubicBezTo>
                  <a:cubicBezTo>
                    <a:pt x="125" y="270"/>
                    <a:pt x="102" y="284"/>
                    <a:pt x="144" y="312"/>
                  </a:cubicBezTo>
                  <a:cubicBezTo>
                    <a:pt x="154" y="342"/>
                    <a:pt x="144" y="332"/>
                    <a:pt x="168" y="344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21160" y="3612960"/>
              <a:ext cx="330480" cy="432000"/>
            </a:xfrm>
            <a:custGeom>
              <a:avLst/>
              <a:gdLst/>
              <a:ahLst/>
              <a:rect l="l" t="t" r="r" b="b"/>
              <a:pathLst>
                <a:path w="208" h="272">
                  <a:moveTo>
                    <a:pt x="0" y="0"/>
                  </a:moveTo>
                  <a:cubicBezTo>
                    <a:pt x="8" y="33"/>
                    <a:pt x="17" y="51"/>
                    <a:pt x="32" y="80"/>
                  </a:cubicBezTo>
                  <a:cubicBezTo>
                    <a:pt x="36" y="88"/>
                    <a:pt x="35" y="97"/>
                    <a:pt x="40" y="104"/>
                  </a:cubicBezTo>
                  <a:cubicBezTo>
                    <a:pt x="55" y="123"/>
                    <a:pt x="92" y="131"/>
                    <a:pt x="112" y="144"/>
                  </a:cubicBezTo>
                  <a:cubicBezTo>
                    <a:pt x="117" y="152"/>
                    <a:pt x="124" y="159"/>
                    <a:pt x="128" y="168"/>
                  </a:cubicBezTo>
                  <a:cubicBezTo>
                    <a:pt x="132" y="178"/>
                    <a:pt x="131" y="190"/>
                    <a:pt x="136" y="200"/>
                  </a:cubicBezTo>
                  <a:cubicBezTo>
                    <a:pt x="153" y="230"/>
                    <a:pt x="185" y="249"/>
                    <a:pt x="208" y="272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597200" y="3092400"/>
              <a:ext cx="495360" cy="596880"/>
            </a:xfrm>
            <a:custGeom>
              <a:avLst/>
              <a:gdLst/>
              <a:ahLst/>
              <a:rect l="l" t="t" r="r" b="b"/>
              <a:pathLst>
                <a:path w="312" h="376">
                  <a:moveTo>
                    <a:pt x="312" y="376"/>
                  </a:moveTo>
                  <a:cubicBezTo>
                    <a:pt x="254" y="318"/>
                    <a:pt x="304" y="286"/>
                    <a:pt x="264" y="200"/>
                  </a:cubicBezTo>
                  <a:cubicBezTo>
                    <a:pt x="260" y="191"/>
                    <a:pt x="187" y="178"/>
                    <a:pt x="176" y="176"/>
                  </a:cubicBezTo>
                  <a:cubicBezTo>
                    <a:pt x="144" y="179"/>
                    <a:pt x="112" y="180"/>
                    <a:pt x="80" y="184"/>
                  </a:cubicBezTo>
                  <a:cubicBezTo>
                    <a:pt x="72" y="185"/>
                    <a:pt x="64" y="196"/>
                    <a:pt x="56" y="192"/>
                  </a:cubicBezTo>
                  <a:cubicBezTo>
                    <a:pt x="48" y="188"/>
                    <a:pt x="51" y="176"/>
                    <a:pt x="48" y="168"/>
                  </a:cubicBezTo>
                  <a:cubicBezTo>
                    <a:pt x="40" y="38"/>
                    <a:pt x="62" y="62"/>
                    <a:pt x="0" y="0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565360" y="4146480"/>
              <a:ext cx="338040" cy="266760"/>
            </a:xfrm>
            <a:custGeom>
              <a:avLst/>
              <a:gdLst/>
              <a:ahLst/>
              <a:rect l="l" t="t" r="r" b="b"/>
              <a:pathLst>
                <a:path w="213" h="168">
                  <a:moveTo>
                    <a:pt x="152" y="168"/>
                  </a:moveTo>
                  <a:cubicBezTo>
                    <a:pt x="213" y="76"/>
                    <a:pt x="60" y="99"/>
                    <a:pt x="16" y="96"/>
                  </a:cubicBezTo>
                  <a:cubicBezTo>
                    <a:pt x="0" y="49"/>
                    <a:pt x="8" y="80"/>
                    <a:pt x="8" y="0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536840" y="2469960"/>
              <a:ext cx="1726920" cy="1473120"/>
            </a:xfrm>
            <a:custGeom>
              <a:avLst/>
              <a:gdLst/>
              <a:ahLst/>
              <a:rect l="l" t="t" r="r" b="b"/>
              <a:pathLst>
                <a:path w="1088" h="928">
                  <a:moveTo>
                    <a:pt x="0" y="928"/>
                  </a:moveTo>
                  <a:cubicBezTo>
                    <a:pt x="59" y="908"/>
                    <a:pt x="60" y="907"/>
                    <a:pt x="80" y="848"/>
                  </a:cubicBezTo>
                  <a:cubicBezTo>
                    <a:pt x="83" y="800"/>
                    <a:pt x="84" y="752"/>
                    <a:pt x="88" y="704"/>
                  </a:cubicBezTo>
                  <a:cubicBezTo>
                    <a:pt x="107" y="499"/>
                    <a:pt x="349" y="525"/>
                    <a:pt x="488" y="520"/>
                  </a:cubicBezTo>
                  <a:cubicBezTo>
                    <a:pt x="538" y="507"/>
                    <a:pt x="606" y="498"/>
                    <a:pt x="648" y="464"/>
                  </a:cubicBezTo>
                  <a:cubicBezTo>
                    <a:pt x="689" y="431"/>
                    <a:pt x="718" y="390"/>
                    <a:pt x="752" y="352"/>
                  </a:cubicBezTo>
                  <a:cubicBezTo>
                    <a:pt x="767" y="335"/>
                    <a:pt x="787" y="323"/>
                    <a:pt x="800" y="304"/>
                  </a:cubicBezTo>
                  <a:cubicBezTo>
                    <a:pt x="833" y="255"/>
                    <a:pt x="854" y="186"/>
                    <a:pt x="896" y="144"/>
                  </a:cubicBezTo>
                  <a:cubicBezTo>
                    <a:pt x="912" y="128"/>
                    <a:pt x="922" y="101"/>
                    <a:pt x="944" y="96"/>
                  </a:cubicBezTo>
                  <a:cubicBezTo>
                    <a:pt x="990" y="85"/>
                    <a:pt x="1018" y="81"/>
                    <a:pt x="1056" y="56"/>
                  </a:cubicBezTo>
                  <a:cubicBezTo>
                    <a:pt x="1074" y="2"/>
                    <a:pt x="1057" y="16"/>
                    <a:pt x="1088" y="0"/>
                  </a:cubicBezTo>
                </a:path>
              </a:pathLst>
            </a:custGeom>
            <a:noFill/>
            <a:ln w="3816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66960" y="2368440"/>
              <a:ext cx="546120" cy="876240"/>
            </a:xfrm>
            <a:custGeom>
              <a:avLst/>
              <a:gdLst/>
              <a:ahLst/>
              <a:rect l="l" t="t" r="r" b="b"/>
              <a:pathLst>
                <a:path w="344" h="552">
                  <a:moveTo>
                    <a:pt x="344" y="552"/>
                  </a:moveTo>
                  <a:cubicBezTo>
                    <a:pt x="333" y="497"/>
                    <a:pt x="312" y="463"/>
                    <a:pt x="280" y="416"/>
                  </a:cubicBezTo>
                  <a:cubicBezTo>
                    <a:pt x="263" y="391"/>
                    <a:pt x="228" y="383"/>
                    <a:pt x="208" y="360"/>
                  </a:cubicBezTo>
                  <a:cubicBezTo>
                    <a:pt x="171" y="317"/>
                    <a:pt x="135" y="271"/>
                    <a:pt x="104" y="224"/>
                  </a:cubicBezTo>
                  <a:cubicBezTo>
                    <a:pt x="95" y="186"/>
                    <a:pt x="89" y="138"/>
                    <a:pt x="72" y="104"/>
                  </a:cubicBezTo>
                  <a:cubicBezTo>
                    <a:pt x="57" y="74"/>
                    <a:pt x="54" y="83"/>
                    <a:pt x="32" y="56"/>
                  </a:cubicBezTo>
                  <a:cubicBezTo>
                    <a:pt x="17" y="38"/>
                    <a:pt x="16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790640" y="3448080"/>
              <a:ext cx="507960" cy="838080"/>
            </a:xfrm>
            <a:custGeom>
              <a:avLst/>
              <a:gdLst/>
              <a:ahLst/>
              <a:rect l="l" t="t" r="r" b="b"/>
              <a:pathLst>
                <a:path w="320" h="528">
                  <a:moveTo>
                    <a:pt x="0" y="0"/>
                  </a:moveTo>
                  <a:cubicBezTo>
                    <a:pt x="83" y="10"/>
                    <a:pt x="61" y="12"/>
                    <a:pt x="120" y="56"/>
                  </a:cubicBezTo>
                  <a:cubicBezTo>
                    <a:pt x="129" y="84"/>
                    <a:pt x="143" y="108"/>
                    <a:pt x="152" y="136"/>
                  </a:cubicBezTo>
                  <a:cubicBezTo>
                    <a:pt x="164" y="244"/>
                    <a:pt x="198" y="346"/>
                    <a:pt x="232" y="448"/>
                  </a:cubicBezTo>
                  <a:cubicBezTo>
                    <a:pt x="236" y="461"/>
                    <a:pt x="305" y="513"/>
                    <a:pt x="320" y="528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066680" y="3092400"/>
              <a:ext cx="571680" cy="560160"/>
            </a:xfrm>
            <a:custGeom>
              <a:avLst/>
              <a:gdLst/>
              <a:ahLst/>
              <a:rect l="l" t="t" r="r" b="b"/>
              <a:pathLst>
                <a:path w="360" h="353">
                  <a:moveTo>
                    <a:pt x="360" y="352"/>
                  </a:moveTo>
                  <a:cubicBezTo>
                    <a:pt x="317" y="349"/>
                    <a:pt x="274" y="353"/>
                    <a:pt x="232" y="344"/>
                  </a:cubicBezTo>
                  <a:cubicBezTo>
                    <a:pt x="213" y="340"/>
                    <a:pt x="184" y="312"/>
                    <a:pt x="184" y="312"/>
                  </a:cubicBezTo>
                  <a:cubicBezTo>
                    <a:pt x="163" y="249"/>
                    <a:pt x="179" y="183"/>
                    <a:pt x="160" y="120"/>
                  </a:cubicBezTo>
                  <a:cubicBezTo>
                    <a:pt x="144" y="69"/>
                    <a:pt x="37" y="37"/>
                    <a:pt x="0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270080" y="3943080"/>
              <a:ext cx="266760" cy="317520"/>
            </a:xfrm>
            <a:custGeom>
              <a:avLst/>
              <a:gdLst/>
              <a:ahLst/>
              <a:rect l="l" t="t" r="r" b="b"/>
              <a:pathLst>
                <a:path w="168" h="200">
                  <a:moveTo>
                    <a:pt x="168" y="0"/>
                  </a:moveTo>
                  <a:cubicBezTo>
                    <a:pt x="142" y="9"/>
                    <a:pt x="96" y="40"/>
                    <a:pt x="96" y="40"/>
                  </a:cubicBezTo>
                  <a:cubicBezTo>
                    <a:pt x="73" y="74"/>
                    <a:pt x="68" y="104"/>
                    <a:pt x="32" y="128"/>
                  </a:cubicBezTo>
                  <a:cubicBezTo>
                    <a:pt x="27" y="136"/>
                    <a:pt x="20" y="143"/>
                    <a:pt x="16" y="152"/>
                  </a:cubicBezTo>
                  <a:cubicBezTo>
                    <a:pt x="9" y="167"/>
                    <a:pt x="0" y="200"/>
                    <a:pt x="0" y="200"/>
                  </a:cubicBezTo>
                </a:path>
              </a:pathLst>
            </a:custGeom>
            <a:noFill/>
            <a:ln w="38160">
              <a:solidFill>
                <a:srgbClr val="34bfe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225600" y="2558880"/>
              <a:ext cx="597240" cy="149400"/>
            </a:xfrm>
            <a:custGeom>
              <a:avLst/>
              <a:gdLst/>
              <a:ahLst/>
              <a:rect l="l" t="t" r="r" b="b"/>
              <a:pathLst>
                <a:path w="376" h="94">
                  <a:moveTo>
                    <a:pt x="0" y="0"/>
                  </a:moveTo>
                  <a:cubicBezTo>
                    <a:pt x="37" y="12"/>
                    <a:pt x="71" y="18"/>
                    <a:pt x="104" y="40"/>
                  </a:cubicBezTo>
                  <a:cubicBezTo>
                    <a:pt x="140" y="94"/>
                    <a:pt x="151" y="79"/>
                    <a:pt x="224" y="72"/>
                  </a:cubicBezTo>
                  <a:cubicBezTo>
                    <a:pt x="271" y="41"/>
                    <a:pt x="318" y="40"/>
                    <a:pt x="376" y="40"/>
                  </a:cubicBezTo>
                </a:path>
              </a:pathLst>
            </a:custGeom>
            <a:noFill/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63960" y="3294000"/>
              <a:ext cx="287280" cy="287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558880" y="2286000"/>
              <a:ext cx="287640" cy="287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631960" y="2430360"/>
              <a:ext cx="292320" cy="260280"/>
            </a:xfrm>
            <a:custGeom>
              <a:avLst/>
              <a:gdLst/>
              <a:ahLst/>
              <a:rect l="l" t="t" r="r" b="b"/>
              <a:pathLst>
                <a:path w="320" h="255">
                  <a:moveTo>
                    <a:pt x="0" y="1"/>
                  </a:moveTo>
                  <a:cubicBezTo>
                    <a:pt x="29" y="4"/>
                    <a:pt x="60" y="0"/>
                    <a:pt x="88" y="9"/>
                  </a:cubicBezTo>
                  <a:cubicBezTo>
                    <a:pt x="117" y="18"/>
                    <a:pt x="113" y="100"/>
                    <a:pt x="128" y="113"/>
                  </a:cubicBezTo>
                  <a:cubicBezTo>
                    <a:pt x="136" y="120"/>
                    <a:pt x="193" y="133"/>
                    <a:pt x="208" y="137"/>
                  </a:cubicBezTo>
                  <a:cubicBezTo>
                    <a:pt x="223" y="160"/>
                    <a:pt x="236" y="243"/>
                    <a:pt x="256" y="249"/>
                  </a:cubicBezTo>
                  <a:cubicBezTo>
                    <a:pt x="276" y="255"/>
                    <a:pt x="299" y="249"/>
                    <a:pt x="320" y="249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703600" y="3006720"/>
              <a:ext cx="507960" cy="404640"/>
            </a:xfrm>
            <a:custGeom>
              <a:avLst/>
              <a:gdLst/>
              <a:ahLst/>
              <a:rect l="l" t="t" r="r" b="b"/>
              <a:pathLst>
                <a:path w="320" h="255">
                  <a:moveTo>
                    <a:pt x="0" y="1"/>
                  </a:moveTo>
                  <a:cubicBezTo>
                    <a:pt x="29" y="4"/>
                    <a:pt x="60" y="0"/>
                    <a:pt x="88" y="9"/>
                  </a:cubicBezTo>
                  <a:cubicBezTo>
                    <a:pt x="117" y="18"/>
                    <a:pt x="113" y="100"/>
                    <a:pt x="128" y="113"/>
                  </a:cubicBezTo>
                  <a:cubicBezTo>
                    <a:pt x="136" y="120"/>
                    <a:pt x="193" y="133"/>
                    <a:pt x="208" y="137"/>
                  </a:cubicBezTo>
                  <a:cubicBezTo>
                    <a:pt x="223" y="160"/>
                    <a:pt x="236" y="243"/>
                    <a:pt x="256" y="249"/>
                  </a:cubicBezTo>
                  <a:cubicBezTo>
                    <a:pt x="276" y="255"/>
                    <a:pt x="299" y="249"/>
                    <a:pt x="320" y="249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558880" y="5527440"/>
              <a:ext cx="100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Receptor de FG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584680" y="387036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664320" y="3727440"/>
              <a:ext cx="107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Heparán sulfa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4071960" y="329400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84680" y="2935080"/>
              <a:ext cx="5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FG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5656320" y="3151080"/>
              <a:ext cx="7189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448320" y="2935080"/>
              <a:ext cx="1008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sindecá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11600" y="2358720"/>
              <a:ext cx="201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Proteoglicano de 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208320" y="4159080"/>
              <a:ext cx="287280" cy="287280"/>
            </a:xfrm>
            <a:custGeom>
              <a:avLst/>
              <a:gdLst>
                <a:gd name="textAreaLeft" fmla="*/ 33840 w 287280"/>
                <a:gd name="textAreaRight" fmla="*/ 253440 w 287280"/>
                <a:gd name="textAreaTop" fmla="*/ 33840 h 287280"/>
                <a:gd name="textAreaBottom" fmla="*/ 2534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135240" y="4086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819760" y="538308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itos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"/>
          <p:cNvGrpSpPr/>
          <p:nvPr/>
        </p:nvGrpSpPr>
        <p:grpSpPr>
          <a:xfrm>
            <a:off x="539640" y="0"/>
            <a:ext cx="8209080" cy="5911920"/>
            <a:chOff x="539640" y="0"/>
            <a:chExt cx="8209080" cy="5911920"/>
          </a:xfrm>
        </p:grpSpPr>
        <p:pic>
          <p:nvPicPr>
            <p:cNvPr id="1153" name="" descr=""/>
            <p:cNvPicPr/>
            <p:nvPr/>
          </p:nvPicPr>
          <p:blipFill>
            <a:blip r:embed="rId1"/>
            <a:srcRect l="0" t="0" r="0" b="17467"/>
            <a:stretch/>
          </p:blipFill>
          <p:spPr>
            <a:xfrm>
              <a:off x="539640" y="0"/>
              <a:ext cx="8066160" cy="59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"/>
            <p:cNvSpPr/>
            <p:nvPr/>
          </p:nvSpPr>
          <p:spPr>
            <a:xfrm>
              <a:off x="900000" y="2205000"/>
              <a:ext cx="144000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o-receptores en transducción de señ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476360" y="765000"/>
              <a:ext cx="1152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Adhesión célula-célu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211640" y="1413000"/>
              <a:ext cx="792000" cy="100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Presenta-ción y transpor-te de quimio-quin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451640" y="2276640"/>
              <a:ext cx="129708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Adhesión célula–matríz  extracelu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164360" y="189000"/>
              <a:ext cx="10080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Barrera fisiológ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580000" y="0"/>
              <a:ext cx="144000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ecuestro/ almacenamiento de ligan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300600" y="6093000"/>
            <a:ext cx="858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iversas funciones de los proteoglicanos de heparán sulfato en la fisiología celul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175040" y="5680080"/>
            <a:ext cx="156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Nature 446:1030-37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6372360" y="2924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pu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27920" y="333360"/>
            <a:ext cx="59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Tahoma"/>
              </a:rPr>
              <a:t>Papel de las proteasas de matriz extra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1256760" y="836640"/>
            <a:ext cx="6151680" cy="7941240"/>
            <a:chOff x="1256760" y="836640"/>
            <a:chExt cx="6151680" cy="7941240"/>
          </a:xfrm>
        </p:grpSpPr>
        <p:sp>
          <p:nvSpPr>
            <p:cNvPr id="1166" name=""/>
            <p:cNvSpPr/>
            <p:nvPr/>
          </p:nvSpPr>
          <p:spPr>
            <a:xfrm flipH="1" rot="1870800">
              <a:off x="1614960" y="5356080"/>
              <a:ext cx="4126680" cy="253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20" y="81"/>
                  </a:moveTo>
                  <a:arcTo wR="10800" hR="10800" stAng="-4978857" swAng="49788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20" y="81"/>
                  </a:moveTo>
                  <a:arcTo wR="10800" hR="10800" stAng="-4978857" swAng="4978857"/>
                </a:path>
              </a:pathLst>
            </a:custGeom>
            <a:gradFill rotWithShape="0">
              <a:gsLst>
                <a:gs pos="0">
                  <a:srgbClr val="fae33c"/>
                </a:gs>
                <a:gs pos="100000">
                  <a:srgbClr val="fefefe"/>
                </a:gs>
              </a:gsLst>
              <a:lin ang="7272000"/>
            </a:gra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170160" y="139212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799200">
              <a:off x="4313160" y="160488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rot="20491200">
              <a:off x="2103120" y="160452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705120" y="139212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rot="20449800">
              <a:off x="2484360" y="139212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 rot="1870800">
              <a:off x="2093400" y="2354760"/>
              <a:ext cx="3977280" cy="297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38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38010"/>
                </a:path>
              </a:pathLst>
            </a:custGeom>
            <a:gradFill rotWithShape="0">
              <a:gsLst>
                <a:gs pos="0">
                  <a:srgbClr val="fae33c"/>
                </a:gs>
                <a:gs pos="100000">
                  <a:srgbClr val="fefefe"/>
                </a:gs>
              </a:gsLst>
              <a:lin ang="7272000"/>
            </a:gra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40000" y="1492200"/>
              <a:ext cx="26820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313160" y="114768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941560" y="107136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027160" y="1452600"/>
              <a:ext cx="267840" cy="43632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024080" y="836640"/>
              <a:ext cx="14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Tahoma"/>
                </a:rPr>
                <a:t>f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46320" y="2214360"/>
              <a:ext cx="20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 flipV="1">
              <a:off x="4845960" y="1928520"/>
              <a:ext cx="193320" cy="299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4581000" y="1147680"/>
              <a:ext cx="264600" cy="138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842840" y="4897440"/>
              <a:ext cx="325080" cy="536400"/>
            </a:xfrm>
            <a:custGeom>
              <a:avLst/>
              <a:gdLst/>
              <a:ahLst/>
              <a:rect l="l" t="t" r="r" b="b"/>
              <a:pathLst>
                <a:path w="205" h="338">
                  <a:moveTo>
                    <a:pt x="33" y="108"/>
                  </a:moveTo>
                  <a:cubicBezTo>
                    <a:pt x="48" y="116"/>
                    <a:pt x="7" y="85"/>
                    <a:pt x="24" y="89"/>
                  </a:cubicBezTo>
                  <a:cubicBezTo>
                    <a:pt x="64" y="97"/>
                    <a:pt x="6" y="45"/>
                    <a:pt x="24" y="98"/>
                  </a:cubicBezTo>
                  <a:cubicBezTo>
                    <a:pt x="62" y="213"/>
                    <a:pt x="69" y="223"/>
                    <a:pt x="107" y="338"/>
                  </a:cubicBezTo>
                  <a:cubicBezTo>
                    <a:pt x="122" y="326"/>
                    <a:pt x="140" y="318"/>
                    <a:pt x="153" y="303"/>
                  </a:cubicBezTo>
                  <a:cubicBezTo>
                    <a:pt x="205" y="243"/>
                    <a:pt x="150" y="265"/>
                    <a:pt x="193" y="251"/>
                  </a:cubicBezTo>
                  <a:cubicBezTo>
                    <a:pt x="122" y="251"/>
                    <a:pt x="155" y="253"/>
                    <a:pt x="95" y="246"/>
                  </a:cubicBezTo>
                  <a:cubicBezTo>
                    <a:pt x="80" y="200"/>
                    <a:pt x="64" y="154"/>
                    <a:pt x="49" y="108"/>
                  </a:cubicBezTo>
                  <a:cubicBezTo>
                    <a:pt x="72" y="96"/>
                    <a:pt x="37" y="111"/>
                    <a:pt x="51" y="89"/>
                  </a:cubicBezTo>
                  <a:cubicBezTo>
                    <a:pt x="65" y="68"/>
                    <a:pt x="50" y="104"/>
                    <a:pt x="42" y="80"/>
                  </a:cubicBezTo>
                  <a:cubicBezTo>
                    <a:pt x="70" y="23"/>
                    <a:pt x="0" y="96"/>
                    <a:pt x="42" y="53"/>
                  </a:cubicBezTo>
                  <a:cubicBezTo>
                    <a:pt x="31" y="19"/>
                    <a:pt x="12" y="36"/>
                    <a:pt x="42" y="17"/>
                  </a:cubicBezTo>
                  <a:lnTo>
                    <a:pt x="24" y="44"/>
                  </a:lnTo>
                  <a:cubicBezTo>
                    <a:pt x="51" y="35"/>
                    <a:pt x="72" y="0"/>
                    <a:pt x="33" y="17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223720" y="4699080"/>
              <a:ext cx="328320" cy="522000"/>
            </a:xfrm>
            <a:custGeom>
              <a:avLst/>
              <a:gdLst/>
              <a:ahLst/>
              <a:rect l="l" t="t" r="r" b="b"/>
              <a:pathLst>
                <a:path w="207" h="329">
                  <a:moveTo>
                    <a:pt x="1" y="57"/>
                  </a:moveTo>
                  <a:cubicBezTo>
                    <a:pt x="16" y="64"/>
                    <a:pt x="0" y="69"/>
                    <a:pt x="17" y="73"/>
                  </a:cubicBezTo>
                  <a:cubicBezTo>
                    <a:pt x="57" y="81"/>
                    <a:pt x="7" y="12"/>
                    <a:pt x="25" y="65"/>
                  </a:cubicBezTo>
                  <a:cubicBezTo>
                    <a:pt x="65" y="179"/>
                    <a:pt x="71" y="215"/>
                    <a:pt x="110" y="329"/>
                  </a:cubicBezTo>
                  <a:cubicBezTo>
                    <a:pt x="125" y="317"/>
                    <a:pt x="144" y="309"/>
                    <a:pt x="156" y="294"/>
                  </a:cubicBezTo>
                  <a:cubicBezTo>
                    <a:pt x="207" y="233"/>
                    <a:pt x="153" y="256"/>
                    <a:pt x="195" y="241"/>
                  </a:cubicBezTo>
                  <a:cubicBezTo>
                    <a:pt x="125" y="242"/>
                    <a:pt x="157" y="244"/>
                    <a:pt x="98" y="237"/>
                  </a:cubicBezTo>
                  <a:cubicBezTo>
                    <a:pt x="82" y="192"/>
                    <a:pt x="66" y="145"/>
                    <a:pt x="50" y="100"/>
                  </a:cubicBezTo>
                  <a:cubicBezTo>
                    <a:pt x="72" y="88"/>
                    <a:pt x="43" y="118"/>
                    <a:pt x="57" y="97"/>
                  </a:cubicBezTo>
                  <a:cubicBezTo>
                    <a:pt x="70" y="75"/>
                    <a:pt x="41" y="129"/>
                    <a:pt x="33" y="105"/>
                  </a:cubicBezTo>
                  <a:cubicBezTo>
                    <a:pt x="61" y="48"/>
                    <a:pt x="23" y="100"/>
                    <a:pt x="65" y="57"/>
                  </a:cubicBezTo>
                  <a:cubicBezTo>
                    <a:pt x="53" y="23"/>
                    <a:pt x="19" y="90"/>
                    <a:pt x="57" y="65"/>
                  </a:cubicBezTo>
                  <a:lnTo>
                    <a:pt x="57" y="81"/>
                  </a:lnTo>
                  <a:cubicBezTo>
                    <a:pt x="96" y="0"/>
                    <a:pt x="63" y="81"/>
                    <a:pt x="65" y="81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456080" y="393372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520800" y="386064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439720" y="357336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792080" y="393372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384440" y="2925720"/>
              <a:ext cx="1904760" cy="358560"/>
            </a:xfrm>
            <a:prstGeom prst="rightArrow">
              <a:avLst>
                <a:gd name="adj1" fmla="val 50000"/>
                <a:gd name="adj2" fmla="val 132806"/>
              </a:avLst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679720" y="573408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espues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476360" y="476388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842840" y="455904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rot="999000">
              <a:off x="2807640" y="4595760"/>
              <a:ext cx="325080" cy="536400"/>
            </a:xfrm>
            <a:custGeom>
              <a:avLst/>
              <a:gdLst/>
              <a:ahLst/>
              <a:rect l="l" t="t" r="r" b="b"/>
              <a:pathLst>
                <a:path w="205" h="338">
                  <a:moveTo>
                    <a:pt x="33" y="108"/>
                  </a:moveTo>
                  <a:cubicBezTo>
                    <a:pt x="48" y="116"/>
                    <a:pt x="7" y="85"/>
                    <a:pt x="24" y="89"/>
                  </a:cubicBezTo>
                  <a:cubicBezTo>
                    <a:pt x="64" y="97"/>
                    <a:pt x="6" y="45"/>
                    <a:pt x="24" y="98"/>
                  </a:cubicBezTo>
                  <a:cubicBezTo>
                    <a:pt x="62" y="213"/>
                    <a:pt x="69" y="223"/>
                    <a:pt x="107" y="338"/>
                  </a:cubicBezTo>
                  <a:cubicBezTo>
                    <a:pt x="122" y="326"/>
                    <a:pt x="140" y="318"/>
                    <a:pt x="153" y="303"/>
                  </a:cubicBezTo>
                  <a:cubicBezTo>
                    <a:pt x="205" y="243"/>
                    <a:pt x="150" y="265"/>
                    <a:pt x="193" y="251"/>
                  </a:cubicBezTo>
                  <a:cubicBezTo>
                    <a:pt x="122" y="251"/>
                    <a:pt x="155" y="253"/>
                    <a:pt x="95" y="246"/>
                  </a:cubicBezTo>
                  <a:cubicBezTo>
                    <a:pt x="80" y="200"/>
                    <a:pt x="64" y="154"/>
                    <a:pt x="49" y="108"/>
                  </a:cubicBezTo>
                  <a:cubicBezTo>
                    <a:pt x="72" y="96"/>
                    <a:pt x="37" y="111"/>
                    <a:pt x="51" y="89"/>
                  </a:cubicBezTo>
                  <a:cubicBezTo>
                    <a:pt x="65" y="68"/>
                    <a:pt x="50" y="104"/>
                    <a:pt x="42" y="80"/>
                  </a:cubicBezTo>
                  <a:cubicBezTo>
                    <a:pt x="70" y="23"/>
                    <a:pt x="0" y="96"/>
                    <a:pt x="42" y="53"/>
                  </a:cubicBezTo>
                  <a:cubicBezTo>
                    <a:pt x="31" y="19"/>
                    <a:pt x="12" y="36"/>
                    <a:pt x="42" y="17"/>
                  </a:cubicBezTo>
                  <a:lnTo>
                    <a:pt x="24" y="44"/>
                  </a:lnTo>
                  <a:cubicBezTo>
                    <a:pt x="51" y="35"/>
                    <a:pt x="72" y="0"/>
                    <a:pt x="33" y="17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rot="984600">
              <a:off x="2551680" y="436032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rot="2563800">
              <a:off x="3371400" y="4684680"/>
              <a:ext cx="325080" cy="536400"/>
            </a:xfrm>
            <a:custGeom>
              <a:avLst/>
              <a:gdLst/>
              <a:ahLst/>
              <a:rect l="l" t="t" r="r" b="b"/>
              <a:pathLst>
                <a:path w="205" h="338">
                  <a:moveTo>
                    <a:pt x="33" y="108"/>
                  </a:moveTo>
                  <a:cubicBezTo>
                    <a:pt x="48" y="116"/>
                    <a:pt x="7" y="85"/>
                    <a:pt x="24" y="89"/>
                  </a:cubicBezTo>
                  <a:cubicBezTo>
                    <a:pt x="64" y="97"/>
                    <a:pt x="6" y="45"/>
                    <a:pt x="24" y="98"/>
                  </a:cubicBezTo>
                  <a:cubicBezTo>
                    <a:pt x="62" y="213"/>
                    <a:pt x="69" y="223"/>
                    <a:pt x="107" y="338"/>
                  </a:cubicBezTo>
                  <a:cubicBezTo>
                    <a:pt x="122" y="326"/>
                    <a:pt x="140" y="318"/>
                    <a:pt x="153" y="303"/>
                  </a:cubicBezTo>
                  <a:cubicBezTo>
                    <a:pt x="205" y="243"/>
                    <a:pt x="150" y="265"/>
                    <a:pt x="193" y="251"/>
                  </a:cubicBezTo>
                  <a:cubicBezTo>
                    <a:pt x="122" y="251"/>
                    <a:pt x="155" y="253"/>
                    <a:pt x="95" y="246"/>
                  </a:cubicBezTo>
                  <a:cubicBezTo>
                    <a:pt x="80" y="200"/>
                    <a:pt x="64" y="154"/>
                    <a:pt x="49" y="108"/>
                  </a:cubicBezTo>
                  <a:cubicBezTo>
                    <a:pt x="72" y="96"/>
                    <a:pt x="37" y="111"/>
                    <a:pt x="51" y="89"/>
                  </a:cubicBezTo>
                  <a:cubicBezTo>
                    <a:pt x="65" y="68"/>
                    <a:pt x="50" y="104"/>
                    <a:pt x="42" y="80"/>
                  </a:cubicBezTo>
                  <a:cubicBezTo>
                    <a:pt x="70" y="23"/>
                    <a:pt x="0" y="96"/>
                    <a:pt x="42" y="53"/>
                  </a:cubicBezTo>
                  <a:cubicBezTo>
                    <a:pt x="31" y="19"/>
                    <a:pt x="12" y="36"/>
                    <a:pt x="42" y="17"/>
                  </a:cubicBezTo>
                  <a:lnTo>
                    <a:pt x="24" y="44"/>
                  </a:lnTo>
                  <a:cubicBezTo>
                    <a:pt x="51" y="35"/>
                    <a:pt x="72" y="0"/>
                    <a:pt x="33" y="17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238200" y="444024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2563800">
              <a:off x="3753720" y="4817880"/>
              <a:ext cx="325080" cy="536760"/>
            </a:xfrm>
            <a:custGeom>
              <a:avLst/>
              <a:gdLst/>
              <a:ahLst/>
              <a:rect l="l" t="t" r="r" b="b"/>
              <a:pathLst>
                <a:path w="205" h="338">
                  <a:moveTo>
                    <a:pt x="33" y="108"/>
                  </a:moveTo>
                  <a:cubicBezTo>
                    <a:pt x="48" y="116"/>
                    <a:pt x="7" y="85"/>
                    <a:pt x="24" y="89"/>
                  </a:cubicBezTo>
                  <a:cubicBezTo>
                    <a:pt x="64" y="97"/>
                    <a:pt x="6" y="45"/>
                    <a:pt x="24" y="98"/>
                  </a:cubicBezTo>
                  <a:cubicBezTo>
                    <a:pt x="62" y="213"/>
                    <a:pt x="69" y="223"/>
                    <a:pt x="107" y="338"/>
                  </a:cubicBezTo>
                  <a:cubicBezTo>
                    <a:pt x="122" y="326"/>
                    <a:pt x="140" y="318"/>
                    <a:pt x="153" y="303"/>
                  </a:cubicBezTo>
                  <a:cubicBezTo>
                    <a:pt x="205" y="243"/>
                    <a:pt x="150" y="265"/>
                    <a:pt x="193" y="251"/>
                  </a:cubicBezTo>
                  <a:cubicBezTo>
                    <a:pt x="122" y="251"/>
                    <a:pt x="155" y="253"/>
                    <a:pt x="95" y="246"/>
                  </a:cubicBezTo>
                  <a:cubicBezTo>
                    <a:pt x="80" y="200"/>
                    <a:pt x="64" y="154"/>
                    <a:pt x="49" y="108"/>
                  </a:cubicBezTo>
                  <a:cubicBezTo>
                    <a:pt x="72" y="96"/>
                    <a:pt x="37" y="111"/>
                    <a:pt x="51" y="89"/>
                  </a:cubicBezTo>
                  <a:cubicBezTo>
                    <a:pt x="65" y="68"/>
                    <a:pt x="50" y="104"/>
                    <a:pt x="42" y="80"/>
                  </a:cubicBezTo>
                  <a:cubicBezTo>
                    <a:pt x="70" y="23"/>
                    <a:pt x="0" y="96"/>
                    <a:pt x="42" y="53"/>
                  </a:cubicBezTo>
                  <a:cubicBezTo>
                    <a:pt x="31" y="19"/>
                    <a:pt x="12" y="36"/>
                    <a:pt x="42" y="17"/>
                  </a:cubicBezTo>
                  <a:lnTo>
                    <a:pt x="24" y="44"/>
                  </a:lnTo>
                  <a:cubicBezTo>
                    <a:pt x="51" y="35"/>
                    <a:pt x="72" y="0"/>
                    <a:pt x="33" y="17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620880" y="4592520"/>
              <a:ext cx="45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808080" y="4508280"/>
              <a:ext cx="22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66ff"/>
                  </a:solidFill>
                  <a:latin typeface="Tahoma"/>
                </a:rPr>
                <a:t>Proteasas de M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43040" y="2286000"/>
              <a:ext cx="304560" cy="29520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38160">
              <a:solidFill>
                <a:srgbClr val="8f67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862000" y="2581200"/>
              <a:ext cx="217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f67e9"/>
                  </a:solidFill>
                  <a:latin typeface="Tahoma"/>
                </a:rPr>
                <a:t>señalización</a:t>
              </a:r>
              <a:r>
                <a:rPr b="1" lang="en-US" sz="1800" spc="-1" strike="noStrike">
                  <a:solidFill>
                    <a:srgbClr val="ffff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8f67e9"/>
                  </a:solidFill>
                  <a:latin typeface="Tahoma"/>
                </a:rPr>
                <a:t>intra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865240" y="5221080"/>
              <a:ext cx="304560" cy="29556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223720" y="5589360"/>
              <a:ext cx="21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ahoma"/>
                </a:rPr>
                <a:t>señalización intra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6184440" y="5734080"/>
              <a:ext cx="380520" cy="6001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256080" y="5734080"/>
              <a:ext cx="380880" cy="511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79720" y="5949720"/>
              <a:ext cx="15840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464080" y="5734080"/>
              <a:ext cx="0" cy="431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1219320"/>
            <a:ext cx="2362320" cy="1600200"/>
          </a:xfrm>
          <a:prstGeom prst="roundRect">
            <a:avLst>
              <a:gd name="adj" fmla="val 16667"/>
            </a:avLst>
          </a:prstGeom>
          <a:solidFill>
            <a:srgbClr val="c7c7c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2971800"/>
            <a:ext cx="2361960" cy="1600200"/>
          </a:xfrm>
          <a:prstGeom prst="roundRect">
            <a:avLst>
              <a:gd name="adj" fmla="val 16667"/>
            </a:avLst>
          </a:prstGeom>
          <a:solidFill>
            <a:srgbClr val="c7c7c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24922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3581280"/>
            <a:ext cx="762120" cy="7621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1600200"/>
            <a:ext cx="76212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895480" y="1676520"/>
            <a:ext cx="2210040" cy="838080"/>
          </a:xfrm>
          <a:prstGeom prst="line">
            <a:avLst/>
          </a:prstGeom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3505320"/>
            <a:ext cx="1981080" cy="685800"/>
          </a:xfrm>
          <a:prstGeom prst="line">
            <a:avLst/>
          </a:prstGeom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2133720"/>
            <a:ext cx="34290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657600"/>
            <a:ext cx="34290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205740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2133720"/>
            <a:ext cx="304560" cy="9144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800">
                <a:moveTo>
                  <a:pt x="3600" y="0"/>
                </a:moveTo>
                <a:arcTo wR="3600" hR="3600" stAng="16200000" swAng="-5400000"/>
                <a:lnTo>
                  <a:pt x="0" y="61200"/>
                </a:lnTo>
                <a:arcTo wR="3600" hR="3600" stAng="10800000" swAng="-5400000"/>
                <a:lnTo>
                  <a:pt x="18000" y="64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2057400"/>
            <a:ext cx="304560" cy="5335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819">
                <a:moveTo>
                  <a:pt x="3600" y="0"/>
                </a:moveTo>
                <a:arcTo wR="3600" hR="3600" stAng="16200000" swAng="-5400000"/>
                <a:lnTo>
                  <a:pt x="0" y="34219"/>
                </a:lnTo>
                <a:arcTo wR="3600" hR="3600" stAng="10800000" swAng="-5400000"/>
                <a:lnTo>
                  <a:pt x="18000" y="37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335268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3352680"/>
            <a:ext cx="304560" cy="5335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819">
                <a:moveTo>
                  <a:pt x="3600" y="0"/>
                </a:moveTo>
                <a:arcTo wR="3600" hR="3600" stAng="16200000" swAng="-5400000"/>
                <a:lnTo>
                  <a:pt x="0" y="34219"/>
                </a:lnTo>
                <a:arcTo wR="3600" hR="3600" stAng="10800000" swAng="-5400000"/>
                <a:lnTo>
                  <a:pt x="18000" y="37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2971800"/>
            <a:ext cx="304920" cy="9144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724">
                <a:moveTo>
                  <a:pt x="3600" y="0"/>
                </a:moveTo>
                <a:arcTo wR="3600" hR="3600" stAng="16200000" swAng="-5400000"/>
                <a:lnTo>
                  <a:pt x="0" y="61124"/>
                </a:lnTo>
                <a:arcTo wR="3600" hR="3600" stAng="10800000" swAng="-5400000"/>
                <a:lnTo>
                  <a:pt x="18000" y="6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2057400"/>
            <a:ext cx="381240" cy="9144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914400"/>
              <a:gd name="textAreaBottom" fmla="*/ 896040 h 914400"/>
            </a:gdLst>
            <a:ahLst/>
            <a:rect l="textAreaLeft" t="textAreaTop" r="textAreaRight" b="textAreaBottom"/>
            <a:pathLst>
              <a:path w="21600" h="51779">
                <a:moveTo>
                  <a:pt x="3600" y="0"/>
                </a:moveTo>
                <a:arcTo wR="3600" hR="3600" stAng="16200000" swAng="-5400000"/>
                <a:lnTo>
                  <a:pt x="0" y="48179"/>
                </a:lnTo>
                <a:arcTo wR="3600" hR="3600" stAng="10800000" swAng="-5400000"/>
                <a:lnTo>
                  <a:pt x="18000" y="517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205740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77320" y="3048120"/>
            <a:ext cx="304560" cy="9144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800">
                <a:moveTo>
                  <a:pt x="3600" y="0"/>
                </a:moveTo>
                <a:arcTo wR="3600" hR="3600" stAng="16200000" swAng="-5400000"/>
                <a:lnTo>
                  <a:pt x="0" y="61200"/>
                </a:lnTo>
                <a:arcTo wR="3600" hR="3600" stAng="10800000" swAng="-5400000"/>
                <a:lnTo>
                  <a:pt x="18000" y="64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335268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3352680"/>
            <a:ext cx="304560" cy="5335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819">
                <a:moveTo>
                  <a:pt x="3600" y="0"/>
                </a:moveTo>
                <a:arcTo wR="3600" hR="3600" stAng="16200000" swAng="-5400000"/>
                <a:lnTo>
                  <a:pt x="0" y="34219"/>
                </a:lnTo>
                <a:arcTo wR="3600" hR="3600" stAng="10800000" swAng="-5400000"/>
                <a:lnTo>
                  <a:pt x="18000" y="37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274320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28195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274320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289548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0" y="266688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25909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28195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0120" y="289548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25909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4387800">
            <a:off x="613404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289548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4387800">
            <a:off x="628632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4387800">
            <a:off x="5524200" y="278100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4387800">
            <a:off x="666720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4387800">
            <a:off x="5905440" y="278100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4387800">
            <a:off x="514332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4387800">
            <a:off x="697212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4387800">
            <a:off x="7277040" y="270504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4387800">
            <a:off x="7657920" y="270504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99360" y="5423040"/>
            <a:ext cx="83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2493200">
            <a:off x="5105160" y="312336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9092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86600" y="259092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259092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2493200">
            <a:off x="6248160" y="312336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2493200">
            <a:off x="6857640" y="312336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2493200">
            <a:off x="7543440" y="312336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38160" y="2494080"/>
            <a:ext cx="137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Espac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inter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6000" y="1219320"/>
            <a:ext cx="21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0b7be"/>
                </a:solidFill>
                <a:latin typeface="Tahoma"/>
              </a:rPr>
              <a:t>Matriz extracelula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705360" y="160020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249228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63560" y="907920"/>
            <a:ext cx="24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ff"/>
                </a:solidFill>
                <a:latin typeface="Tahoma"/>
              </a:rPr>
              <a:t>Moléculas de adh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1268280"/>
            <a:ext cx="689040" cy="101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37200" y="3879720"/>
            <a:ext cx="127080" cy="19872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35480" y="3908520"/>
            <a:ext cx="168480" cy="1555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3886200"/>
            <a:ext cx="126720" cy="19836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3886200"/>
            <a:ext cx="168120" cy="1555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162200" y="1905120"/>
            <a:ext cx="7452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8880" y="1905120"/>
            <a:ext cx="82800" cy="12996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12000" y="3857760"/>
            <a:ext cx="127080" cy="19836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3886200"/>
            <a:ext cx="168480" cy="1555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942880" y="1828800"/>
            <a:ext cx="7452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553080" y="1905120"/>
            <a:ext cx="7488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333400" y="1828800"/>
            <a:ext cx="7452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410080" y="1828800"/>
            <a:ext cx="82800" cy="1303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9200" y="1828800"/>
            <a:ext cx="82440" cy="1303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628680" y="1905120"/>
            <a:ext cx="82440" cy="12996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076600" y="3962520"/>
            <a:ext cx="82440" cy="12996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8153280" y="3962520"/>
            <a:ext cx="7488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4005360"/>
            <a:ext cx="3024000" cy="177840"/>
          </a:xfrm>
          <a:custGeom>
            <a:avLst/>
            <a:gdLst/>
            <a:ahLst/>
            <a:rect l="l" t="t" r="r" b="b"/>
            <a:pathLst>
              <a:path w="1632" h="112">
                <a:moveTo>
                  <a:pt x="0" y="56"/>
                </a:moveTo>
                <a:cubicBezTo>
                  <a:pt x="32" y="52"/>
                  <a:pt x="64" y="48"/>
                  <a:pt x="96" y="56"/>
                </a:cubicBezTo>
                <a:cubicBezTo>
                  <a:pt x="128" y="64"/>
                  <a:pt x="168" y="104"/>
                  <a:pt x="192" y="104"/>
                </a:cubicBezTo>
                <a:cubicBezTo>
                  <a:pt x="216" y="104"/>
                  <a:pt x="216" y="64"/>
                  <a:pt x="240" y="56"/>
                </a:cubicBezTo>
                <a:cubicBezTo>
                  <a:pt x="264" y="48"/>
                  <a:pt x="312" y="64"/>
                  <a:pt x="336" y="56"/>
                </a:cubicBezTo>
                <a:cubicBezTo>
                  <a:pt x="360" y="48"/>
                  <a:pt x="368" y="8"/>
                  <a:pt x="384" y="8"/>
                </a:cubicBezTo>
                <a:cubicBezTo>
                  <a:pt x="400" y="8"/>
                  <a:pt x="416" y="40"/>
                  <a:pt x="432" y="56"/>
                </a:cubicBezTo>
                <a:cubicBezTo>
                  <a:pt x="448" y="72"/>
                  <a:pt x="448" y="104"/>
                  <a:pt x="480" y="104"/>
                </a:cubicBezTo>
                <a:cubicBezTo>
                  <a:pt x="512" y="104"/>
                  <a:pt x="592" y="56"/>
                  <a:pt x="624" y="56"/>
                </a:cubicBezTo>
                <a:cubicBezTo>
                  <a:pt x="656" y="56"/>
                  <a:pt x="648" y="104"/>
                  <a:pt x="672" y="104"/>
                </a:cubicBezTo>
                <a:cubicBezTo>
                  <a:pt x="696" y="104"/>
                  <a:pt x="728" y="56"/>
                  <a:pt x="768" y="56"/>
                </a:cubicBezTo>
                <a:cubicBezTo>
                  <a:pt x="808" y="56"/>
                  <a:pt x="880" y="104"/>
                  <a:pt x="912" y="104"/>
                </a:cubicBezTo>
                <a:cubicBezTo>
                  <a:pt x="944" y="104"/>
                  <a:pt x="936" y="64"/>
                  <a:pt x="960" y="56"/>
                </a:cubicBezTo>
                <a:cubicBezTo>
                  <a:pt x="984" y="48"/>
                  <a:pt x="1016" y="56"/>
                  <a:pt x="1056" y="56"/>
                </a:cubicBezTo>
                <a:cubicBezTo>
                  <a:pt x="1096" y="56"/>
                  <a:pt x="1168" y="48"/>
                  <a:pt x="1200" y="56"/>
                </a:cubicBezTo>
                <a:cubicBezTo>
                  <a:pt x="1232" y="64"/>
                  <a:pt x="1200" y="112"/>
                  <a:pt x="1248" y="104"/>
                </a:cubicBezTo>
                <a:cubicBezTo>
                  <a:pt x="1296" y="96"/>
                  <a:pt x="1440" y="16"/>
                  <a:pt x="1488" y="8"/>
                </a:cubicBezTo>
                <a:cubicBezTo>
                  <a:pt x="1536" y="0"/>
                  <a:pt x="1512" y="48"/>
                  <a:pt x="1536" y="56"/>
                </a:cubicBezTo>
                <a:cubicBezTo>
                  <a:pt x="1560" y="64"/>
                  <a:pt x="1596" y="60"/>
                  <a:pt x="1632" y="5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4076640"/>
            <a:ext cx="3166920" cy="73080"/>
          </a:xfrm>
          <a:custGeom>
            <a:avLst/>
            <a:gdLst/>
            <a:ahLst/>
            <a:rect l="l" t="t" r="r" b="b"/>
            <a:pathLst>
              <a:path w="1632" h="112">
                <a:moveTo>
                  <a:pt x="0" y="56"/>
                </a:moveTo>
                <a:cubicBezTo>
                  <a:pt x="32" y="52"/>
                  <a:pt x="64" y="48"/>
                  <a:pt x="96" y="56"/>
                </a:cubicBezTo>
                <a:cubicBezTo>
                  <a:pt x="128" y="64"/>
                  <a:pt x="168" y="104"/>
                  <a:pt x="192" y="104"/>
                </a:cubicBezTo>
                <a:cubicBezTo>
                  <a:pt x="216" y="104"/>
                  <a:pt x="216" y="64"/>
                  <a:pt x="240" y="56"/>
                </a:cubicBezTo>
                <a:cubicBezTo>
                  <a:pt x="264" y="48"/>
                  <a:pt x="312" y="64"/>
                  <a:pt x="336" y="56"/>
                </a:cubicBezTo>
                <a:cubicBezTo>
                  <a:pt x="360" y="48"/>
                  <a:pt x="368" y="8"/>
                  <a:pt x="384" y="8"/>
                </a:cubicBezTo>
                <a:cubicBezTo>
                  <a:pt x="400" y="8"/>
                  <a:pt x="416" y="40"/>
                  <a:pt x="432" y="56"/>
                </a:cubicBezTo>
                <a:cubicBezTo>
                  <a:pt x="448" y="72"/>
                  <a:pt x="448" y="104"/>
                  <a:pt x="480" y="104"/>
                </a:cubicBezTo>
                <a:cubicBezTo>
                  <a:pt x="512" y="104"/>
                  <a:pt x="592" y="56"/>
                  <a:pt x="624" y="56"/>
                </a:cubicBezTo>
                <a:cubicBezTo>
                  <a:pt x="656" y="56"/>
                  <a:pt x="648" y="104"/>
                  <a:pt x="672" y="104"/>
                </a:cubicBezTo>
                <a:cubicBezTo>
                  <a:pt x="696" y="104"/>
                  <a:pt x="728" y="56"/>
                  <a:pt x="768" y="56"/>
                </a:cubicBezTo>
                <a:cubicBezTo>
                  <a:pt x="808" y="56"/>
                  <a:pt x="880" y="104"/>
                  <a:pt x="912" y="104"/>
                </a:cubicBezTo>
                <a:cubicBezTo>
                  <a:pt x="944" y="104"/>
                  <a:pt x="936" y="64"/>
                  <a:pt x="960" y="56"/>
                </a:cubicBezTo>
                <a:cubicBezTo>
                  <a:pt x="984" y="48"/>
                  <a:pt x="1016" y="56"/>
                  <a:pt x="1056" y="56"/>
                </a:cubicBezTo>
                <a:cubicBezTo>
                  <a:pt x="1096" y="56"/>
                  <a:pt x="1168" y="48"/>
                  <a:pt x="1200" y="56"/>
                </a:cubicBezTo>
                <a:cubicBezTo>
                  <a:pt x="1232" y="64"/>
                  <a:pt x="1200" y="112"/>
                  <a:pt x="1248" y="104"/>
                </a:cubicBezTo>
                <a:cubicBezTo>
                  <a:pt x="1296" y="96"/>
                  <a:pt x="1440" y="16"/>
                  <a:pt x="1488" y="8"/>
                </a:cubicBezTo>
                <a:cubicBezTo>
                  <a:pt x="1536" y="0"/>
                  <a:pt x="1512" y="48"/>
                  <a:pt x="1536" y="56"/>
                </a:cubicBezTo>
                <a:cubicBezTo>
                  <a:pt x="1560" y="64"/>
                  <a:pt x="1596" y="60"/>
                  <a:pt x="1632" y="5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1739880"/>
            <a:ext cx="2590560" cy="177840"/>
          </a:xfrm>
          <a:custGeom>
            <a:avLst/>
            <a:gdLst/>
            <a:ahLst/>
            <a:rect l="l" t="t" r="r" b="b"/>
            <a:pathLst>
              <a:path w="1632" h="112">
                <a:moveTo>
                  <a:pt x="0" y="56"/>
                </a:moveTo>
                <a:cubicBezTo>
                  <a:pt x="32" y="52"/>
                  <a:pt x="64" y="48"/>
                  <a:pt x="96" y="56"/>
                </a:cubicBezTo>
                <a:cubicBezTo>
                  <a:pt x="128" y="64"/>
                  <a:pt x="168" y="104"/>
                  <a:pt x="192" y="104"/>
                </a:cubicBezTo>
                <a:cubicBezTo>
                  <a:pt x="216" y="104"/>
                  <a:pt x="216" y="64"/>
                  <a:pt x="240" y="56"/>
                </a:cubicBezTo>
                <a:cubicBezTo>
                  <a:pt x="264" y="48"/>
                  <a:pt x="312" y="64"/>
                  <a:pt x="336" y="56"/>
                </a:cubicBezTo>
                <a:cubicBezTo>
                  <a:pt x="360" y="48"/>
                  <a:pt x="368" y="8"/>
                  <a:pt x="384" y="8"/>
                </a:cubicBezTo>
                <a:cubicBezTo>
                  <a:pt x="400" y="8"/>
                  <a:pt x="416" y="40"/>
                  <a:pt x="432" y="56"/>
                </a:cubicBezTo>
                <a:cubicBezTo>
                  <a:pt x="448" y="72"/>
                  <a:pt x="448" y="104"/>
                  <a:pt x="480" y="104"/>
                </a:cubicBezTo>
                <a:cubicBezTo>
                  <a:pt x="512" y="104"/>
                  <a:pt x="592" y="56"/>
                  <a:pt x="624" y="56"/>
                </a:cubicBezTo>
                <a:cubicBezTo>
                  <a:pt x="656" y="56"/>
                  <a:pt x="648" y="104"/>
                  <a:pt x="672" y="104"/>
                </a:cubicBezTo>
                <a:cubicBezTo>
                  <a:pt x="696" y="104"/>
                  <a:pt x="728" y="56"/>
                  <a:pt x="768" y="56"/>
                </a:cubicBezTo>
                <a:cubicBezTo>
                  <a:pt x="808" y="56"/>
                  <a:pt x="880" y="104"/>
                  <a:pt x="912" y="104"/>
                </a:cubicBezTo>
                <a:cubicBezTo>
                  <a:pt x="944" y="104"/>
                  <a:pt x="936" y="64"/>
                  <a:pt x="960" y="56"/>
                </a:cubicBezTo>
                <a:cubicBezTo>
                  <a:pt x="984" y="48"/>
                  <a:pt x="1016" y="56"/>
                  <a:pt x="1056" y="56"/>
                </a:cubicBezTo>
                <a:cubicBezTo>
                  <a:pt x="1096" y="56"/>
                  <a:pt x="1168" y="48"/>
                  <a:pt x="1200" y="56"/>
                </a:cubicBezTo>
                <a:cubicBezTo>
                  <a:pt x="1232" y="64"/>
                  <a:pt x="1200" y="112"/>
                  <a:pt x="1248" y="104"/>
                </a:cubicBezTo>
                <a:cubicBezTo>
                  <a:pt x="1296" y="96"/>
                  <a:pt x="1440" y="16"/>
                  <a:pt x="1488" y="8"/>
                </a:cubicBezTo>
                <a:cubicBezTo>
                  <a:pt x="1536" y="0"/>
                  <a:pt x="1512" y="48"/>
                  <a:pt x="1536" y="56"/>
                </a:cubicBezTo>
                <a:cubicBezTo>
                  <a:pt x="1560" y="64"/>
                  <a:pt x="1596" y="60"/>
                  <a:pt x="1632" y="5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1676520"/>
            <a:ext cx="2590920" cy="177840"/>
          </a:xfrm>
          <a:custGeom>
            <a:avLst/>
            <a:gdLst/>
            <a:ahLst/>
            <a:rect l="l" t="t" r="r" b="b"/>
            <a:pathLst>
              <a:path w="1632" h="112">
                <a:moveTo>
                  <a:pt x="0" y="56"/>
                </a:moveTo>
                <a:cubicBezTo>
                  <a:pt x="32" y="52"/>
                  <a:pt x="64" y="48"/>
                  <a:pt x="96" y="56"/>
                </a:cubicBezTo>
                <a:cubicBezTo>
                  <a:pt x="128" y="64"/>
                  <a:pt x="168" y="104"/>
                  <a:pt x="192" y="104"/>
                </a:cubicBezTo>
                <a:cubicBezTo>
                  <a:pt x="216" y="104"/>
                  <a:pt x="216" y="64"/>
                  <a:pt x="240" y="56"/>
                </a:cubicBezTo>
                <a:cubicBezTo>
                  <a:pt x="264" y="48"/>
                  <a:pt x="312" y="64"/>
                  <a:pt x="336" y="56"/>
                </a:cubicBezTo>
                <a:cubicBezTo>
                  <a:pt x="360" y="48"/>
                  <a:pt x="368" y="8"/>
                  <a:pt x="384" y="8"/>
                </a:cubicBezTo>
                <a:cubicBezTo>
                  <a:pt x="400" y="8"/>
                  <a:pt x="416" y="40"/>
                  <a:pt x="432" y="56"/>
                </a:cubicBezTo>
                <a:cubicBezTo>
                  <a:pt x="448" y="72"/>
                  <a:pt x="448" y="104"/>
                  <a:pt x="480" y="104"/>
                </a:cubicBezTo>
                <a:cubicBezTo>
                  <a:pt x="512" y="104"/>
                  <a:pt x="592" y="56"/>
                  <a:pt x="624" y="56"/>
                </a:cubicBezTo>
                <a:cubicBezTo>
                  <a:pt x="656" y="56"/>
                  <a:pt x="648" y="104"/>
                  <a:pt x="672" y="104"/>
                </a:cubicBezTo>
                <a:cubicBezTo>
                  <a:pt x="696" y="104"/>
                  <a:pt x="728" y="56"/>
                  <a:pt x="768" y="56"/>
                </a:cubicBezTo>
                <a:cubicBezTo>
                  <a:pt x="808" y="56"/>
                  <a:pt x="880" y="104"/>
                  <a:pt x="912" y="104"/>
                </a:cubicBezTo>
                <a:cubicBezTo>
                  <a:pt x="944" y="104"/>
                  <a:pt x="936" y="64"/>
                  <a:pt x="960" y="56"/>
                </a:cubicBezTo>
                <a:cubicBezTo>
                  <a:pt x="984" y="48"/>
                  <a:pt x="1016" y="56"/>
                  <a:pt x="1056" y="56"/>
                </a:cubicBezTo>
                <a:cubicBezTo>
                  <a:pt x="1096" y="56"/>
                  <a:pt x="1168" y="48"/>
                  <a:pt x="1200" y="56"/>
                </a:cubicBezTo>
                <a:cubicBezTo>
                  <a:pt x="1232" y="64"/>
                  <a:pt x="1200" y="112"/>
                  <a:pt x="1248" y="104"/>
                </a:cubicBezTo>
                <a:cubicBezTo>
                  <a:pt x="1296" y="96"/>
                  <a:pt x="1440" y="16"/>
                  <a:pt x="1488" y="8"/>
                </a:cubicBezTo>
                <a:cubicBezTo>
                  <a:pt x="1536" y="0"/>
                  <a:pt x="1512" y="48"/>
                  <a:pt x="1536" y="56"/>
                </a:cubicBezTo>
                <a:cubicBezTo>
                  <a:pt x="1560" y="64"/>
                  <a:pt x="1596" y="60"/>
                  <a:pt x="1632" y="5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35240" y="5562720"/>
            <a:ext cx="69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 estruc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 funcional (procesos de desarrollo, diferenciación, reparación,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50120" y="4419720"/>
            <a:ext cx="14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ahoma"/>
              </a:rPr>
              <a:t>Molécul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ahoma"/>
              </a:rPr>
              <a:t>adaptad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029200" y="40381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2240" y="46483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ahoma"/>
              </a:rPr>
              <a:t>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31520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2852640"/>
            <a:ext cx="1944720" cy="0"/>
          </a:xfrm>
          <a:prstGeom prst="line">
            <a:avLst/>
          </a:prstGeom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2924280"/>
            <a:ext cx="1944720" cy="0"/>
          </a:xfrm>
          <a:prstGeom prst="line">
            <a:avLst/>
          </a:prstGeom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40640" y="40464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ontactos celul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"/>
          <p:cNvGrpSpPr/>
          <p:nvPr/>
        </p:nvGrpSpPr>
        <p:grpSpPr>
          <a:xfrm>
            <a:off x="2050920" y="1844640"/>
            <a:ext cx="4751640" cy="3598920"/>
            <a:chOff x="2050920" y="1844640"/>
            <a:chExt cx="4751640" cy="3598920"/>
          </a:xfrm>
        </p:grpSpPr>
        <p:sp>
          <p:nvSpPr>
            <p:cNvPr id="1207" name=""/>
            <p:cNvSpPr/>
            <p:nvPr/>
          </p:nvSpPr>
          <p:spPr>
            <a:xfrm>
              <a:off x="3564000" y="3500280"/>
              <a:ext cx="1657080" cy="194328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50000">
                  <a:srgbClr val="727272"/>
                </a:gs>
                <a:gs pos="100000">
                  <a:srgbClr val="f8f8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873600" y="2379600"/>
              <a:ext cx="368280" cy="1851120"/>
            </a:xfrm>
            <a:custGeom>
              <a:avLst/>
              <a:gdLst/>
              <a:ahLst/>
              <a:rect l="l" t="t" r="r" b="b"/>
              <a:pathLst>
                <a:path w="232" h="1166">
                  <a:moveTo>
                    <a:pt x="0" y="1156"/>
                  </a:moveTo>
                  <a:cubicBezTo>
                    <a:pt x="50" y="1166"/>
                    <a:pt x="102" y="1086"/>
                    <a:pt x="162" y="1041"/>
                  </a:cubicBezTo>
                  <a:cubicBezTo>
                    <a:pt x="202" y="977"/>
                    <a:pt x="200" y="925"/>
                    <a:pt x="200" y="925"/>
                  </a:cubicBezTo>
                  <a:cubicBezTo>
                    <a:pt x="232" y="833"/>
                    <a:pt x="213" y="648"/>
                    <a:pt x="216" y="573"/>
                  </a:cubicBezTo>
                  <a:cubicBezTo>
                    <a:pt x="219" y="498"/>
                    <a:pt x="218" y="572"/>
                    <a:pt x="216" y="477"/>
                  </a:cubicBezTo>
                  <a:cubicBezTo>
                    <a:pt x="214" y="382"/>
                    <a:pt x="206" y="130"/>
                    <a:pt x="2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050920" y="1844640"/>
              <a:ext cx="1943280" cy="2160720"/>
            </a:xfrm>
            <a:custGeom>
              <a:avLst/>
              <a:gdLst>
                <a:gd name="textAreaLeft" fmla="*/ 94680 w 1943280"/>
                <a:gd name="textAreaRight" fmla="*/ 1848600 w 1943280"/>
                <a:gd name="textAreaTop" fmla="*/ 94680 h 2160720"/>
                <a:gd name="textAreaBottom" fmla="*/ 2066040 h 2160720"/>
              </a:gdLst>
              <a:ahLst/>
              <a:rect l="textAreaLeft" t="textAreaTop" r="textAreaRight" b="textAreaBottom"/>
              <a:pathLst>
                <a:path w="21600" h="24016">
                  <a:moveTo>
                    <a:pt x="3600" y="0"/>
                  </a:moveTo>
                  <a:arcTo wR="3600" hR="3600" stAng="16200000" swAng="-5400000"/>
                  <a:lnTo>
                    <a:pt x="0" y="20416"/>
                  </a:lnTo>
                  <a:arcTo wR="3600" hR="3600" stAng="10800000" swAng="-5400000"/>
                  <a:lnTo>
                    <a:pt x="18000" y="240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0" name="" descr=""/>
            <p:cNvPicPr/>
            <p:nvPr/>
          </p:nvPicPr>
          <p:blipFill>
            <a:blip r:embed="rId1"/>
            <a:stretch/>
          </p:blipFill>
          <p:spPr>
            <a:xfrm>
              <a:off x="2124000" y="3571920"/>
              <a:ext cx="180036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1" name=""/>
            <p:cNvSpPr/>
            <p:nvPr/>
          </p:nvSpPr>
          <p:spPr>
            <a:xfrm>
              <a:off x="3924360" y="2131920"/>
              <a:ext cx="83880" cy="1841760"/>
            </a:xfrm>
            <a:custGeom>
              <a:avLst/>
              <a:gdLst/>
              <a:ahLst/>
              <a:rect l="l" t="t" r="r" b="b"/>
              <a:pathLst>
                <a:path w="53" h="1160">
                  <a:moveTo>
                    <a:pt x="0" y="1160"/>
                  </a:moveTo>
                  <a:cubicBezTo>
                    <a:pt x="11" y="1113"/>
                    <a:pt x="43" y="1073"/>
                    <a:pt x="48" y="880"/>
                  </a:cubicBezTo>
                  <a:cubicBezTo>
                    <a:pt x="53" y="687"/>
                    <a:pt x="35" y="183"/>
                    <a:pt x="3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626000" y="2171880"/>
              <a:ext cx="361800" cy="2079360"/>
            </a:xfrm>
            <a:custGeom>
              <a:avLst/>
              <a:gdLst/>
              <a:ahLst/>
              <a:rect l="l" t="t" r="r" b="b"/>
              <a:pathLst>
                <a:path w="228" h="1310">
                  <a:moveTo>
                    <a:pt x="228" y="1301"/>
                  </a:moveTo>
                  <a:cubicBezTo>
                    <a:pt x="181" y="1310"/>
                    <a:pt x="149" y="1284"/>
                    <a:pt x="92" y="1269"/>
                  </a:cubicBezTo>
                  <a:cubicBezTo>
                    <a:pt x="36" y="1197"/>
                    <a:pt x="30" y="1088"/>
                    <a:pt x="30" y="1088"/>
                  </a:cubicBezTo>
                  <a:cubicBezTo>
                    <a:pt x="0" y="1008"/>
                    <a:pt x="20" y="947"/>
                    <a:pt x="14" y="792"/>
                  </a:cubicBezTo>
                  <a:cubicBezTo>
                    <a:pt x="11" y="611"/>
                    <a:pt x="18" y="132"/>
                    <a:pt x="1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4859280" y="1844640"/>
              <a:ext cx="1943280" cy="2160720"/>
            </a:xfrm>
            <a:custGeom>
              <a:avLst/>
              <a:gdLst>
                <a:gd name="textAreaLeft" fmla="*/ 94680 w 1943280"/>
                <a:gd name="textAreaRight" fmla="*/ 1848600 w 1943280"/>
                <a:gd name="textAreaTop" fmla="*/ 94680 h 2160720"/>
                <a:gd name="textAreaBottom" fmla="*/ 2066040 h 2160720"/>
              </a:gdLst>
              <a:ahLst/>
              <a:rect l="textAreaLeft" t="textAreaTop" r="textAreaRight" b="textAreaBottom"/>
              <a:pathLst>
                <a:path w="21600" h="24016">
                  <a:moveTo>
                    <a:pt x="3600" y="0"/>
                  </a:moveTo>
                  <a:arcTo wR="3600" hR="3600" stAng="16200000" swAng="-5400000"/>
                  <a:lnTo>
                    <a:pt x="0" y="20416"/>
                  </a:lnTo>
                  <a:arcTo wR="3600" hR="3600" stAng="10800000" swAng="-5400000"/>
                  <a:lnTo>
                    <a:pt x="18000" y="240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4" name="" descr=""/>
            <p:cNvPicPr/>
            <p:nvPr/>
          </p:nvPicPr>
          <p:blipFill>
            <a:blip r:embed="rId2"/>
            <a:stretch/>
          </p:blipFill>
          <p:spPr>
            <a:xfrm>
              <a:off x="4932360" y="3571920"/>
              <a:ext cx="180000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5" name=""/>
            <p:cNvSpPr/>
            <p:nvPr/>
          </p:nvSpPr>
          <p:spPr>
            <a:xfrm flipH="1">
              <a:off x="4860720" y="2131920"/>
              <a:ext cx="84240" cy="1841760"/>
            </a:xfrm>
            <a:custGeom>
              <a:avLst/>
              <a:gdLst/>
              <a:ahLst/>
              <a:rect l="l" t="t" r="r" b="b"/>
              <a:pathLst>
                <a:path w="53" h="1160">
                  <a:moveTo>
                    <a:pt x="0" y="1160"/>
                  </a:moveTo>
                  <a:cubicBezTo>
                    <a:pt x="11" y="1113"/>
                    <a:pt x="43" y="1073"/>
                    <a:pt x="48" y="880"/>
                  </a:cubicBezTo>
                  <a:cubicBezTo>
                    <a:pt x="53" y="687"/>
                    <a:pt x="35" y="183"/>
                    <a:pt x="3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922560" y="5229360"/>
              <a:ext cx="1076400" cy="25200"/>
            </a:xfrm>
            <a:custGeom>
              <a:avLst/>
              <a:gdLst/>
              <a:ahLst/>
              <a:rect l="l" t="t" r="r" b="b"/>
              <a:pathLst>
                <a:path w="678" h="16">
                  <a:moveTo>
                    <a:pt x="0" y="16"/>
                  </a:moveTo>
                  <a:cubicBezTo>
                    <a:pt x="140" y="0"/>
                    <a:pt x="276" y="2"/>
                    <a:pt x="416" y="14"/>
                  </a:cubicBezTo>
                  <a:cubicBezTo>
                    <a:pt x="514" y="2"/>
                    <a:pt x="580" y="16"/>
                    <a:pt x="678" y="16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851280" y="5156280"/>
              <a:ext cx="1218960" cy="38160"/>
            </a:xfrm>
            <a:custGeom>
              <a:avLst/>
              <a:gdLst/>
              <a:ahLst/>
              <a:rect l="l" t="t" r="r" b="b"/>
              <a:pathLst>
                <a:path w="768" h="24">
                  <a:moveTo>
                    <a:pt x="0" y="9"/>
                  </a:moveTo>
                  <a:cubicBezTo>
                    <a:pt x="159" y="0"/>
                    <a:pt x="299" y="18"/>
                    <a:pt x="461" y="6"/>
                  </a:cubicBezTo>
                  <a:cubicBezTo>
                    <a:pt x="581" y="24"/>
                    <a:pt x="657" y="9"/>
                    <a:pt x="768" y="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779640" y="5288040"/>
              <a:ext cx="1219320" cy="30240"/>
            </a:xfrm>
            <a:custGeom>
              <a:avLst/>
              <a:gdLst/>
              <a:ahLst/>
              <a:rect l="l" t="t" r="r" b="b"/>
              <a:pathLst>
                <a:path w="768" h="19">
                  <a:moveTo>
                    <a:pt x="0" y="17"/>
                  </a:moveTo>
                  <a:cubicBezTo>
                    <a:pt x="71" y="19"/>
                    <a:pt x="351" y="4"/>
                    <a:pt x="428" y="7"/>
                  </a:cubicBezTo>
                  <a:cubicBezTo>
                    <a:pt x="512" y="5"/>
                    <a:pt x="449" y="5"/>
                    <a:pt x="506" y="7"/>
                  </a:cubicBezTo>
                  <a:cubicBezTo>
                    <a:pt x="617" y="0"/>
                    <a:pt x="657" y="17"/>
                    <a:pt x="768" y="17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851280" y="5084640"/>
              <a:ext cx="1218960" cy="39960"/>
            </a:xfrm>
            <a:custGeom>
              <a:avLst/>
              <a:gdLst/>
              <a:ahLst/>
              <a:rect l="l" t="t" r="r" b="b"/>
              <a:pathLst>
                <a:path w="768" h="25">
                  <a:moveTo>
                    <a:pt x="0" y="9"/>
                  </a:moveTo>
                  <a:cubicBezTo>
                    <a:pt x="159" y="0"/>
                    <a:pt x="306" y="18"/>
                    <a:pt x="464" y="25"/>
                  </a:cubicBezTo>
                  <a:cubicBezTo>
                    <a:pt x="575" y="18"/>
                    <a:pt x="657" y="9"/>
                    <a:pt x="768" y="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32360" y="3139920"/>
              <a:ext cx="144360" cy="28764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51280" y="3282840"/>
              <a:ext cx="144360" cy="28728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029200" y="2973240"/>
              <a:ext cx="266760" cy="22860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076720" y="3211560"/>
              <a:ext cx="406440" cy="6984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5076720" y="3352680"/>
              <a:ext cx="432000" cy="7488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5003640" y="3355200"/>
              <a:ext cx="287280" cy="2905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>
              <a:off x="3419280" y="3282840"/>
              <a:ext cx="432000" cy="7488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419280" y="3427560"/>
              <a:ext cx="432000" cy="7128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490920" y="3498840"/>
              <a:ext cx="360360" cy="14436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V="1">
              <a:off x="3490920" y="3139920"/>
              <a:ext cx="360360" cy="1447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932360" y="2563920"/>
              <a:ext cx="144360" cy="28728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851280" y="2706840"/>
              <a:ext cx="144360" cy="28728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029200" y="2397240"/>
              <a:ext cx="266760" cy="22860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76720" y="2635200"/>
              <a:ext cx="406440" cy="6984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5076720" y="2775960"/>
              <a:ext cx="432000" cy="745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V="1">
              <a:off x="5003640" y="2778840"/>
              <a:ext cx="287280" cy="2905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3419280" y="2706120"/>
              <a:ext cx="432000" cy="745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419280" y="2851200"/>
              <a:ext cx="432000" cy="7128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490920" y="2922480"/>
              <a:ext cx="360360" cy="1447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3564000" y="2492280"/>
              <a:ext cx="287280" cy="21600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706920" y="1987560"/>
              <a:ext cx="563400" cy="2217600"/>
            </a:xfrm>
            <a:custGeom>
              <a:avLst/>
              <a:gdLst/>
              <a:ahLst/>
              <a:rect l="l" t="t" r="r" b="b"/>
              <a:pathLst>
                <a:path w="355" h="1397">
                  <a:moveTo>
                    <a:pt x="88" y="1297"/>
                  </a:moveTo>
                  <a:cubicBezTo>
                    <a:pt x="96" y="1292"/>
                    <a:pt x="130" y="1281"/>
                    <a:pt x="135" y="1273"/>
                  </a:cubicBezTo>
                  <a:cubicBezTo>
                    <a:pt x="158" y="1237"/>
                    <a:pt x="174" y="1163"/>
                    <a:pt x="183" y="1120"/>
                  </a:cubicBezTo>
                  <a:cubicBezTo>
                    <a:pt x="198" y="874"/>
                    <a:pt x="183" y="634"/>
                    <a:pt x="183" y="391"/>
                  </a:cubicBezTo>
                  <a:cubicBezTo>
                    <a:pt x="183" y="9"/>
                    <a:pt x="42" y="48"/>
                    <a:pt x="184" y="1"/>
                  </a:cubicBezTo>
                  <a:cubicBezTo>
                    <a:pt x="219" y="4"/>
                    <a:pt x="254" y="0"/>
                    <a:pt x="288" y="9"/>
                  </a:cubicBezTo>
                  <a:cubicBezTo>
                    <a:pt x="355" y="27"/>
                    <a:pt x="283" y="432"/>
                    <a:pt x="301" y="610"/>
                  </a:cubicBezTo>
                  <a:cubicBezTo>
                    <a:pt x="303" y="780"/>
                    <a:pt x="312" y="959"/>
                    <a:pt x="312" y="1030"/>
                  </a:cubicBezTo>
                  <a:cubicBezTo>
                    <a:pt x="314" y="1108"/>
                    <a:pt x="316" y="1050"/>
                    <a:pt x="312" y="1081"/>
                  </a:cubicBezTo>
                  <a:cubicBezTo>
                    <a:pt x="308" y="1112"/>
                    <a:pt x="298" y="1181"/>
                    <a:pt x="288" y="1216"/>
                  </a:cubicBezTo>
                  <a:cubicBezTo>
                    <a:pt x="278" y="1251"/>
                    <a:pt x="264" y="1271"/>
                    <a:pt x="249" y="1291"/>
                  </a:cubicBezTo>
                  <a:cubicBezTo>
                    <a:pt x="234" y="1311"/>
                    <a:pt x="219" y="1320"/>
                    <a:pt x="199" y="1336"/>
                  </a:cubicBezTo>
                  <a:cubicBezTo>
                    <a:pt x="184" y="1358"/>
                    <a:pt x="157" y="1387"/>
                    <a:pt x="130" y="1390"/>
                  </a:cubicBezTo>
                  <a:cubicBezTo>
                    <a:pt x="100" y="1397"/>
                    <a:pt x="78" y="1370"/>
                    <a:pt x="48" y="1377"/>
                  </a:cubicBezTo>
                  <a:cubicBezTo>
                    <a:pt x="0" y="1361"/>
                    <a:pt x="16" y="1371"/>
                    <a:pt x="16" y="13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73440" y="2060640"/>
              <a:ext cx="571680" cy="2176560"/>
            </a:xfrm>
            <a:custGeom>
              <a:avLst/>
              <a:gdLst/>
              <a:ahLst/>
              <a:rect l="l" t="t" r="r" b="b"/>
              <a:pathLst>
                <a:path w="360" h="1371">
                  <a:moveTo>
                    <a:pt x="267" y="1297"/>
                  </a:moveTo>
                  <a:cubicBezTo>
                    <a:pt x="259" y="1292"/>
                    <a:pt x="266" y="1271"/>
                    <a:pt x="261" y="1263"/>
                  </a:cubicBezTo>
                  <a:cubicBezTo>
                    <a:pt x="238" y="1227"/>
                    <a:pt x="207" y="1168"/>
                    <a:pt x="198" y="1125"/>
                  </a:cubicBezTo>
                  <a:cubicBezTo>
                    <a:pt x="195" y="1092"/>
                    <a:pt x="186" y="1154"/>
                    <a:pt x="183" y="1032"/>
                  </a:cubicBezTo>
                  <a:cubicBezTo>
                    <a:pt x="180" y="910"/>
                    <a:pt x="182" y="563"/>
                    <a:pt x="180" y="391"/>
                  </a:cubicBezTo>
                  <a:cubicBezTo>
                    <a:pt x="180" y="9"/>
                    <a:pt x="313" y="48"/>
                    <a:pt x="171" y="1"/>
                  </a:cubicBezTo>
                  <a:cubicBezTo>
                    <a:pt x="136" y="4"/>
                    <a:pt x="101" y="0"/>
                    <a:pt x="67" y="9"/>
                  </a:cubicBezTo>
                  <a:cubicBezTo>
                    <a:pt x="0" y="27"/>
                    <a:pt x="72" y="432"/>
                    <a:pt x="54" y="610"/>
                  </a:cubicBezTo>
                  <a:cubicBezTo>
                    <a:pt x="54" y="782"/>
                    <a:pt x="50" y="938"/>
                    <a:pt x="54" y="1039"/>
                  </a:cubicBezTo>
                  <a:cubicBezTo>
                    <a:pt x="58" y="1140"/>
                    <a:pt x="69" y="1172"/>
                    <a:pt x="78" y="1216"/>
                  </a:cubicBezTo>
                  <a:cubicBezTo>
                    <a:pt x="87" y="1260"/>
                    <a:pt x="100" y="1284"/>
                    <a:pt x="111" y="1302"/>
                  </a:cubicBezTo>
                  <a:cubicBezTo>
                    <a:pt x="122" y="1320"/>
                    <a:pt x="123" y="1313"/>
                    <a:pt x="144" y="1323"/>
                  </a:cubicBezTo>
                  <a:cubicBezTo>
                    <a:pt x="159" y="1345"/>
                    <a:pt x="210" y="1359"/>
                    <a:pt x="237" y="1362"/>
                  </a:cubicBezTo>
                  <a:cubicBezTo>
                    <a:pt x="267" y="1369"/>
                    <a:pt x="282" y="1358"/>
                    <a:pt x="312" y="1365"/>
                  </a:cubicBezTo>
                  <a:cubicBezTo>
                    <a:pt x="360" y="1349"/>
                    <a:pt x="339" y="1371"/>
                    <a:pt x="339" y="13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354560" y="2637000"/>
              <a:ext cx="576000" cy="14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c0c0c0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995640" y="2779560"/>
              <a:ext cx="576360" cy="14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c0c0c0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54560" y="3213000"/>
              <a:ext cx="576000" cy="14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c0c0c0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995640" y="3355920"/>
              <a:ext cx="576360" cy="14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c0c0c0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87640" y="454644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0"/>
                  </a:moveTo>
                  <a:cubicBezTo>
                    <a:pt x="33" y="49"/>
                    <a:pt x="92" y="59"/>
                    <a:pt x="138" y="90"/>
                  </a:cubicBezTo>
                  <a:cubicBezTo>
                    <a:pt x="140" y="96"/>
                    <a:pt x="141" y="102"/>
                    <a:pt x="144" y="108"/>
                  </a:cubicBezTo>
                  <a:cubicBezTo>
                    <a:pt x="147" y="114"/>
                    <a:pt x="153" y="119"/>
                    <a:pt x="156" y="126"/>
                  </a:cubicBezTo>
                  <a:cubicBezTo>
                    <a:pt x="170" y="157"/>
                    <a:pt x="168" y="168"/>
                    <a:pt x="192" y="192"/>
                  </a:cubicBezTo>
                </a:path>
              </a:pathLst>
            </a:custGeom>
            <a:noFill/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56240" y="4584600"/>
              <a:ext cx="279360" cy="247680"/>
            </a:xfrm>
            <a:custGeom>
              <a:avLst/>
              <a:gdLst/>
              <a:ahLst/>
              <a:rect l="l" t="t" r="r" b="b"/>
              <a:pathLst>
                <a:path w="176" h="156">
                  <a:moveTo>
                    <a:pt x="176" y="0"/>
                  </a:moveTo>
                  <a:cubicBezTo>
                    <a:pt x="170" y="6"/>
                    <a:pt x="165" y="13"/>
                    <a:pt x="158" y="18"/>
                  </a:cubicBezTo>
                  <a:cubicBezTo>
                    <a:pt x="147" y="27"/>
                    <a:pt x="122" y="42"/>
                    <a:pt x="122" y="42"/>
                  </a:cubicBezTo>
                  <a:cubicBezTo>
                    <a:pt x="100" y="75"/>
                    <a:pt x="69" y="102"/>
                    <a:pt x="38" y="126"/>
                  </a:cubicBezTo>
                  <a:cubicBezTo>
                    <a:pt x="0" y="155"/>
                    <a:pt x="2" y="135"/>
                    <a:pt x="2" y="156"/>
                  </a:cubicBezTo>
                </a:path>
              </a:pathLst>
            </a:custGeom>
            <a:noFill/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821040" y="4413240"/>
              <a:ext cx="438120" cy="76320"/>
            </a:xfrm>
            <a:custGeom>
              <a:avLst/>
              <a:gdLst/>
              <a:ahLst/>
              <a:rect l="l" t="t" r="r" b="b"/>
              <a:pathLst>
                <a:path w="276" h="48">
                  <a:moveTo>
                    <a:pt x="48" y="12"/>
                  </a:moveTo>
                  <a:cubicBezTo>
                    <a:pt x="49" y="13"/>
                    <a:pt x="0" y="0"/>
                    <a:pt x="15" y="6"/>
                  </a:cubicBezTo>
                  <a:cubicBezTo>
                    <a:pt x="30" y="12"/>
                    <a:pt x="97" y="45"/>
                    <a:pt x="138" y="48"/>
                  </a:cubicBezTo>
                  <a:cubicBezTo>
                    <a:pt x="233" y="42"/>
                    <a:pt x="206" y="43"/>
                    <a:pt x="264" y="24"/>
                  </a:cubicBezTo>
                  <a:cubicBezTo>
                    <a:pt x="271" y="3"/>
                    <a:pt x="266" y="10"/>
                    <a:pt x="27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402080" y="4870440"/>
              <a:ext cx="552600" cy="133200"/>
            </a:xfrm>
            <a:custGeom>
              <a:avLst/>
              <a:gdLst/>
              <a:ahLst/>
              <a:rect l="l" t="t" r="r" b="b"/>
              <a:pathLst>
                <a:path w="348" h="84">
                  <a:moveTo>
                    <a:pt x="348" y="0"/>
                  </a:moveTo>
                  <a:cubicBezTo>
                    <a:pt x="308" y="60"/>
                    <a:pt x="241" y="59"/>
                    <a:pt x="180" y="64"/>
                  </a:cubicBezTo>
                  <a:cubicBezTo>
                    <a:pt x="118" y="70"/>
                    <a:pt x="62" y="84"/>
                    <a:pt x="0" y="84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498920" y="4427640"/>
              <a:ext cx="512640" cy="144360"/>
            </a:xfrm>
            <a:custGeom>
              <a:avLst/>
              <a:gdLst/>
              <a:ahLst/>
              <a:rect l="l" t="t" r="r" b="b"/>
              <a:pathLst>
                <a:path w="323" h="91">
                  <a:moveTo>
                    <a:pt x="323" y="0"/>
                  </a:moveTo>
                  <a:cubicBezTo>
                    <a:pt x="304" y="5"/>
                    <a:pt x="267" y="41"/>
                    <a:pt x="234" y="54"/>
                  </a:cubicBezTo>
                  <a:cubicBezTo>
                    <a:pt x="201" y="67"/>
                    <a:pt x="165" y="75"/>
                    <a:pt x="126" y="78"/>
                  </a:cubicBezTo>
                  <a:cubicBezTo>
                    <a:pt x="88" y="91"/>
                    <a:pt x="40" y="72"/>
                    <a:pt x="0" y="7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906720" y="5330880"/>
              <a:ext cx="1057320" cy="15840"/>
            </a:xfrm>
            <a:custGeom>
              <a:avLst/>
              <a:gdLst/>
              <a:ahLst/>
              <a:rect l="l" t="t" r="r" b="b"/>
              <a:pathLst>
                <a:path w="666" h="10">
                  <a:moveTo>
                    <a:pt x="0" y="10"/>
                  </a:moveTo>
                  <a:cubicBezTo>
                    <a:pt x="222" y="0"/>
                    <a:pt x="442" y="4"/>
                    <a:pt x="666" y="4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2" name=""/>
          <p:cNvSpPr/>
          <p:nvPr/>
        </p:nvSpPr>
        <p:spPr>
          <a:xfrm>
            <a:off x="6948360" y="3716280"/>
            <a:ext cx="216000" cy="1657440"/>
          </a:xfrm>
          <a:custGeom>
            <a:avLst/>
            <a:gdLst>
              <a:gd name="textAreaLeft" fmla="*/ 0 w 216000"/>
              <a:gd name="textAreaRight" fmla="*/ 78120 w 21600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rot="16200000">
            <a:off x="4429080" y="1051920"/>
            <a:ext cx="215640" cy="1657440"/>
          </a:xfrm>
          <a:custGeom>
            <a:avLst/>
            <a:gdLst>
              <a:gd name="textAreaLeft" fmla="*/ 0 w 215640"/>
              <a:gd name="textAreaRight" fmla="*/ 77760 w 21564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580000" y="213372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él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411280" y="220500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él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164360" y="4076640"/>
            <a:ext cx="172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Adh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Célula -matr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51280" y="1052640"/>
            <a:ext cx="172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Adh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Célula-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084720" y="5300640"/>
            <a:ext cx="935280" cy="72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300720" y="609300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ibras de colág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435640" y="2637000"/>
            <a:ext cx="1512720" cy="144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948360" y="278136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6012000" y="3068280"/>
            <a:ext cx="936360" cy="647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5076720" y="4797360"/>
            <a:ext cx="287280" cy="1008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211640" y="580536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ínas multiadhes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895560" y="4857840"/>
            <a:ext cx="214560" cy="162000"/>
          </a:xfrm>
          <a:custGeom>
            <a:avLst/>
            <a:gdLst/>
            <a:ahLst/>
            <a:rect l="l" t="t" r="r" b="b"/>
            <a:pathLst>
              <a:path w="135" h="102">
                <a:moveTo>
                  <a:pt x="0" y="0"/>
                </a:moveTo>
                <a:cubicBezTo>
                  <a:pt x="5" y="16"/>
                  <a:pt x="0" y="7"/>
                  <a:pt x="21" y="21"/>
                </a:cubicBezTo>
                <a:cubicBezTo>
                  <a:pt x="24" y="23"/>
                  <a:pt x="30" y="27"/>
                  <a:pt x="30" y="27"/>
                </a:cubicBezTo>
                <a:cubicBezTo>
                  <a:pt x="35" y="34"/>
                  <a:pt x="60" y="65"/>
                  <a:pt x="66" y="69"/>
                </a:cubicBezTo>
                <a:cubicBezTo>
                  <a:pt x="82" y="79"/>
                  <a:pt x="104" y="79"/>
                  <a:pt x="120" y="90"/>
                </a:cubicBezTo>
                <a:cubicBezTo>
                  <a:pt x="122" y="93"/>
                  <a:pt x="123" y="97"/>
                  <a:pt x="126" y="99"/>
                </a:cubicBezTo>
                <a:cubicBezTo>
                  <a:pt x="128" y="101"/>
                  <a:pt x="135" y="102"/>
                  <a:pt x="135" y="10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1402920" y="4508640"/>
            <a:ext cx="1081080" cy="2872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411280" y="566100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oglicano de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908000" y="2852640"/>
            <a:ext cx="2159280" cy="216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 flipV="1">
            <a:off x="1834920" y="3213000"/>
            <a:ext cx="649080" cy="1008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84360" y="2924280"/>
            <a:ext cx="93492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oléculas de adhesión cel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79280" y="486900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Glicosaminoglic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1979280" y="4221000"/>
            <a:ext cx="1655640" cy="14400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3276720" y="4797360"/>
            <a:ext cx="503280" cy="9352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68360" y="566100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oglic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 superfic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2440080" y="0"/>
            <a:ext cx="56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Uniones especializadas célula-célul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4952880" y="2895480"/>
            <a:ext cx="2076480" cy="1791000"/>
          </a:xfrm>
          <a:prstGeom prst="rect">
            <a:avLst/>
          </a:prstGeom>
          <a:ln w="0">
            <a:noFill/>
          </a:ln>
        </p:spPr>
      </p:pic>
      <p:grpSp>
        <p:nvGrpSpPr>
          <p:cNvPr id="1278" name=""/>
          <p:cNvGrpSpPr/>
          <p:nvPr/>
        </p:nvGrpSpPr>
        <p:grpSpPr>
          <a:xfrm>
            <a:off x="4932360" y="4437000"/>
            <a:ext cx="2441520" cy="2067120"/>
            <a:chOff x="4932360" y="4437000"/>
            <a:chExt cx="2441520" cy="2067120"/>
          </a:xfrm>
        </p:grpSpPr>
        <p:pic>
          <p:nvPicPr>
            <p:cNvPr id="1279" name="" descr=""/>
            <p:cNvPicPr/>
            <p:nvPr/>
          </p:nvPicPr>
          <p:blipFill>
            <a:blip r:embed="rId2"/>
            <a:stretch/>
          </p:blipFill>
          <p:spPr>
            <a:xfrm>
              <a:off x="5221440" y="4437000"/>
              <a:ext cx="2152440" cy="20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0" name=""/>
            <p:cNvSpPr/>
            <p:nvPr/>
          </p:nvSpPr>
          <p:spPr>
            <a:xfrm>
              <a:off x="4932360" y="4437000"/>
              <a:ext cx="72072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5975280" y="304920"/>
            <a:ext cx="3168720" cy="1780920"/>
            <a:chOff x="5975280" y="304920"/>
            <a:chExt cx="3168720" cy="1780920"/>
          </a:xfrm>
        </p:grpSpPr>
        <p:pic>
          <p:nvPicPr>
            <p:cNvPr id="1282" name="" descr=""/>
            <p:cNvPicPr/>
            <p:nvPr/>
          </p:nvPicPr>
          <p:blipFill>
            <a:blip r:embed="rId3"/>
            <a:stretch/>
          </p:blipFill>
          <p:spPr>
            <a:xfrm>
              <a:off x="5975280" y="304920"/>
              <a:ext cx="2162160" cy="17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3" name=""/>
            <p:cNvSpPr/>
            <p:nvPr/>
          </p:nvSpPr>
          <p:spPr>
            <a:xfrm>
              <a:off x="7343640" y="1501560"/>
              <a:ext cx="18003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Unión estrech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4" name=""/>
          <p:cNvSpPr/>
          <p:nvPr/>
        </p:nvSpPr>
        <p:spPr>
          <a:xfrm>
            <a:off x="5791320" y="2209680"/>
            <a:ext cx="23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nillo de adhesión o banda adhe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858000" y="3657600"/>
            <a:ext cx="20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smos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1295280" y="1473480"/>
            <a:ext cx="4495680" cy="4614480"/>
            <a:chOff x="1295280" y="1473480"/>
            <a:chExt cx="4495680" cy="4614480"/>
          </a:xfrm>
        </p:grpSpPr>
        <p:sp>
          <p:nvSpPr>
            <p:cNvPr id="1287" name=""/>
            <p:cNvSpPr/>
            <p:nvPr/>
          </p:nvSpPr>
          <p:spPr>
            <a:xfrm>
              <a:off x="1295280" y="2560680"/>
              <a:ext cx="1368360" cy="3527280"/>
            </a:xfrm>
            <a:custGeom>
              <a:avLst/>
              <a:gdLst>
                <a:gd name="textAreaLeft" fmla="*/ 66600 w 1368360"/>
                <a:gd name="textAreaRight" fmla="*/ 1301760 w 1368360"/>
                <a:gd name="textAreaTop" fmla="*/ 66600 h 3527280"/>
                <a:gd name="textAreaBottom" fmla="*/ 3460680 h 3527280"/>
              </a:gdLst>
              <a:ahLst/>
              <a:rect l="textAreaLeft" t="textAreaTop" r="textAreaRight" b="textAreaBottom"/>
              <a:pathLst>
                <a:path w="21600" h="55670">
                  <a:moveTo>
                    <a:pt x="3600" y="0"/>
                  </a:moveTo>
                  <a:arcTo wR="3600" hR="3600" stAng="16200000" swAng="-5400000"/>
                  <a:lnTo>
                    <a:pt x="0" y="52070"/>
                  </a:lnTo>
                  <a:arcTo wR="3600" hR="3600" stAng="10800000" swAng="-5400000"/>
                  <a:lnTo>
                    <a:pt x="18000" y="556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734920" y="2560680"/>
              <a:ext cx="1368720" cy="3527280"/>
            </a:xfrm>
            <a:custGeom>
              <a:avLst/>
              <a:gdLst>
                <a:gd name="textAreaLeft" fmla="*/ 66600 w 1368720"/>
                <a:gd name="textAreaRight" fmla="*/ 1302120 w 1368720"/>
                <a:gd name="textAreaTop" fmla="*/ 66600 h 3527280"/>
                <a:gd name="textAreaBottom" fmla="*/ 3460680 h 3527280"/>
              </a:gdLst>
              <a:ahLst/>
              <a:rect l="textAreaLeft" t="textAreaTop" r="textAreaRight" b="textAreaBottom"/>
              <a:pathLst>
                <a:path w="21600" h="55656">
                  <a:moveTo>
                    <a:pt x="3600" y="0"/>
                  </a:moveTo>
                  <a:arcTo wR="3600" hR="3600" stAng="16200000" swAng="-5400000"/>
                  <a:lnTo>
                    <a:pt x="0" y="52056"/>
                  </a:lnTo>
                  <a:arcTo wR="3600" hR="3600" stAng="10800000" swAng="-5400000"/>
                  <a:lnTo>
                    <a:pt x="18000" y="556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2662920" y="3063600"/>
              <a:ext cx="73080" cy="1447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2662920" y="2921040"/>
              <a:ext cx="73080" cy="1443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2662920" y="2776320"/>
              <a:ext cx="73080" cy="1447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734920" y="3208320"/>
              <a:ext cx="71640" cy="144360"/>
            </a:xfrm>
            <a:prstGeom prst="flowChartDelay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732040" y="2927160"/>
              <a:ext cx="160200" cy="25560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734920" y="2776320"/>
              <a:ext cx="160560" cy="25560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34920" y="2631960"/>
              <a:ext cx="160560" cy="25560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734920" y="3855960"/>
              <a:ext cx="71640" cy="21600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rot="10800000">
              <a:off x="2590200" y="3855960"/>
              <a:ext cx="71640" cy="216000"/>
            </a:xfrm>
            <a:prstGeom prst="flowChartDelay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rot="20161800">
              <a:off x="2879640" y="2057400"/>
              <a:ext cx="2936880" cy="287280"/>
            </a:xfrm>
            <a:prstGeom prst="rightArrow">
              <a:avLst>
                <a:gd name="adj1" fmla="val 50000"/>
                <a:gd name="adj2" fmla="val 255576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2663640" y="3208320"/>
              <a:ext cx="71280" cy="2736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10800000"/>
            </a:gradFill>
            <a:ln w="19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63640" y="3929040"/>
              <a:ext cx="7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663640" y="4000320"/>
              <a:ext cx="7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095280" y="3929040"/>
              <a:ext cx="2087640" cy="215640"/>
            </a:xfrm>
            <a:prstGeom prst="rightArrow">
              <a:avLst>
                <a:gd name="adj1" fmla="val 50000"/>
                <a:gd name="adj2" fmla="val 242028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rot="487800">
              <a:off x="3095280" y="5225760"/>
              <a:ext cx="2016360" cy="287640"/>
            </a:xfrm>
            <a:prstGeom prst="rightArrow">
              <a:avLst>
                <a:gd name="adj1" fmla="val 50000"/>
                <a:gd name="adj2" fmla="val 175250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 rot="20598600">
              <a:off x="3011040" y="2702520"/>
              <a:ext cx="2808000" cy="216000"/>
            </a:xfrm>
            <a:prstGeom prst="rightArrow">
              <a:avLst>
                <a:gd name="adj1" fmla="val 50000"/>
                <a:gd name="adj2" fmla="val 325000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590560" y="5153040"/>
              <a:ext cx="289080" cy="147600"/>
            </a:xfrm>
            <a:prstGeom prst="flowChartOnlineStorag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6" name=""/>
            <p:cNvGrpSpPr/>
            <p:nvPr/>
          </p:nvGrpSpPr>
          <p:grpSpPr>
            <a:xfrm>
              <a:off x="2590560" y="5153040"/>
              <a:ext cx="216000" cy="144360"/>
              <a:chOff x="2590560" y="5153040"/>
              <a:chExt cx="216000" cy="144360"/>
            </a:xfrm>
          </p:grpSpPr>
          <p:sp>
            <p:nvSpPr>
              <p:cNvPr id="1307" name=""/>
              <p:cNvSpPr/>
              <p:nvPr/>
            </p:nvSpPr>
            <p:spPr>
              <a:xfrm>
                <a:off x="2590560" y="520128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2676960" y="515304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V="1">
                <a:off x="2590560" y="515304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19800" y="5201280"/>
                <a:ext cx="8676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V="1">
                <a:off x="2806560" y="515304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V="1">
                <a:off x="2719800" y="515304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590560" y="524916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719800" y="5249160"/>
                <a:ext cx="8676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V="1">
                <a:off x="2676960" y="524916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V="1">
                <a:off x="2719800" y="524916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V="1">
                <a:off x="2806560" y="524916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V="1">
                <a:off x="2590560" y="524916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2806560" y="5153040"/>
              <a:ext cx="73080" cy="144360"/>
            </a:xfrm>
            <a:prstGeom prst="donut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0" name=""/>
          <p:cNvSpPr/>
          <p:nvPr/>
        </p:nvSpPr>
        <p:spPr>
          <a:xfrm>
            <a:off x="6877080" y="5805360"/>
            <a:ext cx="122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Unión en hendid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467480" y="1905120"/>
            <a:ext cx="1368720" cy="0"/>
          </a:xfrm>
          <a:prstGeom prst="line">
            <a:avLst/>
          </a:prstGeom>
          <a:ln w="7632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600200" y="632448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élulas epitel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8381520" y="1143000"/>
            <a:ext cx="296640" cy="337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467120" y="2819520"/>
            <a:ext cx="296640" cy="337320"/>
          </a:xfrm>
          <a:prstGeom prst="rect">
            <a:avLst/>
          </a:prstGeom>
          <a:solidFill>
            <a:srgbClr val="ba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772400" y="5410080"/>
            <a:ext cx="304920" cy="337320"/>
          </a:xfrm>
          <a:prstGeom prst="rect">
            <a:avLst/>
          </a:prstGeom>
          <a:solidFill>
            <a:srgbClr val="60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7" name="" descr=""/>
          <p:cNvPicPr/>
          <p:nvPr/>
        </p:nvPicPr>
        <p:blipFill>
          <a:blip r:embed="rId4"/>
          <a:srcRect l="7066" t="19887" r="4638" b="18238"/>
          <a:stretch/>
        </p:blipFill>
        <p:spPr>
          <a:xfrm>
            <a:off x="457200" y="457200"/>
            <a:ext cx="3276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8" name="" descr=""/>
          <p:cNvPicPr/>
          <p:nvPr/>
        </p:nvPicPr>
        <p:blipFill>
          <a:blip r:embed="rId1"/>
          <a:srcRect l="5369" t="51043" r="46314" b="0"/>
          <a:stretch/>
        </p:blipFill>
        <p:spPr>
          <a:xfrm>
            <a:off x="533520" y="914400"/>
            <a:ext cx="2361960" cy="2057400"/>
          </a:xfrm>
          <a:prstGeom prst="rect">
            <a:avLst/>
          </a:prstGeom>
          <a:ln w="0">
            <a:noFill/>
          </a:ln>
        </p:spPr>
      </p:pic>
      <p:pic>
        <p:nvPicPr>
          <p:cNvPr id="1329" name="" descr=""/>
          <p:cNvPicPr/>
          <p:nvPr/>
        </p:nvPicPr>
        <p:blipFill>
          <a:blip r:embed="rId2"/>
          <a:srcRect l="52749" t="25588" r="6811" b="11624"/>
          <a:stretch/>
        </p:blipFill>
        <p:spPr>
          <a:xfrm>
            <a:off x="685800" y="4267080"/>
            <a:ext cx="1752480" cy="2057400"/>
          </a:xfrm>
          <a:prstGeom prst="rect">
            <a:avLst/>
          </a:prstGeom>
          <a:ln w="0">
            <a:noFill/>
          </a:ln>
        </p:spPr>
      </p:pic>
      <p:sp>
        <p:nvSpPr>
          <p:cNvPr id="1330" name=""/>
          <p:cNvSpPr/>
          <p:nvPr/>
        </p:nvSpPr>
        <p:spPr>
          <a:xfrm>
            <a:off x="4615200" y="838080"/>
            <a:ext cx="41569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NIONES ESTREC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tight junc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caras externas de la membrana pla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ática de dos células adyacentes se u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 dejar espacio entre ell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 unión ocurre en todo el períme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contorno) de las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uniones estrechas restringen el movi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ento de la mayoría de las moléculas or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ánicas, pero permiten el paso de iones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agu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uniones estrechas no se asocian 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toesquele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1" name="" descr=""/>
          <p:cNvPicPr/>
          <p:nvPr/>
        </p:nvPicPr>
        <p:blipFill>
          <a:blip r:embed="rId3"/>
          <a:srcRect l="60856" t="32649" r="3356" b="7777"/>
          <a:stretch/>
        </p:blipFill>
        <p:spPr>
          <a:xfrm>
            <a:off x="2666880" y="3124080"/>
            <a:ext cx="1524240" cy="1752840"/>
          </a:xfrm>
          <a:prstGeom prst="rect">
            <a:avLst/>
          </a:prstGeom>
          <a:ln w="0">
            <a:noFill/>
          </a:ln>
        </p:spPr>
      </p:pic>
      <p:sp>
        <p:nvSpPr>
          <p:cNvPr id="1332" name=""/>
          <p:cNvSpPr/>
          <p:nvPr/>
        </p:nvSpPr>
        <p:spPr>
          <a:xfrm>
            <a:off x="4326840" y="284040"/>
            <a:ext cx="296640" cy="337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3" name="" descr=""/>
          <p:cNvPicPr/>
          <p:nvPr/>
        </p:nvPicPr>
        <p:blipFill>
          <a:blip r:embed="rId1"/>
          <a:srcRect l="28850" t="5753" r="28159" b="59408"/>
          <a:stretch/>
        </p:blipFill>
        <p:spPr>
          <a:xfrm>
            <a:off x="395280" y="1268280"/>
            <a:ext cx="4464000" cy="4319640"/>
          </a:xfrm>
          <a:prstGeom prst="rect">
            <a:avLst/>
          </a:prstGeom>
          <a:ln w="0">
            <a:noFill/>
          </a:ln>
        </p:spPr>
      </p:pic>
      <p:sp>
        <p:nvSpPr>
          <p:cNvPr id="1334" name=""/>
          <p:cNvSpPr/>
          <p:nvPr/>
        </p:nvSpPr>
        <p:spPr>
          <a:xfrm rot="18927600">
            <a:off x="3850920" y="1773000"/>
            <a:ext cx="1800360" cy="215640"/>
          </a:xfrm>
          <a:prstGeom prst="rightArrow">
            <a:avLst>
              <a:gd name="adj1" fmla="val 50000"/>
              <a:gd name="adj2" fmla="val 208723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80000" y="549360"/>
            <a:ext cx="35640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Sellos entre células epitel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Ubicación próxima a superficie ap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stinge la difusión de solutos por espacio inter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mpide libre difusión de lípidos en cara externa de la 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476360" y="609300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élulas epitel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835280" y="558972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ado basole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835280" y="12682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ado ap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364000" y="2708280"/>
            <a:ext cx="1440000" cy="367344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3673440"/>
              <a:gd name="textAreaBottom" fmla="*/ 3603240 h 3673440"/>
            </a:gdLst>
            <a:ahLst/>
            <a:rect l="textAreaLeft" t="textAreaTop" r="textAreaRight" b="textAreaBottom"/>
            <a:pathLst>
              <a:path w="21600" h="55093">
                <a:moveTo>
                  <a:pt x="3600" y="0"/>
                </a:moveTo>
                <a:arcTo wR="3600" hR="3600" stAng="16200000" swAng="-5400000"/>
                <a:lnTo>
                  <a:pt x="0" y="51493"/>
                </a:lnTo>
                <a:arcTo wR="3600" hR="3600" stAng="10800000" swAng="-5400000"/>
                <a:lnTo>
                  <a:pt x="18000" y="550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rot="10800000">
            <a:off x="6659280" y="2708280"/>
            <a:ext cx="1439640" cy="367344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3673440"/>
              <a:gd name="textAreaBottom" fmla="*/ 3603240 h 3673440"/>
            </a:gdLst>
            <a:ahLst/>
            <a:rect l="textAreaLeft" t="textAreaTop" r="textAreaRight" b="textAreaBottom"/>
            <a:pathLst>
              <a:path w="21600" h="55107">
                <a:moveTo>
                  <a:pt x="3600" y="0"/>
                </a:moveTo>
                <a:arcTo wR="3600" hR="3600" stAng="16200000" swAng="-5400000"/>
                <a:lnTo>
                  <a:pt x="0" y="51507"/>
                </a:lnTo>
                <a:arcTo wR="3600" hR="3600" stAng="10800000" swAng="-5400000"/>
                <a:lnTo>
                  <a:pt x="18000" y="551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ef1f2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659640" y="3573360"/>
            <a:ext cx="792000" cy="287280"/>
          </a:xfrm>
          <a:custGeom>
            <a:avLst/>
            <a:gdLst/>
            <a:ahLst/>
            <a:rect l="l" t="t" r="r" b="b"/>
            <a:pathLst>
              <a:path w="240" h="244">
                <a:moveTo>
                  <a:pt x="31" y="226"/>
                </a:moveTo>
                <a:cubicBezTo>
                  <a:pt x="42" y="193"/>
                  <a:pt x="99" y="169"/>
                  <a:pt x="131" y="158"/>
                </a:cubicBezTo>
                <a:cubicBezTo>
                  <a:pt x="139" y="146"/>
                  <a:pt x="163" y="130"/>
                  <a:pt x="163" y="130"/>
                </a:cubicBezTo>
                <a:cubicBezTo>
                  <a:pt x="174" y="114"/>
                  <a:pt x="191" y="101"/>
                  <a:pt x="207" y="90"/>
                </a:cubicBezTo>
                <a:cubicBezTo>
                  <a:pt x="215" y="78"/>
                  <a:pt x="223" y="66"/>
                  <a:pt x="231" y="54"/>
                </a:cubicBezTo>
                <a:cubicBezTo>
                  <a:pt x="236" y="47"/>
                  <a:pt x="239" y="30"/>
                  <a:pt x="239" y="30"/>
                </a:cubicBezTo>
                <a:cubicBezTo>
                  <a:pt x="231" y="7"/>
                  <a:pt x="240" y="0"/>
                  <a:pt x="211" y="6"/>
                </a:cubicBezTo>
                <a:cubicBezTo>
                  <a:pt x="192" y="34"/>
                  <a:pt x="203" y="25"/>
                  <a:pt x="183" y="38"/>
                </a:cubicBezTo>
                <a:cubicBezTo>
                  <a:pt x="175" y="50"/>
                  <a:pt x="151" y="66"/>
                  <a:pt x="151" y="66"/>
                </a:cubicBezTo>
                <a:cubicBezTo>
                  <a:pt x="141" y="80"/>
                  <a:pt x="133" y="81"/>
                  <a:pt x="119" y="90"/>
                </a:cubicBezTo>
                <a:cubicBezTo>
                  <a:pt x="110" y="104"/>
                  <a:pt x="103" y="109"/>
                  <a:pt x="87" y="114"/>
                </a:cubicBezTo>
                <a:cubicBezTo>
                  <a:pt x="79" y="126"/>
                  <a:pt x="55" y="142"/>
                  <a:pt x="55" y="142"/>
                </a:cubicBezTo>
                <a:cubicBezTo>
                  <a:pt x="52" y="146"/>
                  <a:pt x="51" y="151"/>
                  <a:pt x="47" y="154"/>
                </a:cubicBezTo>
                <a:cubicBezTo>
                  <a:pt x="40" y="158"/>
                  <a:pt x="23" y="162"/>
                  <a:pt x="23" y="162"/>
                </a:cubicBezTo>
                <a:cubicBezTo>
                  <a:pt x="5" y="190"/>
                  <a:pt x="10" y="177"/>
                  <a:pt x="3" y="198"/>
                </a:cubicBezTo>
                <a:cubicBezTo>
                  <a:pt x="4" y="211"/>
                  <a:pt x="0" y="227"/>
                  <a:pt x="7" y="238"/>
                </a:cubicBezTo>
                <a:cubicBezTo>
                  <a:pt x="11" y="244"/>
                  <a:pt x="21" y="237"/>
                  <a:pt x="27" y="234"/>
                </a:cubicBezTo>
                <a:cubicBezTo>
                  <a:pt x="43" y="225"/>
                  <a:pt x="31" y="213"/>
                  <a:pt x="51" y="206"/>
                </a:cubicBezTo>
                <a:cubicBezTo>
                  <a:pt x="54" y="202"/>
                  <a:pt x="59" y="194"/>
                  <a:pt x="59" y="194"/>
                </a:cubicBezTo>
              </a:path>
            </a:pathLst>
          </a:custGeom>
          <a:solidFill>
            <a:srgbClr val="ffc4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659640" y="3933720"/>
            <a:ext cx="865080" cy="674640"/>
          </a:xfrm>
          <a:custGeom>
            <a:avLst/>
            <a:gdLst/>
            <a:ahLst/>
            <a:rect l="l" t="t" r="r" b="b"/>
            <a:pathLst>
              <a:path w="240" h="244">
                <a:moveTo>
                  <a:pt x="31" y="226"/>
                </a:moveTo>
                <a:cubicBezTo>
                  <a:pt x="42" y="193"/>
                  <a:pt x="99" y="169"/>
                  <a:pt x="131" y="158"/>
                </a:cubicBezTo>
                <a:cubicBezTo>
                  <a:pt x="139" y="146"/>
                  <a:pt x="163" y="130"/>
                  <a:pt x="163" y="130"/>
                </a:cubicBezTo>
                <a:cubicBezTo>
                  <a:pt x="174" y="114"/>
                  <a:pt x="191" y="101"/>
                  <a:pt x="207" y="90"/>
                </a:cubicBezTo>
                <a:cubicBezTo>
                  <a:pt x="215" y="78"/>
                  <a:pt x="223" y="66"/>
                  <a:pt x="231" y="54"/>
                </a:cubicBezTo>
                <a:cubicBezTo>
                  <a:pt x="236" y="47"/>
                  <a:pt x="239" y="30"/>
                  <a:pt x="239" y="30"/>
                </a:cubicBezTo>
                <a:cubicBezTo>
                  <a:pt x="231" y="7"/>
                  <a:pt x="240" y="0"/>
                  <a:pt x="211" y="6"/>
                </a:cubicBezTo>
                <a:cubicBezTo>
                  <a:pt x="192" y="34"/>
                  <a:pt x="203" y="25"/>
                  <a:pt x="183" y="38"/>
                </a:cubicBezTo>
                <a:cubicBezTo>
                  <a:pt x="175" y="50"/>
                  <a:pt x="151" y="66"/>
                  <a:pt x="151" y="66"/>
                </a:cubicBezTo>
                <a:cubicBezTo>
                  <a:pt x="141" y="80"/>
                  <a:pt x="133" y="81"/>
                  <a:pt x="119" y="90"/>
                </a:cubicBezTo>
                <a:cubicBezTo>
                  <a:pt x="110" y="104"/>
                  <a:pt x="103" y="109"/>
                  <a:pt x="87" y="114"/>
                </a:cubicBezTo>
                <a:cubicBezTo>
                  <a:pt x="79" y="126"/>
                  <a:pt x="55" y="142"/>
                  <a:pt x="55" y="142"/>
                </a:cubicBezTo>
                <a:cubicBezTo>
                  <a:pt x="52" y="146"/>
                  <a:pt x="51" y="151"/>
                  <a:pt x="47" y="154"/>
                </a:cubicBezTo>
                <a:cubicBezTo>
                  <a:pt x="40" y="158"/>
                  <a:pt x="23" y="162"/>
                  <a:pt x="23" y="162"/>
                </a:cubicBezTo>
                <a:cubicBezTo>
                  <a:pt x="5" y="190"/>
                  <a:pt x="10" y="177"/>
                  <a:pt x="3" y="198"/>
                </a:cubicBezTo>
                <a:cubicBezTo>
                  <a:pt x="4" y="211"/>
                  <a:pt x="0" y="227"/>
                  <a:pt x="7" y="238"/>
                </a:cubicBezTo>
                <a:cubicBezTo>
                  <a:pt x="11" y="244"/>
                  <a:pt x="21" y="237"/>
                  <a:pt x="27" y="234"/>
                </a:cubicBezTo>
                <a:cubicBezTo>
                  <a:pt x="43" y="225"/>
                  <a:pt x="31" y="213"/>
                  <a:pt x="51" y="206"/>
                </a:cubicBezTo>
                <a:cubicBezTo>
                  <a:pt x="54" y="202"/>
                  <a:pt x="59" y="194"/>
                  <a:pt x="59" y="194"/>
                </a:cubicBezTo>
              </a:path>
            </a:pathLst>
          </a:custGeom>
          <a:solidFill>
            <a:srgbClr val="ffc4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516720" y="2852640"/>
            <a:ext cx="216000" cy="144720"/>
          </a:xfrm>
          <a:prstGeom prst="ellipse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rot="233400">
            <a:off x="7164360" y="3715920"/>
            <a:ext cx="216000" cy="501840"/>
          </a:xfrm>
          <a:custGeom>
            <a:avLst/>
            <a:gdLst/>
            <a:ahLst/>
            <a:rect l="l" t="t" r="r" b="b"/>
            <a:pathLst>
              <a:path w="105" h="410">
                <a:moveTo>
                  <a:pt x="44" y="369"/>
                </a:moveTo>
                <a:cubicBezTo>
                  <a:pt x="52" y="392"/>
                  <a:pt x="56" y="394"/>
                  <a:pt x="80" y="389"/>
                </a:cubicBezTo>
                <a:cubicBezTo>
                  <a:pt x="83" y="306"/>
                  <a:pt x="105" y="207"/>
                  <a:pt x="56" y="133"/>
                </a:cubicBezTo>
                <a:cubicBezTo>
                  <a:pt x="57" y="122"/>
                  <a:pt x="58" y="112"/>
                  <a:pt x="60" y="101"/>
                </a:cubicBezTo>
                <a:cubicBezTo>
                  <a:pt x="62" y="93"/>
                  <a:pt x="68" y="77"/>
                  <a:pt x="68" y="77"/>
                </a:cubicBezTo>
                <a:cubicBezTo>
                  <a:pt x="66" y="42"/>
                  <a:pt x="75" y="19"/>
                  <a:pt x="48" y="1"/>
                </a:cubicBezTo>
                <a:cubicBezTo>
                  <a:pt x="33" y="2"/>
                  <a:pt x="18" y="0"/>
                  <a:pt x="4" y="5"/>
                </a:cubicBezTo>
                <a:cubicBezTo>
                  <a:pt x="0" y="6"/>
                  <a:pt x="0" y="13"/>
                  <a:pt x="0" y="17"/>
                </a:cubicBezTo>
                <a:cubicBezTo>
                  <a:pt x="0" y="48"/>
                  <a:pt x="2" y="83"/>
                  <a:pt x="20" y="109"/>
                </a:cubicBezTo>
                <a:cubicBezTo>
                  <a:pt x="23" y="180"/>
                  <a:pt x="26" y="251"/>
                  <a:pt x="32" y="321"/>
                </a:cubicBezTo>
                <a:cubicBezTo>
                  <a:pt x="35" y="349"/>
                  <a:pt x="31" y="380"/>
                  <a:pt x="52" y="401"/>
                </a:cubicBezTo>
                <a:cubicBezTo>
                  <a:pt x="105" y="395"/>
                  <a:pt x="84" y="410"/>
                  <a:pt x="84" y="361"/>
                </a:cubicBezTo>
                <a:cubicBezTo>
                  <a:pt x="84" y="355"/>
                  <a:pt x="88" y="351"/>
                  <a:pt x="88" y="345"/>
                </a:cubicBezTo>
              </a:path>
            </a:pathLst>
          </a:custGeom>
          <a:solidFill>
            <a:srgbClr val="ffb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516720" y="3789360"/>
            <a:ext cx="299880" cy="841320"/>
          </a:xfrm>
          <a:custGeom>
            <a:avLst/>
            <a:gdLst/>
            <a:ahLst/>
            <a:rect l="l" t="t" r="r" b="b"/>
            <a:pathLst>
              <a:path w="189" h="530">
                <a:moveTo>
                  <a:pt x="58" y="0"/>
                </a:moveTo>
                <a:cubicBezTo>
                  <a:pt x="42" y="51"/>
                  <a:pt x="21" y="102"/>
                  <a:pt x="15" y="157"/>
                </a:cubicBezTo>
                <a:cubicBezTo>
                  <a:pt x="17" y="228"/>
                  <a:pt x="0" y="399"/>
                  <a:pt x="77" y="476"/>
                </a:cubicBezTo>
                <a:cubicBezTo>
                  <a:pt x="83" y="494"/>
                  <a:pt x="85" y="530"/>
                  <a:pt x="113" y="485"/>
                </a:cubicBezTo>
                <a:cubicBezTo>
                  <a:pt x="135" y="450"/>
                  <a:pt x="149" y="380"/>
                  <a:pt x="159" y="339"/>
                </a:cubicBezTo>
                <a:cubicBezTo>
                  <a:pt x="155" y="270"/>
                  <a:pt x="189" y="109"/>
                  <a:pt x="117" y="43"/>
                </a:cubicBezTo>
                <a:cubicBezTo>
                  <a:pt x="111" y="24"/>
                  <a:pt x="84" y="0"/>
                  <a:pt x="58" y="0"/>
                </a:cubicBezTo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57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516720" y="4581360"/>
            <a:ext cx="299880" cy="841680"/>
          </a:xfrm>
          <a:custGeom>
            <a:avLst/>
            <a:gdLst/>
            <a:ahLst/>
            <a:rect l="l" t="t" r="r" b="b"/>
            <a:pathLst>
              <a:path w="189" h="530">
                <a:moveTo>
                  <a:pt x="58" y="0"/>
                </a:moveTo>
                <a:cubicBezTo>
                  <a:pt x="42" y="51"/>
                  <a:pt x="21" y="102"/>
                  <a:pt x="15" y="157"/>
                </a:cubicBezTo>
                <a:cubicBezTo>
                  <a:pt x="17" y="228"/>
                  <a:pt x="0" y="399"/>
                  <a:pt x="77" y="476"/>
                </a:cubicBezTo>
                <a:cubicBezTo>
                  <a:pt x="83" y="494"/>
                  <a:pt x="85" y="530"/>
                  <a:pt x="113" y="485"/>
                </a:cubicBezTo>
                <a:cubicBezTo>
                  <a:pt x="135" y="450"/>
                  <a:pt x="149" y="380"/>
                  <a:pt x="159" y="339"/>
                </a:cubicBezTo>
                <a:cubicBezTo>
                  <a:pt x="155" y="270"/>
                  <a:pt x="189" y="109"/>
                  <a:pt x="117" y="43"/>
                </a:cubicBezTo>
                <a:cubicBezTo>
                  <a:pt x="111" y="24"/>
                  <a:pt x="84" y="0"/>
                  <a:pt x="58" y="0"/>
                </a:cubicBezTo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57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516720" y="2997360"/>
            <a:ext cx="299880" cy="841320"/>
          </a:xfrm>
          <a:custGeom>
            <a:avLst/>
            <a:gdLst/>
            <a:ahLst/>
            <a:rect l="l" t="t" r="r" b="b"/>
            <a:pathLst>
              <a:path w="189" h="530">
                <a:moveTo>
                  <a:pt x="58" y="0"/>
                </a:moveTo>
                <a:cubicBezTo>
                  <a:pt x="42" y="51"/>
                  <a:pt x="21" y="102"/>
                  <a:pt x="15" y="157"/>
                </a:cubicBezTo>
                <a:cubicBezTo>
                  <a:pt x="17" y="228"/>
                  <a:pt x="0" y="399"/>
                  <a:pt x="77" y="476"/>
                </a:cubicBezTo>
                <a:cubicBezTo>
                  <a:pt x="83" y="494"/>
                  <a:pt x="85" y="530"/>
                  <a:pt x="113" y="485"/>
                </a:cubicBezTo>
                <a:cubicBezTo>
                  <a:pt x="135" y="450"/>
                  <a:pt x="149" y="380"/>
                  <a:pt x="159" y="339"/>
                </a:cubicBezTo>
                <a:cubicBezTo>
                  <a:pt x="155" y="270"/>
                  <a:pt x="189" y="109"/>
                  <a:pt x="117" y="43"/>
                </a:cubicBezTo>
                <a:cubicBezTo>
                  <a:pt x="111" y="24"/>
                  <a:pt x="84" y="0"/>
                  <a:pt x="58" y="0"/>
                </a:cubicBezTo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57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516720" y="5300640"/>
            <a:ext cx="216000" cy="144360"/>
          </a:xfrm>
          <a:prstGeom prst="ellipse">
            <a:avLst/>
          </a:prstGeom>
          <a:gradFill rotWithShape="0">
            <a:gsLst>
              <a:gs pos="0">
                <a:srgbClr val="feefe0"/>
              </a:gs>
              <a:gs pos="100000">
                <a:srgbClr val="ffd9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516720" y="4508640"/>
            <a:ext cx="216000" cy="144360"/>
          </a:xfrm>
          <a:prstGeom prst="ellipse">
            <a:avLst/>
          </a:prstGeom>
          <a:gradFill rotWithShape="0">
            <a:gsLst>
              <a:gs pos="0">
                <a:srgbClr val="feecdb"/>
              </a:gs>
              <a:gs pos="100000">
                <a:srgbClr val="ffd9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516720" y="3716280"/>
            <a:ext cx="216000" cy="144360"/>
          </a:xfrm>
          <a:prstGeom prst="ellipse">
            <a:avLst/>
          </a:prstGeom>
          <a:gradFill rotWithShape="0">
            <a:gsLst>
              <a:gs pos="0">
                <a:srgbClr val="feeddd"/>
              </a:gs>
              <a:gs pos="100000">
                <a:srgbClr val="ffd9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596360" y="4653000"/>
            <a:ext cx="1079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Polímeros de las proteínas ocludina      y claud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 flipV="1">
            <a:off x="7164360" y="429228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648480" y="2727360"/>
            <a:ext cx="539640" cy="312840"/>
          </a:xfrm>
          <a:custGeom>
            <a:avLst/>
            <a:gdLst/>
            <a:ahLst/>
            <a:rect l="l" t="t" r="r" b="b"/>
            <a:pathLst>
              <a:path w="340" h="197">
                <a:moveTo>
                  <a:pt x="0" y="74"/>
                </a:moveTo>
                <a:cubicBezTo>
                  <a:pt x="16" y="78"/>
                  <a:pt x="26" y="81"/>
                  <a:pt x="40" y="90"/>
                </a:cubicBezTo>
                <a:cubicBezTo>
                  <a:pt x="50" y="121"/>
                  <a:pt x="67" y="140"/>
                  <a:pt x="24" y="154"/>
                </a:cubicBezTo>
                <a:cubicBezTo>
                  <a:pt x="10" y="197"/>
                  <a:pt x="74" y="156"/>
                  <a:pt x="84" y="150"/>
                </a:cubicBezTo>
                <a:cubicBezTo>
                  <a:pt x="116" y="129"/>
                  <a:pt x="160" y="122"/>
                  <a:pt x="196" y="110"/>
                </a:cubicBezTo>
                <a:cubicBezTo>
                  <a:pt x="205" y="107"/>
                  <a:pt x="212" y="99"/>
                  <a:pt x="220" y="94"/>
                </a:cubicBezTo>
                <a:cubicBezTo>
                  <a:pt x="241" y="80"/>
                  <a:pt x="280" y="62"/>
                  <a:pt x="304" y="54"/>
                </a:cubicBezTo>
                <a:cubicBezTo>
                  <a:pt x="340" y="0"/>
                  <a:pt x="224" y="32"/>
                  <a:pt x="148" y="34"/>
                </a:cubicBezTo>
                <a:cubicBezTo>
                  <a:pt x="114" y="45"/>
                  <a:pt x="107" y="46"/>
                  <a:pt x="68" y="50"/>
                </a:cubicBezTo>
                <a:cubicBezTo>
                  <a:pt x="60" y="53"/>
                  <a:pt x="50" y="52"/>
                  <a:pt x="44" y="58"/>
                </a:cubicBezTo>
                <a:cubicBezTo>
                  <a:pt x="19" y="83"/>
                  <a:pt x="9" y="82"/>
                  <a:pt x="24" y="82"/>
                </a:cubicBezTo>
              </a:path>
            </a:pathLst>
          </a:custGeom>
          <a:solidFill>
            <a:srgbClr val="ffca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877080" y="5373720"/>
            <a:ext cx="288720" cy="64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732720" y="5516640"/>
            <a:ext cx="288720" cy="647640"/>
          </a:xfrm>
          <a:prstGeom prst="flowChartTerminator">
            <a:avLst/>
          </a:prstGeom>
          <a:gradFill rotWithShape="0">
            <a:gsLst>
              <a:gs pos="0">
                <a:srgbClr val="bbe0e3"/>
              </a:gs>
              <a:gs pos="100000">
                <a:srgbClr val="b4d8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588000" y="5661000"/>
            <a:ext cx="289080" cy="647640"/>
          </a:xfrm>
          <a:prstGeom prst="flowChartTerminator">
            <a:avLst/>
          </a:prstGeom>
          <a:gradFill rotWithShape="0">
            <a:gsLst>
              <a:gs pos="0">
                <a:srgbClr val="bbe0e3"/>
              </a:gs>
              <a:gs pos="100000">
                <a:srgbClr val="dbee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179720" y="282600"/>
            <a:ext cx="28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UNIONES ESTREC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9" name="" descr=""/>
          <p:cNvPicPr/>
          <p:nvPr/>
        </p:nvPicPr>
        <p:blipFill>
          <a:blip r:embed="rId2"/>
          <a:srcRect l="34471" t="8023" r="13772" b="23181"/>
          <a:stretch/>
        </p:blipFill>
        <p:spPr>
          <a:xfrm>
            <a:off x="7812000" y="2924280"/>
            <a:ext cx="865440" cy="1225440"/>
          </a:xfrm>
          <a:prstGeom prst="rect">
            <a:avLst/>
          </a:prstGeom>
          <a:ln w="0">
            <a:noFill/>
          </a:ln>
        </p:spPr>
      </p:pic>
      <p:sp>
        <p:nvSpPr>
          <p:cNvPr id="1360" name=""/>
          <p:cNvSpPr/>
          <p:nvPr/>
        </p:nvSpPr>
        <p:spPr>
          <a:xfrm>
            <a:off x="440640" y="284040"/>
            <a:ext cx="296640" cy="337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" descr=""/>
          <p:cNvPicPr/>
          <p:nvPr/>
        </p:nvPicPr>
        <p:blipFill>
          <a:blip r:embed="rId1"/>
          <a:srcRect l="38512" t="5767" r="6502" b="7377"/>
          <a:stretch/>
        </p:blipFill>
        <p:spPr>
          <a:xfrm>
            <a:off x="1295280" y="1447920"/>
            <a:ext cx="2971800" cy="3200400"/>
          </a:xfrm>
          <a:prstGeom prst="rect">
            <a:avLst/>
          </a:prstGeom>
          <a:ln w="0">
            <a:noFill/>
          </a:ln>
        </p:spPr>
      </p:pic>
      <p:sp>
        <p:nvSpPr>
          <p:cNvPr id="1362" name=""/>
          <p:cNvSpPr/>
          <p:nvPr/>
        </p:nvSpPr>
        <p:spPr>
          <a:xfrm>
            <a:off x="5165640" y="11224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603680" y="990720"/>
            <a:ext cx="413712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ILLOS ADH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Belt desmosom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 de anillo alrededor de la 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tuado  más abajo que las un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her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 cadher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án asociados con filamento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jan espacio entre las membra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células adyac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ión de ancl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294920" y="1447920"/>
            <a:ext cx="296640" cy="337320"/>
          </a:xfrm>
          <a:prstGeom prst="rect">
            <a:avLst/>
          </a:prstGeom>
          <a:solidFill>
            <a:srgbClr val="ba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228600" y="2057400"/>
            <a:ext cx="287964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structuras proteicas en la cara citoplasmática de las membranas que unen la cadherina con citoesqueleto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porcionan rigidez a los tejidos y confieren resistencia a las fuerzas mecán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322800" y="905040"/>
            <a:ext cx="792000" cy="12236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324240" y="123840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367080" y="1055520"/>
            <a:ext cx="714240" cy="10656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114800" y="831960"/>
            <a:ext cx="79200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116240" y="116532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159080" y="982800"/>
            <a:ext cx="714600" cy="10620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06800" y="760320"/>
            <a:ext cx="79236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908600" y="109368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951440" y="911160"/>
            <a:ext cx="714240" cy="10656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55880" y="1192320"/>
            <a:ext cx="79236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757680" y="152568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00520" y="1343160"/>
            <a:ext cx="714240" cy="10620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548240" y="1192320"/>
            <a:ext cx="79200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549680" y="152568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592520" y="1343160"/>
            <a:ext cx="714600" cy="10620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187880" y="1552680"/>
            <a:ext cx="79200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189320" y="188604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232160" y="1703520"/>
            <a:ext cx="714600" cy="10620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979880" y="1552680"/>
            <a:ext cx="79236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064120" y="1697040"/>
            <a:ext cx="628560" cy="1092240"/>
          </a:xfrm>
          <a:custGeom>
            <a:avLst/>
            <a:gdLst/>
            <a:ahLst/>
            <a:rect l="l" t="t" r="r" b="b"/>
            <a:pathLst>
              <a:path w="396" h="688">
                <a:moveTo>
                  <a:pt x="64" y="112"/>
                </a:moveTo>
                <a:cubicBezTo>
                  <a:pt x="65" y="116"/>
                  <a:pt x="66" y="120"/>
                  <a:pt x="67" y="124"/>
                </a:cubicBezTo>
                <a:cubicBezTo>
                  <a:pt x="69" y="128"/>
                  <a:pt x="72" y="132"/>
                  <a:pt x="74" y="136"/>
                </a:cubicBezTo>
                <a:cubicBezTo>
                  <a:pt x="76" y="144"/>
                  <a:pt x="80" y="160"/>
                  <a:pt x="80" y="160"/>
                </a:cubicBezTo>
                <a:cubicBezTo>
                  <a:pt x="81" y="180"/>
                  <a:pt x="84" y="200"/>
                  <a:pt x="84" y="220"/>
                </a:cubicBezTo>
                <a:cubicBezTo>
                  <a:pt x="88" y="502"/>
                  <a:pt x="5" y="634"/>
                  <a:pt x="190" y="666"/>
                </a:cubicBezTo>
                <a:cubicBezTo>
                  <a:pt x="244" y="688"/>
                  <a:pt x="198" y="661"/>
                  <a:pt x="334" y="654"/>
                </a:cubicBezTo>
                <a:cubicBezTo>
                  <a:pt x="346" y="634"/>
                  <a:pt x="370" y="634"/>
                  <a:pt x="370" y="634"/>
                </a:cubicBezTo>
                <a:cubicBezTo>
                  <a:pt x="394" y="590"/>
                  <a:pt x="382" y="537"/>
                  <a:pt x="387" y="480"/>
                </a:cubicBezTo>
                <a:cubicBezTo>
                  <a:pt x="390" y="367"/>
                  <a:pt x="394" y="266"/>
                  <a:pt x="390" y="152"/>
                </a:cubicBezTo>
                <a:cubicBezTo>
                  <a:pt x="390" y="142"/>
                  <a:pt x="396" y="93"/>
                  <a:pt x="381" y="76"/>
                </a:cubicBezTo>
                <a:cubicBezTo>
                  <a:pt x="365" y="59"/>
                  <a:pt x="360" y="60"/>
                  <a:pt x="341" y="52"/>
                </a:cubicBezTo>
                <a:cubicBezTo>
                  <a:pt x="338" y="51"/>
                  <a:pt x="332" y="48"/>
                  <a:pt x="332" y="48"/>
                </a:cubicBezTo>
                <a:cubicBezTo>
                  <a:pt x="0" y="54"/>
                  <a:pt x="170" y="0"/>
                  <a:pt x="77" y="76"/>
                </a:cubicBezTo>
                <a:cubicBezTo>
                  <a:pt x="76" y="80"/>
                  <a:pt x="72" y="112"/>
                  <a:pt x="64" y="11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195880" y="1913040"/>
            <a:ext cx="0" cy="863640"/>
          </a:xfrm>
          <a:prstGeom prst="line">
            <a:avLst/>
          </a:prstGeom>
          <a:ln w="572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700600" y="1839960"/>
            <a:ext cx="0" cy="863640"/>
          </a:xfrm>
          <a:prstGeom prst="line">
            <a:avLst/>
          </a:prstGeom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213520" y="2503440"/>
            <a:ext cx="466560" cy="42840"/>
          </a:xfrm>
          <a:custGeom>
            <a:avLst/>
            <a:gdLst/>
            <a:ahLst/>
            <a:rect l="l" t="t" r="r" b="b"/>
            <a:pathLst>
              <a:path w="294" h="27">
                <a:moveTo>
                  <a:pt x="0" y="27"/>
                </a:moveTo>
                <a:cubicBezTo>
                  <a:pt x="29" y="23"/>
                  <a:pt x="62" y="9"/>
                  <a:pt x="92" y="6"/>
                </a:cubicBezTo>
                <a:cubicBezTo>
                  <a:pt x="128" y="3"/>
                  <a:pt x="176" y="0"/>
                  <a:pt x="210" y="3"/>
                </a:cubicBezTo>
                <a:cubicBezTo>
                  <a:pt x="244" y="6"/>
                  <a:pt x="277" y="22"/>
                  <a:pt x="294" y="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037120" y="1697040"/>
            <a:ext cx="730440" cy="130320"/>
          </a:xfrm>
          <a:custGeom>
            <a:avLst/>
            <a:gdLst/>
            <a:ahLst/>
            <a:rect l="l" t="t" r="r" b="b"/>
            <a:pathLst>
              <a:path w="460" h="82">
                <a:moveTo>
                  <a:pt x="0" y="82"/>
                </a:moveTo>
                <a:cubicBezTo>
                  <a:pt x="7" y="78"/>
                  <a:pt x="20" y="54"/>
                  <a:pt x="39" y="43"/>
                </a:cubicBezTo>
                <a:cubicBezTo>
                  <a:pt x="58" y="32"/>
                  <a:pt x="79" y="20"/>
                  <a:pt x="112" y="13"/>
                </a:cubicBezTo>
                <a:cubicBezTo>
                  <a:pt x="160" y="6"/>
                  <a:pt x="199" y="2"/>
                  <a:pt x="238" y="1"/>
                </a:cubicBezTo>
                <a:cubicBezTo>
                  <a:pt x="277" y="0"/>
                  <a:pt x="318" y="6"/>
                  <a:pt x="346" y="10"/>
                </a:cubicBezTo>
                <a:cubicBezTo>
                  <a:pt x="374" y="14"/>
                  <a:pt x="390" y="18"/>
                  <a:pt x="409" y="28"/>
                </a:cubicBezTo>
                <a:cubicBezTo>
                  <a:pt x="416" y="28"/>
                  <a:pt x="460" y="61"/>
                  <a:pt x="460" y="67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208480" y="2057400"/>
            <a:ext cx="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994280" y="1946160"/>
            <a:ext cx="214200" cy="182520"/>
          </a:xfrm>
          <a:custGeom>
            <a:avLst/>
            <a:gdLst/>
            <a:ahLst/>
            <a:rect l="l" t="t" r="r" b="b"/>
            <a:pathLst>
              <a:path w="108" h="93">
                <a:moveTo>
                  <a:pt x="108" y="93"/>
                </a:moveTo>
                <a:cubicBezTo>
                  <a:pt x="88" y="86"/>
                  <a:pt x="87" y="78"/>
                  <a:pt x="57" y="69"/>
                </a:cubicBezTo>
                <a:cubicBezTo>
                  <a:pt x="48" y="64"/>
                  <a:pt x="36" y="54"/>
                  <a:pt x="36" y="54"/>
                </a:cubicBezTo>
                <a:cubicBezTo>
                  <a:pt x="28" y="42"/>
                  <a:pt x="14" y="44"/>
                  <a:pt x="9" y="30"/>
                </a:cubicBezTo>
                <a:cubicBezTo>
                  <a:pt x="8" y="27"/>
                  <a:pt x="0" y="0"/>
                  <a:pt x="0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700600" y="1951200"/>
            <a:ext cx="71640" cy="90360"/>
          </a:xfrm>
          <a:custGeom>
            <a:avLst/>
            <a:gdLst/>
            <a:ahLst/>
            <a:rect l="l" t="t" r="r" b="b"/>
            <a:pathLst>
              <a:path w="27" h="36">
                <a:moveTo>
                  <a:pt x="0" y="36"/>
                </a:moveTo>
                <a:cubicBezTo>
                  <a:pt x="5" y="31"/>
                  <a:pt x="26" y="0"/>
                  <a:pt x="27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700600" y="1984320"/>
            <a:ext cx="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538440" y="4287960"/>
            <a:ext cx="352908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67160" y="5224320"/>
            <a:ext cx="3672000" cy="1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898800" y="4648320"/>
            <a:ext cx="14472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043520" y="450360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186080" y="4648320"/>
            <a:ext cx="14472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330800" y="457668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475160" y="471960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618080" y="457668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627520" y="4648320"/>
            <a:ext cx="14472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770440" y="4503600"/>
            <a:ext cx="14472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915160" y="4648320"/>
            <a:ext cx="14436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059520" y="450360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202440" y="4648320"/>
            <a:ext cx="14436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346800" y="457668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397044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4114800" y="42159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425916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4402080" y="42163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4546440" y="51526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4691160" y="42163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569916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5843520" y="42159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598644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6418440" y="42159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627552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6130800" y="41446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89880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18608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47516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62752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91516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20244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043520" y="4145040"/>
            <a:ext cx="14256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33080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61808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7044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05952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34680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770440" y="3639960"/>
            <a:ext cx="216000" cy="50508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59520" y="3639960"/>
            <a:ext cx="216000" cy="50508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346800" y="3639960"/>
            <a:ext cx="216000" cy="50508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703760" y="472140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adhe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4114800" y="3568320"/>
            <a:ext cx="71280" cy="57636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rot="10342800">
            <a:off x="5554080" y="5511600"/>
            <a:ext cx="215640" cy="50472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rot="10342800">
            <a:off x="5914440" y="5511600"/>
            <a:ext cx="215640" cy="50472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rot="10342800">
            <a:off x="6202080" y="5511600"/>
            <a:ext cx="216000" cy="50472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4402080" y="3568320"/>
            <a:ext cx="71640" cy="57636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4691160" y="3568320"/>
            <a:ext cx="71280" cy="57636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3898800" y="5511960"/>
            <a:ext cx="71640" cy="57600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4186080" y="5511960"/>
            <a:ext cx="71640" cy="57600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4475160" y="5511960"/>
            <a:ext cx="71280" cy="57600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40120" y="61628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556240" y="608976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Kera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429000" y="32004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nillos adher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556240" y="31370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smos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5856120" y="119376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élulas epitel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4403880" y="2128680"/>
            <a:ext cx="792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495760" y="2273400"/>
            <a:ext cx="563760" cy="86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24480" y="2201760"/>
            <a:ext cx="73080" cy="7164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6480" y="6521400"/>
            <a:ext cx="143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5280120" y="63054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 flipV="1">
            <a:off x="4559040" y="637812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28600" y="83808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ANILLOS ADHERENTE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DESMO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64320" y="208080"/>
            <a:ext cx="296640" cy="337320"/>
          </a:xfrm>
          <a:prstGeom prst="rect">
            <a:avLst/>
          </a:prstGeom>
          <a:solidFill>
            <a:srgbClr val="ba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9" name="" descr=""/>
          <p:cNvPicPr/>
          <p:nvPr/>
        </p:nvPicPr>
        <p:blipFill>
          <a:blip r:embed="rId1"/>
          <a:srcRect l="0" t="46760" r="56064" b="0"/>
          <a:stretch/>
        </p:blipFill>
        <p:spPr>
          <a:xfrm>
            <a:off x="7086600" y="2743200"/>
            <a:ext cx="1657440" cy="1562040"/>
          </a:xfrm>
          <a:prstGeom prst="rect">
            <a:avLst/>
          </a:prstGeom>
          <a:ln w="0">
            <a:noFill/>
          </a:ln>
        </p:spPr>
      </p:pic>
      <p:pic>
        <p:nvPicPr>
          <p:cNvPr id="1460" name="" descr=""/>
          <p:cNvPicPr/>
          <p:nvPr/>
        </p:nvPicPr>
        <p:blipFill>
          <a:blip r:embed="rId2"/>
          <a:stretch/>
        </p:blipFill>
        <p:spPr>
          <a:xfrm>
            <a:off x="7315200" y="44197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>
            <a:off x="4578840" y="533520"/>
            <a:ext cx="3623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EMIDESMOS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s asimétr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clan la cara basal de la célula a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ámina ba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iene filamentos de quera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190400" y="380880"/>
            <a:ext cx="296640" cy="337320"/>
          </a:xfrm>
          <a:prstGeom prst="rect">
            <a:avLst/>
          </a:prstGeom>
          <a:solidFill>
            <a:srgbClr val="ba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3200400"/>
            <a:ext cx="28195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5" name=""/>
          <p:cNvGrpSpPr/>
          <p:nvPr/>
        </p:nvGrpSpPr>
        <p:grpSpPr>
          <a:xfrm>
            <a:off x="762120" y="838080"/>
            <a:ext cx="2807640" cy="2316240"/>
            <a:chOff x="762120" y="838080"/>
            <a:chExt cx="2807640" cy="2316240"/>
          </a:xfrm>
        </p:grpSpPr>
        <p:sp>
          <p:nvSpPr>
            <p:cNvPr id="1466" name=""/>
            <p:cNvSpPr/>
            <p:nvPr/>
          </p:nvSpPr>
          <p:spPr>
            <a:xfrm>
              <a:off x="762120" y="838080"/>
              <a:ext cx="1368000" cy="2316240"/>
            </a:xfrm>
            <a:custGeom>
              <a:avLst/>
              <a:gdLst>
                <a:gd name="textAreaLeft" fmla="*/ 66600 w 1368000"/>
                <a:gd name="textAreaRight" fmla="*/ 1301400 w 1368000"/>
                <a:gd name="textAreaTop" fmla="*/ 66600 h 2316240"/>
                <a:gd name="textAreaBottom" fmla="*/ 2249640 h 2316240"/>
              </a:gdLst>
              <a:ahLst/>
              <a:rect l="textAreaLeft" t="textAreaTop" r="textAreaRight" b="textAreaBottom"/>
              <a:pathLst>
                <a:path w="21600" h="36568">
                  <a:moveTo>
                    <a:pt x="3600" y="0"/>
                  </a:moveTo>
                  <a:arcTo wR="3600" hR="3600" stAng="16200000" swAng="-5400000"/>
                  <a:lnTo>
                    <a:pt x="0" y="32968"/>
                  </a:lnTo>
                  <a:arcTo wR="3600" hR="3600" stAng="10800000" swAng="-5400000"/>
                  <a:lnTo>
                    <a:pt x="18000" y="36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201760" y="838080"/>
              <a:ext cx="1368000" cy="2316240"/>
            </a:xfrm>
            <a:custGeom>
              <a:avLst/>
              <a:gdLst>
                <a:gd name="textAreaLeft" fmla="*/ 66600 w 1368000"/>
                <a:gd name="textAreaRight" fmla="*/ 1301400 w 1368000"/>
                <a:gd name="textAreaTop" fmla="*/ 66600 h 2316240"/>
                <a:gd name="textAreaBottom" fmla="*/ 2249640 h 2316240"/>
              </a:gdLst>
              <a:ahLst/>
              <a:rect l="textAreaLeft" t="textAreaTop" r="textAreaRight" b="textAreaBottom"/>
              <a:pathLst>
                <a:path w="21600" h="36568">
                  <a:moveTo>
                    <a:pt x="3600" y="0"/>
                  </a:moveTo>
                  <a:arcTo wR="3600" hR="3600" stAng="16200000" swAng="-5400000"/>
                  <a:lnTo>
                    <a:pt x="0" y="32968"/>
                  </a:lnTo>
                  <a:arcTo wR="3600" hR="3600" stAng="10800000" swAng="-5400000"/>
                  <a:lnTo>
                    <a:pt x="18000" y="36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2130120" y="1168560"/>
              <a:ext cx="72720" cy="946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2130120" y="1074600"/>
              <a:ext cx="72720" cy="946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2130120" y="979920"/>
              <a:ext cx="72720" cy="946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201760" y="1263240"/>
              <a:ext cx="70920" cy="94680"/>
            </a:xfrm>
            <a:prstGeom prst="flowChartDelay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198520" y="1078920"/>
              <a:ext cx="159840" cy="16740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201760" y="979920"/>
              <a:ext cx="159840" cy="16776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201760" y="884880"/>
              <a:ext cx="159840" cy="16776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201760" y="1688400"/>
              <a:ext cx="70920" cy="14184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0800000">
              <a:off x="2057040" y="1688400"/>
              <a:ext cx="71280" cy="141840"/>
            </a:xfrm>
            <a:prstGeom prst="flowChartDelay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130120" y="1263240"/>
              <a:ext cx="71280" cy="17971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10800000"/>
            </a:gradFill>
            <a:ln w="19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130120" y="1736640"/>
              <a:ext cx="7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130120" y="1783440"/>
              <a:ext cx="7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057040" y="2540160"/>
              <a:ext cx="288720" cy="96840"/>
            </a:xfrm>
            <a:prstGeom prst="flowChartOnlineStorag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1" name=""/>
            <p:cNvGrpSpPr/>
            <p:nvPr/>
          </p:nvGrpSpPr>
          <p:grpSpPr>
            <a:xfrm>
              <a:off x="2057040" y="2540160"/>
              <a:ext cx="215640" cy="94680"/>
              <a:chOff x="2057040" y="2540160"/>
              <a:chExt cx="215640" cy="94680"/>
            </a:xfrm>
          </p:grpSpPr>
          <p:sp>
            <p:nvSpPr>
              <p:cNvPr id="1482" name=""/>
              <p:cNvSpPr/>
              <p:nvPr/>
            </p:nvSpPr>
            <p:spPr>
              <a:xfrm>
                <a:off x="2057040" y="257184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V="1">
                <a:off x="2143440" y="2540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V="1">
                <a:off x="2057040" y="2540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2185920" y="257184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V="1">
                <a:off x="2272680" y="2540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V="1">
                <a:off x="2185920" y="2540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057040" y="260316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185920" y="260316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V="1">
                <a:off x="2143440" y="2603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V="1">
                <a:off x="2185920" y="2603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V="1">
                <a:off x="2272680" y="2603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V="1">
                <a:off x="2057040" y="2603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4" name=""/>
            <p:cNvSpPr/>
            <p:nvPr/>
          </p:nvSpPr>
          <p:spPr>
            <a:xfrm>
              <a:off x="2273040" y="2540160"/>
              <a:ext cx="72720" cy="94680"/>
            </a:xfrm>
            <a:prstGeom prst="donut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5" name=""/>
          <p:cNvSpPr/>
          <p:nvPr/>
        </p:nvSpPr>
        <p:spPr>
          <a:xfrm>
            <a:off x="1371600" y="3124080"/>
            <a:ext cx="228600" cy="76320"/>
          </a:xfrm>
          <a:prstGeom prst="ellipse">
            <a:avLst/>
          </a:prstGeom>
          <a:gradFill rotWithShape="0">
            <a:gsLst>
              <a:gs pos="0">
                <a:srgbClr val="8c8113">
                  <a:alpha val="32156"/>
                </a:srgbClr>
              </a:gs>
              <a:gs pos="100000">
                <a:srgbClr val="808080">
                  <a:alpha val="23137"/>
                </a:srgbClr>
              </a:gs>
            </a:gsLst>
            <a:lin ang="5400000"/>
          </a:gradFill>
          <a:ln w="6480">
            <a:solidFill>
              <a:srgbClr val="8c680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390680" y="3073320"/>
            <a:ext cx="31680" cy="76320"/>
          </a:xfrm>
          <a:custGeom>
            <a:avLst/>
            <a:gdLst/>
            <a:ahLst/>
            <a:rect l="l" t="t" r="r" b="b"/>
            <a:pathLst>
              <a:path w="20" h="48">
                <a:moveTo>
                  <a:pt x="20" y="48"/>
                </a:moveTo>
                <a:cubicBezTo>
                  <a:pt x="15" y="35"/>
                  <a:pt x="0" y="9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447920" y="3079800"/>
            <a:ext cx="33120" cy="82440"/>
          </a:xfrm>
          <a:custGeom>
            <a:avLst/>
            <a:gdLst/>
            <a:ahLst/>
            <a:rect l="l" t="t" r="r" b="b"/>
            <a:pathLst>
              <a:path w="21" h="52">
                <a:moveTo>
                  <a:pt x="0" y="52"/>
                </a:moveTo>
                <a:cubicBezTo>
                  <a:pt x="21" y="30"/>
                  <a:pt x="12" y="45"/>
                  <a:pt x="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542960" y="3086280"/>
            <a:ext cx="49320" cy="63360"/>
          </a:xfrm>
          <a:custGeom>
            <a:avLst/>
            <a:gdLst/>
            <a:ahLst/>
            <a:rect l="l" t="t" r="r" b="b"/>
            <a:pathLst>
              <a:path w="31" h="40">
                <a:moveTo>
                  <a:pt x="0" y="40"/>
                </a:moveTo>
                <a:cubicBezTo>
                  <a:pt x="15" y="17"/>
                  <a:pt x="31" y="35"/>
                  <a:pt x="16" y="12"/>
                </a:cubicBezTo>
                <a:cubicBezTo>
                  <a:pt x="17" y="8"/>
                  <a:pt x="20" y="0"/>
                  <a:pt x="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506600" y="3079800"/>
            <a:ext cx="23760" cy="76320"/>
          </a:xfrm>
          <a:custGeom>
            <a:avLst/>
            <a:gdLst/>
            <a:ahLst/>
            <a:rect l="l" t="t" r="r" b="b"/>
            <a:pathLst>
              <a:path w="15" h="48">
                <a:moveTo>
                  <a:pt x="7" y="48"/>
                </a:moveTo>
                <a:cubicBezTo>
                  <a:pt x="11" y="2"/>
                  <a:pt x="0" y="14"/>
                  <a:pt x="1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3000" y="2819520"/>
            <a:ext cx="9144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rot="1219800">
            <a:off x="2209320" y="365724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" descr=""/>
          <p:cNvPicPr/>
          <p:nvPr/>
        </p:nvPicPr>
        <p:blipFill>
          <a:blip r:embed="rId1"/>
          <a:stretch/>
        </p:blipFill>
        <p:spPr>
          <a:xfrm>
            <a:off x="1338120" y="189000"/>
            <a:ext cx="6467760" cy="6408720"/>
          </a:xfrm>
          <a:prstGeom prst="rect">
            <a:avLst/>
          </a:prstGeom>
          <a:ln w="0">
            <a:noFill/>
          </a:ln>
        </p:spPr>
      </p:pic>
      <p:sp>
        <p:nvSpPr>
          <p:cNvPr id="1503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"/>
          <p:cNvSpPr/>
          <p:nvPr/>
        </p:nvSpPr>
        <p:spPr>
          <a:xfrm>
            <a:off x="2209680" y="228600"/>
            <a:ext cx="32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UNIONES EN HENDI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(Gap jun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619280" y="1413000"/>
            <a:ext cx="1081080" cy="2592360"/>
          </a:xfrm>
          <a:prstGeom prst="flowChartCollate">
            <a:avLst/>
          </a:prstGeom>
          <a:gradFill rotWithShape="0">
            <a:gsLst>
              <a:gs pos="0">
                <a:srgbClr val="fef9f4"/>
              </a:gs>
              <a:gs pos="50000">
                <a:srgbClr val="ffcc99">
                  <a:alpha val="70196"/>
                </a:srgbClr>
              </a:gs>
              <a:gs pos="100000">
                <a:srgbClr val="fef9f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6" name=""/>
          <p:cNvGrpSpPr/>
          <p:nvPr/>
        </p:nvGrpSpPr>
        <p:grpSpPr>
          <a:xfrm>
            <a:off x="1765440" y="1413000"/>
            <a:ext cx="403200" cy="2692440"/>
            <a:chOff x="1765440" y="1413000"/>
            <a:chExt cx="403200" cy="2692440"/>
          </a:xfrm>
        </p:grpSpPr>
        <p:sp>
          <p:nvSpPr>
            <p:cNvPr id="1507" name=""/>
            <p:cNvSpPr/>
            <p:nvPr/>
          </p:nvSpPr>
          <p:spPr>
            <a:xfrm>
              <a:off x="1765440" y="1413000"/>
              <a:ext cx="350640" cy="2679840"/>
            </a:xfrm>
            <a:custGeom>
              <a:avLst/>
              <a:gdLst/>
              <a:ahLst/>
              <a:rect l="l" t="t" r="r" b="b"/>
              <a:pathLst>
                <a:path w="221" h="1688">
                  <a:moveTo>
                    <a:pt x="24" y="0"/>
                  </a:moveTo>
                  <a:cubicBezTo>
                    <a:pt x="40" y="145"/>
                    <a:pt x="20" y="293"/>
                    <a:pt x="66" y="432"/>
                  </a:cubicBezTo>
                  <a:cubicBezTo>
                    <a:pt x="77" y="466"/>
                    <a:pt x="109" y="489"/>
                    <a:pt x="120" y="522"/>
                  </a:cubicBezTo>
                  <a:cubicBezTo>
                    <a:pt x="126" y="540"/>
                    <a:pt x="132" y="558"/>
                    <a:pt x="138" y="576"/>
                  </a:cubicBezTo>
                  <a:cubicBezTo>
                    <a:pt x="160" y="642"/>
                    <a:pt x="125" y="542"/>
                    <a:pt x="156" y="612"/>
                  </a:cubicBezTo>
                  <a:cubicBezTo>
                    <a:pt x="161" y="624"/>
                    <a:pt x="168" y="648"/>
                    <a:pt x="168" y="648"/>
                  </a:cubicBezTo>
                  <a:cubicBezTo>
                    <a:pt x="167" y="694"/>
                    <a:pt x="221" y="959"/>
                    <a:pt x="156" y="1056"/>
                  </a:cubicBezTo>
                  <a:cubicBezTo>
                    <a:pt x="152" y="1150"/>
                    <a:pt x="143" y="1175"/>
                    <a:pt x="102" y="1248"/>
                  </a:cubicBezTo>
                  <a:cubicBezTo>
                    <a:pt x="85" y="1279"/>
                    <a:pt x="62" y="1308"/>
                    <a:pt x="42" y="1338"/>
                  </a:cubicBezTo>
                  <a:cubicBezTo>
                    <a:pt x="34" y="1350"/>
                    <a:pt x="18" y="1374"/>
                    <a:pt x="18" y="1374"/>
                  </a:cubicBezTo>
                  <a:cubicBezTo>
                    <a:pt x="7" y="1417"/>
                    <a:pt x="0" y="1688"/>
                    <a:pt x="0" y="1578"/>
                  </a:cubicBezTo>
                </a:path>
              </a:pathLst>
            </a:custGeom>
            <a:noFill/>
            <a:ln w="76320">
              <a:solidFill>
                <a:srgbClr val="fae3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817640" y="1425600"/>
              <a:ext cx="351000" cy="2679840"/>
            </a:xfrm>
            <a:custGeom>
              <a:avLst/>
              <a:gdLst/>
              <a:ahLst/>
              <a:rect l="l" t="t" r="r" b="b"/>
              <a:pathLst>
                <a:path w="221" h="1688">
                  <a:moveTo>
                    <a:pt x="24" y="0"/>
                  </a:moveTo>
                  <a:cubicBezTo>
                    <a:pt x="40" y="145"/>
                    <a:pt x="20" y="293"/>
                    <a:pt x="66" y="432"/>
                  </a:cubicBezTo>
                  <a:cubicBezTo>
                    <a:pt x="77" y="466"/>
                    <a:pt x="109" y="489"/>
                    <a:pt x="120" y="522"/>
                  </a:cubicBezTo>
                  <a:cubicBezTo>
                    <a:pt x="126" y="540"/>
                    <a:pt x="132" y="558"/>
                    <a:pt x="138" y="576"/>
                  </a:cubicBezTo>
                  <a:cubicBezTo>
                    <a:pt x="160" y="642"/>
                    <a:pt x="125" y="542"/>
                    <a:pt x="156" y="612"/>
                  </a:cubicBezTo>
                  <a:cubicBezTo>
                    <a:pt x="161" y="624"/>
                    <a:pt x="168" y="648"/>
                    <a:pt x="168" y="648"/>
                  </a:cubicBezTo>
                  <a:cubicBezTo>
                    <a:pt x="167" y="694"/>
                    <a:pt x="221" y="959"/>
                    <a:pt x="156" y="1056"/>
                  </a:cubicBezTo>
                  <a:cubicBezTo>
                    <a:pt x="152" y="1150"/>
                    <a:pt x="143" y="1175"/>
                    <a:pt x="102" y="1248"/>
                  </a:cubicBezTo>
                  <a:cubicBezTo>
                    <a:pt x="85" y="1279"/>
                    <a:pt x="62" y="1308"/>
                    <a:pt x="42" y="1338"/>
                  </a:cubicBezTo>
                  <a:cubicBezTo>
                    <a:pt x="34" y="1350"/>
                    <a:pt x="18" y="1374"/>
                    <a:pt x="18" y="1374"/>
                  </a:cubicBezTo>
                  <a:cubicBezTo>
                    <a:pt x="7" y="1417"/>
                    <a:pt x="0" y="1688"/>
                    <a:pt x="0" y="1578"/>
                  </a:cubicBezTo>
                </a:path>
              </a:pathLst>
            </a:custGeom>
            <a:noFill/>
            <a:ln w="76320">
              <a:solidFill>
                <a:srgbClr val="fae3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2195640" y="1413000"/>
            <a:ext cx="475920" cy="2692440"/>
            <a:chOff x="2195640" y="1413000"/>
            <a:chExt cx="475920" cy="2692440"/>
          </a:xfrm>
        </p:grpSpPr>
        <p:sp>
          <p:nvSpPr>
            <p:cNvPr id="1510" name=""/>
            <p:cNvSpPr/>
            <p:nvPr/>
          </p:nvSpPr>
          <p:spPr>
            <a:xfrm flipH="1">
              <a:off x="2257560" y="1413000"/>
              <a:ext cx="414000" cy="2679840"/>
            </a:xfrm>
            <a:custGeom>
              <a:avLst/>
              <a:gdLst/>
              <a:ahLst/>
              <a:rect l="l" t="t" r="r" b="b"/>
              <a:pathLst>
                <a:path w="221" h="1688">
                  <a:moveTo>
                    <a:pt x="24" y="0"/>
                  </a:moveTo>
                  <a:cubicBezTo>
                    <a:pt x="40" y="145"/>
                    <a:pt x="20" y="293"/>
                    <a:pt x="66" y="432"/>
                  </a:cubicBezTo>
                  <a:cubicBezTo>
                    <a:pt x="77" y="466"/>
                    <a:pt x="109" y="489"/>
                    <a:pt x="120" y="522"/>
                  </a:cubicBezTo>
                  <a:cubicBezTo>
                    <a:pt x="126" y="540"/>
                    <a:pt x="132" y="558"/>
                    <a:pt x="138" y="576"/>
                  </a:cubicBezTo>
                  <a:cubicBezTo>
                    <a:pt x="160" y="642"/>
                    <a:pt x="125" y="542"/>
                    <a:pt x="156" y="612"/>
                  </a:cubicBezTo>
                  <a:cubicBezTo>
                    <a:pt x="161" y="624"/>
                    <a:pt x="168" y="648"/>
                    <a:pt x="168" y="648"/>
                  </a:cubicBezTo>
                  <a:cubicBezTo>
                    <a:pt x="167" y="694"/>
                    <a:pt x="221" y="959"/>
                    <a:pt x="156" y="1056"/>
                  </a:cubicBezTo>
                  <a:cubicBezTo>
                    <a:pt x="152" y="1150"/>
                    <a:pt x="143" y="1175"/>
                    <a:pt x="102" y="1248"/>
                  </a:cubicBezTo>
                  <a:cubicBezTo>
                    <a:pt x="85" y="1279"/>
                    <a:pt x="62" y="1308"/>
                    <a:pt x="42" y="1338"/>
                  </a:cubicBezTo>
                  <a:cubicBezTo>
                    <a:pt x="34" y="1350"/>
                    <a:pt x="18" y="1374"/>
                    <a:pt x="18" y="1374"/>
                  </a:cubicBezTo>
                  <a:cubicBezTo>
                    <a:pt x="7" y="1417"/>
                    <a:pt x="0" y="1688"/>
                    <a:pt x="0" y="1578"/>
                  </a:cubicBezTo>
                </a:path>
              </a:pathLst>
            </a:custGeom>
            <a:noFill/>
            <a:ln w="76320">
              <a:solidFill>
                <a:srgbClr val="fae3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2195280" y="1425600"/>
              <a:ext cx="414360" cy="2679840"/>
            </a:xfrm>
            <a:custGeom>
              <a:avLst/>
              <a:gdLst/>
              <a:ahLst/>
              <a:rect l="l" t="t" r="r" b="b"/>
              <a:pathLst>
                <a:path w="221" h="1688">
                  <a:moveTo>
                    <a:pt x="24" y="0"/>
                  </a:moveTo>
                  <a:cubicBezTo>
                    <a:pt x="40" y="145"/>
                    <a:pt x="20" y="293"/>
                    <a:pt x="66" y="432"/>
                  </a:cubicBezTo>
                  <a:cubicBezTo>
                    <a:pt x="77" y="466"/>
                    <a:pt x="109" y="489"/>
                    <a:pt x="120" y="522"/>
                  </a:cubicBezTo>
                  <a:cubicBezTo>
                    <a:pt x="126" y="540"/>
                    <a:pt x="132" y="558"/>
                    <a:pt x="138" y="576"/>
                  </a:cubicBezTo>
                  <a:cubicBezTo>
                    <a:pt x="160" y="642"/>
                    <a:pt x="125" y="542"/>
                    <a:pt x="156" y="612"/>
                  </a:cubicBezTo>
                  <a:cubicBezTo>
                    <a:pt x="161" y="624"/>
                    <a:pt x="168" y="648"/>
                    <a:pt x="168" y="648"/>
                  </a:cubicBezTo>
                  <a:cubicBezTo>
                    <a:pt x="167" y="694"/>
                    <a:pt x="221" y="959"/>
                    <a:pt x="156" y="1056"/>
                  </a:cubicBezTo>
                  <a:cubicBezTo>
                    <a:pt x="152" y="1150"/>
                    <a:pt x="143" y="1175"/>
                    <a:pt x="102" y="1248"/>
                  </a:cubicBezTo>
                  <a:cubicBezTo>
                    <a:pt x="85" y="1279"/>
                    <a:pt x="62" y="1308"/>
                    <a:pt x="42" y="1338"/>
                  </a:cubicBezTo>
                  <a:cubicBezTo>
                    <a:pt x="34" y="1350"/>
                    <a:pt x="18" y="1374"/>
                    <a:pt x="18" y="1374"/>
                  </a:cubicBezTo>
                  <a:cubicBezTo>
                    <a:pt x="7" y="1417"/>
                    <a:pt x="0" y="1688"/>
                    <a:pt x="0" y="1578"/>
                  </a:cubicBezTo>
                </a:path>
              </a:pathLst>
            </a:custGeom>
            <a:noFill/>
            <a:ln w="76320">
              <a:solidFill>
                <a:srgbClr val="fae3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2" name=""/>
          <p:cNvSpPr/>
          <p:nvPr/>
        </p:nvSpPr>
        <p:spPr>
          <a:xfrm rot="21336000">
            <a:off x="1978200" y="2563920"/>
            <a:ext cx="215640" cy="2062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rot="21336000">
            <a:off x="2195640" y="2565360"/>
            <a:ext cx="215640" cy="2062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rot="21336000">
            <a:off x="2266560" y="2201400"/>
            <a:ext cx="21924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rot="21336000">
            <a:off x="2410920" y="1773000"/>
            <a:ext cx="21924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rot="21336000">
            <a:off x="1834920" y="2060280"/>
            <a:ext cx="21888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rot="21336000">
            <a:off x="1763280" y="1773000"/>
            <a:ext cx="21924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rot="21336000">
            <a:off x="2195280" y="2923920"/>
            <a:ext cx="21888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rot="21336000">
            <a:off x="1979280" y="2923920"/>
            <a:ext cx="21888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rot="21336000">
            <a:off x="2410920" y="3357360"/>
            <a:ext cx="21924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rot="21336000">
            <a:off x="1692000" y="3644640"/>
            <a:ext cx="21888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1979640" y="2637000"/>
            <a:ext cx="431640" cy="71280"/>
          </a:xfrm>
          <a:prstGeom prst="flowChartMagneticDrum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1979640" y="2997360"/>
            <a:ext cx="431640" cy="71280"/>
          </a:xfrm>
          <a:prstGeom prst="flowChartMagneticDrum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55640" y="227664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627280" y="234936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257800" y="1066680"/>
            <a:ext cx="3276720" cy="34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terconectan el citosol de células adyac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articipan en el traspaso de señales químicas entre células, coordinando la actividad de células vec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ermiten el paso de moleculas pequeñas (Ca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ahoma"/>
              </a:rPr>
              <a:t>+2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, cAMP, K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xcluyen moléculas gran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tegración células vec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76364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763640" y="2708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278720" y="208080"/>
            <a:ext cx="296640" cy="337320"/>
          </a:xfrm>
          <a:prstGeom prst="rect">
            <a:avLst/>
          </a:prstGeom>
          <a:solidFill>
            <a:srgbClr val="00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447920" y="3048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600200" y="28195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971800" y="27432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895480" y="28954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6" name="" descr=""/>
          <p:cNvPicPr/>
          <p:nvPr/>
        </p:nvPicPr>
        <p:blipFill>
          <a:blip r:embed="rId1"/>
          <a:stretch/>
        </p:blipFill>
        <p:spPr>
          <a:xfrm>
            <a:off x="914400" y="4343400"/>
            <a:ext cx="1714680" cy="2171880"/>
          </a:xfrm>
          <a:prstGeom prst="rect">
            <a:avLst/>
          </a:prstGeom>
          <a:ln w="0">
            <a:noFill/>
          </a:ln>
        </p:spPr>
      </p:pic>
      <p:pic>
        <p:nvPicPr>
          <p:cNvPr id="1537" name="" descr=""/>
          <p:cNvPicPr/>
          <p:nvPr/>
        </p:nvPicPr>
        <p:blipFill>
          <a:blip r:embed="rId2"/>
          <a:stretch/>
        </p:blipFill>
        <p:spPr>
          <a:xfrm>
            <a:off x="3124080" y="4419720"/>
            <a:ext cx="17910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8" name=""/>
          <p:cNvGrpSpPr/>
          <p:nvPr/>
        </p:nvGrpSpPr>
        <p:grpSpPr>
          <a:xfrm>
            <a:off x="1276560" y="310680"/>
            <a:ext cx="2967840" cy="4283640"/>
            <a:chOff x="1276560" y="310680"/>
            <a:chExt cx="2967840" cy="4283640"/>
          </a:xfrm>
        </p:grpSpPr>
        <p:sp>
          <p:nvSpPr>
            <p:cNvPr id="1539" name=""/>
            <p:cNvSpPr/>
            <p:nvPr/>
          </p:nvSpPr>
          <p:spPr>
            <a:xfrm rot="3120000">
              <a:off x="2324880" y="214560"/>
              <a:ext cx="792360" cy="2518920"/>
            </a:xfrm>
            <a:custGeom>
              <a:avLst/>
              <a:gdLst>
                <a:gd name="textAreaLeft" fmla="*/ 38520 w 792360"/>
                <a:gd name="textAreaRight" fmla="*/ 753840 w 792360"/>
                <a:gd name="textAreaTop" fmla="*/ 38520 h 2518920"/>
                <a:gd name="textAreaBottom" fmla="*/ 2480400 h 2518920"/>
              </a:gdLst>
              <a:ahLst/>
              <a:rect l="textAreaLeft" t="textAreaTop" r="textAreaRight" b="textAreaBottom"/>
              <a:pathLst>
                <a:path w="21600" h="68645">
                  <a:moveTo>
                    <a:pt x="3600" y="0"/>
                  </a:moveTo>
                  <a:arcTo wR="3600" hR="3600" stAng="16200000" swAng="-5400000"/>
                  <a:lnTo>
                    <a:pt x="0" y="65045"/>
                  </a:lnTo>
                  <a:arcTo wR="3600" hR="3600" stAng="10800000" swAng="-5400000"/>
                  <a:lnTo>
                    <a:pt x="18000" y="686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e3c9"/>
                </a:gs>
                <a:gs pos="100000">
                  <a:srgbClr val="ffcc99">
                    <a:alpha val="5098"/>
                  </a:srgbClr>
                </a:gs>
              </a:gsLst>
              <a:lin ang="7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rot="4441800">
              <a:off x="2981880" y="1458720"/>
              <a:ext cx="14472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rot="4441800">
              <a:off x="2550600" y="102708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rot="19603200">
              <a:off x="1143000" y="1065240"/>
              <a:ext cx="2860560" cy="368280"/>
            </a:xfrm>
            <a:prstGeom prst="parallelogram">
              <a:avLst>
                <a:gd name="adj" fmla="val 194184"/>
              </a:avLst>
            </a:prstGeom>
            <a:gradFill rotWithShape="0">
              <a:gsLst>
                <a:gs pos="0">
                  <a:srgbClr val="fae33c"/>
                </a:gs>
                <a:gs pos="100000">
                  <a:srgbClr val="a79828"/>
                </a:gs>
              </a:gsLst>
              <a:lin ang="154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rot="19603200">
              <a:off x="1578960" y="1568160"/>
              <a:ext cx="2795400" cy="360360"/>
            </a:xfrm>
            <a:prstGeom prst="parallelogram">
              <a:avLst>
                <a:gd name="adj" fmla="val 193931"/>
              </a:avLst>
            </a:prstGeom>
            <a:gradFill rotWithShape="0">
              <a:gsLst>
                <a:gs pos="0">
                  <a:srgbClr val="fae33c"/>
                </a:gs>
                <a:gs pos="100000">
                  <a:srgbClr val="73681b"/>
                </a:gs>
              </a:gsLst>
              <a:lin ang="154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4441800">
              <a:off x="2406240" y="88272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4441800">
              <a:off x="2839320" y="131436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rot="4441800">
              <a:off x="1974240" y="196380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rot="4441800">
              <a:off x="1974240" y="124308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300040" y="23605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795320" y="2792520"/>
              <a:ext cx="115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hemica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0" name=""/>
            <p:cNvGrpSpPr/>
            <p:nvPr/>
          </p:nvGrpSpPr>
          <p:grpSpPr>
            <a:xfrm>
              <a:off x="1579320" y="3368880"/>
              <a:ext cx="1223280" cy="1225440"/>
              <a:chOff x="1579320" y="3368880"/>
              <a:chExt cx="1223280" cy="1225440"/>
            </a:xfrm>
          </p:grpSpPr>
          <p:sp>
            <p:nvSpPr>
              <p:cNvPr id="1551" name=""/>
              <p:cNvSpPr/>
              <p:nvPr/>
            </p:nvSpPr>
            <p:spPr>
              <a:xfrm>
                <a:off x="1579320" y="3368880"/>
                <a:ext cx="1007640" cy="1009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1650240" y="3586320"/>
                <a:ext cx="864720" cy="57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H="1">
                <a:off x="2010600" y="3441960"/>
                <a:ext cx="7272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1723320" y="3729240"/>
                <a:ext cx="71892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939320" y="3802320"/>
                <a:ext cx="215280" cy="21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442600" y="4089600"/>
                <a:ext cx="36000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 flipV="1">
                <a:off x="2010600" y="4378320"/>
                <a:ext cx="28872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8" name=""/>
          <p:cNvSpPr/>
          <p:nvPr/>
        </p:nvSpPr>
        <p:spPr>
          <a:xfrm>
            <a:off x="3527280" y="4114800"/>
            <a:ext cx="5616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6 unidades de conex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istintos genes para conex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élulas expresan uno o varios genes de conex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Homo o heteroligómeros (distinta permeabilid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427920" y="2819520"/>
            <a:ext cx="2675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ex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lindro con poro cen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e es un canal hidrofíl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971800" y="3048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031640" y="30492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4 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rot="19943400">
            <a:off x="3809880" y="380520"/>
            <a:ext cx="152640" cy="38124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1280" y="333360"/>
            <a:ext cx="8305560" cy="63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ahoma"/>
              </a:rPr>
              <a:t>Contact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ahoma"/>
              </a:rPr>
              <a:t>Moléculas de adhesión celular</a:t>
            </a:r>
            <a:r>
              <a:rPr b="1" lang="en-US" sz="1800" spc="-1" strike="noStrike">
                <a:solidFill>
                  <a:srgbClr val="0066ff"/>
                </a:solidFill>
                <a:latin typeface="Tahoma"/>
              </a:rPr>
              <a:t>   (CAMs</a:t>
            </a:r>
            <a:r>
              <a:rPr b="1" lang="en-US" sz="1600" spc="-1" strike="noStrike">
                <a:solidFill>
                  <a:srgbClr val="0066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po de inter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Cadher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ón célula-célula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Ms tipo inmunoglobulina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c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ón célula-matriz celular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Integr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ahoma"/>
              </a:rPr>
              <a:t>Uniones</a:t>
            </a:r>
            <a:r>
              <a:rPr b="1" lang="en-US" sz="1800" spc="-1" strike="noStrike">
                <a:solidFill>
                  <a:srgbClr val="0066ff"/>
                </a:solidFill>
                <a:latin typeface="Tahoma"/>
              </a:rPr>
              <a:t> (“junction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echas o “tight junctions” (sellos intercelula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hendidura o “gap junctions” (canales para el paso de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léculas pequeñas entre célul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ahoma"/>
              </a:rPr>
              <a:t>Matriz extracelular (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bras de colág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triz de multiadhes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oglic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11280" y="1484280"/>
            <a:ext cx="144360" cy="914400"/>
          </a:xfrm>
          <a:custGeom>
            <a:avLst/>
            <a:gdLst>
              <a:gd name="textAreaLeft" fmla="*/ 0 w 144360"/>
              <a:gd name="textAreaRight" fmla="*/ 52200 w 144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206280" y="-1857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1003320" y="712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565360"/>
            <a:ext cx="876240" cy="1757520"/>
          </a:xfrm>
          <a:custGeom>
            <a:avLst/>
            <a:gdLst/>
            <a:ahLst/>
            <a:rect l="l" t="t" r="r" b="b"/>
            <a:pathLst>
              <a:path w="552" h="1107">
                <a:moveTo>
                  <a:pt x="48" y="177"/>
                </a:moveTo>
                <a:cubicBezTo>
                  <a:pt x="40" y="348"/>
                  <a:pt x="35" y="518"/>
                  <a:pt x="24" y="689"/>
                </a:cubicBezTo>
                <a:cubicBezTo>
                  <a:pt x="27" y="774"/>
                  <a:pt x="0" y="937"/>
                  <a:pt x="80" y="1017"/>
                </a:cubicBezTo>
                <a:cubicBezTo>
                  <a:pt x="110" y="1047"/>
                  <a:pt x="143" y="1067"/>
                  <a:pt x="184" y="1081"/>
                </a:cubicBezTo>
                <a:cubicBezTo>
                  <a:pt x="205" y="1088"/>
                  <a:pt x="227" y="1092"/>
                  <a:pt x="248" y="1097"/>
                </a:cubicBezTo>
                <a:cubicBezTo>
                  <a:pt x="259" y="1100"/>
                  <a:pt x="280" y="1105"/>
                  <a:pt x="280" y="1105"/>
                </a:cubicBezTo>
                <a:cubicBezTo>
                  <a:pt x="393" y="1096"/>
                  <a:pt x="346" y="1107"/>
                  <a:pt x="424" y="1081"/>
                </a:cubicBezTo>
                <a:cubicBezTo>
                  <a:pt x="440" y="1076"/>
                  <a:pt x="456" y="1070"/>
                  <a:pt x="472" y="1065"/>
                </a:cubicBezTo>
                <a:cubicBezTo>
                  <a:pt x="480" y="1062"/>
                  <a:pt x="496" y="1057"/>
                  <a:pt x="496" y="1057"/>
                </a:cubicBezTo>
                <a:cubicBezTo>
                  <a:pt x="533" y="1002"/>
                  <a:pt x="522" y="1027"/>
                  <a:pt x="536" y="985"/>
                </a:cubicBezTo>
                <a:cubicBezTo>
                  <a:pt x="530" y="939"/>
                  <a:pt x="527" y="893"/>
                  <a:pt x="512" y="849"/>
                </a:cubicBezTo>
                <a:cubicBezTo>
                  <a:pt x="519" y="683"/>
                  <a:pt x="525" y="655"/>
                  <a:pt x="552" y="521"/>
                </a:cubicBezTo>
                <a:cubicBezTo>
                  <a:pt x="549" y="404"/>
                  <a:pt x="549" y="286"/>
                  <a:pt x="544" y="169"/>
                </a:cubicBezTo>
                <a:cubicBezTo>
                  <a:pt x="542" y="133"/>
                  <a:pt x="520" y="140"/>
                  <a:pt x="488" y="129"/>
                </a:cubicBezTo>
                <a:cubicBezTo>
                  <a:pt x="480" y="126"/>
                  <a:pt x="464" y="121"/>
                  <a:pt x="464" y="121"/>
                </a:cubicBezTo>
                <a:cubicBezTo>
                  <a:pt x="274" y="125"/>
                  <a:pt x="48" y="0"/>
                  <a:pt x="48" y="17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619280" y="2565360"/>
            <a:ext cx="876240" cy="1757520"/>
          </a:xfrm>
          <a:custGeom>
            <a:avLst/>
            <a:gdLst/>
            <a:ahLst/>
            <a:rect l="l" t="t" r="r" b="b"/>
            <a:pathLst>
              <a:path w="552" h="1107">
                <a:moveTo>
                  <a:pt x="48" y="177"/>
                </a:moveTo>
                <a:cubicBezTo>
                  <a:pt x="40" y="348"/>
                  <a:pt x="35" y="518"/>
                  <a:pt x="24" y="689"/>
                </a:cubicBezTo>
                <a:cubicBezTo>
                  <a:pt x="27" y="774"/>
                  <a:pt x="0" y="937"/>
                  <a:pt x="80" y="1017"/>
                </a:cubicBezTo>
                <a:cubicBezTo>
                  <a:pt x="110" y="1047"/>
                  <a:pt x="143" y="1067"/>
                  <a:pt x="184" y="1081"/>
                </a:cubicBezTo>
                <a:cubicBezTo>
                  <a:pt x="205" y="1088"/>
                  <a:pt x="227" y="1092"/>
                  <a:pt x="248" y="1097"/>
                </a:cubicBezTo>
                <a:cubicBezTo>
                  <a:pt x="259" y="1100"/>
                  <a:pt x="280" y="1105"/>
                  <a:pt x="280" y="1105"/>
                </a:cubicBezTo>
                <a:cubicBezTo>
                  <a:pt x="393" y="1096"/>
                  <a:pt x="346" y="1107"/>
                  <a:pt x="424" y="1081"/>
                </a:cubicBezTo>
                <a:cubicBezTo>
                  <a:pt x="440" y="1076"/>
                  <a:pt x="456" y="1070"/>
                  <a:pt x="472" y="1065"/>
                </a:cubicBezTo>
                <a:cubicBezTo>
                  <a:pt x="480" y="1062"/>
                  <a:pt x="496" y="1057"/>
                  <a:pt x="496" y="1057"/>
                </a:cubicBezTo>
                <a:cubicBezTo>
                  <a:pt x="533" y="1002"/>
                  <a:pt x="522" y="1027"/>
                  <a:pt x="536" y="985"/>
                </a:cubicBezTo>
                <a:cubicBezTo>
                  <a:pt x="530" y="939"/>
                  <a:pt x="527" y="893"/>
                  <a:pt x="512" y="849"/>
                </a:cubicBezTo>
                <a:cubicBezTo>
                  <a:pt x="519" y="683"/>
                  <a:pt x="525" y="655"/>
                  <a:pt x="552" y="521"/>
                </a:cubicBezTo>
                <a:cubicBezTo>
                  <a:pt x="549" y="404"/>
                  <a:pt x="549" y="286"/>
                  <a:pt x="544" y="169"/>
                </a:cubicBezTo>
                <a:cubicBezTo>
                  <a:pt x="542" y="133"/>
                  <a:pt x="520" y="140"/>
                  <a:pt x="488" y="129"/>
                </a:cubicBezTo>
                <a:cubicBezTo>
                  <a:pt x="480" y="126"/>
                  <a:pt x="464" y="121"/>
                  <a:pt x="464" y="121"/>
                </a:cubicBezTo>
                <a:cubicBezTo>
                  <a:pt x="274" y="125"/>
                  <a:pt x="48" y="0"/>
                  <a:pt x="48" y="17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4292640"/>
            <a:ext cx="1808280" cy="231840"/>
          </a:xfrm>
          <a:custGeom>
            <a:avLst/>
            <a:gdLst/>
            <a:ahLst/>
            <a:rect l="l" t="t" r="r" b="b"/>
            <a:pathLst>
              <a:path w="1139" h="146">
                <a:moveTo>
                  <a:pt x="0" y="64"/>
                </a:moveTo>
                <a:cubicBezTo>
                  <a:pt x="68" y="19"/>
                  <a:pt x="29" y="30"/>
                  <a:pt x="120" y="40"/>
                </a:cubicBezTo>
                <a:cubicBezTo>
                  <a:pt x="153" y="51"/>
                  <a:pt x="163" y="43"/>
                  <a:pt x="192" y="24"/>
                </a:cubicBezTo>
                <a:cubicBezTo>
                  <a:pt x="275" y="32"/>
                  <a:pt x="282" y="15"/>
                  <a:pt x="304" y="80"/>
                </a:cubicBezTo>
                <a:cubicBezTo>
                  <a:pt x="320" y="75"/>
                  <a:pt x="336" y="69"/>
                  <a:pt x="352" y="64"/>
                </a:cubicBezTo>
                <a:cubicBezTo>
                  <a:pt x="360" y="61"/>
                  <a:pt x="354" y="46"/>
                  <a:pt x="360" y="40"/>
                </a:cubicBezTo>
                <a:cubicBezTo>
                  <a:pt x="366" y="34"/>
                  <a:pt x="376" y="35"/>
                  <a:pt x="384" y="32"/>
                </a:cubicBezTo>
                <a:cubicBezTo>
                  <a:pt x="403" y="35"/>
                  <a:pt x="422" y="36"/>
                  <a:pt x="440" y="40"/>
                </a:cubicBezTo>
                <a:cubicBezTo>
                  <a:pt x="448" y="42"/>
                  <a:pt x="458" y="54"/>
                  <a:pt x="464" y="48"/>
                </a:cubicBezTo>
                <a:cubicBezTo>
                  <a:pt x="476" y="36"/>
                  <a:pt x="480" y="0"/>
                  <a:pt x="480" y="0"/>
                </a:cubicBezTo>
                <a:cubicBezTo>
                  <a:pt x="572" y="23"/>
                  <a:pt x="564" y="19"/>
                  <a:pt x="576" y="112"/>
                </a:cubicBezTo>
                <a:cubicBezTo>
                  <a:pt x="605" y="93"/>
                  <a:pt x="603" y="75"/>
                  <a:pt x="632" y="56"/>
                </a:cubicBezTo>
                <a:cubicBezTo>
                  <a:pt x="695" y="62"/>
                  <a:pt x="754" y="71"/>
                  <a:pt x="816" y="80"/>
                </a:cubicBezTo>
                <a:cubicBezTo>
                  <a:pt x="838" y="146"/>
                  <a:pt x="928" y="107"/>
                  <a:pt x="984" y="104"/>
                </a:cubicBezTo>
                <a:cubicBezTo>
                  <a:pt x="999" y="58"/>
                  <a:pt x="1026" y="73"/>
                  <a:pt x="1072" y="80"/>
                </a:cubicBezTo>
                <a:cubicBezTo>
                  <a:pt x="1094" y="89"/>
                  <a:pt x="1113" y="104"/>
                  <a:pt x="1136" y="112"/>
                </a:cubicBezTo>
                <a:cubicBezTo>
                  <a:pt x="1139" y="113"/>
                  <a:pt x="1136" y="107"/>
                  <a:pt x="1136" y="104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4221000"/>
            <a:ext cx="1727280" cy="306720"/>
          </a:xfrm>
          <a:custGeom>
            <a:avLst/>
            <a:gdLst/>
            <a:ahLst/>
            <a:rect l="l" t="t" r="r" b="b"/>
            <a:pathLst>
              <a:path w="1088" h="193">
                <a:moveTo>
                  <a:pt x="0" y="1"/>
                </a:moveTo>
                <a:cubicBezTo>
                  <a:pt x="29" y="4"/>
                  <a:pt x="60" y="0"/>
                  <a:pt x="88" y="9"/>
                </a:cubicBezTo>
                <a:cubicBezTo>
                  <a:pt x="95" y="11"/>
                  <a:pt x="98" y="56"/>
                  <a:pt x="104" y="73"/>
                </a:cubicBezTo>
                <a:cubicBezTo>
                  <a:pt x="115" y="103"/>
                  <a:pt x="123" y="98"/>
                  <a:pt x="152" y="105"/>
                </a:cubicBezTo>
                <a:cubicBezTo>
                  <a:pt x="165" y="102"/>
                  <a:pt x="184" y="108"/>
                  <a:pt x="192" y="97"/>
                </a:cubicBezTo>
                <a:cubicBezTo>
                  <a:pt x="253" y="15"/>
                  <a:pt x="159" y="55"/>
                  <a:pt x="224" y="33"/>
                </a:cubicBezTo>
                <a:cubicBezTo>
                  <a:pt x="259" y="36"/>
                  <a:pt x="298" y="24"/>
                  <a:pt x="328" y="41"/>
                </a:cubicBezTo>
                <a:cubicBezTo>
                  <a:pt x="344" y="50"/>
                  <a:pt x="325" y="82"/>
                  <a:pt x="336" y="97"/>
                </a:cubicBezTo>
                <a:cubicBezTo>
                  <a:pt x="342" y="105"/>
                  <a:pt x="345" y="80"/>
                  <a:pt x="352" y="73"/>
                </a:cubicBezTo>
                <a:cubicBezTo>
                  <a:pt x="359" y="66"/>
                  <a:pt x="368" y="62"/>
                  <a:pt x="376" y="57"/>
                </a:cubicBezTo>
                <a:cubicBezTo>
                  <a:pt x="379" y="61"/>
                  <a:pt x="412" y="103"/>
                  <a:pt x="416" y="113"/>
                </a:cubicBezTo>
                <a:cubicBezTo>
                  <a:pt x="423" y="128"/>
                  <a:pt x="432" y="161"/>
                  <a:pt x="432" y="161"/>
                </a:cubicBezTo>
                <a:cubicBezTo>
                  <a:pt x="451" y="158"/>
                  <a:pt x="471" y="161"/>
                  <a:pt x="488" y="153"/>
                </a:cubicBezTo>
                <a:cubicBezTo>
                  <a:pt x="505" y="145"/>
                  <a:pt x="493" y="60"/>
                  <a:pt x="512" y="41"/>
                </a:cubicBezTo>
                <a:cubicBezTo>
                  <a:pt x="528" y="25"/>
                  <a:pt x="554" y="29"/>
                  <a:pt x="576" y="25"/>
                </a:cubicBezTo>
                <a:cubicBezTo>
                  <a:pt x="693" y="40"/>
                  <a:pt x="603" y="14"/>
                  <a:pt x="648" y="81"/>
                </a:cubicBezTo>
                <a:cubicBezTo>
                  <a:pt x="639" y="109"/>
                  <a:pt x="631" y="106"/>
                  <a:pt x="664" y="121"/>
                </a:cubicBezTo>
                <a:cubicBezTo>
                  <a:pt x="679" y="128"/>
                  <a:pt x="712" y="137"/>
                  <a:pt x="712" y="137"/>
                </a:cubicBezTo>
                <a:cubicBezTo>
                  <a:pt x="721" y="111"/>
                  <a:pt x="713" y="80"/>
                  <a:pt x="728" y="57"/>
                </a:cubicBezTo>
                <a:cubicBezTo>
                  <a:pt x="733" y="50"/>
                  <a:pt x="744" y="63"/>
                  <a:pt x="752" y="65"/>
                </a:cubicBezTo>
                <a:cubicBezTo>
                  <a:pt x="773" y="69"/>
                  <a:pt x="795" y="70"/>
                  <a:pt x="816" y="73"/>
                </a:cubicBezTo>
                <a:cubicBezTo>
                  <a:pt x="821" y="81"/>
                  <a:pt x="823" y="99"/>
                  <a:pt x="832" y="97"/>
                </a:cubicBezTo>
                <a:cubicBezTo>
                  <a:pt x="843" y="94"/>
                  <a:pt x="854" y="41"/>
                  <a:pt x="856" y="33"/>
                </a:cubicBezTo>
                <a:cubicBezTo>
                  <a:pt x="880" y="36"/>
                  <a:pt x="908" y="27"/>
                  <a:pt x="928" y="41"/>
                </a:cubicBezTo>
                <a:cubicBezTo>
                  <a:pt x="941" y="50"/>
                  <a:pt x="934" y="73"/>
                  <a:pt x="936" y="89"/>
                </a:cubicBezTo>
                <a:cubicBezTo>
                  <a:pt x="939" y="118"/>
                  <a:pt x="935" y="149"/>
                  <a:pt x="944" y="177"/>
                </a:cubicBezTo>
                <a:cubicBezTo>
                  <a:pt x="946" y="182"/>
                  <a:pt x="992" y="190"/>
                  <a:pt x="1008" y="193"/>
                </a:cubicBezTo>
                <a:cubicBezTo>
                  <a:pt x="1018" y="153"/>
                  <a:pt x="1009" y="107"/>
                  <a:pt x="1032" y="73"/>
                </a:cubicBezTo>
                <a:cubicBezTo>
                  <a:pt x="1041" y="60"/>
                  <a:pt x="1064" y="68"/>
                  <a:pt x="1080" y="65"/>
                </a:cubicBezTo>
                <a:cubicBezTo>
                  <a:pt x="1083" y="57"/>
                  <a:pt x="1088" y="41"/>
                  <a:pt x="1088" y="41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92200" y="3944880"/>
            <a:ext cx="228600" cy="227160"/>
          </a:xfrm>
          <a:custGeom>
            <a:avLst/>
            <a:gdLst/>
            <a:ahLst/>
            <a:rect l="l" t="t" r="r" b="b"/>
            <a:pathLst>
              <a:path w="144" h="143">
                <a:moveTo>
                  <a:pt x="23" y="43"/>
                </a:moveTo>
                <a:cubicBezTo>
                  <a:pt x="35" y="143"/>
                  <a:pt x="31" y="125"/>
                  <a:pt x="135" y="115"/>
                </a:cubicBezTo>
                <a:cubicBezTo>
                  <a:pt x="132" y="96"/>
                  <a:pt x="144" y="67"/>
                  <a:pt x="127" y="59"/>
                </a:cubicBezTo>
                <a:cubicBezTo>
                  <a:pt x="0" y="0"/>
                  <a:pt x="47" y="115"/>
                  <a:pt x="23" y="43"/>
                </a:cubicBezTo>
                <a:close/>
              </a:path>
            </a:pathLst>
          </a:custGeom>
          <a:solidFill>
            <a:srgbClr val="48b2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618920" y="3141360"/>
            <a:ext cx="1297080" cy="43164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692000" y="3645000"/>
            <a:ext cx="1150920" cy="43164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050920" y="4508280"/>
            <a:ext cx="865440" cy="86508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692000" y="2060640"/>
            <a:ext cx="2089080" cy="93492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979280" y="2781360"/>
            <a:ext cx="1584360" cy="151128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44720" y="3500280"/>
            <a:ext cx="215640" cy="287640"/>
          </a:xfrm>
          <a:prstGeom prst="ellipse">
            <a:avLst/>
          </a:prstGeom>
          <a:solidFill>
            <a:srgbClr val="c7c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3573360"/>
            <a:ext cx="216000" cy="287280"/>
          </a:xfrm>
          <a:prstGeom prst="ellipse">
            <a:avLst/>
          </a:prstGeom>
          <a:solidFill>
            <a:srgbClr val="c7c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4343400"/>
            <a:ext cx="1727280" cy="306360"/>
          </a:xfrm>
          <a:custGeom>
            <a:avLst/>
            <a:gdLst/>
            <a:ahLst/>
            <a:rect l="l" t="t" r="r" b="b"/>
            <a:pathLst>
              <a:path w="1088" h="193">
                <a:moveTo>
                  <a:pt x="0" y="1"/>
                </a:moveTo>
                <a:cubicBezTo>
                  <a:pt x="29" y="4"/>
                  <a:pt x="60" y="0"/>
                  <a:pt x="88" y="9"/>
                </a:cubicBezTo>
                <a:cubicBezTo>
                  <a:pt x="95" y="11"/>
                  <a:pt x="98" y="56"/>
                  <a:pt x="104" y="73"/>
                </a:cubicBezTo>
                <a:cubicBezTo>
                  <a:pt x="115" y="103"/>
                  <a:pt x="123" y="98"/>
                  <a:pt x="152" y="105"/>
                </a:cubicBezTo>
                <a:cubicBezTo>
                  <a:pt x="165" y="102"/>
                  <a:pt x="184" y="108"/>
                  <a:pt x="192" y="97"/>
                </a:cubicBezTo>
                <a:cubicBezTo>
                  <a:pt x="253" y="15"/>
                  <a:pt x="159" y="55"/>
                  <a:pt x="224" y="33"/>
                </a:cubicBezTo>
                <a:cubicBezTo>
                  <a:pt x="259" y="36"/>
                  <a:pt x="298" y="24"/>
                  <a:pt x="328" y="41"/>
                </a:cubicBezTo>
                <a:cubicBezTo>
                  <a:pt x="344" y="50"/>
                  <a:pt x="325" y="82"/>
                  <a:pt x="336" y="97"/>
                </a:cubicBezTo>
                <a:cubicBezTo>
                  <a:pt x="342" y="105"/>
                  <a:pt x="345" y="80"/>
                  <a:pt x="352" y="73"/>
                </a:cubicBezTo>
                <a:cubicBezTo>
                  <a:pt x="359" y="66"/>
                  <a:pt x="368" y="62"/>
                  <a:pt x="376" y="57"/>
                </a:cubicBezTo>
                <a:cubicBezTo>
                  <a:pt x="379" y="61"/>
                  <a:pt x="412" y="103"/>
                  <a:pt x="416" y="113"/>
                </a:cubicBezTo>
                <a:cubicBezTo>
                  <a:pt x="423" y="128"/>
                  <a:pt x="432" y="161"/>
                  <a:pt x="432" y="161"/>
                </a:cubicBezTo>
                <a:cubicBezTo>
                  <a:pt x="451" y="158"/>
                  <a:pt x="471" y="161"/>
                  <a:pt x="488" y="153"/>
                </a:cubicBezTo>
                <a:cubicBezTo>
                  <a:pt x="505" y="145"/>
                  <a:pt x="493" y="60"/>
                  <a:pt x="512" y="41"/>
                </a:cubicBezTo>
                <a:cubicBezTo>
                  <a:pt x="528" y="25"/>
                  <a:pt x="554" y="29"/>
                  <a:pt x="576" y="25"/>
                </a:cubicBezTo>
                <a:cubicBezTo>
                  <a:pt x="693" y="40"/>
                  <a:pt x="603" y="14"/>
                  <a:pt x="648" y="81"/>
                </a:cubicBezTo>
                <a:cubicBezTo>
                  <a:pt x="639" y="109"/>
                  <a:pt x="631" y="106"/>
                  <a:pt x="664" y="121"/>
                </a:cubicBezTo>
                <a:cubicBezTo>
                  <a:pt x="679" y="128"/>
                  <a:pt x="712" y="137"/>
                  <a:pt x="712" y="137"/>
                </a:cubicBezTo>
                <a:cubicBezTo>
                  <a:pt x="721" y="111"/>
                  <a:pt x="713" y="80"/>
                  <a:pt x="728" y="57"/>
                </a:cubicBezTo>
                <a:cubicBezTo>
                  <a:pt x="733" y="50"/>
                  <a:pt x="744" y="63"/>
                  <a:pt x="752" y="65"/>
                </a:cubicBezTo>
                <a:cubicBezTo>
                  <a:pt x="773" y="69"/>
                  <a:pt x="795" y="70"/>
                  <a:pt x="816" y="73"/>
                </a:cubicBezTo>
                <a:cubicBezTo>
                  <a:pt x="821" y="81"/>
                  <a:pt x="823" y="99"/>
                  <a:pt x="832" y="97"/>
                </a:cubicBezTo>
                <a:cubicBezTo>
                  <a:pt x="843" y="94"/>
                  <a:pt x="854" y="41"/>
                  <a:pt x="856" y="33"/>
                </a:cubicBezTo>
                <a:cubicBezTo>
                  <a:pt x="880" y="36"/>
                  <a:pt x="908" y="27"/>
                  <a:pt x="928" y="41"/>
                </a:cubicBezTo>
                <a:cubicBezTo>
                  <a:pt x="941" y="50"/>
                  <a:pt x="934" y="73"/>
                  <a:pt x="936" y="89"/>
                </a:cubicBezTo>
                <a:cubicBezTo>
                  <a:pt x="939" y="118"/>
                  <a:pt x="935" y="149"/>
                  <a:pt x="944" y="177"/>
                </a:cubicBezTo>
                <a:cubicBezTo>
                  <a:pt x="946" y="182"/>
                  <a:pt x="992" y="190"/>
                  <a:pt x="1008" y="193"/>
                </a:cubicBezTo>
                <a:cubicBezTo>
                  <a:pt x="1018" y="153"/>
                  <a:pt x="1009" y="107"/>
                  <a:pt x="1032" y="73"/>
                </a:cubicBezTo>
                <a:cubicBezTo>
                  <a:pt x="1041" y="60"/>
                  <a:pt x="1064" y="68"/>
                  <a:pt x="1080" y="65"/>
                </a:cubicBezTo>
                <a:cubicBezTo>
                  <a:pt x="1083" y="57"/>
                  <a:pt x="1088" y="41"/>
                  <a:pt x="1088" y="41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3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086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/>
          <p:nvPr/>
        </p:nvSpPr>
        <p:spPr>
          <a:xfrm>
            <a:off x="1852560" y="1413000"/>
            <a:ext cx="5319720" cy="417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Tahoma"/>
              </a:rPr>
              <a:t>Perspectivas Biotecnológ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esarroll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fármacos y vacu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plicaciones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iagnó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Terap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rev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5" name="" descr=""/>
          <p:cNvPicPr/>
          <p:nvPr/>
        </p:nvPicPr>
        <p:blipFill>
          <a:blip r:embed="rId1"/>
          <a:srcRect l="0" t="40906" r="0" b="5162"/>
          <a:stretch/>
        </p:blipFill>
        <p:spPr>
          <a:xfrm>
            <a:off x="611280" y="907920"/>
            <a:ext cx="3960720" cy="208944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/>
          <p:nvPr/>
        </p:nvSpPr>
        <p:spPr>
          <a:xfrm>
            <a:off x="5148360" y="981000"/>
            <a:ext cx="354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Tahoma"/>
              </a:rPr>
              <a:t>La molécula sintética se usa para la generación de anticuerpos destinados a la detección de las esporas del antrax y para el desarrollo de una vacu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46760" y="2924280"/>
            <a:ext cx="46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Tetrasacárido de la superficie del </a:t>
            </a:r>
            <a:r>
              <a:rPr b="1" i="1" lang="es-ES" sz="1400" spc="-1" strike="noStrike">
                <a:solidFill>
                  <a:srgbClr val="000000"/>
                </a:solidFill>
                <a:latin typeface="Tahoma"/>
              </a:rPr>
              <a:t>Bacillus anthrac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-208440" y="3971880"/>
            <a:ext cx="86432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sarrollo de drogas para enfermedades ocasionadas por parásitos. Ej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Mal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eishmania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sarrollo de vacunas antitumo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nticuerpos que reconozcan glicoproteínas y glipolípidos específic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n la superficie de las células malig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000600" y="16200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Tahoma"/>
              </a:rPr>
              <a:t>Fármacos y vacu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0" name="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6134040" cy="2467080"/>
          </a:xfrm>
          <a:prstGeom prst="rect">
            <a:avLst/>
          </a:prstGeom>
          <a:ln w="0">
            <a:noFill/>
          </a:ln>
        </p:spPr>
      </p:pic>
      <p:sp>
        <p:nvSpPr>
          <p:cNvPr id="1571" name=""/>
          <p:cNvSpPr/>
          <p:nvPr/>
        </p:nvSpPr>
        <p:spPr>
          <a:xfrm>
            <a:off x="1304640" y="1916280"/>
            <a:ext cx="721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safí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sarrollar vacuna contra carbohidratos específicos del vi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dentificar glicanos comunes con células humanas y aquellos prop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l vi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168200" y="836640"/>
            <a:ext cx="722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Virus HIV esta recubierto por glicanos que imitan a los del hospeder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operancia d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hibidores de la biosíntesis de glican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neutralización mediante lect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769120" y="177840"/>
            <a:ext cx="40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esarrollo de vacunas anti H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0" t="13811" r="0" b="0"/>
          <a:stretch/>
        </p:blipFill>
        <p:spPr>
          <a:xfrm>
            <a:off x="285840" y="1295280"/>
            <a:ext cx="8572320" cy="5081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51600" y="260280"/>
            <a:ext cx="7115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teínas de adehesión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ticipan en interacciones célula-célula y célula-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715644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algn="ctr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LECULAS DE ADHESION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algn="ctr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dher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 fundamental en uniones homofílicas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élula-célul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n glicoproteínas integrales de membra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túan con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el mismo tipo de cadheri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xpresada por otra célu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unión cabeza-cabeza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iente de Ca+2 (remoción del Ca+2 causa disociación celu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Ca+2 promueve formación de dímeros de cadherin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moléculas de cadherina se concentran en regiones especializadas de la superficie celular “las uniones adherent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isten unos 40 tipos estructuralmente simil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ción tisular característ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j:  E-cadherina (epitel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-cadherina (tejido nervioso y muscu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4680" y="2438280"/>
            <a:ext cx="57240" cy="621000"/>
          </a:xfrm>
          <a:custGeom>
            <a:avLst/>
            <a:gdLst/>
            <a:ahLst/>
            <a:rect l="l" t="t" r="r" b="b"/>
            <a:pathLst>
              <a:path w="36" h="391">
                <a:moveTo>
                  <a:pt x="0" y="0"/>
                </a:moveTo>
                <a:cubicBezTo>
                  <a:pt x="19" y="134"/>
                  <a:pt x="36" y="251"/>
                  <a:pt x="36" y="39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3048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48720" y="3276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35053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85080" y="3716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3962520"/>
            <a:ext cx="228600" cy="228600"/>
          </a:xfrm>
          <a:prstGeom prst="ellipse">
            <a:avLst/>
          </a:prstGeom>
          <a:solidFill>
            <a:srgbClr val="48b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67480" y="3962520"/>
            <a:ext cx="228600" cy="228600"/>
          </a:xfrm>
          <a:prstGeom prst="ellipse">
            <a:avLst/>
          </a:prstGeom>
          <a:solidFill>
            <a:srgbClr val="48b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67480" y="4191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4419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46483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229600" y="3733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35053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24680" y="3962520"/>
            <a:ext cx="228600" cy="228600"/>
          </a:xfrm>
          <a:prstGeom prst="ellipse">
            <a:avLst/>
          </a:prstGeom>
          <a:solidFill>
            <a:srgbClr val="48b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40720" y="4149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812000" y="4365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85080" y="458136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3276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3048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67480" y="4876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0120" y="5029200"/>
            <a:ext cx="60120" cy="646200"/>
          </a:xfrm>
          <a:custGeom>
            <a:avLst/>
            <a:gdLst/>
            <a:ahLst/>
            <a:rect l="l" t="t" r="r" b="b"/>
            <a:pathLst>
              <a:path w="38" h="407">
                <a:moveTo>
                  <a:pt x="38" y="407"/>
                </a:moveTo>
                <a:cubicBezTo>
                  <a:pt x="26" y="319"/>
                  <a:pt x="21" y="287"/>
                  <a:pt x="29" y="194"/>
                </a:cubicBezTo>
                <a:cubicBezTo>
                  <a:pt x="26" y="164"/>
                  <a:pt x="25" y="134"/>
                  <a:pt x="20" y="105"/>
                </a:cubicBezTo>
                <a:cubicBezTo>
                  <a:pt x="0" y="0"/>
                  <a:pt x="2" y="85"/>
                  <a:pt x="2" y="3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28000" y="5013360"/>
            <a:ext cx="152280" cy="609480"/>
          </a:xfrm>
          <a:custGeom>
            <a:avLst/>
            <a:gdLst/>
            <a:ahLst/>
            <a:rect l="l" t="t" r="r" b="b"/>
            <a:pathLst>
              <a:path w="75" h="409">
                <a:moveTo>
                  <a:pt x="46" y="409"/>
                </a:moveTo>
                <a:cubicBezTo>
                  <a:pt x="35" y="290"/>
                  <a:pt x="75" y="130"/>
                  <a:pt x="10" y="36"/>
                </a:cubicBezTo>
                <a:cubicBezTo>
                  <a:pt x="0" y="6"/>
                  <a:pt x="1" y="18"/>
                  <a:pt x="1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1880" y="2438280"/>
            <a:ext cx="57240" cy="621000"/>
          </a:xfrm>
          <a:custGeom>
            <a:avLst/>
            <a:gdLst/>
            <a:ahLst/>
            <a:rect l="l" t="t" r="r" b="b"/>
            <a:pathLst>
              <a:path w="36" h="391">
                <a:moveTo>
                  <a:pt x="0" y="0"/>
                </a:moveTo>
                <a:cubicBezTo>
                  <a:pt x="19" y="134"/>
                  <a:pt x="36" y="251"/>
                  <a:pt x="36" y="39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5410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5257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2743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85080" y="479736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3962520"/>
            <a:ext cx="228600" cy="228600"/>
          </a:xfrm>
          <a:prstGeom prst="ellipse">
            <a:avLst/>
          </a:prstGeom>
          <a:solidFill>
            <a:srgbClr val="48b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682560" y="586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960" y="4876920"/>
            <a:ext cx="230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cuencias repetidas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ienen los sitios de un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ara Ca+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086600" y="47239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88320" y="4419720"/>
            <a:ext cx="197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ominio de dimer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716292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5840" y="5715000"/>
            <a:ext cx="233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gmento de transmembr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3341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65280" y="6021360"/>
            <a:ext cx="213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ominio citoplasmá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e se une al citoesque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948360" y="5562360"/>
            <a:ext cx="1281240" cy="60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77080" y="2276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60213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572760" y="59230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232000" cy="1504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rcRect l="14046" t="30483" r="15906" b="13048"/>
          <a:stretch/>
        </p:blipFill>
        <p:spPr>
          <a:xfrm>
            <a:off x="7956720" y="260280"/>
            <a:ext cx="884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" y="990720"/>
            <a:ext cx="8436240" cy="35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-CAM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Nerve-cell adhesion molecu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undantes en tejido nervio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an la unión entre células que expresan N-CAM (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uniones homofílica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coproteínas integrales de 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tenecen a la superfamilia  de las inmunoglubilinas (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ción es independiente de Ca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ácido siálico modula las propiedades de las N-CAMs, debilit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interacciones (por repulsión de cargas negativ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ducto de un gen únic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versidad generada por procesamiento alternativo de mR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mediante diferente  glicosil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189000"/>
            <a:ext cx="665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OLECULAS DE ADHESION CELULA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s de tipo inmunoglobulina (IgG)  N-CAMs, ICA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0120" y="380988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15200" y="441972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0120" y="403848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449568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62920" y="4572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1520" y="472428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472428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487692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487692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86600" y="50292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81680" y="53341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5627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4760" y="5780160"/>
            <a:ext cx="73080" cy="606240"/>
          </a:xfrm>
          <a:custGeom>
            <a:avLst/>
            <a:gdLst/>
            <a:ahLst/>
            <a:rect l="l" t="t" r="r" b="b"/>
            <a:pathLst>
              <a:path w="46" h="382">
                <a:moveTo>
                  <a:pt x="27" y="382"/>
                </a:moveTo>
                <a:cubicBezTo>
                  <a:pt x="33" y="373"/>
                  <a:pt x="46" y="365"/>
                  <a:pt x="45" y="355"/>
                </a:cubicBezTo>
                <a:cubicBezTo>
                  <a:pt x="42" y="342"/>
                  <a:pt x="24" y="339"/>
                  <a:pt x="18" y="329"/>
                </a:cubicBezTo>
                <a:cubicBezTo>
                  <a:pt x="11" y="318"/>
                  <a:pt x="0" y="242"/>
                  <a:pt x="0" y="240"/>
                </a:cubicBezTo>
                <a:cubicBezTo>
                  <a:pt x="14" y="107"/>
                  <a:pt x="9" y="186"/>
                  <a:pt x="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88240" y="5130720"/>
            <a:ext cx="206280" cy="169920"/>
          </a:xfrm>
          <a:custGeom>
            <a:avLst/>
            <a:gdLst/>
            <a:ahLst/>
            <a:rect l="l" t="t" r="r" b="b"/>
            <a:pathLst>
              <a:path w="130" h="107">
                <a:moveTo>
                  <a:pt x="15" y="107"/>
                </a:moveTo>
                <a:cubicBezTo>
                  <a:pt x="28" y="0"/>
                  <a:pt x="0" y="36"/>
                  <a:pt x="130" y="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32640" y="4241880"/>
            <a:ext cx="254160" cy="196920"/>
          </a:xfrm>
          <a:custGeom>
            <a:avLst/>
            <a:gdLst/>
            <a:ahLst/>
            <a:rect l="l" t="t" r="r" b="b"/>
            <a:pathLst>
              <a:path w="160" h="124">
                <a:moveTo>
                  <a:pt x="0" y="124"/>
                </a:moveTo>
                <a:cubicBezTo>
                  <a:pt x="11" y="106"/>
                  <a:pt x="14" y="76"/>
                  <a:pt x="35" y="71"/>
                </a:cubicBezTo>
                <a:cubicBezTo>
                  <a:pt x="70" y="62"/>
                  <a:pt x="106" y="55"/>
                  <a:pt x="142" y="44"/>
                </a:cubicBezTo>
                <a:cubicBezTo>
                  <a:pt x="153" y="11"/>
                  <a:pt x="146" y="26"/>
                  <a:pt x="16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0726200">
            <a:off x="7695360" y="3200040"/>
            <a:ext cx="73080" cy="606600"/>
          </a:xfrm>
          <a:custGeom>
            <a:avLst/>
            <a:gdLst/>
            <a:ahLst/>
            <a:rect l="l" t="t" r="r" b="b"/>
            <a:pathLst>
              <a:path w="46" h="382">
                <a:moveTo>
                  <a:pt x="27" y="382"/>
                </a:moveTo>
                <a:cubicBezTo>
                  <a:pt x="33" y="373"/>
                  <a:pt x="46" y="365"/>
                  <a:pt x="45" y="355"/>
                </a:cubicBezTo>
                <a:cubicBezTo>
                  <a:pt x="42" y="342"/>
                  <a:pt x="24" y="339"/>
                  <a:pt x="18" y="329"/>
                </a:cubicBezTo>
                <a:cubicBezTo>
                  <a:pt x="11" y="318"/>
                  <a:pt x="0" y="242"/>
                  <a:pt x="0" y="240"/>
                </a:cubicBezTo>
                <a:cubicBezTo>
                  <a:pt x="14" y="107"/>
                  <a:pt x="9" y="186"/>
                  <a:pt x="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6019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5867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3733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36200">
            <a:off x="6588000" y="414936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94680" y="4365720"/>
            <a:ext cx="19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de tipo 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89400" y="5734080"/>
            <a:ext cx="28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de trans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25880" y="6248520"/>
            <a:ext cx="271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de citoplasm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1676520"/>
            <a:ext cx="1522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490480" y="333360"/>
            <a:ext cx="37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LECULAS DE ADHESION CELUL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1440" y="642960"/>
            <a:ext cx="86983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an interacciones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heterofílicas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élula-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 integral de 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ne carbohidratos de proteínas (glicoproteínas) y glicolíp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a unión es dependiente de 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P-selectina se localiza en las células endotel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icipa en el proceso de extravasación (interacciones celulares transitorias relacion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 paso de los glóbulos blancos a través de los vasos sanguine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19680" y="4195800"/>
            <a:ext cx="304560" cy="304920"/>
          </a:xfrm>
          <a:prstGeom prst="ellipse">
            <a:avLst/>
          </a:prstGeom>
          <a:solidFill>
            <a:srgbClr val="34b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4653000"/>
            <a:ext cx="228600" cy="106668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1066680"/>
              <a:gd name="textAreaBottom" fmla="*/ 1055520 h 1066680"/>
            </a:gdLst>
            <a:ahLst/>
            <a:rect l="textAreaLeft" t="textAreaTop" r="textAreaRight" b="textAreaBottom"/>
            <a:pathLst>
              <a:path w="21600" h="100664">
                <a:moveTo>
                  <a:pt x="3600" y="0"/>
                </a:moveTo>
                <a:arcTo wR="3600" hR="3600" stAng="16200000" swAng="-5400000"/>
                <a:lnTo>
                  <a:pt x="0" y="97064"/>
                </a:lnTo>
                <a:arcTo wR="3600" hR="3600" stAng="10800000" swAng="-5400000"/>
                <a:lnTo>
                  <a:pt x="18000" y="100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4b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6019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71960" y="4500720"/>
            <a:ext cx="76320" cy="152280"/>
          </a:xfrm>
          <a:prstGeom prst="rect">
            <a:avLst/>
          </a:prstGeom>
          <a:solidFill>
            <a:srgbClr val="34b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07400" y="4098960"/>
            <a:ext cx="167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le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85280" y="5700600"/>
            <a:ext cx="259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trans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4811400">
            <a:off x="3815280" y="3609000"/>
            <a:ext cx="3603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843280" y="3860280"/>
            <a:ext cx="792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3933720"/>
            <a:ext cx="288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ig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Glicoproteína de tipo muc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00400" y="5867280"/>
            <a:ext cx="1905120" cy="152640"/>
          </a:xfrm>
          <a:prstGeom prst="rect">
            <a:avLst/>
          </a:prstGeom>
          <a:gradFill rotWithShape="0">
            <a:gsLst>
              <a:gs pos="0">
                <a:srgbClr val="fadebf"/>
              </a:gs>
              <a:gs pos="50000">
                <a:srgbClr val="d5bda3"/>
              </a:gs>
              <a:gs pos="100000">
                <a:srgbClr val="fade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5867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5715000"/>
            <a:ext cx="76320" cy="533520"/>
          </a:xfrm>
          <a:custGeom>
            <a:avLst/>
            <a:gdLst/>
            <a:ahLst/>
            <a:rect l="l" t="t" r="r" b="b"/>
            <a:pathLst>
              <a:path w="76" h="663">
                <a:moveTo>
                  <a:pt x="44" y="307"/>
                </a:moveTo>
                <a:cubicBezTo>
                  <a:pt x="76" y="310"/>
                  <a:pt x="69" y="0"/>
                  <a:pt x="69" y="56"/>
                </a:cubicBezTo>
                <a:cubicBezTo>
                  <a:pt x="69" y="98"/>
                  <a:pt x="27" y="472"/>
                  <a:pt x="16" y="512"/>
                </a:cubicBezTo>
                <a:cubicBezTo>
                  <a:pt x="10" y="529"/>
                  <a:pt x="0" y="565"/>
                  <a:pt x="0" y="565"/>
                </a:cubicBezTo>
                <a:cubicBezTo>
                  <a:pt x="3" y="595"/>
                  <a:pt x="1" y="638"/>
                  <a:pt x="24" y="663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922560" y="763560"/>
            <a:ext cx="720720" cy="5047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11640" y="90792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5400000">
            <a:off x="3709080" y="-748440"/>
            <a:ext cx="934920" cy="338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>
                  <a:alpha val="18039"/>
                </a:srgbClr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98560" y="335772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335772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88000" y="335772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47640" y="2133720"/>
            <a:ext cx="1152720" cy="792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50920" y="2422440"/>
            <a:ext cx="2174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90560" y="2997360"/>
            <a:ext cx="142920" cy="158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90560" y="3141720"/>
            <a:ext cx="7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3502080"/>
            <a:ext cx="4334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35640" y="3502080"/>
            <a:ext cx="4334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64000" y="3502080"/>
            <a:ext cx="4334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90560" y="2854440"/>
            <a:ext cx="216000" cy="215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9280" y="32846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 sele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971640" y="314172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14560" y="2709720"/>
            <a:ext cx="57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349360"/>
            <a:ext cx="12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Ligando de Sele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2133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afafa"/>
                </a:solidFill>
                <a:latin typeface="Tahoma"/>
              </a:rPr>
              <a:t>Leucoc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9640" y="4005360"/>
            <a:ext cx="35276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élulas endoteliales activad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exponen P selectina en cara luminal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 célula endoteli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492280"/>
            <a:ext cx="936360" cy="289080"/>
          </a:xfrm>
          <a:prstGeom prst="rightArrow">
            <a:avLst>
              <a:gd name="adj1" fmla="val 50000"/>
              <a:gd name="adj2" fmla="val 80978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88000" y="2278080"/>
            <a:ext cx="1152360" cy="792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91280" y="2567160"/>
            <a:ext cx="2174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30920" y="2998800"/>
            <a:ext cx="215640" cy="2160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999600">
            <a:off x="5722560" y="2854440"/>
            <a:ext cx="268200" cy="252360"/>
          </a:xfrm>
          <a:custGeom>
            <a:avLst/>
            <a:gdLst/>
            <a:ahLst/>
            <a:rect l="l" t="t" r="r" b="b"/>
            <a:pathLst>
              <a:path w="169" h="159">
                <a:moveTo>
                  <a:pt x="45" y="39"/>
                </a:moveTo>
                <a:cubicBezTo>
                  <a:pt x="56" y="42"/>
                  <a:pt x="66" y="44"/>
                  <a:pt x="77" y="47"/>
                </a:cubicBezTo>
                <a:cubicBezTo>
                  <a:pt x="85" y="49"/>
                  <a:pt x="93" y="58"/>
                  <a:pt x="101" y="55"/>
                </a:cubicBezTo>
                <a:cubicBezTo>
                  <a:pt x="110" y="51"/>
                  <a:pt x="109" y="37"/>
                  <a:pt x="117" y="31"/>
                </a:cubicBezTo>
                <a:cubicBezTo>
                  <a:pt x="124" y="26"/>
                  <a:pt x="133" y="26"/>
                  <a:pt x="141" y="23"/>
                </a:cubicBezTo>
                <a:cubicBezTo>
                  <a:pt x="149" y="28"/>
                  <a:pt x="162" y="30"/>
                  <a:pt x="165" y="39"/>
                </a:cubicBezTo>
                <a:cubicBezTo>
                  <a:pt x="169" y="53"/>
                  <a:pt x="130" y="140"/>
                  <a:pt x="117" y="151"/>
                </a:cubicBezTo>
                <a:cubicBezTo>
                  <a:pt x="110" y="156"/>
                  <a:pt x="101" y="156"/>
                  <a:pt x="93" y="159"/>
                </a:cubicBezTo>
                <a:cubicBezTo>
                  <a:pt x="77" y="62"/>
                  <a:pt x="107" y="150"/>
                  <a:pt x="13" y="103"/>
                </a:cubicBezTo>
                <a:cubicBezTo>
                  <a:pt x="0" y="96"/>
                  <a:pt x="84" y="0"/>
                  <a:pt x="45" y="39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38920" y="198900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Activación de integrina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012000" y="2565360"/>
            <a:ext cx="287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30920" y="3070080"/>
            <a:ext cx="142560" cy="158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30920" y="3214800"/>
            <a:ext cx="727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rot="2498400">
            <a:off x="5866920" y="2997000"/>
            <a:ext cx="71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3141720"/>
            <a:ext cx="0" cy="2160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30920" y="2781360"/>
            <a:ext cx="180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Unión a ICAM-1  (tipo IgG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011640" y="3070080"/>
            <a:ext cx="7189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32720" y="335772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80360" y="3500280"/>
            <a:ext cx="4334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3933720"/>
            <a:ext cx="360360" cy="863640"/>
          </a:xfrm>
          <a:prstGeom prst="downArrow">
            <a:avLst>
              <a:gd name="adj1" fmla="val 50000"/>
              <a:gd name="adj2" fmla="val 59915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00720" y="4941720"/>
            <a:ext cx="1152720" cy="792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04000" y="5230800"/>
            <a:ext cx="2174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20000" y="4292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xtravas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59480" y="5916600"/>
            <a:ext cx="48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apel de CAMs en el proceso de extravas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71640" y="292428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lume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9280" y="1844640"/>
            <a:ext cx="8605800" cy="1944720"/>
          </a:xfrm>
          <a:prstGeom prst="rect">
            <a:avLst/>
          </a:prstGeom>
          <a:gradFill rotWithShape="0">
            <a:gsLst>
              <a:gs pos="0">
                <a:srgbClr val="c0c0c0">
                  <a:alpha val="56078"/>
                </a:srgbClr>
              </a:gs>
              <a:gs pos="50000">
                <a:srgbClr val="ececec">
                  <a:alpha val="39215"/>
                </a:srgbClr>
              </a:gs>
              <a:gs pos="100000">
                <a:srgbClr val="c0c0c0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6T22:53:08Z</dcterms:created>
  <dc:creator>Cecilia Rojas</dc:creator>
  <dc:description/>
  <dc:language>en-US</dc:language>
  <cp:lastModifiedBy>Gina Madariaga</cp:lastModifiedBy>
  <dcterms:modified xsi:type="dcterms:W3CDTF">2007-10-01T15:09:07Z</dcterms:modified>
  <cp:revision>171</cp:revision>
  <dc:subject/>
  <dc:title>PowerPoint Presentation</dc:title>
</cp:coreProperties>
</file>