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18.png" ContentType="image/png"/>
  <Override PartName="/ppt/media/image6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EA5-940D-40BB-8A5D-78DC5AAC7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os básicos de la biología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complejo formado por Axina, APC (adenomatous polyposis coli) GSK-3b (glycogen synthase kinase 3b) y b-catenina conduce a la inactivación de la b-catenina por degradación en proteosom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l complejo es desestabilizado por la acción de Dishevelled (cuya activación es dependiente de la unión de wnt al recepto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stabilización de Wnt permite su función como co-factor del factor transcripcional Tcf/LEF nque controla la expresión de diversos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erenciación celular durante el desarrollo embriona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áxima expresión de la diferenciación cel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2A también es proteína bHLH, pero su exprsión no está restringida a células miogén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especificidad “miogçénica” está dada  por la especificidad de la interacción entre factores miogén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Id : inhibitor of DNA bi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diferenciación celular en el organismo adulto se asocia fundamentalmente a la regeneración /reparación de tejidos o renovación de los tej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concepto predominate sostiene que en los tejidos residirían células no diferenciadas, pero comprometidas con el linaje respec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jemp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1BE-65B7-404B-ABCC-317753D2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3431-5A2A-41A7-B1D6-47081182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74B-C88F-481A-82CA-3FA84F08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F57-5A03-4E38-B34E-F7889768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5FD-7D66-4F52-B41C-F2DFC948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8DF-DD23-469F-8CEA-AB096B5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F117-92C2-4AE4-AFAA-AEA98E91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148-333B-4CC8-907F-14CF9580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3737-6B34-47DC-8B30-641A15B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691-53C3-40D6-82A6-1DC36E66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5E8-EE88-41A1-9C78-7954794D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F5A-C69B-4F77-B2C0-EC4F7C5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2A80-F50B-41BB-8A41-27D1CB570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en.wikipedia.org/wiki/Image:Fetus.jpg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979640" y="7650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66"/>
                </a:solidFill>
                <a:latin typeface="Tahoma"/>
              </a:rPr>
              <a:t>Diferenciación celul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12480" y="3429000"/>
            <a:ext cx="4102920" cy="27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Desarrollo embrio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Desarrollo postna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Renovación de tej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Tahoma"/>
              </a:rPr>
              <a:t>Reparación de teji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3280" y="2349360"/>
            <a:ext cx="71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ahoma"/>
              </a:rPr>
              <a:t>¿Cuándo ocurre diferenciación celula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140360" y="2782800"/>
            <a:ext cx="792000" cy="7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0000" y="2565360"/>
            <a:ext cx="1655640" cy="4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2133720"/>
            <a:ext cx="1295280" cy="3070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on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141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6360" y="2349360"/>
            <a:ext cx="2089080" cy="3988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05080" y="2637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71640" y="1197000"/>
            <a:ext cx="453708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87280" y="1413000"/>
            <a:ext cx="1905120" cy="207000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125360"/>
            <a:ext cx="914400" cy="914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95520" y="20509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icl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2720" y="3427560"/>
            <a:ext cx="156312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uiesc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43600" y="3956040"/>
            <a:ext cx="1656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olif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3284640"/>
            <a:ext cx="2458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82200" y="1745640"/>
            <a:ext cx="609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76" y="1642"/>
                </a:moveTo>
                <a:arcTo wR="10800" hR="10800" stAng="-7320438" swAng="7320438"/>
                <a:lnTo>
                  <a:pt x="10800" y="10800"/>
                </a:lnTo>
                <a:close/>
              </a:path>
              <a:path fill="none" w="21600" h="21600">
                <a:moveTo>
                  <a:pt x="5076" y="1642"/>
                </a:moveTo>
                <a:arcTo wR="10800" hR="10800" stAng="-7320438" swAng="7320438"/>
              </a:path>
            </a:pathLst>
          </a:custGeom>
          <a:noFill/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3119400" y="1974240"/>
            <a:ext cx="9136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10520" y="3117960"/>
            <a:ext cx="1523880" cy="707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nesc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popto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4724280"/>
            <a:ext cx="8316720" cy="144792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>
                  <a:alpha val="8235"/>
                </a:srgbClr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7520" y="3422520"/>
            <a:ext cx="990360" cy="580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élula mad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920000" y="2203560"/>
            <a:ext cx="0" cy="60948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1400" y="2355840"/>
            <a:ext cx="457200" cy="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6124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4880" y="533412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924200" y="5181480"/>
            <a:ext cx="30456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28760" y="533412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6480" y="556272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10000" y="548640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381400" y="510552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" y="533412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28760" y="56386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76480" y="51814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81400" y="533412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33680" y="518148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85960" y="556272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8027640" y="5157720"/>
            <a:ext cx="431640" cy="503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020080" y="5181480"/>
            <a:ext cx="512640" cy="4795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24400" y="525780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28960" y="5410080"/>
            <a:ext cx="30492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5181480"/>
            <a:ext cx="30456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76680" y="52578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5410080"/>
            <a:ext cx="7596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33880" y="52578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1200" y="1822320"/>
            <a:ext cx="1143000" cy="12956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7234200" y="2126520"/>
            <a:ext cx="9136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64000" y="1916280"/>
            <a:ext cx="2519280" cy="10080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73440" y="2352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2276640"/>
            <a:ext cx="457200" cy="333360"/>
          </a:xfrm>
          <a:prstGeom prst="rightArrow">
            <a:avLst>
              <a:gd name="adj1" fmla="val 50000"/>
              <a:gd name="adj2" fmla="val 3428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92760" y="2276640"/>
            <a:ext cx="457200" cy="409320"/>
          </a:xfrm>
          <a:prstGeom prst="rightArrow">
            <a:avLst>
              <a:gd name="adj1" fmla="val 50000"/>
              <a:gd name="adj2" fmla="val 2792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02240" y="2200320"/>
            <a:ext cx="533520" cy="485640"/>
          </a:xfrm>
          <a:prstGeom prst="rightArrow">
            <a:avLst>
              <a:gd name="adj1" fmla="val 50000"/>
              <a:gd name="adj2" fmla="val 2746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544500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544500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80360" y="5445000"/>
            <a:ext cx="5032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28880" y="5016600"/>
            <a:ext cx="774360" cy="164880"/>
          </a:xfrm>
          <a:custGeom>
            <a:avLst/>
            <a:gdLst/>
            <a:ahLst/>
            <a:rect l="l" t="t" r="r" b="b"/>
            <a:pathLst>
              <a:path w="488" h="104">
                <a:moveTo>
                  <a:pt x="488" y="96"/>
                </a:moveTo>
                <a:cubicBezTo>
                  <a:pt x="447" y="55"/>
                  <a:pt x="368" y="11"/>
                  <a:pt x="312" y="0"/>
                </a:cubicBezTo>
                <a:cubicBezTo>
                  <a:pt x="156" y="5"/>
                  <a:pt x="96" y="8"/>
                  <a:pt x="0" y="1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651640" y="5445000"/>
            <a:ext cx="1584360" cy="7164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84720" y="5445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43640" y="5445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4000" y="544500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 rot="18078600">
            <a:off x="2356560" y="2485080"/>
            <a:ext cx="9136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66ff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87640" y="2133720"/>
            <a:ext cx="216000" cy="215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rcRect l="0" t="0" r="54583" b="0"/>
          <a:stretch/>
        </p:blipFill>
        <p:spPr>
          <a:xfrm>
            <a:off x="7086600" y="3886200"/>
            <a:ext cx="1733400" cy="2160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4221" t="6699" r="2158" b="8589"/>
          <a:stretch/>
        </p:blipFill>
        <p:spPr>
          <a:xfrm>
            <a:off x="4788000" y="476280"/>
            <a:ext cx="3168720" cy="17524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rcRect l="18933" t="45154" r="3381" b="46115"/>
          <a:stretch/>
        </p:blipFill>
        <p:spPr>
          <a:xfrm>
            <a:off x="914400" y="1981080"/>
            <a:ext cx="2664000" cy="432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rcRect l="18933" t="45154" r="3381" b="46115"/>
          <a:stretch/>
        </p:blipFill>
        <p:spPr>
          <a:xfrm>
            <a:off x="914400" y="1549440"/>
            <a:ext cx="2664000" cy="431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85680" y="973080"/>
            <a:ext cx="1152720" cy="934920"/>
          </a:xfrm>
          <a:prstGeom prst="lightningBolt">
            <a:avLst/>
          </a:prstGeom>
          <a:solidFill>
            <a:srgbClr val="fdeb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8400" y="6858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66"/>
                </a:solidFill>
                <a:latin typeface="Arial"/>
              </a:rPr>
              <a:t>d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003320" y="3505320"/>
            <a:ext cx="2960640" cy="3076560"/>
            <a:chOff x="1003320" y="3505320"/>
            <a:chExt cx="2960640" cy="3076560"/>
          </a:xfrm>
        </p:grpSpPr>
        <p:pic>
          <p:nvPicPr>
            <p:cNvPr id="286" name="" descr=""/>
            <p:cNvPicPr/>
            <p:nvPr/>
          </p:nvPicPr>
          <p:blipFill>
            <a:blip r:embed="rId5"/>
            <a:srcRect l="54981" t="9776" r="12043" b="37047"/>
            <a:stretch/>
          </p:blipFill>
          <p:spPr>
            <a:xfrm>
              <a:off x="1481040" y="3618000"/>
              <a:ext cx="237600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2160360" y="5340600"/>
              <a:ext cx="1315800" cy="1042920"/>
            </a:xfrm>
            <a:custGeom>
              <a:avLst/>
              <a:gdLst/>
              <a:ahLst/>
              <a:rect l="l" t="t" r="r" b="b"/>
              <a:pathLst>
                <a:path w="829" h="657">
                  <a:moveTo>
                    <a:pt x="819" y="0"/>
                  </a:moveTo>
                  <a:cubicBezTo>
                    <a:pt x="774" y="3"/>
                    <a:pt x="729" y="3"/>
                    <a:pt x="685" y="10"/>
                  </a:cubicBezTo>
                  <a:cubicBezTo>
                    <a:pt x="631" y="19"/>
                    <a:pt x="575" y="49"/>
                    <a:pt x="521" y="62"/>
                  </a:cubicBezTo>
                  <a:cubicBezTo>
                    <a:pt x="452" y="107"/>
                    <a:pt x="374" y="134"/>
                    <a:pt x="294" y="154"/>
                  </a:cubicBezTo>
                  <a:cubicBezTo>
                    <a:pt x="260" y="177"/>
                    <a:pt x="246" y="204"/>
                    <a:pt x="212" y="226"/>
                  </a:cubicBezTo>
                  <a:cubicBezTo>
                    <a:pt x="165" y="297"/>
                    <a:pt x="195" y="280"/>
                    <a:pt x="140" y="298"/>
                  </a:cubicBezTo>
                  <a:cubicBezTo>
                    <a:pt x="133" y="308"/>
                    <a:pt x="101" y="310"/>
                    <a:pt x="92" y="319"/>
                  </a:cubicBezTo>
                  <a:cubicBezTo>
                    <a:pt x="83" y="328"/>
                    <a:pt x="97" y="341"/>
                    <a:pt x="89" y="350"/>
                  </a:cubicBezTo>
                  <a:cubicBezTo>
                    <a:pt x="73" y="369"/>
                    <a:pt x="34" y="362"/>
                    <a:pt x="20" y="383"/>
                  </a:cubicBezTo>
                  <a:cubicBezTo>
                    <a:pt x="13" y="393"/>
                    <a:pt x="34" y="432"/>
                    <a:pt x="27" y="442"/>
                  </a:cubicBezTo>
                  <a:cubicBezTo>
                    <a:pt x="20" y="452"/>
                    <a:pt x="6" y="473"/>
                    <a:pt x="6" y="473"/>
                  </a:cubicBezTo>
                  <a:cubicBezTo>
                    <a:pt x="10" y="507"/>
                    <a:pt x="0" y="546"/>
                    <a:pt x="17" y="576"/>
                  </a:cubicBezTo>
                  <a:cubicBezTo>
                    <a:pt x="29" y="597"/>
                    <a:pt x="196" y="616"/>
                    <a:pt x="202" y="617"/>
                  </a:cubicBezTo>
                  <a:cubicBezTo>
                    <a:pt x="302" y="651"/>
                    <a:pt x="242" y="636"/>
                    <a:pt x="387" y="648"/>
                  </a:cubicBezTo>
                  <a:cubicBezTo>
                    <a:pt x="456" y="645"/>
                    <a:pt x="527" y="657"/>
                    <a:pt x="593" y="638"/>
                  </a:cubicBezTo>
                  <a:cubicBezTo>
                    <a:pt x="617" y="631"/>
                    <a:pt x="634" y="576"/>
                    <a:pt x="634" y="576"/>
                  </a:cubicBezTo>
                  <a:cubicBezTo>
                    <a:pt x="654" y="473"/>
                    <a:pt x="694" y="374"/>
                    <a:pt x="767" y="298"/>
                  </a:cubicBezTo>
                  <a:cubicBezTo>
                    <a:pt x="771" y="288"/>
                    <a:pt x="772" y="277"/>
                    <a:pt x="778" y="268"/>
                  </a:cubicBezTo>
                  <a:cubicBezTo>
                    <a:pt x="786" y="256"/>
                    <a:pt x="802" y="250"/>
                    <a:pt x="809" y="237"/>
                  </a:cubicBezTo>
                  <a:cubicBezTo>
                    <a:pt x="819" y="218"/>
                    <a:pt x="829" y="175"/>
                    <a:pt x="829" y="175"/>
                  </a:cubicBezTo>
                  <a:cubicBezTo>
                    <a:pt x="819" y="7"/>
                    <a:pt x="819" y="65"/>
                    <a:pt x="819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417400" y="4194360"/>
              <a:ext cx="1008720" cy="100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b2b2b2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008000" y="3757680"/>
              <a:ext cx="179964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Célula satél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03320" y="3505320"/>
              <a:ext cx="2960640" cy="3076560"/>
            </a:xfrm>
            <a:custGeom>
              <a:avLst/>
              <a:gdLst/>
              <a:ahLst/>
              <a:rect l="l" t="t" r="r" b="b"/>
              <a:pathLst>
                <a:path w="1865" h="1938">
                  <a:moveTo>
                    <a:pt x="822" y="557"/>
                  </a:moveTo>
                  <a:cubicBezTo>
                    <a:pt x="819" y="652"/>
                    <a:pt x="818" y="746"/>
                    <a:pt x="813" y="841"/>
                  </a:cubicBezTo>
                  <a:cubicBezTo>
                    <a:pt x="811" y="878"/>
                    <a:pt x="778" y="897"/>
                    <a:pt x="758" y="923"/>
                  </a:cubicBezTo>
                  <a:cubicBezTo>
                    <a:pt x="745" y="940"/>
                    <a:pt x="738" y="963"/>
                    <a:pt x="722" y="978"/>
                  </a:cubicBezTo>
                  <a:cubicBezTo>
                    <a:pt x="713" y="987"/>
                    <a:pt x="702" y="995"/>
                    <a:pt x="694" y="1005"/>
                  </a:cubicBezTo>
                  <a:cubicBezTo>
                    <a:pt x="673" y="1030"/>
                    <a:pt x="671" y="1056"/>
                    <a:pt x="649" y="1079"/>
                  </a:cubicBezTo>
                  <a:cubicBezTo>
                    <a:pt x="627" y="1141"/>
                    <a:pt x="643" y="1119"/>
                    <a:pt x="612" y="1152"/>
                  </a:cubicBezTo>
                  <a:cubicBezTo>
                    <a:pt x="603" y="1189"/>
                    <a:pt x="591" y="1210"/>
                    <a:pt x="576" y="1243"/>
                  </a:cubicBezTo>
                  <a:cubicBezTo>
                    <a:pt x="532" y="1340"/>
                    <a:pt x="580" y="1264"/>
                    <a:pt x="539" y="1325"/>
                  </a:cubicBezTo>
                  <a:cubicBezTo>
                    <a:pt x="523" y="1374"/>
                    <a:pt x="512" y="1420"/>
                    <a:pt x="484" y="1463"/>
                  </a:cubicBezTo>
                  <a:cubicBezTo>
                    <a:pt x="478" y="1487"/>
                    <a:pt x="472" y="1512"/>
                    <a:pt x="466" y="1536"/>
                  </a:cubicBezTo>
                  <a:cubicBezTo>
                    <a:pt x="459" y="1566"/>
                    <a:pt x="448" y="1627"/>
                    <a:pt x="448" y="1627"/>
                  </a:cubicBezTo>
                  <a:cubicBezTo>
                    <a:pt x="458" y="1793"/>
                    <a:pt x="417" y="1809"/>
                    <a:pt x="557" y="1792"/>
                  </a:cubicBezTo>
                  <a:cubicBezTo>
                    <a:pt x="565" y="1784"/>
                    <a:pt x="597" y="1761"/>
                    <a:pt x="603" y="1755"/>
                  </a:cubicBezTo>
                  <a:cubicBezTo>
                    <a:pt x="640" y="1718"/>
                    <a:pt x="601" y="1738"/>
                    <a:pt x="640" y="1709"/>
                  </a:cubicBezTo>
                  <a:cubicBezTo>
                    <a:pt x="704" y="1660"/>
                    <a:pt x="677" y="1691"/>
                    <a:pt x="713" y="1655"/>
                  </a:cubicBezTo>
                  <a:cubicBezTo>
                    <a:pt x="754" y="1614"/>
                    <a:pt x="783" y="1559"/>
                    <a:pt x="832" y="1527"/>
                  </a:cubicBezTo>
                  <a:cubicBezTo>
                    <a:pt x="859" y="1485"/>
                    <a:pt x="893" y="1449"/>
                    <a:pt x="923" y="1408"/>
                  </a:cubicBezTo>
                  <a:cubicBezTo>
                    <a:pt x="936" y="1390"/>
                    <a:pt x="969" y="1362"/>
                    <a:pt x="969" y="1362"/>
                  </a:cubicBezTo>
                  <a:cubicBezTo>
                    <a:pt x="986" y="1310"/>
                    <a:pt x="1021" y="1262"/>
                    <a:pt x="1051" y="1216"/>
                  </a:cubicBezTo>
                  <a:cubicBezTo>
                    <a:pt x="1068" y="1190"/>
                    <a:pt x="1075" y="1164"/>
                    <a:pt x="1097" y="1143"/>
                  </a:cubicBezTo>
                  <a:cubicBezTo>
                    <a:pt x="1119" y="1076"/>
                    <a:pt x="1088" y="1157"/>
                    <a:pt x="1133" y="1088"/>
                  </a:cubicBezTo>
                  <a:cubicBezTo>
                    <a:pt x="1138" y="1080"/>
                    <a:pt x="1137" y="1069"/>
                    <a:pt x="1142" y="1060"/>
                  </a:cubicBezTo>
                  <a:cubicBezTo>
                    <a:pt x="1158" y="1031"/>
                    <a:pt x="1179" y="1005"/>
                    <a:pt x="1197" y="978"/>
                  </a:cubicBezTo>
                  <a:cubicBezTo>
                    <a:pt x="1202" y="970"/>
                    <a:pt x="1201" y="959"/>
                    <a:pt x="1206" y="951"/>
                  </a:cubicBezTo>
                  <a:cubicBezTo>
                    <a:pt x="1228" y="912"/>
                    <a:pt x="1255" y="886"/>
                    <a:pt x="1280" y="850"/>
                  </a:cubicBezTo>
                  <a:cubicBezTo>
                    <a:pt x="1292" y="813"/>
                    <a:pt x="1311" y="779"/>
                    <a:pt x="1334" y="749"/>
                  </a:cubicBezTo>
                  <a:cubicBezTo>
                    <a:pt x="1347" y="732"/>
                    <a:pt x="1371" y="695"/>
                    <a:pt x="1371" y="695"/>
                  </a:cubicBezTo>
                  <a:cubicBezTo>
                    <a:pt x="1383" y="659"/>
                    <a:pt x="1391" y="628"/>
                    <a:pt x="1408" y="594"/>
                  </a:cubicBezTo>
                  <a:cubicBezTo>
                    <a:pt x="1421" y="539"/>
                    <a:pt x="1449" y="502"/>
                    <a:pt x="1481" y="457"/>
                  </a:cubicBezTo>
                  <a:cubicBezTo>
                    <a:pt x="1497" y="409"/>
                    <a:pt x="1532" y="374"/>
                    <a:pt x="1554" y="329"/>
                  </a:cubicBezTo>
                  <a:cubicBezTo>
                    <a:pt x="1596" y="244"/>
                    <a:pt x="1578" y="280"/>
                    <a:pt x="1609" y="219"/>
                  </a:cubicBezTo>
                  <a:cubicBezTo>
                    <a:pt x="1625" y="187"/>
                    <a:pt x="1629" y="152"/>
                    <a:pt x="1645" y="119"/>
                  </a:cubicBezTo>
                  <a:cubicBezTo>
                    <a:pt x="1648" y="104"/>
                    <a:pt x="1643" y="84"/>
                    <a:pt x="1654" y="73"/>
                  </a:cubicBezTo>
                  <a:cubicBezTo>
                    <a:pt x="1668" y="59"/>
                    <a:pt x="1709" y="55"/>
                    <a:pt x="1709" y="55"/>
                  </a:cubicBezTo>
                  <a:cubicBezTo>
                    <a:pt x="1737" y="58"/>
                    <a:pt x="1766" y="55"/>
                    <a:pt x="1792" y="64"/>
                  </a:cubicBezTo>
                  <a:cubicBezTo>
                    <a:pt x="1816" y="73"/>
                    <a:pt x="1825" y="173"/>
                    <a:pt x="1828" y="192"/>
                  </a:cubicBezTo>
                  <a:cubicBezTo>
                    <a:pt x="1831" y="457"/>
                    <a:pt x="1832" y="722"/>
                    <a:pt x="1837" y="987"/>
                  </a:cubicBezTo>
                  <a:cubicBezTo>
                    <a:pt x="1839" y="1065"/>
                    <a:pt x="1841" y="1161"/>
                    <a:pt x="1865" y="1234"/>
                  </a:cubicBezTo>
                  <a:cubicBezTo>
                    <a:pt x="1862" y="1408"/>
                    <a:pt x="1862" y="1581"/>
                    <a:pt x="1856" y="1755"/>
                  </a:cubicBezTo>
                  <a:cubicBezTo>
                    <a:pt x="1854" y="1801"/>
                    <a:pt x="1783" y="1899"/>
                    <a:pt x="1746" y="1911"/>
                  </a:cubicBezTo>
                  <a:cubicBezTo>
                    <a:pt x="1688" y="1930"/>
                    <a:pt x="1645" y="1932"/>
                    <a:pt x="1581" y="1938"/>
                  </a:cubicBezTo>
                  <a:cubicBezTo>
                    <a:pt x="1234" y="1935"/>
                    <a:pt x="886" y="1937"/>
                    <a:pt x="539" y="1929"/>
                  </a:cubicBezTo>
                  <a:cubicBezTo>
                    <a:pt x="514" y="1928"/>
                    <a:pt x="466" y="1911"/>
                    <a:pt x="466" y="1911"/>
                  </a:cubicBezTo>
                  <a:cubicBezTo>
                    <a:pt x="388" y="1871"/>
                    <a:pt x="296" y="1870"/>
                    <a:pt x="210" y="1856"/>
                  </a:cubicBezTo>
                  <a:cubicBezTo>
                    <a:pt x="190" y="1834"/>
                    <a:pt x="172" y="1817"/>
                    <a:pt x="155" y="1792"/>
                  </a:cubicBezTo>
                  <a:cubicBezTo>
                    <a:pt x="137" y="1737"/>
                    <a:pt x="118" y="1683"/>
                    <a:pt x="100" y="1627"/>
                  </a:cubicBezTo>
                  <a:cubicBezTo>
                    <a:pt x="94" y="1609"/>
                    <a:pt x="82" y="1572"/>
                    <a:pt x="82" y="1572"/>
                  </a:cubicBezTo>
                  <a:cubicBezTo>
                    <a:pt x="71" y="1354"/>
                    <a:pt x="80" y="1119"/>
                    <a:pt x="45" y="905"/>
                  </a:cubicBezTo>
                  <a:cubicBezTo>
                    <a:pt x="37" y="797"/>
                    <a:pt x="13" y="700"/>
                    <a:pt x="0" y="594"/>
                  </a:cubicBezTo>
                  <a:cubicBezTo>
                    <a:pt x="3" y="457"/>
                    <a:pt x="3" y="320"/>
                    <a:pt x="9" y="183"/>
                  </a:cubicBezTo>
                  <a:cubicBezTo>
                    <a:pt x="10" y="148"/>
                    <a:pt x="47" y="111"/>
                    <a:pt x="73" y="91"/>
                  </a:cubicBezTo>
                  <a:cubicBezTo>
                    <a:pt x="162" y="21"/>
                    <a:pt x="296" y="17"/>
                    <a:pt x="402" y="0"/>
                  </a:cubicBezTo>
                  <a:cubicBezTo>
                    <a:pt x="688" y="3"/>
                    <a:pt x="975" y="4"/>
                    <a:pt x="1261" y="9"/>
                  </a:cubicBezTo>
                  <a:cubicBezTo>
                    <a:pt x="1324" y="10"/>
                    <a:pt x="1383" y="23"/>
                    <a:pt x="1444" y="36"/>
                  </a:cubicBezTo>
                  <a:cubicBezTo>
                    <a:pt x="1472" y="42"/>
                    <a:pt x="1526" y="64"/>
                    <a:pt x="1526" y="64"/>
                  </a:cubicBezTo>
                  <a:cubicBezTo>
                    <a:pt x="1545" y="115"/>
                    <a:pt x="1522" y="147"/>
                    <a:pt x="1472" y="164"/>
                  </a:cubicBezTo>
                  <a:cubicBezTo>
                    <a:pt x="1430" y="206"/>
                    <a:pt x="1394" y="251"/>
                    <a:pt x="1353" y="292"/>
                  </a:cubicBezTo>
                  <a:cubicBezTo>
                    <a:pt x="1308" y="433"/>
                    <a:pt x="1185" y="388"/>
                    <a:pt x="1042" y="393"/>
                  </a:cubicBezTo>
                  <a:cubicBezTo>
                    <a:pt x="1023" y="469"/>
                    <a:pt x="1000" y="444"/>
                    <a:pt x="932" y="466"/>
                  </a:cubicBezTo>
                  <a:cubicBezTo>
                    <a:pt x="890" y="508"/>
                    <a:pt x="891" y="555"/>
                    <a:pt x="859" y="603"/>
                  </a:cubicBezTo>
                  <a:cubicBezTo>
                    <a:pt x="853" y="621"/>
                    <a:pt x="847" y="640"/>
                    <a:pt x="841" y="658"/>
                  </a:cubicBezTo>
                  <a:cubicBezTo>
                    <a:pt x="838" y="667"/>
                    <a:pt x="832" y="685"/>
                    <a:pt x="832" y="685"/>
                  </a:cubicBezTo>
                  <a:cubicBezTo>
                    <a:pt x="821" y="755"/>
                    <a:pt x="822" y="727"/>
                    <a:pt x="822" y="768"/>
                  </a:cubicBezTo>
                  <a:lnTo>
                    <a:pt x="820" y="7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352680" y="4419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Célula saté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1537560" y="3013920"/>
            <a:ext cx="1257120" cy="487440"/>
          </a:xfrm>
          <a:prstGeom prst="rightArrow">
            <a:avLst>
              <a:gd name="adj1" fmla="val 50000"/>
              <a:gd name="adj2" fmla="val 64476"/>
            </a:avLst>
          </a:prstGeom>
          <a:noFill/>
          <a:ln w="381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603520" y="48006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6"/>
          <a:srcRect l="3841" t="7699" r="0" b="7699"/>
          <a:stretch/>
        </p:blipFill>
        <p:spPr>
          <a:xfrm>
            <a:off x="4800600" y="3962520"/>
            <a:ext cx="19051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284720" y="476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até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43280" y="476280"/>
            <a:ext cx="1233360" cy="517320"/>
          </a:xfrm>
          <a:custGeom>
            <a:avLst/>
            <a:gdLst/>
            <a:ahLst/>
            <a:rect l="l" t="t" r="r" b="b"/>
            <a:pathLst>
              <a:path w="777" h="326">
                <a:moveTo>
                  <a:pt x="110" y="226"/>
                </a:moveTo>
                <a:cubicBezTo>
                  <a:pt x="156" y="230"/>
                  <a:pt x="207" y="221"/>
                  <a:pt x="247" y="244"/>
                </a:cubicBezTo>
                <a:cubicBezTo>
                  <a:pt x="298" y="274"/>
                  <a:pt x="322" y="309"/>
                  <a:pt x="375" y="326"/>
                </a:cubicBezTo>
                <a:cubicBezTo>
                  <a:pt x="387" y="320"/>
                  <a:pt x="401" y="317"/>
                  <a:pt x="411" y="308"/>
                </a:cubicBezTo>
                <a:cubicBezTo>
                  <a:pt x="454" y="266"/>
                  <a:pt x="387" y="294"/>
                  <a:pt x="439" y="262"/>
                </a:cubicBezTo>
                <a:cubicBezTo>
                  <a:pt x="464" y="246"/>
                  <a:pt x="557" y="244"/>
                  <a:pt x="558" y="244"/>
                </a:cubicBezTo>
                <a:cubicBezTo>
                  <a:pt x="567" y="241"/>
                  <a:pt x="576" y="236"/>
                  <a:pt x="585" y="235"/>
                </a:cubicBezTo>
                <a:cubicBezTo>
                  <a:pt x="633" y="230"/>
                  <a:pt x="684" y="237"/>
                  <a:pt x="731" y="226"/>
                </a:cubicBezTo>
                <a:cubicBezTo>
                  <a:pt x="741" y="224"/>
                  <a:pt x="736" y="207"/>
                  <a:pt x="741" y="198"/>
                </a:cubicBezTo>
                <a:cubicBezTo>
                  <a:pt x="752" y="179"/>
                  <a:pt x="777" y="144"/>
                  <a:pt x="777" y="144"/>
                </a:cubicBezTo>
                <a:cubicBezTo>
                  <a:pt x="743" y="108"/>
                  <a:pt x="735" y="135"/>
                  <a:pt x="704" y="89"/>
                </a:cubicBezTo>
                <a:cubicBezTo>
                  <a:pt x="769" y="66"/>
                  <a:pt x="748" y="86"/>
                  <a:pt x="777" y="43"/>
                </a:cubicBezTo>
                <a:cubicBezTo>
                  <a:pt x="713" y="0"/>
                  <a:pt x="628" y="53"/>
                  <a:pt x="558" y="70"/>
                </a:cubicBezTo>
                <a:cubicBezTo>
                  <a:pt x="463" y="65"/>
                  <a:pt x="416" y="68"/>
                  <a:pt x="338" y="43"/>
                </a:cubicBezTo>
                <a:cubicBezTo>
                  <a:pt x="295" y="46"/>
                  <a:pt x="251" y="38"/>
                  <a:pt x="210" y="52"/>
                </a:cubicBezTo>
                <a:cubicBezTo>
                  <a:pt x="198" y="56"/>
                  <a:pt x="213" y="86"/>
                  <a:pt x="201" y="89"/>
                </a:cubicBezTo>
                <a:cubicBezTo>
                  <a:pt x="135" y="103"/>
                  <a:pt x="67" y="95"/>
                  <a:pt x="0" y="98"/>
                </a:cubicBezTo>
                <a:cubicBezTo>
                  <a:pt x="19" y="127"/>
                  <a:pt x="59" y="169"/>
                  <a:pt x="91" y="180"/>
                </a:cubicBezTo>
                <a:cubicBezTo>
                  <a:pt x="73" y="207"/>
                  <a:pt x="53" y="226"/>
                  <a:pt x="110" y="226"/>
                </a:cubicBez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48000" y="692280"/>
            <a:ext cx="144360" cy="144360"/>
          </a:xfrm>
          <a:prstGeom prst="ellipse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556000" y="2708280"/>
            <a:ext cx="3419280" cy="2835360"/>
            <a:chOff x="2556000" y="2708280"/>
            <a:chExt cx="3419280" cy="2835360"/>
          </a:xfrm>
        </p:grpSpPr>
        <p:sp>
          <p:nvSpPr>
            <p:cNvPr id="299" name=""/>
            <p:cNvSpPr/>
            <p:nvPr/>
          </p:nvSpPr>
          <p:spPr>
            <a:xfrm>
              <a:off x="3924360" y="2852640"/>
              <a:ext cx="1511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Salida d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ciclo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0000" y="3716280"/>
              <a:ext cx="215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Inicio del programa de diferenciación miogén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56000" y="2708280"/>
              <a:ext cx="3419280" cy="283536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2331000" y="3869280"/>
              <a:ext cx="2521080" cy="487440"/>
            </a:xfrm>
            <a:prstGeom prst="rightArrow">
              <a:avLst>
                <a:gd name="adj1" fmla="val 50000"/>
                <a:gd name="adj2" fmla="val 129302"/>
              </a:avLst>
            </a:prstGeom>
            <a:noFill/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843280" y="1123920"/>
            <a:ext cx="3529080" cy="1525680"/>
            <a:chOff x="2843280" y="1123920"/>
            <a:chExt cx="3529080" cy="1525680"/>
          </a:xfrm>
        </p:grpSpPr>
        <p:sp>
          <p:nvSpPr>
            <p:cNvPr id="304" name=""/>
            <p:cNvSpPr/>
            <p:nvPr/>
          </p:nvSpPr>
          <p:spPr>
            <a:xfrm rot="5400000">
              <a:off x="3025440" y="1374840"/>
              <a:ext cx="988920" cy="487080"/>
            </a:xfrm>
            <a:prstGeom prst="rightArrow">
              <a:avLst>
                <a:gd name="adj1" fmla="val 50000"/>
                <a:gd name="adj2" fmla="val 50758"/>
              </a:avLst>
            </a:prstGeom>
            <a:noFill/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43280" y="2131920"/>
              <a:ext cx="1233360" cy="517680"/>
            </a:xfrm>
            <a:custGeom>
              <a:avLst/>
              <a:gdLst/>
              <a:ahLst/>
              <a:rect l="l" t="t" r="r" b="b"/>
              <a:pathLst>
                <a:path w="777" h="326">
                  <a:moveTo>
                    <a:pt x="110" y="226"/>
                  </a:moveTo>
                  <a:cubicBezTo>
                    <a:pt x="156" y="230"/>
                    <a:pt x="207" y="221"/>
                    <a:pt x="247" y="244"/>
                  </a:cubicBezTo>
                  <a:cubicBezTo>
                    <a:pt x="298" y="274"/>
                    <a:pt x="322" y="309"/>
                    <a:pt x="375" y="326"/>
                  </a:cubicBezTo>
                  <a:cubicBezTo>
                    <a:pt x="387" y="320"/>
                    <a:pt x="401" y="317"/>
                    <a:pt x="411" y="308"/>
                  </a:cubicBezTo>
                  <a:cubicBezTo>
                    <a:pt x="454" y="266"/>
                    <a:pt x="387" y="294"/>
                    <a:pt x="439" y="262"/>
                  </a:cubicBezTo>
                  <a:cubicBezTo>
                    <a:pt x="464" y="246"/>
                    <a:pt x="557" y="244"/>
                    <a:pt x="558" y="244"/>
                  </a:cubicBezTo>
                  <a:cubicBezTo>
                    <a:pt x="567" y="241"/>
                    <a:pt x="576" y="236"/>
                    <a:pt x="585" y="235"/>
                  </a:cubicBezTo>
                  <a:cubicBezTo>
                    <a:pt x="633" y="230"/>
                    <a:pt x="684" y="237"/>
                    <a:pt x="731" y="226"/>
                  </a:cubicBezTo>
                  <a:cubicBezTo>
                    <a:pt x="741" y="224"/>
                    <a:pt x="736" y="207"/>
                    <a:pt x="741" y="198"/>
                  </a:cubicBezTo>
                  <a:cubicBezTo>
                    <a:pt x="752" y="179"/>
                    <a:pt x="777" y="144"/>
                    <a:pt x="777" y="144"/>
                  </a:cubicBezTo>
                  <a:cubicBezTo>
                    <a:pt x="743" y="108"/>
                    <a:pt x="735" y="135"/>
                    <a:pt x="704" y="89"/>
                  </a:cubicBezTo>
                  <a:cubicBezTo>
                    <a:pt x="769" y="66"/>
                    <a:pt x="748" y="86"/>
                    <a:pt x="777" y="43"/>
                  </a:cubicBezTo>
                  <a:cubicBezTo>
                    <a:pt x="713" y="0"/>
                    <a:pt x="628" y="53"/>
                    <a:pt x="558" y="70"/>
                  </a:cubicBezTo>
                  <a:cubicBezTo>
                    <a:pt x="463" y="65"/>
                    <a:pt x="416" y="68"/>
                    <a:pt x="338" y="43"/>
                  </a:cubicBezTo>
                  <a:cubicBezTo>
                    <a:pt x="295" y="46"/>
                    <a:pt x="251" y="38"/>
                    <a:pt x="210" y="52"/>
                  </a:cubicBezTo>
                  <a:cubicBezTo>
                    <a:pt x="198" y="56"/>
                    <a:pt x="213" y="86"/>
                    <a:pt x="201" y="89"/>
                  </a:cubicBezTo>
                  <a:cubicBezTo>
                    <a:pt x="135" y="103"/>
                    <a:pt x="67" y="95"/>
                    <a:pt x="0" y="98"/>
                  </a:cubicBezTo>
                  <a:cubicBezTo>
                    <a:pt x="19" y="127"/>
                    <a:pt x="59" y="169"/>
                    <a:pt x="91" y="180"/>
                  </a:cubicBezTo>
                  <a:cubicBezTo>
                    <a:pt x="73" y="207"/>
                    <a:pt x="53" y="226"/>
                    <a:pt x="110" y="226"/>
                  </a:cubicBez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48000" y="2276640"/>
              <a:ext cx="144360" cy="144360"/>
            </a:xfrm>
            <a:prstGeom prst="ellipse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84720" y="2131920"/>
              <a:ext cx="13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mioblas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11640" y="119700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1" lang="es-ES" sz="2400" spc="-1" strike="noStrike">
                  <a:solidFill>
                    <a:srgbClr val="ffffff"/>
                  </a:solidFill>
                  <a:latin typeface="Tahoma"/>
                </a:rPr>
                <a:t>Activación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340000" y="5821200"/>
            <a:ext cx="4790880" cy="416160"/>
            <a:chOff x="2340000" y="5821200"/>
            <a:chExt cx="4790880" cy="416160"/>
          </a:xfrm>
        </p:grpSpPr>
        <p:sp>
          <p:nvSpPr>
            <p:cNvPr id="310" name=""/>
            <p:cNvSpPr/>
            <p:nvPr/>
          </p:nvSpPr>
          <p:spPr>
            <a:xfrm>
              <a:off x="2340000" y="5877000"/>
              <a:ext cx="3564000" cy="3603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76720" y="6019920"/>
              <a:ext cx="215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733920" y="6019920"/>
              <a:ext cx="215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67080" y="6019920"/>
              <a:ext cx="21600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76920" y="6019920"/>
              <a:ext cx="21564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35760" y="5821200"/>
              <a:ext cx="10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iotub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692360" y="333360"/>
            <a:ext cx="61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delo de diferenciación celular: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miogénesi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66880" y="2057400"/>
            <a:ext cx="304920" cy="2743200"/>
          </a:xfrm>
          <a:custGeom>
            <a:avLst/>
            <a:gdLst>
              <a:gd name="textAreaLeft" fmla="*/ 0 w 304920"/>
              <a:gd name="textAreaRight" fmla="*/ 11016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84360" y="2060640"/>
            <a:ext cx="8280360" cy="360360"/>
          </a:xfrm>
          <a:prstGeom prst="rect">
            <a:avLst/>
          </a:prstGeom>
          <a:gradFill rotWithShape="0">
            <a:gsLst>
              <a:gs pos="0">
                <a:srgbClr val="9999ff">
                  <a:alpha val="48235"/>
                </a:srgbClr>
              </a:gs>
              <a:gs pos="50000">
                <a:srgbClr val="464675"/>
              </a:gs>
              <a:gs pos="100000">
                <a:srgbClr val="9999ff">
                  <a:alpha val="48235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206064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99ff"/>
                </a:solidFill>
                <a:latin typeface="Tahoma"/>
              </a:rPr>
              <a:t>embr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79640" y="5013360"/>
            <a:ext cx="6985080" cy="360360"/>
          </a:xfrm>
          <a:prstGeom prst="rect">
            <a:avLst/>
          </a:prstGeom>
          <a:gradFill rotWithShape="0">
            <a:gsLst>
              <a:gs pos="0">
                <a:srgbClr val="0099ff">
                  <a:alpha val="55294"/>
                </a:srgbClr>
              </a:gs>
              <a:gs pos="50000">
                <a:srgbClr val="004675"/>
              </a:gs>
              <a:gs pos="100000">
                <a:srgbClr val="0099ff">
                  <a:alpha val="55294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51280" y="501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99ff"/>
                </a:solidFill>
                <a:latin typeface="Tahoma"/>
              </a:rPr>
              <a:t>post n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666880"/>
            <a:ext cx="8496360" cy="2060640"/>
          </a:xfrm>
          <a:prstGeom prst="rect">
            <a:avLst/>
          </a:prstGeom>
          <a:gradFill rotWithShape="0">
            <a:gsLst>
              <a:gs pos="0">
                <a:srgbClr val="ccecff">
                  <a:alpha val="68235"/>
                </a:srgbClr>
              </a:gs>
              <a:gs pos="100000">
                <a:srgbClr val="5e6c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9440" y="2781360"/>
            <a:ext cx="1218960" cy="1295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82600" y="3314880"/>
            <a:ext cx="228600" cy="228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11200" y="33908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403280" y="3161880"/>
            <a:ext cx="38916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029960" y="35434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58920" y="354348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11200" y="346716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335240" y="28576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1258920" y="278136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1106280" y="278136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 flipV="1">
            <a:off x="878040" y="2933280"/>
            <a:ext cx="30456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725400" y="308628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49080" y="33908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25400" y="34671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878040" y="354348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410840" y="354348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1334880" y="3543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20716800">
            <a:off x="1335240" y="384804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695400">
            <a:off x="1335240" y="285732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2131200">
            <a:off x="1563480" y="30096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4446600">
            <a:off x="1677960" y="320004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182600" y="285768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512200">
            <a:off x="1715400" y="339084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18817800">
            <a:off x="1601640" y="36576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rot="19746600">
            <a:off x="1487520" y="377172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rot="1376400">
            <a:off x="1106640" y="384804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rot="3483000">
            <a:off x="992160" y="3733560"/>
            <a:ext cx="7596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3805800">
            <a:off x="877320" y="361944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5911400">
            <a:off x="839520" y="3429000"/>
            <a:ext cx="7632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16861200">
            <a:off x="801720" y="323820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8817800">
            <a:off x="916200" y="3047760"/>
            <a:ext cx="7596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20070600">
            <a:off x="1029960" y="2933280"/>
            <a:ext cx="7632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67280" y="400536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Tahoma"/>
              </a:rPr>
              <a:t>miobl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308720" y="3933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Tahoma"/>
              </a:rPr>
              <a:t>miotu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414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ff"/>
                </a:solidFill>
                <a:latin typeface="Tahoma"/>
              </a:rPr>
              <a:t>som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68360" y="31417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444760" y="31827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09960" y="3324240"/>
            <a:ext cx="43308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68360" y="3357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38280" y="336564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3357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62240" y="34765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3517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603680" y="32353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80080" y="32767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27640" y="33465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03680" y="338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56320" y="3387600"/>
            <a:ext cx="43308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32360" y="34290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9920" y="349884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56320" y="354024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086600" y="3505320"/>
            <a:ext cx="1752480" cy="152280"/>
          </a:xfrm>
          <a:prstGeom prst="flowChartTerminator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38880" y="3581280"/>
            <a:ext cx="15264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72400" y="3581280"/>
            <a:ext cx="15228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81880" y="3581280"/>
            <a:ext cx="152640" cy="763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124000" y="386064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ffff"/>
                </a:solidFill>
                <a:latin typeface="Tahoma"/>
              </a:rPr>
              <a:t>Células progenit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32000" y="3357720"/>
            <a:ext cx="1008360" cy="287280"/>
          </a:xfrm>
          <a:custGeom>
            <a:avLst/>
            <a:gdLst>
              <a:gd name="textAreaLeft" fmla="*/ 157320 w 1008360"/>
              <a:gd name="textAreaRight" fmla="*/ 882360 w 1008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80000" y="3429000"/>
            <a:ext cx="1008000" cy="28728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780000" y="2997360"/>
            <a:ext cx="4489200" cy="27432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730920" y="227664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Mesoder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80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146560" y="2349360"/>
            <a:ext cx="936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omi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84720" y="2997360"/>
            <a:ext cx="719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54560" y="227664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43280" y="263700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30560" y="2708280"/>
            <a:ext cx="16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cc"/>
                </a:solidFill>
                <a:latin typeface="Arial"/>
              </a:rPr>
              <a:t>Dermomioto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84720" y="2997360"/>
            <a:ext cx="100800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698920" y="2708280"/>
            <a:ext cx="433080" cy="360360"/>
          </a:xfrm>
          <a:prstGeom prst="leftArrow">
            <a:avLst>
              <a:gd name="adj1" fmla="val 50000"/>
              <a:gd name="adj2" fmla="val 3004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2560" y="2708280"/>
            <a:ext cx="1944720" cy="6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úsculo esquelé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erm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32000" y="177336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sclerotomo mesenqui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43280" y="206064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4360" y="1989000"/>
            <a:ext cx="1942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ílago y hu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191628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84360" y="2349360"/>
            <a:ext cx="1942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nd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62200" y="2349360"/>
            <a:ext cx="144720" cy="430200"/>
          </a:xfrm>
          <a:prstGeom prst="upDownArrow">
            <a:avLst>
              <a:gd name="adj1" fmla="val 50000"/>
              <a:gd name="adj2" fmla="val 5917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71640" y="26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40000" y="765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Miogénesis en etapa embrio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00360" y="2276640"/>
            <a:ext cx="433440" cy="360360"/>
          </a:xfrm>
          <a:prstGeom prst="leftArrow">
            <a:avLst>
              <a:gd name="adj1" fmla="val 50000"/>
              <a:gd name="adj2" fmla="val 300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67280" y="2637000"/>
            <a:ext cx="216000" cy="358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380360" y="263700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9280" y="6597720"/>
            <a:ext cx="309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ffffff"/>
                </a:solidFill>
                <a:latin typeface="Tahoma"/>
              </a:rPr>
              <a:t>Parker et al Nat Rev Genet 4:495, 20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73440" y="1628280"/>
            <a:ext cx="171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Ectoder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99"/>
                </a:solidFill>
                <a:latin typeface="Arial"/>
              </a:rPr>
              <a:t>Notoco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Tubo neural</a:t>
            </a:r>
            <a:r>
              <a:rPr b="0" lang="es-ES" sz="1800" spc="-1" strike="noStrike">
                <a:solidFill>
                  <a:srgbClr val="0066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5002920" y="2997360"/>
            <a:ext cx="1683000" cy="1511280"/>
          </a:xfrm>
          <a:prstGeom prst="leftArrow">
            <a:avLst>
              <a:gd name="adj1" fmla="val 50000"/>
              <a:gd name="adj2" fmla="val 27841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6732720" y="3068640"/>
            <a:ext cx="2233440" cy="1440000"/>
          </a:xfrm>
          <a:prstGeom prst="leftArrow">
            <a:avLst>
              <a:gd name="adj1" fmla="val 50000"/>
              <a:gd name="adj2" fmla="val 38775"/>
            </a:avLst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3933720"/>
            <a:ext cx="180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05620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95640" y="3284640"/>
            <a:ext cx="865080" cy="360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2124000" y="3933720"/>
            <a:ext cx="863640" cy="28728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16360" y="3789360"/>
            <a:ext cx="144360" cy="28728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292000" y="3645000"/>
            <a:ext cx="115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m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804720" y="364500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rmomioto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332000" y="2852640"/>
            <a:ext cx="287280" cy="289080"/>
          </a:xfrm>
          <a:prstGeom prst="downArrow">
            <a:avLst>
              <a:gd name="adj1" fmla="val 50000"/>
              <a:gd name="adj2" fmla="val 25157"/>
            </a:avLst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3276720" y="3068640"/>
            <a:ext cx="1682640" cy="1440000"/>
          </a:xfrm>
          <a:prstGeom prst="leftArrow">
            <a:avLst>
              <a:gd name="adj1" fmla="val 50000"/>
              <a:gd name="adj2" fmla="val 29213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419640" y="35751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esodermo presomí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56000" y="314172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66ff33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5013360"/>
            <a:ext cx="6697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cultivo con células que secretan las señ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Efecto imitado p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eñales o factores purificados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500280"/>
            <a:ext cx="1440000" cy="45972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ñ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97280" y="1181160"/>
            <a:ext cx="1414440" cy="1150920"/>
          </a:xfrm>
          <a:custGeom>
            <a:avLst/>
            <a:gdLst/>
            <a:ahLst/>
            <a:rect l="l" t="t" r="r" b="b"/>
            <a:pathLst>
              <a:path w="902" h="742">
                <a:moveTo>
                  <a:pt x="323" y="17"/>
                </a:moveTo>
                <a:cubicBezTo>
                  <a:pt x="409" y="0"/>
                  <a:pt x="495" y="5"/>
                  <a:pt x="581" y="11"/>
                </a:cubicBezTo>
                <a:cubicBezTo>
                  <a:pt x="613" y="22"/>
                  <a:pt x="631" y="27"/>
                  <a:pt x="653" y="53"/>
                </a:cubicBezTo>
                <a:cubicBezTo>
                  <a:pt x="676" y="81"/>
                  <a:pt x="680" y="115"/>
                  <a:pt x="713" y="137"/>
                </a:cubicBezTo>
                <a:cubicBezTo>
                  <a:pt x="724" y="153"/>
                  <a:pt x="757" y="200"/>
                  <a:pt x="773" y="209"/>
                </a:cubicBezTo>
                <a:cubicBezTo>
                  <a:pt x="784" y="215"/>
                  <a:pt x="797" y="217"/>
                  <a:pt x="809" y="221"/>
                </a:cubicBezTo>
                <a:cubicBezTo>
                  <a:pt x="815" y="223"/>
                  <a:pt x="827" y="227"/>
                  <a:pt x="827" y="227"/>
                </a:cubicBezTo>
                <a:cubicBezTo>
                  <a:pt x="840" y="246"/>
                  <a:pt x="860" y="254"/>
                  <a:pt x="869" y="275"/>
                </a:cubicBezTo>
                <a:cubicBezTo>
                  <a:pt x="874" y="287"/>
                  <a:pt x="881" y="311"/>
                  <a:pt x="881" y="311"/>
                </a:cubicBezTo>
                <a:cubicBezTo>
                  <a:pt x="878" y="396"/>
                  <a:pt x="902" y="463"/>
                  <a:pt x="833" y="509"/>
                </a:cubicBezTo>
                <a:cubicBezTo>
                  <a:pt x="825" y="533"/>
                  <a:pt x="818" y="543"/>
                  <a:pt x="797" y="557"/>
                </a:cubicBezTo>
                <a:cubicBezTo>
                  <a:pt x="762" y="610"/>
                  <a:pt x="731" y="626"/>
                  <a:pt x="677" y="653"/>
                </a:cubicBezTo>
                <a:cubicBezTo>
                  <a:pt x="673" y="659"/>
                  <a:pt x="670" y="666"/>
                  <a:pt x="665" y="671"/>
                </a:cubicBezTo>
                <a:cubicBezTo>
                  <a:pt x="660" y="676"/>
                  <a:pt x="652" y="677"/>
                  <a:pt x="647" y="683"/>
                </a:cubicBezTo>
                <a:cubicBezTo>
                  <a:pt x="643" y="688"/>
                  <a:pt x="645" y="696"/>
                  <a:pt x="641" y="701"/>
                </a:cubicBezTo>
                <a:cubicBezTo>
                  <a:pt x="619" y="728"/>
                  <a:pt x="539" y="724"/>
                  <a:pt x="521" y="725"/>
                </a:cubicBezTo>
                <a:cubicBezTo>
                  <a:pt x="469" y="742"/>
                  <a:pt x="318" y="720"/>
                  <a:pt x="293" y="719"/>
                </a:cubicBezTo>
                <a:cubicBezTo>
                  <a:pt x="293" y="719"/>
                  <a:pt x="254" y="710"/>
                  <a:pt x="251" y="707"/>
                </a:cubicBezTo>
                <a:cubicBezTo>
                  <a:pt x="241" y="697"/>
                  <a:pt x="239" y="679"/>
                  <a:pt x="227" y="671"/>
                </a:cubicBezTo>
                <a:cubicBezTo>
                  <a:pt x="194" y="649"/>
                  <a:pt x="164" y="637"/>
                  <a:pt x="131" y="617"/>
                </a:cubicBezTo>
                <a:cubicBezTo>
                  <a:pt x="79" y="586"/>
                  <a:pt x="113" y="599"/>
                  <a:pt x="77" y="587"/>
                </a:cubicBezTo>
                <a:cubicBezTo>
                  <a:pt x="0" y="510"/>
                  <a:pt x="40" y="385"/>
                  <a:pt x="65" y="287"/>
                </a:cubicBezTo>
                <a:cubicBezTo>
                  <a:pt x="64" y="277"/>
                  <a:pt x="61" y="241"/>
                  <a:pt x="53" y="227"/>
                </a:cubicBezTo>
                <a:cubicBezTo>
                  <a:pt x="19" y="165"/>
                  <a:pt x="37" y="214"/>
                  <a:pt x="23" y="173"/>
                </a:cubicBezTo>
                <a:cubicBezTo>
                  <a:pt x="25" y="143"/>
                  <a:pt x="22" y="112"/>
                  <a:pt x="29" y="83"/>
                </a:cubicBezTo>
                <a:cubicBezTo>
                  <a:pt x="34" y="61"/>
                  <a:pt x="64" y="54"/>
                  <a:pt x="83" y="41"/>
                </a:cubicBezTo>
                <a:cubicBezTo>
                  <a:pt x="137" y="5"/>
                  <a:pt x="317" y="17"/>
                  <a:pt x="323" y="17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125880" y="1257480"/>
            <a:ext cx="914400" cy="990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92320" y="1666800"/>
            <a:ext cx="428760" cy="628560"/>
          </a:xfrm>
          <a:custGeom>
            <a:avLst/>
            <a:gdLst/>
            <a:ahLst/>
            <a:rect l="l" t="t" r="r" b="b"/>
            <a:pathLst>
              <a:path w="270" h="396">
                <a:moveTo>
                  <a:pt x="0" y="0"/>
                </a:moveTo>
                <a:cubicBezTo>
                  <a:pt x="6" y="24"/>
                  <a:pt x="10" y="48"/>
                  <a:pt x="18" y="72"/>
                </a:cubicBezTo>
                <a:cubicBezTo>
                  <a:pt x="24" y="148"/>
                  <a:pt x="33" y="230"/>
                  <a:pt x="102" y="276"/>
                </a:cubicBezTo>
                <a:cubicBezTo>
                  <a:pt x="111" y="304"/>
                  <a:pt x="127" y="347"/>
                  <a:pt x="156" y="360"/>
                </a:cubicBezTo>
                <a:cubicBezTo>
                  <a:pt x="230" y="393"/>
                  <a:pt x="160" y="357"/>
                  <a:pt x="216" y="378"/>
                </a:cubicBezTo>
                <a:cubicBezTo>
                  <a:pt x="236" y="386"/>
                  <a:pt x="248" y="396"/>
                  <a:pt x="270" y="3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19520" y="1666800"/>
            <a:ext cx="563400" cy="777960"/>
          </a:xfrm>
          <a:custGeom>
            <a:avLst/>
            <a:gdLst/>
            <a:ahLst/>
            <a:rect l="l" t="t" r="r" b="b"/>
            <a:pathLst>
              <a:path w="355" h="490">
                <a:moveTo>
                  <a:pt x="103" y="0"/>
                </a:moveTo>
                <a:cubicBezTo>
                  <a:pt x="131" y="42"/>
                  <a:pt x="145" y="101"/>
                  <a:pt x="157" y="150"/>
                </a:cubicBezTo>
                <a:cubicBezTo>
                  <a:pt x="162" y="198"/>
                  <a:pt x="170" y="264"/>
                  <a:pt x="223" y="282"/>
                </a:cubicBezTo>
                <a:cubicBezTo>
                  <a:pt x="231" y="307"/>
                  <a:pt x="248" y="310"/>
                  <a:pt x="265" y="330"/>
                </a:cubicBezTo>
                <a:cubicBezTo>
                  <a:pt x="270" y="336"/>
                  <a:pt x="272" y="343"/>
                  <a:pt x="277" y="348"/>
                </a:cubicBezTo>
                <a:cubicBezTo>
                  <a:pt x="288" y="357"/>
                  <a:pt x="313" y="372"/>
                  <a:pt x="313" y="372"/>
                </a:cubicBezTo>
                <a:cubicBezTo>
                  <a:pt x="327" y="394"/>
                  <a:pt x="341" y="392"/>
                  <a:pt x="355" y="414"/>
                </a:cubicBezTo>
                <a:cubicBezTo>
                  <a:pt x="330" y="490"/>
                  <a:pt x="354" y="436"/>
                  <a:pt x="163" y="426"/>
                </a:cubicBezTo>
                <a:cubicBezTo>
                  <a:pt x="115" y="423"/>
                  <a:pt x="19" y="414"/>
                  <a:pt x="19" y="414"/>
                </a:cubicBezTo>
                <a:cubicBezTo>
                  <a:pt x="0" y="375"/>
                  <a:pt x="10" y="341"/>
                  <a:pt x="19" y="300"/>
                </a:cubicBezTo>
                <a:cubicBezTo>
                  <a:pt x="35" y="232"/>
                  <a:pt x="41" y="164"/>
                  <a:pt x="55" y="96"/>
                </a:cubicBezTo>
                <a:cubicBezTo>
                  <a:pt x="60" y="73"/>
                  <a:pt x="65" y="59"/>
                  <a:pt x="73" y="36"/>
                </a:cubicBezTo>
                <a:cubicBezTo>
                  <a:pt x="77" y="23"/>
                  <a:pt x="123" y="20"/>
                  <a:pt x="10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9378800">
            <a:off x="3049560" y="125712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125880" y="1333440"/>
            <a:ext cx="47520" cy="8748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924280" y="1352520"/>
            <a:ext cx="1371600" cy="971640"/>
          </a:xfrm>
          <a:custGeom>
            <a:avLst/>
            <a:gdLst/>
            <a:ahLst/>
            <a:rect l="l" t="t" r="r" b="b"/>
            <a:pathLst>
              <a:path w="864" h="612">
                <a:moveTo>
                  <a:pt x="1" y="0"/>
                </a:moveTo>
                <a:cubicBezTo>
                  <a:pt x="3" y="28"/>
                  <a:pt x="0" y="57"/>
                  <a:pt x="7" y="84"/>
                </a:cubicBezTo>
                <a:cubicBezTo>
                  <a:pt x="9" y="91"/>
                  <a:pt x="20" y="90"/>
                  <a:pt x="25" y="96"/>
                </a:cubicBezTo>
                <a:cubicBezTo>
                  <a:pt x="35" y="108"/>
                  <a:pt x="44" y="135"/>
                  <a:pt x="49" y="150"/>
                </a:cubicBezTo>
                <a:cubicBezTo>
                  <a:pt x="58" y="235"/>
                  <a:pt x="70" y="327"/>
                  <a:pt x="97" y="408"/>
                </a:cubicBezTo>
                <a:cubicBezTo>
                  <a:pt x="110" y="448"/>
                  <a:pt x="126" y="490"/>
                  <a:pt x="169" y="504"/>
                </a:cubicBezTo>
                <a:cubicBezTo>
                  <a:pt x="186" y="529"/>
                  <a:pt x="207" y="543"/>
                  <a:pt x="235" y="552"/>
                </a:cubicBezTo>
                <a:cubicBezTo>
                  <a:pt x="269" y="603"/>
                  <a:pt x="384" y="602"/>
                  <a:pt x="433" y="606"/>
                </a:cubicBezTo>
                <a:cubicBezTo>
                  <a:pt x="449" y="607"/>
                  <a:pt x="465" y="610"/>
                  <a:pt x="481" y="612"/>
                </a:cubicBezTo>
                <a:cubicBezTo>
                  <a:pt x="519" y="610"/>
                  <a:pt x="557" y="609"/>
                  <a:pt x="595" y="606"/>
                </a:cubicBezTo>
                <a:cubicBezTo>
                  <a:pt x="623" y="603"/>
                  <a:pt x="658" y="515"/>
                  <a:pt x="673" y="492"/>
                </a:cubicBezTo>
                <a:cubicBezTo>
                  <a:pt x="684" y="476"/>
                  <a:pt x="727" y="484"/>
                  <a:pt x="745" y="474"/>
                </a:cubicBezTo>
                <a:cubicBezTo>
                  <a:pt x="758" y="467"/>
                  <a:pt x="781" y="450"/>
                  <a:pt x="781" y="450"/>
                </a:cubicBezTo>
                <a:cubicBezTo>
                  <a:pt x="788" y="430"/>
                  <a:pt x="811" y="396"/>
                  <a:pt x="811" y="396"/>
                </a:cubicBezTo>
                <a:cubicBezTo>
                  <a:pt x="819" y="365"/>
                  <a:pt x="825" y="336"/>
                  <a:pt x="835" y="306"/>
                </a:cubicBezTo>
                <a:cubicBezTo>
                  <a:pt x="839" y="294"/>
                  <a:pt x="847" y="270"/>
                  <a:pt x="847" y="270"/>
                </a:cubicBezTo>
                <a:cubicBezTo>
                  <a:pt x="845" y="230"/>
                  <a:pt x="864" y="160"/>
                  <a:pt x="817" y="144"/>
                </a:cubicBezTo>
                <a:cubicBezTo>
                  <a:pt x="815" y="138"/>
                  <a:pt x="815" y="130"/>
                  <a:pt x="811" y="126"/>
                </a:cubicBezTo>
                <a:cubicBezTo>
                  <a:pt x="791" y="106"/>
                  <a:pt x="793" y="131"/>
                  <a:pt x="793" y="114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35440" y="1162080"/>
            <a:ext cx="1276200" cy="409680"/>
          </a:xfrm>
          <a:custGeom>
            <a:avLst/>
            <a:gdLst/>
            <a:ahLst/>
            <a:rect l="l" t="t" r="r" b="b"/>
            <a:pathLst>
              <a:path w="804" h="258">
                <a:moveTo>
                  <a:pt x="0" y="138"/>
                </a:moveTo>
                <a:cubicBezTo>
                  <a:pt x="6" y="120"/>
                  <a:pt x="18" y="38"/>
                  <a:pt x="48" y="36"/>
                </a:cubicBezTo>
                <a:cubicBezTo>
                  <a:pt x="120" y="30"/>
                  <a:pt x="192" y="32"/>
                  <a:pt x="264" y="30"/>
                </a:cubicBezTo>
                <a:cubicBezTo>
                  <a:pt x="355" y="0"/>
                  <a:pt x="470" y="26"/>
                  <a:pt x="564" y="30"/>
                </a:cubicBezTo>
                <a:cubicBezTo>
                  <a:pt x="607" y="44"/>
                  <a:pt x="589" y="35"/>
                  <a:pt x="618" y="54"/>
                </a:cubicBezTo>
                <a:cubicBezTo>
                  <a:pt x="642" y="90"/>
                  <a:pt x="660" y="126"/>
                  <a:pt x="684" y="162"/>
                </a:cubicBezTo>
                <a:cubicBezTo>
                  <a:pt x="696" y="180"/>
                  <a:pt x="732" y="204"/>
                  <a:pt x="732" y="204"/>
                </a:cubicBezTo>
                <a:cubicBezTo>
                  <a:pt x="750" y="230"/>
                  <a:pt x="781" y="235"/>
                  <a:pt x="804" y="258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10040" y="1279440"/>
            <a:ext cx="325440" cy="425520"/>
          </a:xfrm>
          <a:custGeom>
            <a:avLst/>
            <a:gdLst/>
            <a:ahLst/>
            <a:rect l="l" t="t" r="r" b="b"/>
            <a:pathLst>
              <a:path w="205" h="268">
                <a:moveTo>
                  <a:pt x="10" y="268"/>
                </a:moveTo>
                <a:cubicBezTo>
                  <a:pt x="14" y="262"/>
                  <a:pt x="19" y="257"/>
                  <a:pt x="22" y="250"/>
                </a:cubicBezTo>
                <a:cubicBezTo>
                  <a:pt x="27" y="238"/>
                  <a:pt x="23" y="221"/>
                  <a:pt x="34" y="214"/>
                </a:cubicBezTo>
                <a:cubicBezTo>
                  <a:pt x="52" y="202"/>
                  <a:pt x="70" y="196"/>
                  <a:pt x="88" y="184"/>
                </a:cubicBezTo>
                <a:cubicBezTo>
                  <a:pt x="115" y="193"/>
                  <a:pt x="138" y="196"/>
                  <a:pt x="148" y="166"/>
                </a:cubicBezTo>
                <a:cubicBezTo>
                  <a:pt x="151" y="142"/>
                  <a:pt x="153" y="105"/>
                  <a:pt x="166" y="82"/>
                </a:cubicBezTo>
                <a:cubicBezTo>
                  <a:pt x="205" y="12"/>
                  <a:pt x="179" y="80"/>
                  <a:pt x="202" y="10"/>
                </a:cubicBezTo>
                <a:cubicBezTo>
                  <a:pt x="205" y="0"/>
                  <a:pt x="182" y="14"/>
                  <a:pt x="172" y="16"/>
                </a:cubicBezTo>
                <a:cubicBezTo>
                  <a:pt x="152" y="21"/>
                  <a:pt x="112" y="34"/>
                  <a:pt x="112" y="34"/>
                </a:cubicBezTo>
                <a:cubicBezTo>
                  <a:pt x="98" y="56"/>
                  <a:pt x="78" y="86"/>
                  <a:pt x="58" y="100"/>
                </a:cubicBezTo>
                <a:cubicBezTo>
                  <a:pt x="44" y="143"/>
                  <a:pt x="19" y="182"/>
                  <a:pt x="4" y="226"/>
                </a:cubicBezTo>
                <a:cubicBezTo>
                  <a:pt x="0" y="239"/>
                  <a:pt x="8" y="254"/>
                  <a:pt x="10" y="268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397320" y="135252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201840" y="1486080"/>
            <a:ext cx="76320" cy="7596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1447920"/>
            <a:ext cx="154080" cy="714240"/>
          </a:xfrm>
          <a:custGeom>
            <a:avLst/>
            <a:gdLst/>
            <a:ahLst/>
            <a:rect l="l" t="t" r="r" b="b"/>
            <a:pathLst>
              <a:path w="91" h="450">
                <a:moveTo>
                  <a:pt x="37" y="0"/>
                </a:moveTo>
                <a:cubicBezTo>
                  <a:pt x="26" y="252"/>
                  <a:pt x="37" y="42"/>
                  <a:pt x="25" y="192"/>
                </a:cubicBezTo>
                <a:cubicBezTo>
                  <a:pt x="23" y="220"/>
                  <a:pt x="22" y="248"/>
                  <a:pt x="19" y="276"/>
                </a:cubicBezTo>
                <a:cubicBezTo>
                  <a:pt x="17" y="297"/>
                  <a:pt x="1" y="336"/>
                  <a:pt x="1" y="336"/>
                </a:cubicBezTo>
                <a:cubicBezTo>
                  <a:pt x="3" y="360"/>
                  <a:pt x="0" y="385"/>
                  <a:pt x="7" y="408"/>
                </a:cubicBezTo>
                <a:cubicBezTo>
                  <a:pt x="19" y="450"/>
                  <a:pt x="41" y="390"/>
                  <a:pt x="43" y="384"/>
                </a:cubicBezTo>
                <a:cubicBezTo>
                  <a:pt x="55" y="302"/>
                  <a:pt x="35" y="367"/>
                  <a:pt x="67" y="330"/>
                </a:cubicBezTo>
                <a:cubicBezTo>
                  <a:pt x="76" y="319"/>
                  <a:pt x="91" y="294"/>
                  <a:pt x="91" y="294"/>
                </a:cubicBezTo>
                <a:cubicBezTo>
                  <a:pt x="87" y="226"/>
                  <a:pt x="86" y="158"/>
                  <a:pt x="79" y="90"/>
                </a:cubicBezTo>
                <a:cubicBezTo>
                  <a:pt x="75" y="51"/>
                  <a:pt x="68" y="62"/>
                  <a:pt x="55" y="36"/>
                </a:cubicBezTo>
                <a:cubicBezTo>
                  <a:pt x="49" y="24"/>
                  <a:pt x="37" y="0"/>
                  <a:pt x="37" y="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16659000">
            <a:off x="4002120" y="167616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20571600">
            <a:off x="3811680" y="163800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20568600">
            <a:off x="4039920" y="1790640"/>
            <a:ext cx="47520" cy="8748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280" y="1125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Zonas adyac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987640" y="4797360"/>
            <a:ext cx="144360" cy="1440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4360" y="1914840"/>
            <a:ext cx="7704000" cy="3448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9120" indent="-51912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ectores positiv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red box transcription factors Pax 3 y Pax 7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ínas de la familia Wnt (wingless, Wnt1, Wnt 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dgeh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buClr>
                <a:srgbClr val="000000"/>
              </a:buClr>
              <a:buFont typeface="Arial"/>
              <a:buAutoNum type="romanUcPeriod" startAt="2"/>
              <a:tabLst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fectores negativ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sx-1, BMPs/ TGF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, Notch/De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19120" indent="-519120">
              <a:lnSpc>
                <a:spcPct val="100000"/>
              </a:lnSpc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43280" y="1125360"/>
            <a:ext cx="302400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ñales difu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rcRect l="0" t="0" r="-6410" b="48725"/>
          <a:stretch/>
        </p:blipFill>
        <p:spPr>
          <a:xfrm>
            <a:off x="1981080" y="838080"/>
            <a:ext cx="4822920" cy="46800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79280" y="6611760"/>
            <a:ext cx="27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Parker et al Nat Rev Genet 4:495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4936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ecff"/>
                </a:solidFill>
                <a:latin typeface="Tahoma"/>
              </a:rPr>
              <a:t>Sonic hedgeh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044720" y="590544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ccff"/>
                </a:solidFill>
                <a:latin typeface="Tahoma"/>
              </a:rPr>
              <a:t>B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 rot="5400000">
            <a:off x="2240640" y="5718960"/>
            <a:ext cx="217440" cy="736560"/>
          </a:xfrm>
          <a:prstGeom prst="downArrow">
            <a:avLst>
              <a:gd name="adj1" fmla="val 50000"/>
              <a:gd name="adj2" fmla="val 8468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 rot="5400000">
            <a:off x="5231160" y="5576760"/>
            <a:ext cx="216000" cy="1104840"/>
          </a:xfrm>
          <a:prstGeom prst="downArrow">
            <a:avLst>
              <a:gd name="adj1" fmla="val 50000"/>
              <a:gd name="adj2" fmla="val 12787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050920" y="189000"/>
            <a:ext cx="453708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El papel de las señales difu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877080" y="404640"/>
            <a:ext cx="14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ahoma"/>
              </a:rPr>
              <a:t>Proteínas de la familia W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51640" y="1052640"/>
            <a:ext cx="217440" cy="503280"/>
          </a:xfrm>
          <a:prstGeom prst="downArrow">
            <a:avLst>
              <a:gd name="adj1" fmla="val 50000"/>
              <a:gd name="adj2" fmla="val 5786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24720" y="2637000"/>
            <a:ext cx="217440" cy="502920"/>
          </a:xfrm>
          <a:prstGeom prst="downArrow">
            <a:avLst>
              <a:gd name="adj1" fmla="val 50000"/>
              <a:gd name="adj2" fmla="val 5782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48360" y="314172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cc"/>
                </a:solidFill>
                <a:latin typeface="Tahoma"/>
              </a:rPr>
              <a:t>Cambio en la expresión de gen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64360" y="162864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ahoma"/>
              </a:rPr>
              <a:t>Vía de señalización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2560" y="1052640"/>
            <a:ext cx="217440" cy="503280"/>
          </a:xfrm>
          <a:prstGeom prst="downArrow">
            <a:avLst>
              <a:gd name="adj1" fmla="val 50000"/>
              <a:gd name="adj2" fmla="val 5786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2637000"/>
            <a:ext cx="217440" cy="502920"/>
          </a:xfrm>
          <a:prstGeom prst="downArrow">
            <a:avLst>
              <a:gd name="adj1" fmla="val 50000"/>
              <a:gd name="adj2" fmla="val 5782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79280" y="3141720"/>
            <a:ext cx="180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ecff"/>
                </a:solidFill>
                <a:latin typeface="Tahoma"/>
              </a:rPr>
              <a:t>Cambio en la expresión de gen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1628640"/>
            <a:ext cx="1258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ecff"/>
                </a:solidFill>
                <a:latin typeface="Tahoma"/>
              </a:rPr>
              <a:t>Vía de señalización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71640" y="5834160"/>
            <a:ext cx="21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cccff"/>
                </a:solidFill>
                <a:latin typeface="Tahoma"/>
              </a:rPr>
              <a:t>Vía de señalización específ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84720" y="554688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ccff"/>
                </a:solidFill>
                <a:latin typeface="Tahoma"/>
              </a:rPr>
              <a:t>Cambio en la expresión de gene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24000" y="5516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ff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972000" y="10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ccec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71640" y="1052640"/>
            <a:ext cx="358560" cy="360360"/>
          </a:xfrm>
          <a:prstGeom prst="ellipse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124000" y="5661000"/>
            <a:ext cx="358920" cy="360360"/>
          </a:xfrm>
          <a:prstGeom prst="ellipse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741080" y="105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40720" y="1052640"/>
            <a:ext cx="358560" cy="36036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50920" y="981000"/>
            <a:ext cx="216000" cy="3745080"/>
          </a:xfrm>
          <a:custGeom>
            <a:avLst/>
            <a:gdLst>
              <a:gd name="textAreaLeft" fmla="*/ 0 w 216000"/>
              <a:gd name="textAreaRight" fmla="*/ 78120 w 21600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6588000" y="836640"/>
            <a:ext cx="144720" cy="3744720"/>
          </a:xfrm>
          <a:custGeom>
            <a:avLst/>
            <a:gdLst>
              <a:gd name="textAreaLeft" fmla="*/ 360 w 144720"/>
              <a:gd name="textAreaRight" fmla="*/ 52560 w 144720"/>
              <a:gd name="textAreaTop" fmla="*/ 97560 h 3744720"/>
              <a:gd name="textAreaBottom" fmla="*/ 3647160 h 37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8"/>
                </a:lnTo>
                <a:cubicBezTo>
                  <a:pt x="10800" y="9978"/>
                  <a:pt x="16200" y="10878"/>
                  <a:pt x="21600" y="10878"/>
                </a:cubicBezTo>
                <a:cubicBezTo>
                  <a:pt x="16200" y="10878"/>
                  <a:pt x="10800" y="11778"/>
                  <a:pt x="10800" y="1267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5400000">
            <a:off x="4104000" y="3032640"/>
            <a:ext cx="503280" cy="4753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123840 h 4753080"/>
              <a:gd name="textAreaBottom" fmla="*/ 462924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584360" y="2925720"/>
            <a:ext cx="1584360" cy="39888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-cat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116000" y="2492280"/>
            <a:ext cx="11523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x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42920" y="3357720"/>
            <a:ext cx="1224000" cy="39888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50920" y="2924280"/>
            <a:ext cx="140328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SK-3</a:t>
            </a:r>
            <a:r>
              <a:rPr b="1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944720" y="45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fe9eb"/>
                </a:solidFill>
                <a:latin typeface="Tahoma"/>
              </a:rPr>
              <a:t>degra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84720" y="3789360"/>
            <a:ext cx="34920" cy="1008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995640" y="1197000"/>
            <a:ext cx="0" cy="216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348000" y="1401840"/>
            <a:ext cx="3997440" cy="2227680"/>
            <a:chOff x="3348000" y="1401840"/>
            <a:chExt cx="3997440" cy="2227680"/>
          </a:xfrm>
        </p:grpSpPr>
        <p:sp>
          <p:nvSpPr>
            <p:cNvPr id="475" name=""/>
            <p:cNvSpPr/>
            <p:nvPr/>
          </p:nvSpPr>
          <p:spPr>
            <a:xfrm rot="12040200">
              <a:off x="3696840" y="1660320"/>
              <a:ext cx="1727280" cy="144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53442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534427"/>
                </a:path>
              </a:pathLst>
            </a:custGeom>
            <a:noFill/>
            <a:ln w="57240">
              <a:solidFill>
                <a:srgbClr val="ffff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92360" y="184464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ahoma"/>
                </a:rPr>
                <a:t>Dishevell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545080" y="2925720"/>
              <a:ext cx="1800360" cy="70380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lang="es-ES" sz="2000" spc="-1" strike="noStrike">
                  <a:solidFill>
                    <a:srgbClr val="000000"/>
                  </a:solidFill>
                  <a:latin typeface="Tahoma"/>
                </a:rPr>
                <a:t>-catenina fun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95640" y="1484280"/>
              <a:ext cx="0" cy="216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348000" y="3068640"/>
              <a:ext cx="2016000" cy="360360"/>
            </a:xfrm>
            <a:prstGeom prst="rightArrow">
              <a:avLst>
                <a:gd name="adj1" fmla="val 50000"/>
                <a:gd name="adj2" fmla="val 139860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24360" y="2276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843280" y="3573360"/>
            <a:ext cx="216000" cy="935280"/>
          </a:xfrm>
          <a:prstGeom prst="downArrow">
            <a:avLst>
              <a:gd name="adj1" fmla="val 50000"/>
              <a:gd name="adj2" fmla="val 10825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rot="18258600">
            <a:off x="485280" y="506160"/>
            <a:ext cx="8200080" cy="907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6634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6634576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3995640" y="4149720"/>
            <a:ext cx="4427640" cy="2492280"/>
            <a:chOff x="3995640" y="4149720"/>
            <a:chExt cx="4427640" cy="2492280"/>
          </a:xfrm>
        </p:grpSpPr>
        <p:sp>
          <p:nvSpPr>
            <p:cNvPr id="484" name=""/>
            <p:cNvSpPr/>
            <p:nvPr/>
          </p:nvSpPr>
          <p:spPr>
            <a:xfrm>
              <a:off x="6156360" y="4149720"/>
              <a:ext cx="172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99ff"/>
                  </a:solidFill>
                  <a:latin typeface="Tahoma"/>
                </a:rPr>
                <a:t>coactiv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508720" y="4869000"/>
              <a:ext cx="1439640" cy="398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Tahoma"/>
                </a:rPr>
                <a:t>Tcf/LE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88000" y="5445000"/>
              <a:ext cx="363528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Activación transcrip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Tahoma"/>
                </a:rPr>
                <a:t>Ej.  MSX-1, Cyclin D1, MY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95640" y="4149720"/>
              <a:ext cx="4392720" cy="24922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H="1" rot="5422200">
            <a:off x="3673080" y="584280"/>
            <a:ext cx="57456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750075"/>
              </a:gs>
            </a:gsLst>
            <a:lin ang="13524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11640" y="76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izz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3635280" y="189000"/>
            <a:ext cx="720720" cy="574560"/>
            <a:chOff x="3635280" y="189000"/>
            <a:chExt cx="720720" cy="574560"/>
          </a:xfrm>
        </p:grpSpPr>
        <p:sp>
          <p:nvSpPr>
            <p:cNvPr id="491" name=""/>
            <p:cNvSpPr/>
            <p:nvPr/>
          </p:nvSpPr>
          <p:spPr>
            <a:xfrm>
              <a:off x="3708360" y="189000"/>
              <a:ext cx="503280" cy="57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35280" y="26028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ahoma"/>
                </a:rPr>
                <a:t>W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24000" y="346536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00320" y="3541680"/>
            <a:ext cx="761760" cy="380880"/>
          </a:xfrm>
          <a:custGeom>
            <a:avLst/>
            <a:gdLst/>
            <a:ahLst/>
            <a:rect l="l" t="t" r="r" b="b"/>
            <a:pathLst>
              <a:path w="459" h="210">
                <a:moveTo>
                  <a:pt x="16" y="192"/>
                </a:moveTo>
                <a:cubicBezTo>
                  <a:pt x="43" y="187"/>
                  <a:pt x="59" y="183"/>
                  <a:pt x="82" y="168"/>
                </a:cubicBezTo>
                <a:cubicBezTo>
                  <a:pt x="112" y="170"/>
                  <a:pt x="142" y="170"/>
                  <a:pt x="172" y="174"/>
                </a:cubicBezTo>
                <a:cubicBezTo>
                  <a:pt x="185" y="176"/>
                  <a:pt x="208" y="186"/>
                  <a:pt x="208" y="186"/>
                </a:cubicBezTo>
                <a:cubicBezTo>
                  <a:pt x="250" y="184"/>
                  <a:pt x="294" y="191"/>
                  <a:pt x="334" y="180"/>
                </a:cubicBezTo>
                <a:cubicBezTo>
                  <a:pt x="348" y="176"/>
                  <a:pt x="358" y="144"/>
                  <a:pt x="358" y="144"/>
                </a:cubicBezTo>
                <a:cubicBezTo>
                  <a:pt x="396" y="157"/>
                  <a:pt x="410" y="197"/>
                  <a:pt x="448" y="210"/>
                </a:cubicBezTo>
                <a:cubicBezTo>
                  <a:pt x="438" y="114"/>
                  <a:pt x="459" y="105"/>
                  <a:pt x="400" y="66"/>
                </a:cubicBezTo>
                <a:cubicBezTo>
                  <a:pt x="387" y="47"/>
                  <a:pt x="380" y="17"/>
                  <a:pt x="358" y="12"/>
                </a:cubicBezTo>
                <a:cubicBezTo>
                  <a:pt x="317" y="2"/>
                  <a:pt x="274" y="6"/>
                  <a:pt x="232" y="0"/>
                </a:cubicBezTo>
                <a:cubicBezTo>
                  <a:pt x="227" y="0"/>
                  <a:pt x="164" y="0"/>
                  <a:pt x="142" y="12"/>
                </a:cubicBezTo>
                <a:cubicBezTo>
                  <a:pt x="129" y="19"/>
                  <a:pt x="106" y="36"/>
                  <a:pt x="106" y="36"/>
                </a:cubicBezTo>
                <a:cubicBezTo>
                  <a:pt x="82" y="73"/>
                  <a:pt x="73" y="135"/>
                  <a:pt x="28" y="150"/>
                </a:cubicBezTo>
                <a:cubicBezTo>
                  <a:pt x="20" y="162"/>
                  <a:pt x="12" y="174"/>
                  <a:pt x="4" y="186"/>
                </a:cubicBezTo>
                <a:cubicBezTo>
                  <a:pt x="0" y="192"/>
                  <a:pt x="16" y="195"/>
                  <a:pt x="22" y="198"/>
                </a:cubicBezTo>
                <a:cubicBezTo>
                  <a:pt x="25" y="199"/>
                  <a:pt x="18" y="194"/>
                  <a:pt x="16" y="192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7502400">
            <a:off x="1986120" y="3997800"/>
            <a:ext cx="158760" cy="16020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69" y="5"/>
                </a:moveTo>
                <a:cubicBezTo>
                  <a:pt x="50" y="11"/>
                  <a:pt x="20" y="0"/>
                  <a:pt x="9" y="17"/>
                </a:cubicBezTo>
                <a:cubicBezTo>
                  <a:pt x="0" y="30"/>
                  <a:pt x="12" y="49"/>
                  <a:pt x="15" y="65"/>
                </a:cubicBezTo>
                <a:cubicBezTo>
                  <a:pt x="18" y="77"/>
                  <a:pt x="27" y="101"/>
                  <a:pt x="27" y="101"/>
                </a:cubicBezTo>
                <a:cubicBezTo>
                  <a:pt x="80" y="83"/>
                  <a:pt x="60" y="75"/>
                  <a:pt x="75" y="29"/>
                </a:cubicBezTo>
                <a:cubicBezTo>
                  <a:pt x="84" y="3"/>
                  <a:pt x="100" y="15"/>
                  <a:pt x="69" y="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70320" y="4064040"/>
            <a:ext cx="9144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70320" y="4368960"/>
            <a:ext cx="228600" cy="761760"/>
          </a:xfrm>
          <a:custGeom>
            <a:avLst/>
            <a:gdLst/>
            <a:ahLst/>
            <a:rect l="l" t="t" r="r" b="b"/>
            <a:pathLst>
              <a:path w="69" h="412">
                <a:moveTo>
                  <a:pt x="21" y="313"/>
                </a:moveTo>
                <a:cubicBezTo>
                  <a:pt x="0" y="251"/>
                  <a:pt x="7" y="277"/>
                  <a:pt x="21" y="145"/>
                </a:cubicBezTo>
                <a:cubicBezTo>
                  <a:pt x="22" y="138"/>
                  <a:pt x="30" y="134"/>
                  <a:pt x="33" y="127"/>
                </a:cubicBezTo>
                <a:cubicBezTo>
                  <a:pt x="38" y="115"/>
                  <a:pt x="45" y="91"/>
                  <a:pt x="45" y="91"/>
                </a:cubicBezTo>
                <a:cubicBezTo>
                  <a:pt x="47" y="69"/>
                  <a:pt x="46" y="47"/>
                  <a:pt x="51" y="25"/>
                </a:cubicBezTo>
                <a:cubicBezTo>
                  <a:pt x="53" y="18"/>
                  <a:pt x="62" y="0"/>
                  <a:pt x="63" y="7"/>
                </a:cubicBezTo>
                <a:cubicBezTo>
                  <a:pt x="65" y="41"/>
                  <a:pt x="61" y="75"/>
                  <a:pt x="57" y="109"/>
                </a:cubicBezTo>
                <a:cubicBezTo>
                  <a:pt x="55" y="128"/>
                  <a:pt x="39" y="163"/>
                  <a:pt x="39" y="163"/>
                </a:cubicBezTo>
                <a:cubicBezTo>
                  <a:pt x="48" y="412"/>
                  <a:pt x="5" y="279"/>
                  <a:pt x="69" y="343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9800" y="4408560"/>
            <a:ext cx="228600" cy="657000"/>
          </a:xfrm>
          <a:custGeom>
            <a:avLst/>
            <a:gdLst/>
            <a:ahLst/>
            <a:rect l="l" t="t" r="r" b="b"/>
            <a:pathLst>
              <a:path w="144" h="414">
                <a:moveTo>
                  <a:pt x="144" y="275"/>
                </a:moveTo>
                <a:cubicBezTo>
                  <a:pt x="110" y="292"/>
                  <a:pt x="106" y="294"/>
                  <a:pt x="66" y="287"/>
                </a:cubicBezTo>
                <a:cubicBezTo>
                  <a:pt x="38" y="204"/>
                  <a:pt x="103" y="99"/>
                  <a:pt x="24" y="47"/>
                </a:cubicBezTo>
                <a:cubicBezTo>
                  <a:pt x="10" y="4"/>
                  <a:pt x="19" y="0"/>
                  <a:pt x="0" y="29"/>
                </a:cubicBezTo>
                <a:cubicBezTo>
                  <a:pt x="9" y="100"/>
                  <a:pt x="30" y="168"/>
                  <a:pt x="42" y="239"/>
                </a:cubicBezTo>
                <a:cubicBezTo>
                  <a:pt x="40" y="263"/>
                  <a:pt x="22" y="334"/>
                  <a:pt x="54" y="359"/>
                </a:cubicBezTo>
                <a:cubicBezTo>
                  <a:pt x="123" y="414"/>
                  <a:pt x="46" y="339"/>
                  <a:pt x="78" y="371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87600" y="4146480"/>
            <a:ext cx="830520" cy="635040"/>
          </a:xfrm>
          <a:custGeom>
            <a:avLst/>
            <a:gdLst/>
            <a:ahLst/>
            <a:rect l="l" t="t" r="r" b="b"/>
            <a:pathLst>
              <a:path w="523" h="400">
                <a:moveTo>
                  <a:pt x="433" y="188"/>
                </a:moveTo>
                <a:cubicBezTo>
                  <a:pt x="453" y="195"/>
                  <a:pt x="454" y="191"/>
                  <a:pt x="463" y="212"/>
                </a:cubicBezTo>
                <a:cubicBezTo>
                  <a:pt x="468" y="224"/>
                  <a:pt x="475" y="248"/>
                  <a:pt x="475" y="248"/>
                </a:cubicBezTo>
                <a:cubicBezTo>
                  <a:pt x="477" y="296"/>
                  <a:pt x="471" y="345"/>
                  <a:pt x="481" y="392"/>
                </a:cubicBezTo>
                <a:cubicBezTo>
                  <a:pt x="483" y="400"/>
                  <a:pt x="500" y="392"/>
                  <a:pt x="505" y="386"/>
                </a:cubicBezTo>
                <a:cubicBezTo>
                  <a:pt x="517" y="372"/>
                  <a:pt x="523" y="332"/>
                  <a:pt x="523" y="332"/>
                </a:cubicBezTo>
                <a:cubicBezTo>
                  <a:pt x="519" y="242"/>
                  <a:pt x="518" y="208"/>
                  <a:pt x="505" y="134"/>
                </a:cubicBezTo>
                <a:cubicBezTo>
                  <a:pt x="504" y="126"/>
                  <a:pt x="504" y="117"/>
                  <a:pt x="499" y="110"/>
                </a:cubicBezTo>
                <a:cubicBezTo>
                  <a:pt x="488" y="94"/>
                  <a:pt x="455" y="90"/>
                  <a:pt x="439" y="86"/>
                </a:cubicBezTo>
                <a:cubicBezTo>
                  <a:pt x="433" y="82"/>
                  <a:pt x="426" y="80"/>
                  <a:pt x="421" y="74"/>
                </a:cubicBezTo>
                <a:cubicBezTo>
                  <a:pt x="417" y="69"/>
                  <a:pt x="419" y="60"/>
                  <a:pt x="415" y="56"/>
                </a:cubicBezTo>
                <a:cubicBezTo>
                  <a:pt x="394" y="35"/>
                  <a:pt x="355" y="12"/>
                  <a:pt x="325" y="2"/>
                </a:cubicBezTo>
                <a:cubicBezTo>
                  <a:pt x="249" y="6"/>
                  <a:pt x="169" y="0"/>
                  <a:pt x="103" y="44"/>
                </a:cubicBezTo>
                <a:cubicBezTo>
                  <a:pt x="100" y="54"/>
                  <a:pt x="81" y="108"/>
                  <a:pt x="73" y="116"/>
                </a:cubicBezTo>
                <a:cubicBezTo>
                  <a:pt x="63" y="126"/>
                  <a:pt x="49" y="132"/>
                  <a:pt x="37" y="140"/>
                </a:cubicBezTo>
                <a:cubicBezTo>
                  <a:pt x="31" y="144"/>
                  <a:pt x="19" y="152"/>
                  <a:pt x="19" y="152"/>
                </a:cubicBezTo>
                <a:cubicBezTo>
                  <a:pt x="0" y="209"/>
                  <a:pt x="6" y="175"/>
                  <a:pt x="13" y="254"/>
                </a:cubicBezTo>
                <a:cubicBezTo>
                  <a:pt x="30" y="229"/>
                  <a:pt x="50" y="208"/>
                  <a:pt x="67" y="182"/>
                </a:cubicBezTo>
                <a:cubicBezTo>
                  <a:pt x="71" y="177"/>
                  <a:pt x="70" y="170"/>
                  <a:pt x="73" y="164"/>
                </a:cubicBezTo>
                <a:cubicBezTo>
                  <a:pt x="92" y="129"/>
                  <a:pt x="113" y="111"/>
                  <a:pt x="151" y="98"/>
                </a:cubicBezTo>
                <a:cubicBezTo>
                  <a:pt x="161" y="100"/>
                  <a:pt x="174" y="97"/>
                  <a:pt x="181" y="104"/>
                </a:cubicBezTo>
                <a:cubicBezTo>
                  <a:pt x="190" y="113"/>
                  <a:pt x="186" y="129"/>
                  <a:pt x="193" y="140"/>
                </a:cubicBezTo>
                <a:cubicBezTo>
                  <a:pt x="221" y="182"/>
                  <a:pt x="205" y="168"/>
                  <a:pt x="235" y="188"/>
                </a:cubicBezTo>
                <a:cubicBezTo>
                  <a:pt x="253" y="186"/>
                  <a:pt x="273" y="191"/>
                  <a:pt x="289" y="182"/>
                </a:cubicBezTo>
                <a:cubicBezTo>
                  <a:pt x="308" y="172"/>
                  <a:pt x="313" y="146"/>
                  <a:pt x="331" y="134"/>
                </a:cubicBezTo>
                <a:cubicBezTo>
                  <a:pt x="354" y="136"/>
                  <a:pt x="395" y="129"/>
                  <a:pt x="415" y="152"/>
                </a:cubicBezTo>
                <a:cubicBezTo>
                  <a:pt x="448" y="190"/>
                  <a:pt x="452" y="188"/>
                  <a:pt x="433" y="18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51400" y="4216320"/>
            <a:ext cx="1414440" cy="1150920"/>
          </a:xfrm>
          <a:custGeom>
            <a:avLst/>
            <a:gdLst/>
            <a:ahLst/>
            <a:rect l="l" t="t" r="r" b="b"/>
            <a:pathLst>
              <a:path w="902" h="742">
                <a:moveTo>
                  <a:pt x="323" y="17"/>
                </a:moveTo>
                <a:cubicBezTo>
                  <a:pt x="409" y="0"/>
                  <a:pt x="495" y="5"/>
                  <a:pt x="581" y="11"/>
                </a:cubicBezTo>
                <a:cubicBezTo>
                  <a:pt x="613" y="22"/>
                  <a:pt x="631" y="27"/>
                  <a:pt x="653" y="53"/>
                </a:cubicBezTo>
                <a:cubicBezTo>
                  <a:pt x="676" y="81"/>
                  <a:pt x="680" y="115"/>
                  <a:pt x="713" y="137"/>
                </a:cubicBezTo>
                <a:cubicBezTo>
                  <a:pt x="724" y="153"/>
                  <a:pt x="757" y="200"/>
                  <a:pt x="773" y="209"/>
                </a:cubicBezTo>
                <a:cubicBezTo>
                  <a:pt x="784" y="215"/>
                  <a:pt x="797" y="217"/>
                  <a:pt x="809" y="221"/>
                </a:cubicBezTo>
                <a:cubicBezTo>
                  <a:pt x="815" y="223"/>
                  <a:pt x="827" y="227"/>
                  <a:pt x="827" y="227"/>
                </a:cubicBezTo>
                <a:cubicBezTo>
                  <a:pt x="840" y="246"/>
                  <a:pt x="860" y="254"/>
                  <a:pt x="869" y="275"/>
                </a:cubicBezTo>
                <a:cubicBezTo>
                  <a:pt x="874" y="287"/>
                  <a:pt x="881" y="311"/>
                  <a:pt x="881" y="311"/>
                </a:cubicBezTo>
                <a:cubicBezTo>
                  <a:pt x="878" y="396"/>
                  <a:pt x="902" y="463"/>
                  <a:pt x="833" y="509"/>
                </a:cubicBezTo>
                <a:cubicBezTo>
                  <a:pt x="825" y="533"/>
                  <a:pt x="818" y="543"/>
                  <a:pt x="797" y="557"/>
                </a:cubicBezTo>
                <a:cubicBezTo>
                  <a:pt x="762" y="610"/>
                  <a:pt x="731" y="626"/>
                  <a:pt x="677" y="653"/>
                </a:cubicBezTo>
                <a:cubicBezTo>
                  <a:pt x="673" y="659"/>
                  <a:pt x="670" y="666"/>
                  <a:pt x="665" y="671"/>
                </a:cubicBezTo>
                <a:cubicBezTo>
                  <a:pt x="660" y="676"/>
                  <a:pt x="652" y="677"/>
                  <a:pt x="647" y="683"/>
                </a:cubicBezTo>
                <a:cubicBezTo>
                  <a:pt x="643" y="688"/>
                  <a:pt x="645" y="696"/>
                  <a:pt x="641" y="701"/>
                </a:cubicBezTo>
                <a:cubicBezTo>
                  <a:pt x="619" y="728"/>
                  <a:pt x="539" y="724"/>
                  <a:pt x="521" y="725"/>
                </a:cubicBezTo>
                <a:cubicBezTo>
                  <a:pt x="469" y="742"/>
                  <a:pt x="318" y="720"/>
                  <a:pt x="293" y="719"/>
                </a:cubicBezTo>
                <a:cubicBezTo>
                  <a:pt x="293" y="719"/>
                  <a:pt x="254" y="710"/>
                  <a:pt x="251" y="707"/>
                </a:cubicBezTo>
                <a:cubicBezTo>
                  <a:pt x="241" y="697"/>
                  <a:pt x="239" y="679"/>
                  <a:pt x="227" y="671"/>
                </a:cubicBezTo>
                <a:cubicBezTo>
                  <a:pt x="194" y="649"/>
                  <a:pt x="164" y="637"/>
                  <a:pt x="131" y="617"/>
                </a:cubicBezTo>
                <a:cubicBezTo>
                  <a:pt x="79" y="586"/>
                  <a:pt x="113" y="599"/>
                  <a:pt x="77" y="587"/>
                </a:cubicBezTo>
                <a:cubicBezTo>
                  <a:pt x="0" y="510"/>
                  <a:pt x="40" y="385"/>
                  <a:pt x="65" y="287"/>
                </a:cubicBezTo>
                <a:cubicBezTo>
                  <a:pt x="64" y="277"/>
                  <a:pt x="61" y="241"/>
                  <a:pt x="53" y="227"/>
                </a:cubicBezTo>
                <a:cubicBezTo>
                  <a:pt x="19" y="165"/>
                  <a:pt x="37" y="214"/>
                  <a:pt x="23" y="173"/>
                </a:cubicBezTo>
                <a:cubicBezTo>
                  <a:pt x="25" y="143"/>
                  <a:pt x="22" y="112"/>
                  <a:pt x="29" y="83"/>
                </a:cubicBezTo>
                <a:cubicBezTo>
                  <a:pt x="34" y="61"/>
                  <a:pt x="64" y="54"/>
                  <a:pt x="83" y="41"/>
                </a:cubicBezTo>
                <a:cubicBezTo>
                  <a:pt x="137" y="5"/>
                  <a:pt x="317" y="17"/>
                  <a:pt x="323" y="17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4292640"/>
            <a:ext cx="914400" cy="9907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4702320"/>
            <a:ext cx="428400" cy="628560"/>
          </a:xfrm>
          <a:custGeom>
            <a:avLst/>
            <a:gdLst/>
            <a:ahLst/>
            <a:rect l="l" t="t" r="r" b="b"/>
            <a:pathLst>
              <a:path w="270" h="396">
                <a:moveTo>
                  <a:pt x="0" y="0"/>
                </a:moveTo>
                <a:cubicBezTo>
                  <a:pt x="6" y="24"/>
                  <a:pt x="10" y="48"/>
                  <a:pt x="18" y="72"/>
                </a:cubicBezTo>
                <a:cubicBezTo>
                  <a:pt x="24" y="148"/>
                  <a:pt x="33" y="230"/>
                  <a:pt x="102" y="276"/>
                </a:cubicBezTo>
                <a:cubicBezTo>
                  <a:pt x="111" y="304"/>
                  <a:pt x="127" y="347"/>
                  <a:pt x="156" y="360"/>
                </a:cubicBezTo>
                <a:cubicBezTo>
                  <a:pt x="230" y="393"/>
                  <a:pt x="160" y="357"/>
                  <a:pt x="216" y="378"/>
                </a:cubicBezTo>
                <a:cubicBezTo>
                  <a:pt x="236" y="386"/>
                  <a:pt x="248" y="396"/>
                  <a:pt x="270" y="3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73640" y="4702320"/>
            <a:ext cx="563760" cy="777600"/>
          </a:xfrm>
          <a:custGeom>
            <a:avLst/>
            <a:gdLst/>
            <a:ahLst/>
            <a:rect l="l" t="t" r="r" b="b"/>
            <a:pathLst>
              <a:path w="355" h="490">
                <a:moveTo>
                  <a:pt x="103" y="0"/>
                </a:moveTo>
                <a:cubicBezTo>
                  <a:pt x="131" y="42"/>
                  <a:pt x="145" y="101"/>
                  <a:pt x="157" y="150"/>
                </a:cubicBezTo>
                <a:cubicBezTo>
                  <a:pt x="162" y="198"/>
                  <a:pt x="170" y="264"/>
                  <a:pt x="223" y="282"/>
                </a:cubicBezTo>
                <a:cubicBezTo>
                  <a:pt x="231" y="307"/>
                  <a:pt x="248" y="310"/>
                  <a:pt x="265" y="330"/>
                </a:cubicBezTo>
                <a:cubicBezTo>
                  <a:pt x="270" y="336"/>
                  <a:pt x="272" y="343"/>
                  <a:pt x="277" y="348"/>
                </a:cubicBezTo>
                <a:cubicBezTo>
                  <a:pt x="288" y="357"/>
                  <a:pt x="313" y="372"/>
                  <a:pt x="313" y="372"/>
                </a:cubicBezTo>
                <a:cubicBezTo>
                  <a:pt x="327" y="394"/>
                  <a:pt x="341" y="392"/>
                  <a:pt x="355" y="414"/>
                </a:cubicBezTo>
                <a:cubicBezTo>
                  <a:pt x="330" y="490"/>
                  <a:pt x="354" y="436"/>
                  <a:pt x="163" y="426"/>
                </a:cubicBezTo>
                <a:cubicBezTo>
                  <a:pt x="115" y="423"/>
                  <a:pt x="19" y="414"/>
                  <a:pt x="19" y="414"/>
                </a:cubicBezTo>
                <a:cubicBezTo>
                  <a:pt x="0" y="375"/>
                  <a:pt x="10" y="341"/>
                  <a:pt x="19" y="300"/>
                </a:cubicBezTo>
                <a:cubicBezTo>
                  <a:pt x="35" y="232"/>
                  <a:pt x="41" y="164"/>
                  <a:pt x="55" y="96"/>
                </a:cubicBezTo>
                <a:cubicBezTo>
                  <a:pt x="60" y="73"/>
                  <a:pt x="65" y="59"/>
                  <a:pt x="73" y="36"/>
                </a:cubicBezTo>
                <a:cubicBezTo>
                  <a:pt x="77" y="23"/>
                  <a:pt x="123" y="20"/>
                  <a:pt x="103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378800">
            <a:off x="5504040" y="429228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4368960"/>
            <a:ext cx="47520" cy="8712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78400" y="4387680"/>
            <a:ext cx="1371600" cy="971640"/>
          </a:xfrm>
          <a:custGeom>
            <a:avLst/>
            <a:gdLst/>
            <a:ahLst/>
            <a:rect l="l" t="t" r="r" b="b"/>
            <a:pathLst>
              <a:path w="864" h="612">
                <a:moveTo>
                  <a:pt x="1" y="0"/>
                </a:moveTo>
                <a:cubicBezTo>
                  <a:pt x="3" y="28"/>
                  <a:pt x="0" y="57"/>
                  <a:pt x="7" y="84"/>
                </a:cubicBezTo>
                <a:cubicBezTo>
                  <a:pt x="9" y="91"/>
                  <a:pt x="20" y="90"/>
                  <a:pt x="25" y="96"/>
                </a:cubicBezTo>
                <a:cubicBezTo>
                  <a:pt x="35" y="108"/>
                  <a:pt x="44" y="135"/>
                  <a:pt x="49" y="150"/>
                </a:cubicBezTo>
                <a:cubicBezTo>
                  <a:pt x="58" y="235"/>
                  <a:pt x="70" y="327"/>
                  <a:pt x="97" y="408"/>
                </a:cubicBezTo>
                <a:cubicBezTo>
                  <a:pt x="110" y="448"/>
                  <a:pt x="126" y="490"/>
                  <a:pt x="169" y="504"/>
                </a:cubicBezTo>
                <a:cubicBezTo>
                  <a:pt x="186" y="529"/>
                  <a:pt x="207" y="543"/>
                  <a:pt x="235" y="552"/>
                </a:cubicBezTo>
                <a:cubicBezTo>
                  <a:pt x="269" y="603"/>
                  <a:pt x="384" y="602"/>
                  <a:pt x="433" y="606"/>
                </a:cubicBezTo>
                <a:cubicBezTo>
                  <a:pt x="449" y="607"/>
                  <a:pt x="465" y="610"/>
                  <a:pt x="481" y="612"/>
                </a:cubicBezTo>
                <a:cubicBezTo>
                  <a:pt x="519" y="610"/>
                  <a:pt x="557" y="609"/>
                  <a:pt x="595" y="606"/>
                </a:cubicBezTo>
                <a:cubicBezTo>
                  <a:pt x="623" y="603"/>
                  <a:pt x="658" y="515"/>
                  <a:pt x="673" y="492"/>
                </a:cubicBezTo>
                <a:cubicBezTo>
                  <a:pt x="684" y="476"/>
                  <a:pt x="727" y="484"/>
                  <a:pt x="745" y="474"/>
                </a:cubicBezTo>
                <a:cubicBezTo>
                  <a:pt x="758" y="467"/>
                  <a:pt x="781" y="450"/>
                  <a:pt x="781" y="450"/>
                </a:cubicBezTo>
                <a:cubicBezTo>
                  <a:pt x="788" y="430"/>
                  <a:pt x="811" y="396"/>
                  <a:pt x="811" y="396"/>
                </a:cubicBezTo>
                <a:cubicBezTo>
                  <a:pt x="819" y="365"/>
                  <a:pt x="825" y="336"/>
                  <a:pt x="835" y="306"/>
                </a:cubicBezTo>
                <a:cubicBezTo>
                  <a:pt x="839" y="294"/>
                  <a:pt x="847" y="270"/>
                  <a:pt x="847" y="270"/>
                </a:cubicBezTo>
                <a:cubicBezTo>
                  <a:pt x="845" y="230"/>
                  <a:pt x="864" y="160"/>
                  <a:pt x="817" y="144"/>
                </a:cubicBezTo>
                <a:cubicBezTo>
                  <a:pt x="815" y="138"/>
                  <a:pt x="815" y="130"/>
                  <a:pt x="811" y="126"/>
                </a:cubicBezTo>
                <a:cubicBezTo>
                  <a:pt x="791" y="106"/>
                  <a:pt x="793" y="131"/>
                  <a:pt x="793" y="114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89560" y="4197240"/>
            <a:ext cx="1276200" cy="409680"/>
          </a:xfrm>
          <a:custGeom>
            <a:avLst/>
            <a:gdLst/>
            <a:ahLst/>
            <a:rect l="l" t="t" r="r" b="b"/>
            <a:pathLst>
              <a:path w="804" h="258">
                <a:moveTo>
                  <a:pt x="0" y="138"/>
                </a:moveTo>
                <a:cubicBezTo>
                  <a:pt x="6" y="120"/>
                  <a:pt x="18" y="38"/>
                  <a:pt x="48" y="36"/>
                </a:cubicBezTo>
                <a:cubicBezTo>
                  <a:pt x="120" y="30"/>
                  <a:pt x="192" y="32"/>
                  <a:pt x="264" y="30"/>
                </a:cubicBezTo>
                <a:cubicBezTo>
                  <a:pt x="355" y="0"/>
                  <a:pt x="470" y="26"/>
                  <a:pt x="564" y="30"/>
                </a:cubicBezTo>
                <a:cubicBezTo>
                  <a:pt x="607" y="44"/>
                  <a:pt x="589" y="35"/>
                  <a:pt x="618" y="54"/>
                </a:cubicBezTo>
                <a:cubicBezTo>
                  <a:pt x="642" y="90"/>
                  <a:pt x="660" y="126"/>
                  <a:pt x="684" y="162"/>
                </a:cubicBezTo>
                <a:cubicBezTo>
                  <a:pt x="696" y="180"/>
                  <a:pt x="732" y="204"/>
                  <a:pt x="732" y="204"/>
                </a:cubicBezTo>
                <a:cubicBezTo>
                  <a:pt x="750" y="230"/>
                  <a:pt x="781" y="235"/>
                  <a:pt x="804" y="258"/>
                </a:cubicBezTo>
              </a:path>
            </a:pathLst>
          </a:custGeom>
          <a:noFill/>
          <a:ln w="5724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4160" y="4314960"/>
            <a:ext cx="325440" cy="425160"/>
          </a:xfrm>
          <a:custGeom>
            <a:avLst/>
            <a:gdLst/>
            <a:ahLst/>
            <a:rect l="l" t="t" r="r" b="b"/>
            <a:pathLst>
              <a:path w="205" h="268">
                <a:moveTo>
                  <a:pt x="10" y="268"/>
                </a:moveTo>
                <a:cubicBezTo>
                  <a:pt x="14" y="262"/>
                  <a:pt x="19" y="257"/>
                  <a:pt x="22" y="250"/>
                </a:cubicBezTo>
                <a:cubicBezTo>
                  <a:pt x="27" y="238"/>
                  <a:pt x="23" y="221"/>
                  <a:pt x="34" y="214"/>
                </a:cubicBezTo>
                <a:cubicBezTo>
                  <a:pt x="52" y="202"/>
                  <a:pt x="70" y="196"/>
                  <a:pt x="88" y="184"/>
                </a:cubicBezTo>
                <a:cubicBezTo>
                  <a:pt x="115" y="193"/>
                  <a:pt x="138" y="196"/>
                  <a:pt x="148" y="166"/>
                </a:cubicBezTo>
                <a:cubicBezTo>
                  <a:pt x="151" y="142"/>
                  <a:pt x="153" y="105"/>
                  <a:pt x="166" y="82"/>
                </a:cubicBezTo>
                <a:cubicBezTo>
                  <a:pt x="205" y="12"/>
                  <a:pt x="179" y="80"/>
                  <a:pt x="202" y="10"/>
                </a:cubicBezTo>
                <a:cubicBezTo>
                  <a:pt x="205" y="0"/>
                  <a:pt x="182" y="14"/>
                  <a:pt x="172" y="16"/>
                </a:cubicBezTo>
                <a:cubicBezTo>
                  <a:pt x="152" y="21"/>
                  <a:pt x="112" y="34"/>
                  <a:pt x="112" y="34"/>
                </a:cubicBezTo>
                <a:cubicBezTo>
                  <a:pt x="98" y="56"/>
                  <a:pt x="78" y="86"/>
                  <a:pt x="58" y="100"/>
                </a:cubicBezTo>
                <a:cubicBezTo>
                  <a:pt x="44" y="143"/>
                  <a:pt x="19" y="182"/>
                  <a:pt x="4" y="226"/>
                </a:cubicBezTo>
                <a:cubicBezTo>
                  <a:pt x="0" y="239"/>
                  <a:pt x="8" y="254"/>
                  <a:pt x="10" y="268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51440" y="438768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56320" y="4521240"/>
            <a:ext cx="76320" cy="76320"/>
          </a:xfrm>
          <a:prstGeom prst="donut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40320" y="4483080"/>
            <a:ext cx="154080" cy="714240"/>
          </a:xfrm>
          <a:custGeom>
            <a:avLst/>
            <a:gdLst/>
            <a:ahLst/>
            <a:rect l="l" t="t" r="r" b="b"/>
            <a:pathLst>
              <a:path w="91" h="450">
                <a:moveTo>
                  <a:pt x="37" y="0"/>
                </a:moveTo>
                <a:cubicBezTo>
                  <a:pt x="26" y="252"/>
                  <a:pt x="37" y="42"/>
                  <a:pt x="25" y="192"/>
                </a:cubicBezTo>
                <a:cubicBezTo>
                  <a:pt x="23" y="220"/>
                  <a:pt x="22" y="248"/>
                  <a:pt x="19" y="276"/>
                </a:cubicBezTo>
                <a:cubicBezTo>
                  <a:pt x="17" y="297"/>
                  <a:pt x="1" y="336"/>
                  <a:pt x="1" y="336"/>
                </a:cubicBezTo>
                <a:cubicBezTo>
                  <a:pt x="3" y="360"/>
                  <a:pt x="0" y="385"/>
                  <a:pt x="7" y="408"/>
                </a:cubicBezTo>
                <a:cubicBezTo>
                  <a:pt x="19" y="450"/>
                  <a:pt x="41" y="390"/>
                  <a:pt x="43" y="384"/>
                </a:cubicBezTo>
                <a:cubicBezTo>
                  <a:pt x="55" y="302"/>
                  <a:pt x="35" y="367"/>
                  <a:pt x="67" y="330"/>
                </a:cubicBezTo>
                <a:cubicBezTo>
                  <a:pt x="76" y="319"/>
                  <a:pt x="91" y="294"/>
                  <a:pt x="91" y="294"/>
                </a:cubicBezTo>
                <a:cubicBezTo>
                  <a:pt x="87" y="226"/>
                  <a:pt x="86" y="158"/>
                  <a:pt x="79" y="90"/>
                </a:cubicBezTo>
                <a:cubicBezTo>
                  <a:pt x="75" y="51"/>
                  <a:pt x="68" y="62"/>
                  <a:pt x="55" y="36"/>
                </a:cubicBezTo>
                <a:cubicBezTo>
                  <a:pt x="49" y="24"/>
                  <a:pt x="37" y="0"/>
                  <a:pt x="37" y="0"/>
                </a:cubicBezTo>
                <a:close/>
              </a:path>
            </a:pathLst>
          </a:cu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659000">
            <a:off x="6456600" y="4711320"/>
            <a:ext cx="15228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571600">
            <a:off x="6265800" y="4673160"/>
            <a:ext cx="100080" cy="135000"/>
          </a:xfrm>
          <a:custGeom>
            <a:avLst/>
            <a:gdLst/>
            <a:ahLst/>
            <a:rect l="l" t="t" r="r" b="b"/>
            <a:pathLst>
              <a:path w="63" h="85">
                <a:moveTo>
                  <a:pt x="39" y="0"/>
                </a:moveTo>
                <a:cubicBezTo>
                  <a:pt x="14" y="8"/>
                  <a:pt x="17" y="21"/>
                  <a:pt x="3" y="42"/>
                </a:cubicBezTo>
                <a:cubicBezTo>
                  <a:pt x="5" y="54"/>
                  <a:pt x="0" y="70"/>
                  <a:pt x="9" y="78"/>
                </a:cubicBezTo>
                <a:cubicBezTo>
                  <a:pt x="17" y="85"/>
                  <a:pt x="32" y="79"/>
                  <a:pt x="39" y="72"/>
                </a:cubicBezTo>
                <a:cubicBezTo>
                  <a:pt x="53" y="58"/>
                  <a:pt x="52" y="34"/>
                  <a:pt x="63" y="18"/>
                </a:cubicBezTo>
                <a:cubicBezTo>
                  <a:pt x="43" y="4"/>
                  <a:pt x="50" y="11"/>
                  <a:pt x="39" y="0"/>
                </a:cubicBez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20568600">
            <a:off x="6494040" y="4826160"/>
            <a:ext cx="47520" cy="87120"/>
          </a:xfrm>
          <a:custGeom>
            <a:avLst/>
            <a:gdLst/>
            <a:ahLst/>
            <a:rect l="l" t="t" r="r" b="b"/>
            <a:pathLst>
              <a:path w="30" h="55">
                <a:moveTo>
                  <a:pt x="0" y="5"/>
                </a:moveTo>
                <a:cubicBezTo>
                  <a:pt x="28" y="46"/>
                  <a:pt x="19" y="55"/>
                  <a:pt x="30" y="23"/>
                </a:cubicBezTo>
                <a:cubicBezTo>
                  <a:pt x="15" y="0"/>
                  <a:pt x="25" y="5"/>
                  <a:pt x="0" y="5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476280"/>
            <a:ext cx="792000" cy="863640"/>
          </a:xfrm>
          <a:prstGeom prst="ellips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081080"/>
            <a:ext cx="792000" cy="863640"/>
          </a:xfrm>
          <a:prstGeom prst="ellipse">
            <a:avLst/>
          </a:prstGeom>
          <a:gradFill rotWithShape="0">
            <a:gsLst>
              <a:gs pos="0">
                <a:srgbClr val="757546"/>
              </a:gs>
              <a:gs pos="100000">
                <a:srgbClr val="ffff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480960" cy="195480"/>
          </a:xfrm>
          <a:custGeom>
            <a:avLst/>
            <a:gdLst/>
            <a:ahLst/>
            <a:rect l="l" t="t" r="r" b="b"/>
            <a:pathLst>
              <a:path w="303" h="123">
                <a:moveTo>
                  <a:pt x="160" y="80"/>
                </a:moveTo>
                <a:cubicBezTo>
                  <a:pt x="215" y="117"/>
                  <a:pt x="190" y="106"/>
                  <a:pt x="232" y="120"/>
                </a:cubicBezTo>
                <a:cubicBezTo>
                  <a:pt x="253" y="117"/>
                  <a:pt x="277" y="123"/>
                  <a:pt x="296" y="112"/>
                </a:cubicBezTo>
                <a:cubicBezTo>
                  <a:pt x="303" y="108"/>
                  <a:pt x="295" y="93"/>
                  <a:pt x="288" y="88"/>
                </a:cubicBezTo>
                <a:cubicBezTo>
                  <a:pt x="274" y="78"/>
                  <a:pt x="256" y="77"/>
                  <a:pt x="240" y="72"/>
                </a:cubicBezTo>
                <a:cubicBezTo>
                  <a:pt x="202" y="59"/>
                  <a:pt x="160" y="67"/>
                  <a:pt x="120" y="64"/>
                </a:cubicBezTo>
                <a:cubicBezTo>
                  <a:pt x="115" y="56"/>
                  <a:pt x="113" y="44"/>
                  <a:pt x="104" y="40"/>
                </a:cubicBezTo>
                <a:cubicBezTo>
                  <a:pt x="84" y="30"/>
                  <a:pt x="40" y="24"/>
                  <a:pt x="40" y="24"/>
                </a:cubicBezTo>
                <a:cubicBezTo>
                  <a:pt x="11" y="5"/>
                  <a:pt x="25" y="12"/>
                  <a:pt x="0" y="0"/>
                </a:cubicBezTo>
              </a:path>
            </a:pathLst>
          </a:custGeom>
          <a:solidFill>
            <a:srgbClr val="cce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0480" y="2322360"/>
            <a:ext cx="792360" cy="8636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54120" y="2313000"/>
            <a:ext cx="772920" cy="479520"/>
          </a:xfrm>
          <a:custGeom>
            <a:avLst/>
            <a:gdLst/>
            <a:ahLst/>
            <a:rect l="l" t="t" r="r" b="b"/>
            <a:pathLst>
              <a:path w="487" h="302">
                <a:moveTo>
                  <a:pt x="19" y="292"/>
                </a:moveTo>
                <a:cubicBezTo>
                  <a:pt x="39" y="290"/>
                  <a:pt x="59" y="291"/>
                  <a:pt x="79" y="286"/>
                </a:cubicBezTo>
                <a:cubicBezTo>
                  <a:pt x="86" y="284"/>
                  <a:pt x="92" y="279"/>
                  <a:pt x="97" y="274"/>
                </a:cubicBezTo>
                <a:cubicBezTo>
                  <a:pt x="102" y="269"/>
                  <a:pt x="102" y="258"/>
                  <a:pt x="109" y="256"/>
                </a:cubicBezTo>
                <a:cubicBezTo>
                  <a:pt x="132" y="249"/>
                  <a:pt x="157" y="252"/>
                  <a:pt x="181" y="250"/>
                </a:cubicBezTo>
                <a:cubicBezTo>
                  <a:pt x="187" y="248"/>
                  <a:pt x="194" y="248"/>
                  <a:pt x="199" y="244"/>
                </a:cubicBezTo>
                <a:cubicBezTo>
                  <a:pt x="205" y="239"/>
                  <a:pt x="204" y="227"/>
                  <a:pt x="211" y="226"/>
                </a:cubicBezTo>
                <a:cubicBezTo>
                  <a:pt x="244" y="219"/>
                  <a:pt x="279" y="222"/>
                  <a:pt x="313" y="220"/>
                </a:cubicBezTo>
                <a:cubicBezTo>
                  <a:pt x="352" y="194"/>
                  <a:pt x="376" y="181"/>
                  <a:pt x="421" y="166"/>
                </a:cubicBezTo>
                <a:cubicBezTo>
                  <a:pt x="433" y="162"/>
                  <a:pt x="445" y="158"/>
                  <a:pt x="457" y="154"/>
                </a:cubicBezTo>
                <a:cubicBezTo>
                  <a:pt x="463" y="152"/>
                  <a:pt x="475" y="148"/>
                  <a:pt x="475" y="148"/>
                </a:cubicBezTo>
                <a:cubicBezTo>
                  <a:pt x="487" y="113"/>
                  <a:pt x="473" y="102"/>
                  <a:pt x="451" y="82"/>
                </a:cubicBezTo>
                <a:cubicBezTo>
                  <a:pt x="411" y="46"/>
                  <a:pt x="412" y="39"/>
                  <a:pt x="361" y="22"/>
                </a:cubicBezTo>
                <a:cubicBezTo>
                  <a:pt x="349" y="18"/>
                  <a:pt x="337" y="14"/>
                  <a:pt x="325" y="10"/>
                </a:cubicBezTo>
                <a:cubicBezTo>
                  <a:pt x="319" y="8"/>
                  <a:pt x="307" y="4"/>
                  <a:pt x="307" y="4"/>
                </a:cubicBezTo>
                <a:cubicBezTo>
                  <a:pt x="249" y="6"/>
                  <a:pt x="245" y="0"/>
                  <a:pt x="187" y="4"/>
                </a:cubicBezTo>
                <a:cubicBezTo>
                  <a:pt x="181" y="4"/>
                  <a:pt x="125" y="24"/>
                  <a:pt x="121" y="28"/>
                </a:cubicBezTo>
                <a:cubicBezTo>
                  <a:pt x="106" y="43"/>
                  <a:pt x="63" y="83"/>
                  <a:pt x="55" y="106"/>
                </a:cubicBezTo>
                <a:cubicBezTo>
                  <a:pt x="51" y="118"/>
                  <a:pt x="50" y="131"/>
                  <a:pt x="43" y="142"/>
                </a:cubicBezTo>
                <a:cubicBezTo>
                  <a:pt x="24" y="171"/>
                  <a:pt x="33" y="153"/>
                  <a:pt x="19" y="196"/>
                </a:cubicBezTo>
                <a:cubicBezTo>
                  <a:pt x="17" y="202"/>
                  <a:pt x="13" y="214"/>
                  <a:pt x="13" y="214"/>
                </a:cubicBezTo>
                <a:cubicBezTo>
                  <a:pt x="13" y="217"/>
                  <a:pt x="0" y="285"/>
                  <a:pt x="13" y="298"/>
                </a:cubicBezTo>
                <a:cubicBezTo>
                  <a:pt x="17" y="302"/>
                  <a:pt x="27" y="296"/>
                  <a:pt x="31" y="292"/>
                </a:cubicBezTo>
                <a:cubicBezTo>
                  <a:pt x="34" y="289"/>
                  <a:pt x="23" y="292"/>
                  <a:pt x="19" y="292"/>
                </a:cubicBezTo>
                <a:close/>
              </a:path>
            </a:pathLst>
          </a:custGeom>
          <a:gradFill rotWithShape="0">
            <a:gsLst>
              <a:gs pos="0">
                <a:srgbClr val="fff56b"/>
              </a:gs>
              <a:gs pos="100000">
                <a:srgbClr val="aba44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805120"/>
            <a:ext cx="774720" cy="372960"/>
          </a:xfrm>
          <a:custGeom>
            <a:avLst/>
            <a:gdLst/>
            <a:ahLst/>
            <a:rect l="l" t="t" r="r" b="b"/>
            <a:pathLst>
              <a:path w="488" h="235">
                <a:moveTo>
                  <a:pt x="0" y="0"/>
                </a:moveTo>
                <a:cubicBezTo>
                  <a:pt x="9" y="35"/>
                  <a:pt x="20" y="49"/>
                  <a:pt x="54" y="60"/>
                </a:cubicBezTo>
                <a:cubicBezTo>
                  <a:pt x="171" y="177"/>
                  <a:pt x="214" y="47"/>
                  <a:pt x="488" y="52"/>
                </a:cubicBezTo>
                <a:cubicBezTo>
                  <a:pt x="472" y="92"/>
                  <a:pt x="436" y="159"/>
                  <a:pt x="414" y="174"/>
                </a:cubicBezTo>
                <a:cubicBezTo>
                  <a:pt x="374" y="234"/>
                  <a:pt x="317" y="229"/>
                  <a:pt x="252" y="234"/>
                </a:cubicBezTo>
                <a:cubicBezTo>
                  <a:pt x="184" y="230"/>
                  <a:pt x="142" y="235"/>
                  <a:pt x="96" y="204"/>
                </a:cubicBezTo>
                <a:cubicBezTo>
                  <a:pt x="80" y="180"/>
                  <a:pt x="51" y="160"/>
                  <a:pt x="42" y="132"/>
                </a:cubicBezTo>
                <a:cubicBezTo>
                  <a:pt x="34" y="108"/>
                  <a:pt x="26" y="84"/>
                  <a:pt x="18" y="60"/>
                </a:cubicBezTo>
                <a:cubicBezTo>
                  <a:pt x="9" y="34"/>
                  <a:pt x="0" y="31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bac04c"/>
              </a:gs>
              <a:gs pos="100000">
                <a:srgbClr val="f7ff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4095000">
            <a:off x="2275560" y="973080"/>
            <a:ext cx="289080" cy="304920"/>
          </a:xfrm>
          <a:prstGeom prst="downArrow">
            <a:avLst>
              <a:gd name="adj1" fmla="val 50000"/>
              <a:gd name="adj2" fmla="val 263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3240" y="3736800"/>
            <a:ext cx="227160" cy="252720"/>
          </a:xfrm>
          <a:custGeom>
            <a:avLst/>
            <a:gdLst/>
            <a:ahLst/>
            <a:rect l="l" t="t" r="r" b="b"/>
            <a:pathLst>
              <a:path w="143" h="159">
                <a:moveTo>
                  <a:pt x="143" y="99"/>
                </a:moveTo>
                <a:cubicBezTo>
                  <a:pt x="139" y="112"/>
                  <a:pt x="118" y="137"/>
                  <a:pt x="86" y="96"/>
                </a:cubicBezTo>
                <a:cubicBezTo>
                  <a:pt x="75" y="82"/>
                  <a:pt x="84" y="61"/>
                  <a:pt x="82" y="44"/>
                </a:cubicBezTo>
                <a:cubicBezTo>
                  <a:pt x="79" y="17"/>
                  <a:pt x="53" y="6"/>
                  <a:pt x="30" y="0"/>
                </a:cubicBezTo>
                <a:cubicBezTo>
                  <a:pt x="2" y="7"/>
                  <a:pt x="0" y="32"/>
                  <a:pt x="14" y="64"/>
                </a:cubicBezTo>
                <a:cubicBezTo>
                  <a:pt x="18" y="73"/>
                  <a:pt x="30" y="75"/>
                  <a:pt x="38" y="80"/>
                </a:cubicBezTo>
                <a:cubicBezTo>
                  <a:pt x="42" y="83"/>
                  <a:pt x="50" y="88"/>
                  <a:pt x="50" y="88"/>
                </a:cubicBezTo>
                <a:cubicBezTo>
                  <a:pt x="61" y="105"/>
                  <a:pt x="94" y="118"/>
                  <a:pt x="110" y="129"/>
                </a:cubicBezTo>
                <a:cubicBezTo>
                  <a:pt x="124" y="150"/>
                  <a:pt x="109" y="149"/>
                  <a:pt x="89" y="159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71720" y="1795320"/>
            <a:ext cx="52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7253000">
            <a:off x="2728800" y="4241520"/>
            <a:ext cx="288720" cy="304920"/>
          </a:xfrm>
          <a:prstGeom prst="downArrow">
            <a:avLst>
              <a:gd name="adj1" fmla="val 50000"/>
              <a:gd name="adj2" fmla="val 264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9684200">
            <a:off x="843120" y="3312720"/>
            <a:ext cx="288720" cy="304920"/>
          </a:xfrm>
          <a:prstGeom prst="downArrow">
            <a:avLst>
              <a:gd name="adj1" fmla="val 50000"/>
              <a:gd name="adj2" fmla="val 264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458000">
            <a:off x="995400" y="1941120"/>
            <a:ext cx="288720" cy="304920"/>
          </a:xfrm>
          <a:prstGeom prst="downArrow">
            <a:avLst>
              <a:gd name="adj1" fmla="val 50000"/>
              <a:gd name="adj2" fmla="val 2640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67480" y="1916280"/>
            <a:ext cx="487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iferenciación celul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esarrollo embrion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33440" y="1297080"/>
            <a:ext cx="828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Huev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fertiliz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71640" y="5418000"/>
            <a:ext cx="1584360" cy="1440000"/>
          </a:xfrm>
          <a:prstGeom prst="downArrowCallout">
            <a:avLst>
              <a:gd name="adj1" fmla="val 27509"/>
              <a:gd name="adj2" fmla="val 27506"/>
              <a:gd name="adj3" fmla="val 16667"/>
              <a:gd name="adj4" fmla="val 6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5516640"/>
            <a:ext cx="18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tapa de gastrulación del embr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1535040" y="154764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711440" y="15890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59000" y="165888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535040" y="17002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87680" y="1700280"/>
            <a:ext cx="43308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863720" y="17413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511280" y="18111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687680" y="18525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97360" y="147168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73400" y="15127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20960" y="15825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97360" y="1623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049640" y="162396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26040" y="166536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873600" y="173520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049640" y="1776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06960" y="1658880"/>
            <a:ext cx="1828800" cy="152280"/>
          </a:xfrm>
          <a:prstGeom prst="roundRect">
            <a:avLst>
              <a:gd name="adj" fmla="val 1666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235560" y="20397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iotub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9600" y="1735200"/>
            <a:ext cx="15228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92760" y="1735200"/>
            <a:ext cx="15264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02600" y="1735200"/>
            <a:ext cx="152280" cy="759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9640" y="206064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Línea C3H10T1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19640" y="1989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iobl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692360" y="4365720"/>
            <a:ext cx="1981080" cy="812880"/>
            <a:chOff x="1692360" y="4365720"/>
            <a:chExt cx="1981080" cy="812880"/>
          </a:xfrm>
        </p:grpSpPr>
        <p:sp>
          <p:nvSpPr>
            <p:cNvPr id="517" name=""/>
            <p:cNvSpPr/>
            <p:nvPr/>
          </p:nvSpPr>
          <p:spPr>
            <a:xfrm>
              <a:off x="1692360" y="43657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Sustr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555640" y="4797360"/>
              <a:ext cx="0" cy="38124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1835280" y="4437000"/>
            <a:ext cx="6121440" cy="1609920"/>
            <a:chOff x="1835280" y="4437000"/>
            <a:chExt cx="6121440" cy="1609920"/>
          </a:xfrm>
        </p:grpSpPr>
        <p:sp>
          <p:nvSpPr>
            <p:cNvPr id="520" name=""/>
            <p:cNvSpPr/>
            <p:nvPr/>
          </p:nvSpPr>
          <p:spPr>
            <a:xfrm>
              <a:off x="1835280" y="5300640"/>
              <a:ext cx="167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cDNA “diferencial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35280" y="5734080"/>
              <a:ext cx="216072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780000" y="4437000"/>
              <a:ext cx="1600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rastreo de genoteca de cDNA de mioblas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12000" y="4581360"/>
              <a:ext cx="1944720" cy="1465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5680" indent="-3556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f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r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5680" indent="-355680"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yog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847080" y="260280"/>
            <a:ext cx="70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dentificación de los genes maestros de la miogén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63640" y="907920"/>
            <a:ext cx="115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b2b2b2"/>
                </a:solidFill>
                <a:latin typeface="Tahoma"/>
              </a:rPr>
              <a:t>estím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268360" y="1628640"/>
            <a:ext cx="1295640" cy="216000"/>
          </a:xfrm>
          <a:prstGeom prst="rightArrow">
            <a:avLst>
              <a:gd name="adj1" fmla="val 50000"/>
              <a:gd name="adj2" fmla="val 149958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1628640"/>
            <a:ext cx="1295280" cy="216000"/>
          </a:xfrm>
          <a:prstGeom prst="rightArrow">
            <a:avLst>
              <a:gd name="adj1" fmla="val 50000"/>
              <a:gd name="adj2" fmla="val 14991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050920" y="126828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5280" y="907920"/>
            <a:ext cx="7848720" cy="1729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1475640" y="1874520"/>
            <a:ext cx="4457160" cy="4845960"/>
            <a:chOff x="-1475640" y="1874520"/>
            <a:chExt cx="4457160" cy="4845960"/>
          </a:xfrm>
        </p:grpSpPr>
        <p:sp>
          <p:nvSpPr>
            <p:cNvPr id="531" name=""/>
            <p:cNvSpPr/>
            <p:nvPr/>
          </p:nvSpPr>
          <p:spPr>
            <a:xfrm flipH="1" flipV="1" rot="10065600">
              <a:off x="-1075680" y="2214360"/>
              <a:ext cx="3657240" cy="416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91" y="3535"/>
                  </a:moveTo>
                  <a:arcTo wR="10800" hR="10800" stAng="-2536380" swAng="31401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91" y="3535"/>
                  </a:moveTo>
                  <a:arcTo wR="10800" hR="10800" stAng="-2536380" swAng="3140188"/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826920" y="2852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ahoma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96840" y="1524960"/>
            <a:ext cx="5060520" cy="5310000"/>
            <a:chOff x="1896840" y="1524960"/>
            <a:chExt cx="5060520" cy="5310000"/>
          </a:xfrm>
        </p:grpSpPr>
        <p:sp>
          <p:nvSpPr>
            <p:cNvPr id="534" name=""/>
            <p:cNvSpPr/>
            <p:nvPr/>
          </p:nvSpPr>
          <p:spPr>
            <a:xfrm flipH="1" flipV="1" rot="1479000">
              <a:off x="2597760" y="2097720"/>
              <a:ext cx="3657240" cy="416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886" y="6939"/>
                  </a:moveTo>
                  <a:arcTo wR="10800" hR="10800" stAng="-1256641" swAng="344274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886" y="6939"/>
                  </a:moveTo>
                  <a:arcTo wR="10800" hR="10800" stAng="-1256641" swAng="3442740"/>
                </a:path>
              </a:pathLst>
            </a:custGeom>
            <a:noFill/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348000" y="285264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Tahoma"/>
                </a:rPr>
                <a:t>mR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990720" y="6858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28280" y="666720"/>
            <a:ext cx="2566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Genes mae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y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y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r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yogen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887480" y="2924280"/>
            <a:ext cx="19810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68560" y="2924280"/>
            <a:ext cx="9907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50000" y="2924280"/>
            <a:ext cx="198108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59280" y="292428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792600" y="33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unión a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782960" y="3457440"/>
            <a:ext cx="123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imeriza-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154560" y="34574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ación transcrip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582560" y="34574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ivación transcrip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725200" y="3716280"/>
            <a:ext cx="1054440" cy="1494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788000" y="3716280"/>
            <a:ext cx="360360" cy="15130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692360" y="5229360"/>
            <a:ext cx="6437160" cy="14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584360" y="5590800"/>
            <a:ext cx="6545160" cy="3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835360" y="5229360"/>
            <a:ext cx="220968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44840" y="51530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NN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5734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9400" y="1125360"/>
            <a:ext cx="4304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Factores de 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Miembros de la familia de proteínas HL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(hélice-asa-hélice “helix-loop-helix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7880" y="523080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en “muscul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77080" y="5734080"/>
            <a:ext cx="360360" cy="1123920"/>
          </a:xfrm>
          <a:prstGeom prst="downArrow">
            <a:avLst>
              <a:gd name="adj1" fmla="val 50000"/>
              <a:gd name="adj2" fmla="val 7797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012000" y="5877000"/>
            <a:ext cx="223200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Regulación de la expresión del 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87640" y="263700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cc"/>
                </a:solidFill>
                <a:latin typeface="Tahoma"/>
              </a:rPr>
              <a:t>Estructura general de las HL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973160" y="22147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6160" y="1986120"/>
            <a:ext cx="121932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335480" y="2214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07080" y="1986120"/>
            <a:ext cx="266688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49480" y="766800"/>
            <a:ext cx="990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40200" y="538200"/>
            <a:ext cx="121896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92480" y="919080"/>
            <a:ext cx="609480" cy="381240"/>
          </a:xfrm>
          <a:custGeom>
            <a:avLst/>
            <a:gdLst>
              <a:gd name="textAreaLeft" fmla="*/ 133920 w 609480"/>
              <a:gd name="textAreaRight" fmla="*/ 475560 w 60948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0800000">
            <a:off x="3649320" y="918720"/>
            <a:ext cx="609480" cy="381240"/>
          </a:xfrm>
          <a:custGeom>
            <a:avLst/>
            <a:gdLst>
              <a:gd name="textAreaLeft" fmla="*/ 133920 w 609480"/>
              <a:gd name="textAreaRight" fmla="*/ 475560 w 609480"/>
              <a:gd name="textAreaTop" fmla="*/ 83880 h 381240"/>
              <a:gd name="textAreaBottom" fmla="*/ 2973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880920" y="-1596240"/>
            <a:ext cx="2196720" cy="380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9053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90538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 flipV="1" rot="6515400">
            <a:off x="1820880" y="60840"/>
            <a:ext cx="2195640" cy="3809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095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09543"/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982800" y="1300320"/>
            <a:ext cx="22860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82800" y="1376280"/>
            <a:ext cx="22860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259160" y="76680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54800" y="614520"/>
            <a:ext cx="22860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554800" y="690480"/>
            <a:ext cx="228600" cy="152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40200" y="6145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han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rot="5434200">
            <a:off x="5668560" y="2404800"/>
            <a:ext cx="380880" cy="304920"/>
          </a:xfrm>
          <a:custGeom>
            <a:avLst/>
            <a:gdLst>
              <a:gd name="textAreaLeft" fmla="*/ 127080 w 380880"/>
              <a:gd name="textAreaRight" fmla="*/ 326520 w 380880"/>
              <a:gd name="textAreaTop" fmla="*/ 175680 h 304920"/>
              <a:gd name="textAreaBottom" fmla="*/ 2613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92480" y="20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-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16160" y="1300320"/>
            <a:ext cx="609840" cy="685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26000" y="1300320"/>
            <a:ext cx="60948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26000" y="1452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92480" y="14526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12000" y="2062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en “muscular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6381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Yun K,  Curr.Opin. Cell. Biol 8: 877-889, 1996 ; Rawls A, Cell 89: 5-8, 1997; Molkentin JD. Cell 83: 1125-1136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982880" y="3862440"/>
            <a:ext cx="89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yo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y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200840" y="407844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iogen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MFR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692360" y="494172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4dff"/>
                </a:solidFill>
                <a:latin typeface="Tahoma"/>
              </a:rPr>
              <a:t>Familia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4dff"/>
                </a:solidFill>
                <a:latin typeface="Tahoma"/>
              </a:rPr>
              <a:t>Id1-Id2, Id3, Id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2484000" y="1844640"/>
            <a:ext cx="8636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92360" y="1773360"/>
            <a:ext cx="1224000" cy="23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2771640" y="1844640"/>
            <a:ext cx="648000" cy="29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651640" y="4508640"/>
            <a:ext cx="30970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ff"/>
                </a:solidFill>
                <a:latin typeface="Tahoma"/>
              </a:rPr>
              <a:t>MR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ffff"/>
                </a:solidFill>
                <a:latin typeface="Tahoma"/>
              </a:rPr>
              <a:t>Factores de transcripción propios del linaje miogé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4284720" y="1486080"/>
            <a:ext cx="718920" cy="71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134136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cc99"/>
                </a:solidFill>
                <a:latin typeface="Tahoma"/>
              </a:rPr>
              <a:t>Factor transcripcional “no exclusivo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4284720" y="1054080"/>
            <a:ext cx="863640" cy="7128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191280" y="765000"/>
            <a:ext cx="29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8f8f8"/>
                </a:solidFill>
                <a:latin typeface="Tahoma"/>
              </a:rPr>
              <a:t>Factores “no exclusivos” que se unen a enhanc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92720" y="907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157440" y="249228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transcri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219640" y="2349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33"/>
                </a:solidFill>
                <a:latin typeface="Tahoma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66ff33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403280" y="3573360"/>
            <a:ext cx="4176720" cy="2519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116000" y="2276640"/>
            <a:ext cx="6327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106640" y="2637000"/>
            <a:ext cx="64087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835280" y="2276640"/>
            <a:ext cx="2209680" cy="380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11480" y="2200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ANNT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84360" y="2708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-b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55760" y="665280"/>
            <a:ext cx="1224000" cy="1008000"/>
          </a:xfrm>
          <a:prstGeom prst="ellipse">
            <a:avLst/>
          </a:prstGeom>
          <a:solidFill>
            <a:srgbClr val="fe4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409920" y="692280"/>
            <a:ext cx="1152720" cy="1035000"/>
          </a:xfrm>
          <a:prstGeom prst="ellipse">
            <a:avLst/>
          </a:prstGeom>
          <a:solidFill>
            <a:srgbClr val="7ec5ca"/>
          </a:solidFill>
          <a:ln w="38160">
            <a:solidFill>
              <a:srgbClr val="7ec5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562640" y="2300400"/>
            <a:ext cx="2170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Gen músc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762280" y="170028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617920" y="1700280"/>
            <a:ext cx="72072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2544480" y="1699920"/>
            <a:ext cx="86508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546280" y="9795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844080" y="97956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4360" y="260280"/>
            <a:ext cx="1023840" cy="1079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44560" y="61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y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971640" y="3213000"/>
            <a:ext cx="6408720" cy="3456000"/>
            <a:chOff x="971640" y="3213000"/>
            <a:chExt cx="6408720" cy="3456000"/>
          </a:xfrm>
        </p:grpSpPr>
        <p:sp>
          <p:nvSpPr>
            <p:cNvPr id="613" name=""/>
            <p:cNvSpPr/>
            <p:nvPr/>
          </p:nvSpPr>
          <p:spPr>
            <a:xfrm>
              <a:off x="981000" y="5589720"/>
              <a:ext cx="6327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71640" y="5950080"/>
              <a:ext cx="6408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63640" y="5589720"/>
              <a:ext cx="2210040" cy="380880"/>
            </a:xfrm>
            <a:prstGeom prst="rect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95640" y="5516640"/>
              <a:ext cx="18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NNT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340000" y="60930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E-bo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116000" y="3213000"/>
              <a:ext cx="1152360" cy="1008000"/>
            </a:xfrm>
            <a:prstGeom prst="ellipse">
              <a:avLst/>
            </a:prstGeom>
            <a:solidFill>
              <a:srgbClr val="fe4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87640" y="4437000"/>
              <a:ext cx="1152720" cy="1035000"/>
            </a:xfrm>
            <a:prstGeom prst="ellipse">
              <a:avLst/>
            </a:prstGeom>
            <a:solidFill>
              <a:srgbClr val="7ec5ca"/>
            </a:solidFill>
            <a:ln w="38160">
              <a:solidFill>
                <a:srgbClr val="7ec5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27640" y="5613480"/>
              <a:ext cx="237636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Gen múscul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56000" y="6021360"/>
              <a:ext cx="216000" cy="503280"/>
            </a:xfrm>
            <a:prstGeom prst="downArrow">
              <a:avLst>
                <a:gd name="adj1" fmla="val 50000"/>
                <a:gd name="adj2" fmla="val 5825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406520" y="35272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421800" y="472428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2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81080" y="4437000"/>
              <a:ext cx="1024200" cy="1079640"/>
            </a:xfrm>
            <a:prstGeom prst="ellipse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41640" y="479592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y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11800" y="6523200"/>
              <a:ext cx="2176200" cy="145800"/>
            </a:xfrm>
            <a:custGeom>
              <a:avLst/>
              <a:gdLst/>
              <a:ahLst/>
              <a:rect l="l" t="t" r="r" b="b"/>
              <a:pathLst>
                <a:path w="1026" h="115">
                  <a:moveTo>
                    <a:pt x="5" y="107"/>
                  </a:moveTo>
                  <a:cubicBezTo>
                    <a:pt x="8" y="94"/>
                    <a:pt x="0" y="71"/>
                    <a:pt x="13" y="67"/>
                  </a:cubicBezTo>
                  <a:cubicBezTo>
                    <a:pt x="77" y="46"/>
                    <a:pt x="101" y="83"/>
                    <a:pt x="149" y="99"/>
                  </a:cubicBezTo>
                  <a:cubicBezTo>
                    <a:pt x="152" y="80"/>
                    <a:pt x="143" y="55"/>
                    <a:pt x="157" y="43"/>
                  </a:cubicBezTo>
                  <a:cubicBezTo>
                    <a:pt x="190" y="15"/>
                    <a:pt x="223" y="81"/>
                    <a:pt x="245" y="91"/>
                  </a:cubicBezTo>
                  <a:cubicBezTo>
                    <a:pt x="260" y="98"/>
                    <a:pt x="293" y="107"/>
                    <a:pt x="293" y="107"/>
                  </a:cubicBezTo>
                  <a:cubicBezTo>
                    <a:pt x="306" y="67"/>
                    <a:pt x="280" y="25"/>
                    <a:pt x="333" y="43"/>
                  </a:cubicBezTo>
                  <a:cubicBezTo>
                    <a:pt x="346" y="81"/>
                    <a:pt x="331" y="101"/>
                    <a:pt x="373" y="115"/>
                  </a:cubicBezTo>
                  <a:cubicBezTo>
                    <a:pt x="381" y="110"/>
                    <a:pt x="393" y="108"/>
                    <a:pt x="397" y="99"/>
                  </a:cubicBezTo>
                  <a:cubicBezTo>
                    <a:pt x="429" y="27"/>
                    <a:pt x="377" y="52"/>
                    <a:pt x="429" y="35"/>
                  </a:cubicBezTo>
                  <a:cubicBezTo>
                    <a:pt x="502" y="84"/>
                    <a:pt x="391" y="1"/>
                    <a:pt x="461" y="99"/>
                  </a:cubicBezTo>
                  <a:cubicBezTo>
                    <a:pt x="467" y="108"/>
                    <a:pt x="482" y="104"/>
                    <a:pt x="493" y="107"/>
                  </a:cubicBezTo>
                  <a:cubicBezTo>
                    <a:pt x="504" y="104"/>
                    <a:pt x="517" y="107"/>
                    <a:pt x="525" y="99"/>
                  </a:cubicBezTo>
                  <a:cubicBezTo>
                    <a:pt x="533" y="91"/>
                    <a:pt x="527" y="76"/>
                    <a:pt x="533" y="67"/>
                  </a:cubicBezTo>
                  <a:cubicBezTo>
                    <a:pt x="538" y="59"/>
                    <a:pt x="549" y="56"/>
                    <a:pt x="557" y="51"/>
                  </a:cubicBezTo>
                  <a:cubicBezTo>
                    <a:pt x="578" y="83"/>
                    <a:pt x="568" y="95"/>
                    <a:pt x="605" y="107"/>
                  </a:cubicBezTo>
                  <a:cubicBezTo>
                    <a:pt x="624" y="102"/>
                    <a:pt x="647" y="105"/>
                    <a:pt x="661" y="91"/>
                  </a:cubicBezTo>
                  <a:cubicBezTo>
                    <a:pt x="717" y="35"/>
                    <a:pt x="607" y="33"/>
                    <a:pt x="717" y="51"/>
                  </a:cubicBezTo>
                  <a:cubicBezTo>
                    <a:pt x="720" y="67"/>
                    <a:pt x="713" y="88"/>
                    <a:pt x="725" y="99"/>
                  </a:cubicBezTo>
                  <a:cubicBezTo>
                    <a:pt x="741" y="114"/>
                    <a:pt x="789" y="115"/>
                    <a:pt x="789" y="115"/>
                  </a:cubicBezTo>
                  <a:cubicBezTo>
                    <a:pt x="794" y="61"/>
                    <a:pt x="783" y="0"/>
                    <a:pt x="813" y="59"/>
                  </a:cubicBezTo>
                  <a:cubicBezTo>
                    <a:pt x="817" y="67"/>
                    <a:pt x="815" y="77"/>
                    <a:pt x="821" y="83"/>
                  </a:cubicBezTo>
                  <a:cubicBezTo>
                    <a:pt x="829" y="91"/>
                    <a:pt x="842" y="94"/>
                    <a:pt x="853" y="99"/>
                  </a:cubicBezTo>
                  <a:cubicBezTo>
                    <a:pt x="896" y="85"/>
                    <a:pt x="866" y="73"/>
                    <a:pt x="909" y="59"/>
                  </a:cubicBezTo>
                  <a:cubicBezTo>
                    <a:pt x="989" y="79"/>
                    <a:pt x="907" y="49"/>
                    <a:pt x="949" y="91"/>
                  </a:cubicBezTo>
                  <a:cubicBezTo>
                    <a:pt x="957" y="99"/>
                    <a:pt x="970" y="102"/>
                    <a:pt x="981" y="107"/>
                  </a:cubicBezTo>
                  <a:cubicBezTo>
                    <a:pt x="1026" y="98"/>
                    <a:pt x="1021" y="113"/>
                    <a:pt x="1021" y="83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372360" y="3141720"/>
            <a:ext cx="2376000" cy="1584360"/>
            <a:chOff x="6372360" y="3141720"/>
            <a:chExt cx="2376000" cy="1584360"/>
          </a:xfrm>
        </p:grpSpPr>
        <p:sp>
          <p:nvSpPr>
            <p:cNvPr id="628" name=""/>
            <p:cNvSpPr/>
            <p:nvPr/>
          </p:nvSpPr>
          <p:spPr>
            <a:xfrm>
              <a:off x="7308720" y="3646440"/>
              <a:ext cx="720360" cy="107964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6659280" y="3573360"/>
              <a:ext cx="20160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72360" y="3141720"/>
              <a:ext cx="86328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ahoma"/>
                </a:rPr>
                <a:t>My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43640" y="3141720"/>
              <a:ext cx="504720" cy="368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ahoma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rcRect l="5411" t="0" r="2148" b="0"/>
          <a:stretch/>
        </p:blipFill>
        <p:spPr>
          <a:xfrm>
            <a:off x="3851280" y="4221000"/>
            <a:ext cx="1224000" cy="12384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2"/>
          <a:stretch/>
        </p:blipFill>
        <p:spPr>
          <a:xfrm>
            <a:off x="5222880" y="4449600"/>
            <a:ext cx="1440000" cy="136872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3"/>
          <a:stretch/>
        </p:blipFill>
        <p:spPr>
          <a:xfrm>
            <a:off x="7051680" y="4525920"/>
            <a:ext cx="1441440" cy="144000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4"/>
          <a:srcRect l="19556" t="0" r="0" b="0"/>
          <a:stretch/>
        </p:blipFill>
        <p:spPr>
          <a:xfrm>
            <a:off x="755640" y="1197000"/>
            <a:ext cx="2076480" cy="14130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5"/>
          <a:srcRect l="6584" t="3950" r="4589" b="22055"/>
          <a:stretch/>
        </p:blipFill>
        <p:spPr>
          <a:xfrm>
            <a:off x="6084720" y="1268280"/>
            <a:ext cx="2087640" cy="13417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6"/>
          <a:srcRect l="0" t="4031" r="0" b="0"/>
          <a:stretch/>
        </p:blipFill>
        <p:spPr>
          <a:xfrm>
            <a:off x="803160" y="4449600"/>
            <a:ext cx="1209960" cy="124308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1054440" y="5734080"/>
            <a:ext cx="53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f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7"/>
          <a:srcRect l="10314" t="0" r="0" b="0"/>
          <a:stretch/>
        </p:blipFill>
        <p:spPr>
          <a:xfrm>
            <a:off x="2403360" y="4830840"/>
            <a:ext cx="1255680" cy="126684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701440" y="44370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525280" y="4068720"/>
            <a:ext cx="81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ogen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213800" y="5589720"/>
            <a:ext cx="6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Desm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093440" y="6093000"/>
            <a:ext cx="142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yosin heavy cha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69000" y="658188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Tahoma"/>
              </a:rPr>
              <a:t>Santa María, Exp Cell Res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 flipV="1">
            <a:off x="3059280" y="2060280"/>
            <a:ext cx="2808000" cy="32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6068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89120" y="3214800"/>
            <a:ext cx="649440" cy="492120"/>
          </a:xfrm>
          <a:custGeom>
            <a:avLst/>
            <a:gdLst>
              <a:gd name="textAreaLeft" fmla="*/ 101520 w 649440"/>
              <a:gd name="textAreaRight" fmla="*/ 568440 w 64944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48000" y="3213000"/>
            <a:ext cx="719280" cy="492120"/>
          </a:xfrm>
          <a:custGeom>
            <a:avLst/>
            <a:gdLst>
              <a:gd name="textAreaLeft" fmla="*/ 112320 w 719280"/>
              <a:gd name="textAreaRight" fmla="*/ 629640 w 71928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6920" y="3213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ahoma"/>
              </a:rPr>
              <a:t>Myf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56000" y="314172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ahoma"/>
              </a:rPr>
              <a:t>My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38560" y="31417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33"/>
                </a:solidFill>
                <a:latin typeface="Tahoma"/>
              </a:rPr>
              <a:t>Miog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35640" y="3213000"/>
            <a:ext cx="720720" cy="4921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27640" y="3141720"/>
            <a:ext cx="7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ahoma"/>
              </a:rPr>
              <a:t>MR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020000" y="3141720"/>
            <a:ext cx="720720" cy="49212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3120 h 492120"/>
              <a:gd name="textAreaBottom" fmla="*/ 369360 h 49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971640" y="189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Tahoma"/>
              </a:rPr>
              <a:t>Expresión secuencial de genes maestros en el curso de la diferenciación mio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740720" y="270828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alfa-acti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creatina         quin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mi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tropo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buClr>
                <a:srgbClr val="66ff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66ff33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258920" y="2637000"/>
            <a:ext cx="2376360" cy="2232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482920" y="3715920"/>
            <a:ext cx="1152360" cy="730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84360" y="3789360"/>
            <a:ext cx="647640" cy="86364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331640" y="3789360"/>
            <a:ext cx="1150920" cy="21600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18920" y="3070080"/>
            <a:ext cx="863640" cy="719280"/>
          </a:xfrm>
          <a:prstGeom prst="line">
            <a:avLst/>
          </a:prstGeom>
          <a:ln w="57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340000" y="299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916360" y="3860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908000" y="40784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403280" y="342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9640" y="5084640"/>
            <a:ext cx="7993080" cy="1447920"/>
          </a:xfrm>
          <a:prstGeom prst="rect">
            <a:avLst/>
          </a:prstGeom>
          <a:gradFill rotWithShape="0">
            <a:gsLst>
              <a:gs pos="0">
                <a:srgbClr val="f7f7f7"/>
              </a:gs>
              <a:gs pos="100000">
                <a:srgbClr val="dddddd">
                  <a:alpha val="8235"/>
                </a:srgbClr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942320" y="5659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4880" y="569448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924200" y="5541840"/>
            <a:ext cx="30456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28760" y="569448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76480" y="592308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10000" y="584676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81400" y="546588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81200" y="569448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228760" y="599904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76480" y="554184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381400" y="5694480"/>
            <a:ext cx="7596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533680" y="554184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85960" y="592308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195800" y="5724360"/>
            <a:ext cx="304920" cy="1526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5877000"/>
            <a:ext cx="30456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653000" y="5648400"/>
            <a:ext cx="304920" cy="1522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348080" y="5724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653000" y="5877000"/>
            <a:ext cx="76320" cy="759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805280" y="5724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187280" y="5805360"/>
            <a:ext cx="72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580536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292720" y="58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8880" y="5376960"/>
            <a:ext cx="774360" cy="164880"/>
          </a:xfrm>
          <a:custGeom>
            <a:avLst/>
            <a:gdLst/>
            <a:ahLst/>
            <a:rect l="l" t="t" r="r" b="b"/>
            <a:pathLst>
              <a:path w="488" h="104">
                <a:moveTo>
                  <a:pt x="488" y="96"/>
                </a:moveTo>
                <a:cubicBezTo>
                  <a:pt x="447" y="55"/>
                  <a:pt x="368" y="11"/>
                  <a:pt x="312" y="0"/>
                </a:cubicBezTo>
                <a:cubicBezTo>
                  <a:pt x="156" y="5"/>
                  <a:pt x="96" y="8"/>
                  <a:pt x="0" y="10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32720" y="5805360"/>
            <a:ext cx="1584360" cy="71640"/>
          </a:xfrm>
          <a:prstGeom prst="flowChartTerminator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165800" y="5805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524720" y="5805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885080" y="5805360"/>
            <a:ext cx="76320" cy="76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42920" y="2276640"/>
            <a:ext cx="647640" cy="459720"/>
          </a:xfrm>
          <a:prstGeom prst="rect">
            <a:avLst/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rot="20745000">
            <a:off x="3147840" y="2365200"/>
            <a:ext cx="782640" cy="2576520"/>
          </a:xfrm>
          <a:custGeom>
            <a:avLst/>
            <a:gdLst>
              <a:gd name="textAreaLeft" fmla="*/ 104760 w 782640"/>
              <a:gd name="textAreaRight" fmla="*/ 677880 w 782640"/>
              <a:gd name="textAreaTop" fmla="*/ 551520 h 2576520"/>
              <a:gd name="textAreaBottom" fmla="*/ 1767240 h 25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250" stAng="-5400000" swAng="5400000"/>
                <a:lnTo>
                  <a:pt x="21600" y="10190"/>
                </a:lnTo>
                <a:arcTo wR="21600" hR="9250" stAng="0" swAng="2825872"/>
                <a:lnTo>
                  <a:pt x="7987" y="20944"/>
                </a:lnTo>
                <a:lnTo>
                  <a:pt x="0" y="18970"/>
                </a:lnTo>
                <a:lnTo>
                  <a:pt x="7987" y="15684"/>
                </a:lnTo>
                <a:lnTo>
                  <a:pt x="7987" y="17844"/>
                </a:lnTo>
                <a:arcTo wR="21600" hR="9250" stAng="2825872" swAng="-2750985"/>
                <a:lnTo>
                  <a:pt x="21572" y="9720"/>
                </a:lnTo>
                <a:arcTo wR="21600" hR="9250" stAng="-74888" swAng="-5325112"/>
                <a:close/>
              </a:path>
              <a:path fill="darkenLess" w="21600" h="21600">
                <a:moveTo>
                  <a:pt x="0" y="0"/>
                </a:moveTo>
                <a:arcTo wR="21600" hR="9250" stAng="-5400000" swAng="5400000"/>
                <a:lnTo>
                  <a:pt x="21600" y="10190"/>
                </a:lnTo>
                <a:arcTo wR="21600" hR="9250" stAng="0" swAng="-74888"/>
                <a:lnTo>
                  <a:pt x="21572" y="9720"/>
                </a:lnTo>
                <a:arcTo wR="21600" hR="9250" stAng="-74888" swAng="-5325112"/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rot="10231800">
            <a:off x="3854520" y="2445480"/>
            <a:ext cx="1294560" cy="158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b2b2b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780000" y="3141720"/>
            <a:ext cx="215640" cy="2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59280" y="4005360"/>
            <a:ext cx="2952720" cy="215640"/>
          </a:xfrm>
          <a:prstGeom prst="rightArrow">
            <a:avLst>
              <a:gd name="adj1" fmla="val 100000"/>
              <a:gd name="adj2" fmla="val 335411"/>
            </a:avLst>
          </a:prstGeom>
          <a:solidFill>
            <a:srgbClr val="b2b2b2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003640" y="3933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877080" y="3860640"/>
            <a:ext cx="1008000" cy="486000"/>
          </a:xfrm>
          <a:prstGeom prst="rightArrow">
            <a:avLst>
              <a:gd name="adj1" fmla="val 50000"/>
              <a:gd name="adj2" fmla="val 51852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924360" y="189000"/>
            <a:ext cx="3456000" cy="2417760"/>
            <a:chOff x="3924360" y="189000"/>
            <a:chExt cx="3456000" cy="2417760"/>
          </a:xfrm>
        </p:grpSpPr>
        <p:pic>
          <p:nvPicPr>
            <p:cNvPr id="702" name="" descr=""/>
            <p:cNvPicPr/>
            <p:nvPr/>
          </p:nvPicPr>
          <p:blipFill>
            <a:blip r:embed="rId1"/>
            <a:srcRect l="7850" t="19367" r="19104" b="28294"/>
            <a:stretch/>
          </p:blipFill>
          <p:spPr>
            <a:xfrm>
              <a:off x="3924360" y="189000"/>
              <a:ext cx="3456000" cy="22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195800" y="189000"/>
              <a:ext cx="3173400" cy="35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084720" y="404640"/>
              <a:ext cx="8654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ito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97440" y="333000"/>
              <a:ext cx="647640" cy="123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Arial"/>
                </a:rPr>
                <a:t>Nivel de proteína </a:t>
              </a: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normaliza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924360" y="2330280"/>
              <a:ext cx="34560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ahoma"/>
                </a:rPr>
                <a:t>Kitzman y Fernández, CMLS 58: 571, 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859280" y="2708280"/>
            <a:ext cx="1008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y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 rot="2875800">
            <a:off x="1618920" y="2709360"/>
            <a:ext cx="360360" cy="71280"/>
          </a:xfrm>
          <a:custGeom>
            <a:avLst/>
            <a:gdLst>
              <a:gd name="textAreaLeft" fmla="*/ 63000 w 360360"/>
              <a:gd name="textAreaRight" fmla="*/ 261360 w 360360"/>
              <a:gd name="textAreaTop" fmla="*/ 9360 h 71280"/>
              <a:gd name="textAreaBottom" fmla="*/ 61920 h 71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20699400">
            <a:off x="3995280" y="2923920"/>
            <a:ext cx="792360" cy="217440"/>
          </a:xfrm>
          <a:prstGeom prst="leftArrow">
            <a:avLst>
              <a:gd name="adj1" fmla="val 50000"/>
              <a:gd name="adj2" fmla="val 9110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4932360" y="3428640"/>
            <a:ext cx="647640" cy="215640"/>
          </a:xfrm>
          <a:prstGeom prst="leftArrow">
            <a:avLst>
              <a:gd name="adj1" fmla="val 50000"/>
              <a:gd name="adj2" fmla="val 7508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284720" y="2781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076720" y="32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 rot="9487200">
            <a:off x="3074760" y="3023640"/>
            <a:ext cx="3221280" cy="342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7" y="6608"/>
                </a:moveTo>
                <a:arcTo wR="10800" hR="10800" stAng="-9429797" swAng="9601085"/>
                <a:lnTo>
                  <a:pt x="10800" y="10800"/>
                </a:lnTo>
                <a:close/>
              </a:path>
              <a:path fill="none" w="21600" h="21600">
                <a:moveTo>
                  <a:pt x="847" y="6608"/>
                </a:moveTo>
                <a:arcTo wR="10800" hR="10800" stAng="-9429797" swAng="9601085"/>
              </a:path>
            </a:pathLst>
          </a:custGeom>
          <a:noFill/>
          <a:ln w="57240">
            <a:solidFill>
              <a:srgbClr val="33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21477600">
            <a:off x="2811600" y="3008520"/>
            <a:ext cx="3709440" cy="320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90" y="1222"/>
                </a:moveTo>
                <a:arcTo wR="10800" hR="10800" stAng="-3748946" swAng="1002539"/>
                <a:lnTo>
                  <a:pt x="10800" y="10800"/>
                </a:lnTo>
                <a:close/>
              </a:path>
              <a:path fill="none" w="21600" h="21600">
                <a:moveTo>
                  <a:pt x="15790" y="1222"/>
                </a:moveTo>
                <a:arcTo wR="10800" hR="10800" stAng="-3748946" swAng="1002539"/>
              </a:path>
            </a:pathLst>
          </a:custGeom>
          <a:noFill/>
          <a:ln w="572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79640" y="2852640"/>
            <a:ext cx="14479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ff66"/>
                </a:solidFill>
                <a:latin typeface="Tahoma"/>
              </a:rPr>
              <a:t>Cdk4-cycli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6ff66"/>
                </a:solidFill>
                <a:latin typeface="Tahoma"/>
              </a:rPr>
              <a:t>Cdk6-cyclin D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17268600">
            <a:off x="2904480" y="3729600"/>
            <a:ext cx="599760" cy="576000"/>
          </a:xfrm>
          <a:custGeom>
            <a:avLst/>
            <a:gdLst>
              <a:gd name="textAreaLeft" fmla="*/ 0 w 599760"/>
              <a:gd name="textAreaRight" fmla="*/ 600120 w 5997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2020946"/>
                <a:lnTo>
                  <a:pt x="674" y="14556"/>
                </a:lnTo>
                <a:arcTo wR="10800" hR="10800" stAng="9579054" swAng="12020946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22720" y="6105600"/>
            <a:ext cx="1447920" cy="54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ccff"/>
                </a:solidFill>
                <a:latin typeface="Tahoma"/>
              </a:rPr>
              <a:t>Cdk1-cyclin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ccff"/>
                </a:solidFill>
                <a:latin typeface="Tahoma"/>
              </a:rPr>
              <a:t>Cdk1-cycli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84720" y="3141720"/>
            <a:ext cx="144792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66ff"/>
                </a:solidFill>
                <a:latin typeface="Tahoma"/>
              </a:rPr>
              <a:t>Cdk2-cycl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 rot="10393200">
            <a:off x="3990240" y="3052080"/>
            <a:ext cx="2285280" cy="23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35" y="83"/>
                </a:moveTo>
                <a:arcTo wR="10800" hR="10800" stAng="-4974036" swAng="5764039"/>
                <a:lnTo>
                  <a:pt x="10800" y="10800"/>
                </a:lnTo>
                <a:close/>
              </a:path>
              <a:path fill="none" w="21600" h="21600">
                <a:moveTo>
                  <a:pt x="12135" y="83"/>
                </a:moveTo>
                <a:arcTo wR="10800" hR="10800" stAng="-4974036" swAng="5764039"/>
              </a:path>
            </a:pathLst>
          </a:custGeom>
          <a:noFill/>
          <a:ln cap="rnd" w="57240">
            <a:solidFill>
              <a:srgbClr val="cc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308040" y="2371680"/>
            <a:ext cx="133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Tahoma"/>
              </a:rPr>
              <a:t>Cdk2-cycli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 rot="1794600">
            <a:off x="2849760" y="2923920"/>
            <a:ext cx="3707280" cy="319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790" y="1222"/>
                </a:moveTo>
                <a:arcTo wR="10800" hR="10800" stAng="-3748946" swAng="2232616"/>
                <a:lnTo>
                  <a:pt x="10800" y="10800"/>
                </a:lnTo>
                <a:close/>
              </a:path>
              <a:path fill="none" w="21600" h="21600">
                <a:moveTo>
                  <a:pt x="15790" y="1222"/>
                </a:moveTo>
                <a:arcTo wR="10800" hR="10800" stAng="-3748946" swAng="2232616"/>
              </a:path>
            </a:pathLst>
          </a:custGeom>
          <a:noFill/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16360" y="378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14256600">
            <a:off x="3398400" y="3247560"/>
            <a:ext cx="2595600" cy="2801880"/>
          </a:xfrm>
          <a:prstGeom prst="blockArc">
            <a:avLst>
              <a:gd name="adj1" fmla="val 12141640"/>
              <a:gd name="adj2" fmla="val 20258360"/>
              <a:gd name="adj3" fmla="val 114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20461200">
            <a:off x="3348000" y="3357720"/>
            <a:ext cx="2668680" cy="2801880"/>
          </a:xfrm>
          <a:prstGeom prst="blockArc">
            <a:avLst>
              <a:gd name="adj1" fmla="val 14074033"/>
              <a:gd name="adj2" fmla="val 18325967"/>
              <a:gd name="adj3" fmla="val 10903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7602600">
            <a:off x="3271320" y="3217680"/>
            <a:ext cx="2668320" cy="2801880"/>
          </a:xfrm>
          <a:prstGeom prst="blockArc">
            <a:avLst>
              <a:gd name="adj1" fmla="val 13662009"/>
              <a:gd name="adj2" fmla="val 18737991"/>
              <a:gd name="adj3" fmla="val 1247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rot="3460800">
            <a:off x="3204720" y="3284640"/>
            <a:ext cx="2664000" cy="2952720"/>
          </a:xfrm>
          <a:prstGeom prst="blockArc">
            <a:avLst>
              <a:gd name="adj1" fmla="val 13744281"/>
              <a:gd name="adj2" fmla="val 18655719"/>
              <a:gd name="adj3" fmla="val 10625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85272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08720" y="378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148360" y="522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564000" y="52293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643280" y="2276640"/>
            <a:ext cx="86364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2F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92720" y="836640"/>
            <a:ext cx="863640" cy="720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E2F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16360" y="692280"/>
            <a:ext cx="719280" cy="5760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156360" y="1844640"/>
            <a:ext cx="71928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215760" y="15508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6666"/>
                </a:solidFill>
                <a:latin typeface="Tahoma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11742600">
            <a:off x="5492160" y="1220760"/>
            <a:ext cx="129744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5223000">
            <a:off x="4337640" y="1136880"/>
            <a:ext cx="1298160" cy="100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498920" y="1555920"/>
            <a:ext cx="504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d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851280" y="1484280"/>
            <a:ext cx="71928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075280" y="18432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43280" y="1123920"/>
            <a:ext cx="504720" cy="504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d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95640" y="1052640"/>
            <a:ext cx="718920" cy="647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Cy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419640" y="14112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11280" y="765000"/>
            <a:ext cx="720720" cy="432000"/>
          </a:xfrm>
          <a:custGeom>
            <a:avLst/>
            <a:gdLst>
              <a:gd name="textAreaLeft" fmla="*/ 158400 w 720720"/>
              <a:gd name="textAreaRight" fmla="*/ 562320 w 720720"/>
              <a:gd name="textAreaTop" fmla="*/ 95040 h 432000"/>
              <a:gd name="textAreaBottom" fmla="*/ 3369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p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19640" y="1413000"/>
            <a:ext cx="504720" cy="14436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2627280" y="2205000"/>
            <a:ext cx="3019320" cy="218124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324000" y="1484280"/>
            <a:ext cx="80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Efecto de inhibidores de la síntesis de proteoglicanos sobre la diferenciación miogénica de la línea celular C2C12 (mioblast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1476360" y="5157720"/>
            <a:ext cx="4857840" cy="126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1476360" y="4653000"/>
            <a:ext cx="4743360" cy="3715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116000" y="33336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Papel de la matriz extracelular en la diferenciación mio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024880" y="6613560"/>
            <a:ext cx="382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Osses y Brandán.  Am J Physiol Cell Physiol 282: C383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2600280" cy="198144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2520720" cy="23781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116000" y="595008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el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4360" y="3068640"/>
            <a:ext cx="756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Efecto de la </a:t>
            </a:r>
            <a:r>
              <a:rPr b="1" lang="es-ES" sz="1600" spc="-1" strike="noStrike">
                <a:solidFill>
                  <a:srgbClr val="ffff66"/>
                </a:solidFill>
                <a:latin typeface="Tahoma"/>
              </a:rPr>
              <a:t>supresión de la expresión de sindecán-3</a:t>
            </a: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 en línea celular  C2C12 (mioblast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95280" y="5877000"/>
            <a:ext cx="41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Aceleración en la expresión de miog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88000" y="5950080"/>
            <a:ext cx="37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Aceleración en la expresión de mi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400" y="6497640"/>
            <a:ext cx="305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alba y cols J Biol Chem 274: 37876, 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3"/>
          <a:stretch/>
        </p:blipFill>
        <p:spPr>
          <a:xfrm>
            <a:off x="1042920" y="981000"/>
            <a:ext cx="2305080" cy="1528920"/>
          </a:xfrm>
          <a:prstGeom prst="rect">
            <a:avLst/>
          </a:prstGeom>
          <a:ln w="0">
            <a:noFill/>
          </a:ln>
        </p:spPr>
      </p:pic>
      <p:sp>
        <p:nvSpPr>
          <p:cNvPr id="760" name=""/>
          <p:cNvSpPr/>
          <p:nvPr/>
        </p:nvSpPr>
        <p:spPr>
          <a:xfrm>
            <a:off x="3492360" y="333360"/>
            <a:ext cx="16560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Sindecán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419640" y="1484280"/>
            <a:ext cx="266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Cambio en el contenido de sindecán después de inducir diferenciación miogénica de C2C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395280" y="692280"/>
            <a:ext cx="8497800" cy="61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Tahoma"/>
              </a:rPr>
              <a:t>Diferenciación cel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ñales extracelulares (inductores o inhibidores de la diferenci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Señalización in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Cambios en la expresión gé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Factores de trancripción (interacción con co-activadores 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co-repres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66"/>
                </a:solidFill>
                <a:latin typeface="Tahoma"/>
              </a:rPr>
              <a:t>Papel de la matriz extrace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Tahoma"/>
              </a:rPr>
              <a:t>Diferenciación vs prolif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47388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4535280" cy="226692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684360" y="4221000"/>
            <a:ext cx="44971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Tahoma"/>
              </a:rPr>
              <a:t>Grafi, G Dev Biol 268 (1):1-6, 2004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34920" y="549360"/>
            <a:ext cx="57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Des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stablecimiento de pluripoten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2"/>
          <a:stretch/>
        </p:blipFill>
        <p:spPr>
          <a:xfrm>
            <a:off x="6012000" y="3573360"/>
            <a:ext cx="2519280" cy="293364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81840" y="5029200"/>
            <a:ext cx="41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eparación natural de daño tis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00200" y="5638680"/>
            <a:ext cx="25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ahoma"/>
              </a:rPr>
              <a:t>Ingeniería de tej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033640" y="25495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096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62320" y="259092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538360" y="2631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185920" y="2701800"/>
            <a:ext cx="433440" cy="220680"/>
          </a:xfrm>
          <a:custGeom>
            <a:avLst/>
            <a:gdLst/>
            <a:ahLst/>
            <a:rect l="l" t="t" r="r" b="b"/>
            <a:pathLst>
              <a:path w="273" h="139">
                <a:moveTo>
                  <a:pt x="0" y="136"/>
                </a:moveTo>
                <a:cubicBezTo>
                  <a:pt x="65" y="115"/>
                  <a:pt x="39" y="129"/>
                  <a:pt x="82" y="100"/>
                </a:cubicBezTo>
                <a:cubicBezTo>
                  <a:pt x="100" y="103"/>
                  <a:pt x="120" y="101"/>
                  <a:pt x="137" y="109"/>
                </a:cubicBezTo>
                <a:cubicBezTo>
                  <a:pt x="147" y="114"/>
                  <a:pt x="145" y="139"/>
                  <a:pt x="155" y="136"/>
                </a:cubicBezTo>
                <a:cubicBezTo>
                  <a:pt x="167" y="132"/>
                  <a:pt x="157" y="110"/>
                  <a:pt x="164" y="100"/>
                </a:cubicBezTo>
                <a:cubicBezTo>
                  <a:pt x="183" y="72"/>
                  <a:pt x="245" y="75"/>
                  <a:pt x="264" y="73"/>
                </a:cubicBezTo>
                <a:cubicBezTo>
                  <a:pt x="255" y="70"/>
                  <a:pt x="241" y="73"/>
                  <a:pt x="237" y="64"/>
                </a:cubicBezTo>
                <a:cubicBezTo>
                  <a:pt x="223" y="36"/>
                  <a:pt x="262" y="31"/>
                  <a:pt x="273" y="27"/>
                </a:cubicBezTo>
                <a:cubicBezTo>
                  <a:pt x="225" y="15"/>
                  <a:pt x="188" y="6"/>
                  <a:pt x="137" y="0"/>
                </a:cubicBezTo>
                <a:cubicBezTo>
                  <a:pt x="59" y="26"/>
                  <a:pt x="101" y="16"/>
                  <a:pt x="9" y="27"/>
                </a:cubicBezTo>
                <a:cubicBezTo>
                  <a:pt x="18" y="30"/>
                  <a:pt x="34" y="27"/>
                  <a:pt x="37" y="36"/>
                </a:cubicBezTo>
                <a:cubicBezTo>
                  <a:pt x="49" y="69"/>
                  <a:pt x="27" y="83"/>
                  <a:pt x="9" y="100"/>
                </a:cubicBezTo>
                <a:cubicBezTo>
                  <a:pt x="6" y="112"/>
                  <a:pt x="0" y="136"/>
                  <a:pt x="0" y="136"/>
                </a:cubicBez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362320" y="2743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62120" y="23623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Mioblatos C2C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547640" y="765000"/>
            <a:ext cx="3048120" cy="1629000"/>
            <a:chOff x="1547640" y="765000"/>
            <a:chExt cx="3048120" cy="1629000"/>
          </a:xfrm>
        </p:grpSpPr>
        <p:sp>
          <p:nvSpPr>
            <p:cNvPr id="777" name=""/>
            <p:cNvSpPr/>
            <p:nvPr/>
          </p:nvSpPr>
          <p:spPr>
            <a:xfrm rot="10785000">
              <a:off x="2866680" y="1478880"/>
              <a:ext cx="152280" cy="914400"/>
            </a:xfrm>
            <a:prstGeom prst="upArrow">
              <a:avLst>
                <a:gd name="adj1" fmla="val 50000"/>
                <a:gd name="adj2" fmla="val 150118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547640" y="765000"/>
              <a:ext cx="3048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“</a:t>
              </a: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Represión condicionada” de la expresión ms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4427640" y="3284280"/>
            <a:ext cx="2057400" cy="1814760"/>
            <a:chOff x="4427640" y="3284280"/>
            <a:chExt cx="2057400" cy="1814760"/>
          </a:xfrm>
        </p:grpSpPr>
        <p:sp>
          <p:nvSpPr>
            <p:cNvPr id="780" name=""/>
            <p:cNvSpPr/>
            <p:nvPr/>
          </p:nvSpPr>
          <p:spPr>
            <a:xfrm rot="21585000">
              <a:off x="4960800" y="3284640"/>
              <a:ext cx="154080" cy="914040"/>
            </a:xfrm>
            <a:prstGeom prst="upArrow">
              <a:avLst>
                <a:gd name="adj1" fmla="val 50000"/>
                <a:gd name="adj2" fmla="val 148306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27640" y="4275000"/>
              <a:ext cx="2057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ahoma"/>
                </a:rPr>
                <a:t>Activación de la transcripción de msx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2890080" y="1589040"/>
            <a:ext cx="2215440" cy="1077840"/>
            <a:chOff x="2890080" y="1589040"/>
            <a:chExt cx="2215440" cy="1077840"/>
          </a:xfrm>
        </p:grpSpPr>
        <p:sp>
          <p:nvSpPr>
            <p:cNvPr id="783" name=""/>
            <p:cNvSpPr/>
            <p:nvPr/>
          </p:nvSpPr>
          <p:spPr>
            <a:xfrm>
              <a:off x="2971800" y="2666880"/>
              <a:ext cx="2133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6238400">
              <a:off x="3393720" y="1101600"/>
              <a:ext cx="990720" cy="1987560"/>
            </a:xfrm>
            <a:prstGeom prst="rtTriangle">
              <a:avLst/>
            </a:prstGeom>
            <a:gradFill rotWithShape="0">
              <a:gsLst>
                <a:gs pos="0">
                  <a:srgbClr val="17175e"/>
                </a:gs>
                <a:gs pos="100000">
                  <a:srgbClr val="0066cc"/>
                </a:gs>
              </a:gsLst>
              <a:lin ang="1616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886200" y="1905120"/>
              <a:ext cx="1143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y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iog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209680" y="3048120"/>
            <a:ext cx="2895480" cy="1150200"/>
            <a:chOff x="2209680" y="3048120"/>
            <a:chExt cx="2895480" cy="1150200"/>
          </a:xfrm>
        </p:grpSpPr>
        <p:sp>
          <p:nvSpPr>
            <p:cNvPr id="787" name=""/>
            <p:cNvSpPr/>
            <p:nvPr/>
          </p:nvSpPr>
          <p:spPr>
            <a:xfrm flipH="1">
              <a:off x="2971440" y="3124080"/>
              <a:ext cx="213372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0826400">
              <a:off x="2971440" y="3200040"/>
              <a:ext cx="1905120" cy="990720"/>
            </a:xfrm>
            <a:prstGeom prst="rtTriangle">
              <a:avLst/>
            </a:prstGeom>
            <a:gradFill rotWithShape="0">
              <a:gsLst>
                <a:gs pos="0">
                  <a:srgbClr val="002f5e"/>
                </a:gs>
                <a:gs pos="100000">
                  <a:srgbClr val="0066cc"/>
                </a:gs>
              </a:gsLst>
              <a:lin ang="2157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809880" y="3276720"/>
              <a:ext cx="11430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y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iogen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09680" y="3048120"/>
              <a:ext cx="433440" cy="2206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0" y="136"/>
                  </a:moveTo>
                  <a:cubicBezTo>
                    <a:pt x="65" y="115"/>
                    <a:pt x="39" y="129"/>
                    <a:pt x="82" y="100"/>
                  </a:cubicBezTo>
                  <a:cubicBezTo>
                    <a:pt x="100" y="103"/>
                    <a:pt x="120" y="101"/>
                    <a:pt x="137" y="109"/>
                  </a:cubicBezTo>
                  <a:cubicBezTo>
                    <a:pt x="147" y="114"/>
                    <a:pt x="145" y="139"/>
                    <a:pt x="155" y="136"/>
                  </a:cubicBezTo>
                  <a:cubicBezTo>
                    <a:pt x="167" y="132"/>
                    <a:pt x="157" y="110"/>
                    <a:pt x="164" y="100"/>
                  </a:cubicBezTo>
                  <a:cubicBezTo>
                    <a:pt x="183" y="72"/>
                    <a:pt x="245" y="75"/>
                    <a:pt x="264" y="73"/>
                  </a:cubicBezTo>
                  <a:cubicBezTo>
                    <a:pt x="255" y="70"/>
                    <a:pt x="241" y="73"/>
                    <a:pt x="237" y="64"/>
                  </a:cubicBezTo>
                  <a:cubicBezTo>
                    <a:pt x="223" y="36"/>
                    <a:pt x="262" y="31"/>
                    <a:pt x="273" y="27"/>
                  </a:cubicBezTo>
                  <a:cubicBezTo>
                    <a:pt x="225" y="15"/>
                    <a:pt x="188" y="6"/>
                    <a:pt x="137" y="0"/>
                  </a:cubicBezTo>
                  <a:cubicBezTo>
                    <a:pt x="59" y="26"/>
                    <a:pt x="101" y="16"/>
                    <a:pt x="9" y="27"/>
                  </a:cubicBezTo>
                  <a:cubicBezTo>
                    <a:pt x="18" y="30"/>
                    <a:pt x="34" y="27"/>
                    <a:pt x="37" y="36"/>
                  </a:cubicBezTo>
                  <a:cubicBezTo>
                    <a:pt x="49" y="69"/>
                    <a:pt x="27" y="83"/>
                    <a:pt x="9" y="100"/>
                  </a:cubicBezTo>
                  <a:cubicBezTo>
                    <a:pt x="6" y="112"/>
                    <a:pt x="0" y="136"/>
                    <a:pt x="0" y="136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86080" y="30891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538360" y="3089160"/>
              <a:ext cx="433440" cy="2206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0" y="136"/>
                  </a:moveTo>
                  <a:cubicBezTo>
                    <a:pt x="65" y="115"/>
                    <a:pt x="39" y="129"/>
                    <a:pt x="82" y="100"/>
                  </a:cubicBezTo>
                  <a:cubicBezTo>
                    <a:pt x="100" y="103"/>
                    <a:pt x="120" y="101"/>
                    <a:pt x="137" y="109"/>
                  </a:cubicBezTo>
                  <a:cubicBezTo>
                    <a:pt x="147" y="114"/>
                    <a:pt x="145" y="139"/>
                    <a:pt x="155" y="136"/>
                  </a:cubicBezTo>
                  <a:cubicBezTo>
                    <a:pt x="167" y="132"/>
                    <a:pt x="157" y="110"/>
                    <a:pt x="164" y="100"/>
                  </a:cubicBezTo>
                  <a:cubicBezTo>
                    <a:pt x="183" y="72"/>
                    <a:pt x="245" y="75"/>
                    <a:pt x="264" y="73"/>
                  </a:cubicBezTo>
                  <a:cubicBezTo>
                    <a:pt x="255" y="70"/>
                    <a:pt x="241" y="73"/>
                    <a:pt x="237" y="64"/>
                  </a:cubicBezTo>
                  <a:cubicBezTo>
                    <a:pt x="223" y="36"/>
                    <a:pt x="262" y="31"/>
                    <a:pt x="273" y="27"/>
                  </a:cubicBezTo>
                  <a:cubicBezTo>
                    <a:pt x="225" y="15"/>
                    <a:pt x="188" y="6"/>
                    <a:pt x="137" y="0"/>
                  </a:cubicBezTo>
                  <a:cubicBezTo>
                    <a:pt x="59" y="26"/>
                    <a:pt x="101" y="16"/>
                    <a:pt x="9" y="27"/>
                  </a:cubicBezTo>
                  <a:cubicBezTo>
                    <a:pt x="18" y="30"/>
                    <a:pt x="34" y="27"/>
                    <a:pt x="37" y="36"/>
                  </a:cubicBezTo>
                  <a:cubicBezTo>
                    <a:pt x="49" y="69"/>
                    <a:pt x="27" y="83"/>
                    <a:pt x="9" y="100"/>
                  </a:cubicBezTo>
                  <a:cubicBezTo>
                    <a:pt x="6" y="112"/>
                    <a:pt x="0" y="136"/>
                    <a:pt x="0" y="136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714760" y="313056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362320" y="3200400"/>
              <a:ext cx="433440" cy="220680"/>
            </a:xfrm>
            <a:custGeom>
              <a:avLst/>
              <a:gdLst/>
              <a:ahLst/>
              <a:rect l="l" t="t" r="r" b="b"/>
              <a:pathLst>
                <a:path w="273" h="139">
                  <a:moveTo>
                    <a:pt x="0" y="136"/>
                  </a:moveTo>
                  <a:cubicBezTo>
                    <a:pt x="65" y="115"/>
                    <a:pt x="39" y="129"/>
                    <a:pt x="82" y="100"/>
                  </a:cubicBezTo>
                  <a:cubicBezTo>
                    <a:pt x="100" y="103"/>
                    <a:pt x="120" y="101"/>
                    <a:pt x="137" y="109"/>
                  </a:cubicBezTo>
                  <a:cubicBezTo>
                    <a:pt x="147" y="114"/>
                    <a:pt x="145" y="139"/>
                    <a:pt x="155" y="136"/>
                  </a:cubicBezTo>
                  <a:cubicBezTo>
                    <a:pt x="167" y="132"/>
                    <a:pt x="157" y="110"/>
                    <a:pt x="164" y="100"/>
                  </a:cubicBezTo>
                  <a:cubicBezTo>
                    <a:pt x="183" y="72"/>
                    <a:pt x="245" y="75"/>
                    <a:pt x="264" y="73"/>
                  </a:cubicBezTo>
                  <a:cubicBezTo>
                    <a:pt x="255" y="70"/>
                    <a:pt x="241" y="73"/>
                    <a:pt x="237" y="64"/>
                  </a:cubicBezTo>
                  <a:cubicBezTo>
                    <a:pt x="223" y="36"/>
                    <a:pt x="262" y="31"/>
                    <a:pt x="273" y="27"/>
                  </a:cubicBezTo>
                  <a:cubicBezTo>
                    <a:pt x="225" y="15"/>
                    <a:pt x="188" y="6"/>
                    <a:pt x="137" y="0"/>
                  </a:cubicBezTo>
                  <a:cubicBezTo>
                    <a:pt x="59" y="26"/>
                    <a:pt x="101" y="16"/>
                    <a:pt x="9" y="27"/>
                  </a:cubicBezTo>
                  <a:cubicBezTo>
                    <a:pt x="18" y="30"/>
                    <a:pt x="34" y="27"/>
                    <a:pt x="37" y="36"/>
                  </a:cubicBezTo>
                  <a:cubicBezTo>
                    <a:pt x="49" y="69"/>
                    <a:pt x="27" y="83"/>
                    <a:pt x="9" y="100"/>
                  </a:cubicBezTo>
                  <a:cubicBezTo>
                    <a:pt x="6" y="112"/>
                    <a:pt x="0" y="136"/>
                    <a:pt x="0" y="136"/>
                  </a:cubicBez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38360" y="32418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1752480" y="5638680"/>
            <a:ext cx="23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Tahoma"/>
              </a:rPr>
              <a:t>condrogén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685800" y="3581280"/>
            <a:ext cx="3003120" cy="2959200"/>
            <a:chOff x="685800" y="3581280"/>
            <a:chExt cx="3003120" cy="2959200"/>
          </a:xfrm>
        </p:grpSpPr>
        <p:sp>
          <p:nvSpPr>
            <p:cNvPr id="798" name=""/>
            <p:cNvSpPr/>
            <p:nvPr/>
          </p:nvSpPr>
          <p:spPr>
            <a:xfrm>
              <a:off x="2611080" y="3581280"/>
              <a:ext cx="0" cy="16002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63640" y="5181480"/>
              <a:ext cx="192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ff"/>
                  </a:solidFill>
                  <a:latin typeface="Tahoma"/>
                </a:rPr>
                <a:t>adipogén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5800" y="3809880"/>
              <a:ext cx="215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stímulos de diferenciación apropi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840680" y="6172200"/>
              <a:ext cx="177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ffff"/>
                  </a:solidFill>
                  <a:latin typeface="Tahoma"/>
                </a:rPr>
                <a:t>osteogéne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4724280" y="632448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Odelberg SJ et al Cell 103:1099-110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410080" y="1125360"/>
            <a:ext cx="3505320" cy="1757520"/>
            <a:chOff x="5410080" y="1125360"/>
            <a:chExt cx="3505320" cy="1757520"/>
          </a:xfrm>
        </p:grpSpPr>
        <p:grpSp>
          <p:nvGrpSpPr>
            <p:cNvPr id="804" name=""/>
            <p:cNvGrpSpPr/>
            <p:nvPr/>
          </p:nvGrpSpPr>
          <p:grpSpPr>
            <a:xfrm>
              <a:off x="5410080" y="2514600"/>
              <a:ext cx="3505320" cy="368280"/>
              <a:chOff x="5410080" y="2514600"/>
              <a:chExt cx="3505320" cy="368280"/>
            </a:xfrm>
          </p:grpSpPr>
          <p:sp>
            <p:nvSpPr>
              <p:cNvPr id="805" name=""/>
              <p:cNvSpPr/>
              <p:nvPr/>
            </p:nvSpPr>
            <p:spPr>
              <a:xfrm>
                <a:off x="5410080" y="2666880"/>
                <a:ext cx="2057400" cy="76320"/>
              </a:xfrm>
              <a:prstGeom prst="flowChartTerminator">
                <a:avLst/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543800" y="2514600"/>
                <a:ext cx="137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cc00"/>
                    </a:solidFill>
                    <a:latin typeface="Tahoma"/>
                  </a:rPr>
                  <a:t>miotub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07" name="" descr=""/>
            <p:cNvPicPr/>
            <p:nvPr/>
          </p:nvPicPr>
          <p:blipFill>
            <a:blip r:embed="rId1"/>
            <a:stretch/>
          </p:blipFill>
          <p:spPr>
            <a:xfrm>
              <a:off x="7380360" y="1125360"/>
              <a:ext cx="1438200" cy="101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8" name=""/>
          <p:cNvGrpSpPr/>
          <p:nvPr/>
        </p:nvGrpSpPr>
        <p:grpSpPr>
          <a:xfrm>
            <a:off x="7308720" y="2852640"/>
            <a:ext cx="1447920" cy="2124000"/>
            <a:chOff x="7308720" y="2852640"/>
            <a:chExt cx="1447920" cy="2124000"/>
          </a:xfrm>
        </p:grpSpPr>
        <p:pic>
          <p:nvPicPr>
            <p:cNvPr id="809" name="" descr=""/>
            <p:cNvPicPr/>
            <p:nvPr/>
          </p:nvPicPr>
          <p:blipFill>
            <a:blip r:embed="rId2"/>
            <a:stretch/>
          </p:blipFill>
          <p:spPr>
            <a:xfrm>
              <a:off x="7308720" y="2852640"/>
              <a:ext cx="144792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0" name="" descr=""/>
            <p:cNvPicPr/>
            <p:nvPr/>
          </p:nvPicPr>
          <p:blipFill>
            <a:blip r:embed="rId3"/>
            <a:stretch/>
          </p:blipFill>
          <p:spPr>
            <a:xfrm>
              <a:off x="7308720" y="4005360"/>
              <a:ext cx="143856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9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Diferenciación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960" y="1125360"/>
            <a:ext cx="440028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Desarrollo embr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y postn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Renovación de tej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                 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homeost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Reparación de tej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                       </a:t>
            </a: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da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66ff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ff66"/>
                </a:solidFill>
                <a:latin typeface="Tahoma"/>
              </a:rPr>
              <a:t>Ingeniería de tej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00720" y="2276640"/>
            <a:ext cx="1755720" cy="19778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020000" y="3213000"/>
            <a:ext cx="1511280" cy="19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Human body"/>
          <p:cNvPicPr/>
          <p:nvPr/>
        </p:nvPicPr>
        <p:blipFill>
          <a:blip r:embed="rId3"/>
          <a:stretch/>
        </p:blipFill>
        <p:spPr>
          <a:xfrm>
            <a:off x="4419720" y="5029200"/>
            <a:ext cx="1811160" cy="13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zygote from IVF"/>
          <p:cNvPicPr/>
          <p:nvPr/>
        </p:nvPicPr>
        <p:blipFill>
          <a:blip r:embed="rId4"/>
          <a:stretch/>
        </p:blipFill>
        <p:spPr>
          <a:xfrm>
            <a:off x="5076720" y="692280"/>
            <a:ext cx="1297080" cy="1152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Fetus at eight weeks">
            <a:hlinkClick r:id="rId5"/>
          </p:cNvPr>
          <p:cNvPicPr/>
          <p:nvPr/>
        </p:nvPicPr>
        <p:blipFill>
          <a:blip r:embed="rId6"/>
          <a:srcRect l="18131" t="5638" r="18335" b="15680"/>
          <a:stretch/>
        </p:blipFill>
        <p:spPr>
          <a:xfrm>
            <a:off x="6732720" y="620640"/>
            <a:ext cx="10080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76360" y="692280"/>
            <a:ext cx="561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egeneración de tejid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4880" y="256536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407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élula progenitora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diferenciació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élula diferenci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4508640"/>
            <a:ext cx="1724040" cy="144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2925720"/>
            <a:ext cx="184320" cy="457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0520" y="2610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24080" y="277488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2680" y="262260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85880" y="2787480"/>
            <a:ext cx="15228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33577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350208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47760" y="30034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80960" y="316872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28640" y="30034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62200" y="31687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09880" y="300348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3080" y="31687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7760" y="33847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80960" y="354960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8640" y="33847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2200" y="3549600"/>
            <a:ext cx="152280" cy="1522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09880" y="338472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43080" y="354960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40000" y="2637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13080" y="299736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29080" y="31417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56000" y="278136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5120000">
            <a:off x="1404360" y="2925000"/>
            <a:ext cx="1079640" cy="647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3300"/>
          </a:solidFill>
          <a:ln w="381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2000" y="2997360"/>
            <a:ext cx="183960" cy="457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94160" y="26812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27720" y="28465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56320" y="26938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89520" y="285912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43640" y="3429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59640" y="357336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51400" y="30751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4960" y="324000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32640" y="307512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5840" y="324000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13520" y="307512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6720" y="3240000"/>
            <a:ext cx="15264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51400" y="3456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4960" y="362124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32640" y="3456000"/>
            <a:ext cx="44424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5840" y="362124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3520" y="345600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46720" y="3621240"/>
            <a:ext cx="15264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43640" y="270828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306864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32720" y="321300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59640" y="2852640"/>
            <a:ext cx="152280" cy="152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40440" y="2714760"/>
            <a:ext cx="444600" cy="419040"/>
          </a:xfrm>
          <a:custGeom>
            <a:avLst/>
            <a:gdLst/>
            <a:ahLst/>
            <a:rect l="l" t="t" r="r" b="b"/>
            <a:pathLst>
              <a:path w="280" h="264">
                <a:moveTo>
                  <a:pt x="36" y="16"/>
                </a:moveTo>
                <a:cubicBezTo>
                  <a:pt x="7" y="101"/>
                  <a:pt x="0" y="230"/>
                  <a:pt x="100" y="264"/>
                </a:cubicBezTo>
                <a:cubicBezTo>
                  <a:pt x="140" y="261"/>
                  <a:pt x="180" y="259"/>
                  <a:pt x="220" y="256"/>
                </a:cubicBezTo>
                <a:cubicBezTo>
                  <a:pt x="236" y="254"/>
                  <a:pt x="264" y="263"/>
                  <a:pt x="268" y="248"/>
                </a:cubicBezTo>
                <a:cubicBezTo>
                  <a:pt x="280" y="185"/>
                  <a:pt x="271" y="118"/>
                  <a:pt x="260" y="56"/>
                </a:cubicBezTo>
                <a:cubicBezTo>
                  <a:pt x="257" y="42"/>
                  <a:pt x="238" y="39"/>
                  <a:pt x="228" y="32"/>
                </a:cubicBezTo>
                <a:cubicBezTo>
                  <a:pt x="212" y="20"/>
                  <a:pt x="180" y="0"/>
                  <a:pt x="180" y="0"/>
                </a:cubicBezTo>
                <a:cubicBezTo>
                  <a:pt x="150" y="2"/>
                  <a:pt x="121" y="2"/>
                  <a:pt x="92" y="8"/>
                </a:cubicBezTo>
                <a:cubicBezTo>
                  <a:pt x="75" y="10"/>
                  <a:pt x="58" y="14"/>
                  <a:pt x="44" y="24"/>
                </a:cubicBezTo>
                <a:cubicBezTo>
                  <a:pt x="36" y="29"/>
                  <a:pt x="26" y="46"/>
                  <a:pt x="20" y="40"/>
                </a:cubicBezTo>
                <a:cubicBezTo>
                  <a:pt x="13" y="33"/>
                  <a:pt x="30" y="24"/>
                  <a:pt x="36" y="16"/>
                </a:cubicBez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56440" y="2859120"/>
            <a:ext cx="152280" cy="152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41320" y="3745080"/>
            <a:ext cx="47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89440" cy="56898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48080" y="260280"/>
            <a:ext cx="58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Renovación de las células sanguín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0400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29560" y="2619360"/>
            <a:ext cx="157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aída del p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26680" y="333360"/>
            <a:ext cx="180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herida en la pi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96720" y="13860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Estím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54280" y="624852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uchs,   Cell 116: 769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2119320" cy="244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>
            <a:off x="2629080" y="620280"/>
            <a:ext cx="533160" cy="381240"/>
          </a:xfrm>
          <a:prstGeom prst="line">
            <a:avLst/>
          </a:prstGeom>
          <a:ln w="38160">
            <a:solidFill>
              <a:srgbClr val="ff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2419200"/>
            <a:ext cx="533520" cy="304920"/>
          </a:xfrm>
          <a:prstGeom prst="line">
            <a:avLst/>
          </a:prstGeom>
          <a:ln w="38160">
            <a:solidFill>
              <a:srgbClr val="ff66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966400" y="2924280"/>
            <a:ext cx="5493240" cy="3423600"/>
            <a:chOff x="2966400" y="2924280"/>
            <a:chExt cx="5493240" cy="3423600"/>
          </a:xfrm>
        </p:grpSpPr>
        <p:sp>
          <p:nvSpPr>
            <p:cNvPr id="162" name=""/>
            <p:cNvSpPr/>
            <p:nvPr/>
          </p:nvSpPr>
          <p:spPr>
            <a:xfrm rot="16428600">
              <a:off x="3326760" y="3059640"/>
              <a:ext cx="2909160" cy="3444480"/>
            </a:xfrm>
            <a:prstGeom prst="blockArc">
              <a:avLst>
                <a:gd name="adj1" fmla="val 10765477"/>
                <a:gd name="adj2" fmla="val 34523"/>
                <a:gd name="adj3" fmla="val 8509"/>
              </a:avLst>
            </a:prstGeom>
            <a:solidFill>
              <a:srgbClr val="e2e97b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87440" y="3821400"/>
              <a:ext cx="558000" cy="53568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21600" y="4537800"/>
              <a:ext cx="558000" cy="49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93840" y="5118840"/>
              <a:ext cx="605160" cy="58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7080" y="3547080"/>
              <a:ext cx="1324440" cy="2424600"/>
            </a:xfrm>
            <a:custGeom>
              <a:avLst/>
              <a:gdLst/>
              <a:ahLst/>
              <a:rect l="l" t="t" r="r" b="b"/>
              <a:pathLst>
                <a:path w="1291" h="2457">
                  <a:moveTo>
                    <a:pt x="1113" y="65"/>
                  </a:moveTo>
                  <a:cubicBezTo>
                    <a:pt x="1126" y="104"/>
                    <a:pt x="1156" y="156"/>
                    <a:pt x="1185" y="185"/>
                  </a:cubicBezTo>
                  <a:cubicBezTo>
                    <a:pt x="1200" y="231"/>
                    <a:pt x="1182" y="188"/>
                    <a:pt x="1217" y="233"/>
                  </a:cubicBezTo>
                  <a:cubicBezTo>
                    <a:pt x="1229" y="248"/>
                    <a:pt x="1255" y="299"/>
                    <a:pt x="1249" y="281"/>
                  </a:cubicBezTo>
                  <a:cubicBezTo>
                    <a:pt x="1233" y="233"/>
                    <a:pt x="1191" y="233"/>
                    <a:pt x="1145" y="225"/>
                  </a:cubicBezTo>
                  <a:cubicBezTo>
                    <a:pt x="1142" y="209"/>
                    <a:pt x="1150" y="186"/>
                    <a:pt x="1137" y="177"/>
                  </a:cubicBezTo>
                  <a:cubicBezTo>
                    <a:pt x="1118" y="164"/>
                    <a:pt x="1095" y="194"/>
                    <a:pt x="1073" y="201"/>
                  </a:cubicBezTo>
                  <a:cubicBezTo>
                    <a:pt x="1068" y="209"/>
                    <a:pt x="1065" y="220"/>
                    <a:pt x="1057" y="225"/>
                  </a:cubicBezTo>
                  <a:cubicBezTo>
                    <a:pt x="1043" y="234"/>
                    <a:pt x="1009" y="241"/>
                    <a:pt x="1009" y="241"/>
                  </a:cubicBezTo>
                  <a:cubicBezTo>
                    <a:pt x="1012" y="228"/>
                    <a:pt x="1005" y="208"/>
                    <a:pt x="1017" y="201"/>
                  </a:cubicBezTo>
                  <a:cubicBezTo>
                    <a:pt x="1090" y="159"/>
                    <a:pt x="1051" y="251"/>
                    <a:pt x="1073" y="185"/>
                  </a:cubicBezTo>
                  <a:cubicBezTo>
                    <a:pt x="1068" y="156"/>
                    <a:pt x="1082" y="113"/>
                    <a:pt x="1057" y="97"/>
                  </a:cubicBezTo>
                  <a:cubicBezTo>
                    <a:pt x="903" y="0"/>
                    <a:pt x="934" y="137"/>
                    <a:pt x="993" y="177"/>
                  </a:cubicBezTo>
                  <a:cubicBezTo>
                    <a:pt x="1013" y="237"/>
                    <a:pt x="982" y="226"/>
                    <a:pt x="937" y="241"/>
                  </a:cubicBezTo>
                  <a:cubicBezTo>
                    <a:pt x="934" y="249"/>
                    <a:pt x="937" y="265"/>
                    <a:pt x="929" y="265"/>
                  </a:cubicBezTo>
                  <a:cubicBezTo>
                    <a:pt x="914" y="265"/>
                    <a:pt x="911" y="223"/>
                    <a:pt x="905" y="217"/>
                  </a:cubicBezTo>
                  <a:cubicBezTo>
                    <a:pt x="886" y="198"/>
                    <a:pt x="852" y="205"/>
                    <a:pt x="825" y="201"/>
                  </a:cubicBezTo>
                  <a:cubicBezTo>
                    <a:pt x="795" y="245"/>
                    <a:pt x="819" y="221"/>
                    <a:pt x="849" y="265"/>
                  </a:cubicBezTo>
                  <a:cubicBezTo>
                    <a:pt x="826" y="333"/>
                    <a:pt x="829" y="211"/>
                    <a:pt x="825" y="201"/>
                  </a:cubicBezTo>
                  <a:cubicBezTo>
                    <a:pt x="822" y="193"/>
                    <a:pt x="809" y="196"/>
                    <a:pt x="801" y="193"/>
                  </a:cubicBezTo>
                  <a:cubicBezTo>
                    <a:pt x="741" y="205"/>
                    <a:pt x="708" y="221"/>
                    <a:pt x="673" y="273"/>
                  </a:cubicBezTo>
                  <a:cubicBezTo>
                    <a:pt x="702" y="283"/>
                    <a:pt x="745" y="329"/>
                    <a:pt x="745" y="329"/>
                  </a:cubicBezTo>
                  <a:cubicBezTo>
                    <a:pt x="722" y="337"/>
                    <a:pt x="688" y="325"/>
                    <a:pt x="673" y="345"/>
                  </a:cubicBezTo>
                  <a:cubicBezTo>
                    <a:pt x="666" y="354"/>
                    <a:pt x="690" y="360"/>
                    <a:pt x="697" y="369"/>
                  </a:cubicBezTo>
                  <a:cubicBezTo>
                    <a:pt x="703" y="376"/>
                    <a:pt x="708" y="385"/>
                    <a:pt x="713" y="393"/>
                  </a:cubicBezTo>
                  <a:cubicBezTo>
                    <a:pt x="710" y="404"/>
                    <a:pt x="715" y="421"/>
                    <a:pt x="705" y="425"/>
                  </a:cubicBezTo>
                  <a:cubicBezTo>
                    <a:pt x="670" y="440"/>
                    <a:pt x="651" y="411"/>
                    <a:pt x="633" y="393"/>
                  </a:cubicBezTo>
                  <a:cubicBezTo>
                    <a:pt x="630" y="372"/>
                    <a:pt x="644" y="339"/>
                    <a:pt x="625" y="329"/>
                  </a:cubicBezTo>
                  <a:cubicBezTo>
                    <a:pt x="597" y="314"/>
                    <a:pt x="559" y="327"/>
                    <a:pt x="529" y="337"/>
                  </a:cubicBezTo>
                  <a:cubicBezTo>
                    <a:pt x="520" y="340"/>
                    <a:pt x="545" y="348"/>
                    <a:pt x="553" y="353"/>
                  </a:cubicBezTo>
                  <a:cubicBezTo>
                    <a:pt x="556" y="361"/>
                    <a:pt x="567" y="371"/>
                    <a:pt x="561" y="377"/>
                  </a:cubicBezTo>
                  <a:cubicBezTo>
                    <a:pt x="549" y="389"/>
                    <a:pt x="513" y="393"/>
                    <a:pt x="513" y="393"/>
                  </a:cubicBezTo>
                  <a:cubicBezTo>
                    <a:pt x="500" y="432"/>
                    <a:pt x="487" y="423"/>
                    <a:pt x="449" y="433"/>
                  </a:cubicBezTo>
                  <a:cubicBezTo>
                    <a:pt x="428" y="430"/>
                    <a:pt x="401" y="439"/>
                    <a:pt x="385" y="425"/>
                  </a:cubicBezTo>
                  <a:cubicBezTo>
                    <a:pt x="375" y="416"/>
                    <a:pt x="383" y="395"/>
                    <a:pt x="393" y="385"/>
                  </a:cubicBezTo>
                  <a:cubicBezTo>
                    <a:pt x="405" y="373"/>
                    <a:pt x="441" y="369"/>
                    <a:pt x="441" y="369"/>
                  </a:cubicBezTo>
                  <a:cubicBezTo>
                    <a:pt x="465" y="406"/>
                    <a:pt x="482" y="420"/>
                    <a:pt x="449" y="481"/>
                  </a:cubicBezTo>
                  <a:cubicBezTo>
                    <a:pt x="441" y="496"/>
                    <a:pt x="417" y="492"/>
                    <a:pt x="401" y="497"/>
                  </a:cubicBezTo>
                  <a:cubicBezTo>
                    <a:pt x="392" y="500"/>
                    <a:pt x="385" y="508"/>
                    <a:pt x="377" y="513"/>
                  </a:cubicBezTo>
                  <a:cubicBezTo>
                    <a:pt x="410" y="591"/>
                    <a:pt x="399" y="573"/>
                    <a:pt x="481" y="585"/>
                  </a:cubicBezTo>
                  <a:cubicBezTo>
                    <a:pt x="459" y="629"/>
                    <a:pt x="453" y="638"/>
                    <a:pt x="409" y="609"/>
                  </a:cubicBezTo>
                  <a:cubicBezTo>
                    <a:pt x="406" y="593"/>
                    <a:pt x="412" y="572"/>
                    <a:pt x="401" y="561"/>
                  </a:cubicBezTo>
                  <a:cubicBezTo>
                    <a:pt x="341" y="501"/>
                    <a:pt x="343" y="626"/>
                    <a:pt x="361" y="497"/>
                  </a:cubicBezTo>
                  <a:cubicBezTo>
                    <a:pt x="353" y="494"/>
                    <a:pt x="345" y="489"/>
                    <a:pt x="337" y="489"/>
                  </a:cubicBezTo>
                  <a:cubicBezTo>
                    <a:pt x="231" y="489"/>
                    <a:pt x="292" y="576"/>
                    <a:pt x="329" y="625"/>
                  </a:cubicBezTo>
                  <a:cubicBezTo>
                    <a:pt x="359" y="716"/>
                    <a:pt x="354" y="696"/>
                    <a:pt x="233" y="705"/>
                  </a:cubicBezTo>
                  <a:cubicBezTo>
                    <a:pt x="202" y="752"/>
                    <a:pt x="194" y="793"/>
                    <a:pt x="257" y="809"/>
                  </a:cubicBezTo>
                  <a:cubicBezTo>
                    <a:pt x="299" y="788"/>
                    <a:pt x="306" y="784"/>
                    <a:pt x="353" y="793"/>
                  </a:cubicBezTo>
                  <a:cubicBezTo>
                    <a:pt x="307" y="770"/>
                    <a:pt x="284" y="769"/>
                    <a:pt x="233" y="777"/>
                  </a:cubicBezTo>
                  <a:cubicBezTo>
                    <a:pt x="230" y="785"/>
                    <a:pt x="233" y="801"/>
                    <a:pt x="225" y="801"/>
                  </a:cubicBezTo>
                  <a:cubicBezTo>
                    <a:pt x="214" y="801"/>
                    <a:pt x="202" y="788"/>
                    <a:pt x="201" y="777"/>
                  </a:cubicBezTo>
                  <a:cubicBezTo>
                    <a:pt x="197" y="745"/>
                    <a:pt x="197" y="711"/>
                    <a:pt x="209" y="681"/>
                  </a:cubicBezTo>
                  <a:cubicBezTo>
                    <a:pt x="218" y="659"/>
                    <a:pt x="271" y="653"/>
                    <a:pt x="289" y="649"/>
                  </a:cubicBezTo>
                  <a:cubicBezTo>
                    <a:pt x="253" y="625"/>
                    <a:pt x="247" y="616"/>
                    <a:pt x="209" y="641"/>
                  </a:cubicBezTo>
                  <a:cubicBezTo>
                    <a:pt x="200" y="667"/>
                    <a:pt x="183" y="686"/>
                    <a:pt x="177" y="713"/>
                  </a:cubicBezTo>
                  <a:cubicBezTo>
                    <a:pt x="173" y="729"/>
                    <a:pt x="176" y="746"/>
                    <a:pt x="169" y="761"/>
                  </a:cubicBezTo>
                  <a:cubicBezTo>
                    <a:pt x="165" y="770"/>
                    <a:pt x="152" y="771"/>
                    <a:pt x="145" y="777"/>
                  </a:cubicBezTo>
                  <a:cubicBezTo>
                    <a:pt x="122" y="796"/>
                    <a:pt x="121" y="801"/>
                    <a:pt x="105" y="825"/>
                  </a:cubicBezTo>
                  <a:cubicBezTo>
                    <a:pt x="154" y="907"/>
                    <a:pt x="94" y="831"/>
                    <a:pt x="209" y="873"/>
                  </a:cubicBezTo>
                  <a:cubicBezTo>
                    <a:pt x="217" y="876"/>
                    <a:pt x="212" y="890"/>
                    <a:pt x="217" y="897"/>
                  </a:cubicBezTo>
                  <a:cubicBezTo>
                    <a:pt x="223" y="905"/>
                    <a:pt x="233" y="908"/>
                    <a:pt x="241" y="913"/>
                  </a:cubicBezTo>
                  <a:cubicBezTo>
                    <a:pt x="238" y="937"/>
                    <a:pt x="251" y="969"/>
                    <a:pt x="233" y="985"/>
                  </a:cubicBezTo>
                  <a:cubicBezTo>
                    <a:pt x="179" y="1033"/>
                    <a:pt x="168" y="975"/>
                    <a:pt x="161" y="953"/>
                  </a:cubicBezTo>
                  <a:cubicBezTo>
                    <a:pt x="164" y="940"/>
                    <a:pt x="157" y="919"/>
                    <a:pt x="169" y="913"/>
                  </a:cubicBezTo>
                  <a:cubicBezTo>
                    <a:pt x="182" y="907"/>
                    <a:pt x="198" y="919"/>
                    <a:pt x="209" y="929"/>
                  </a:cubicBezTo>
                  <a:cubicBezTo>
                    <a:pt x="247" y="963"/>
                    <a:pt x="262" y="1008"/>
                    <a:pt x="289" y="1049"/>
                  </a:cubicBezTo>
                  <a:cubicBezTo>
                    <a:pt x="303" y="1007"/>
                    <a:pt x="301" y="960"/>
                    <a:pt x="257" y="945"/>
                  </a:cubicBezTo>
                  <a:cubicBezTo>
                    <a:pt x="241" y="898"/>
                    <a:pt x="250" y="888"/>
                    <a:pt x="201" y="913"/>
                  </a:cubicBezTo>
                  <a:cubicBezTo>
                    <a:pt x="182" y="969"/>
                    <a:pt x="193" y="966"/>
                    <a:pt x="137" y="985"/>
                  </a:cubicBezTo>
                  <a:cubicBezTo>
                    <a:pt x="113" y="1009"/>
                    <a:pt x="108" y="1029"/>
                    <a:pt x="89" y="1057"/>
                  </a:cubicBezTo>
                  <a:cubicBezTo>
                    <a:pt x="57" y="1049"/>
                    <a:pt x="41" y="1038"/>
                    <a:pt x="9" y="1049"/>
                  </a:cubicBezTo>
                  <a:cubicBezTo>
                    <a:pt x="14" y="1068"/>
                    <a:pt x="7" y="1098"/>
                    <a:pt x="25" y="1105"/>
                  </a:cubicBezTo>
                  <a:cubicBezTo>
                    <a:pt x="70" y="1122"/>
                    <a:pt x="119" y="1103"/>
                    <a:pt x="161" y="1089"/>
                  </a:cubicBezTo>
                  <a:cubicBezTo>
                    <a:pt x="172" y="1092"/>
                    <a:pt x="187" y="1088"/>
                    <a:pt x="193" y="1097"/>
                  </a:cubicBezTo>
                  <a:cubicBezTo>
                    <a:pt x="214" y="1132"/>
                    <a:pt x="164" y="1134"/>
                    <a:pt x="153" y="1137"/>
                  </a:cubicBezTo>
                  <a:cubicBezTo>
                    <a:pt x="191" y="1114"/>
                    <a:pt x="210" y="1083"/>
                    <a:pt x="225" y="1129"/>
                  </a:cubicBezTo>
                  <a:cubicBezTo>
                    <a:pt x="222" y="1145"/>
                    <a:pt x="226" y="1163"/>
                    <a:pt x="217" y="1177"/>
                  </a:cubicBezTo>
                  <a:cubicBezTo>
                    <a:pt x="211" y="1187"/>
                    <a:pt x="194" y="1185"/>
                    <a:pt x="185" y="1193"/>
                  </a:cubicBezTo>
                  <a:cubicBezTo>
                    <a:pt x="178" y="1199"/>
                    <a:pt x="174" y="1209"/>
                    <a:pt x="169" y="1217"/>
                  </a:cubicBezTo>
                  <a:cubicBezTo>
                    <a:pt x="177" y="1220"/>
                    <a:pt x="187" y="1219"/>
                    <a:pt x="193" y="1225"/>
                  </a:cubicBezTo>
                  <a:cubicBezTo>
                    <a:pt x="199" y="1231"/>
                    <a:pt x="209" y="1246"/>
                    <a:pt x="201" y="1249"/>
                  </a:cubicBezTo>
                  <a:cubicBezTo>
                    <a:pt x="186" y="1255"/>
                    <a:pt x="169" y="1244"/>
                    <a:pt x="153" y="1241"/>
                  </a:cubicBezTo>
                  <a:cubicBezTo>
                    <a:pt x="89" y="1199"/>
                    <a:pt x="108" y="1228"/>
                    <a:pt x="97" y="1153"/>
                  </a:cubicBezTo>
                  <a:cubicBezTo>
                    <a:pt x="92" y="1169"/>
                    <a:pt x="81" y="1235"/>
                    <a:pt x="73" y="1241"/>
                  </a:cubicBezTo>
                  <a:cubicBezTo>
                    <a:pt x="59" y="1251"/>
                    <a:pt x="25" y="1257"/>
                    <a:pt x="25" y="1257"/>
                  </a:cubicBezTo>
                  <a:cubicBezTo>
                    <a:pt x="0" y="1295"/>
                    <a:pt x="9" y="1301"/>
                    <a:pt x="33" y="1337"/>
                  </a:cubicBezTo>
                  <a:cubicBezTo>
                    <a:pt x="36" y="1350"/>
                    <a:pt x="33" y="1366"/>
                    <a:pt x="41" y="1377"/>
                  </a:cubicBezTo>
                  <a:cubicBezTo>
                    <a:pt x="50" y="1389"/>
                    <a:pt x="65" y="1401"/>
                    <a:pt x="81" y="1401"/>
                  </a:cubicBezTo>
                  <a:cubicBezTo>
                    <a:pt x="89" y="1401"/>
                    <a:pt x="76" y="1385"/>
                    <a:pt x="73" y="1377"/>
                  </a:cubicBezTo>
                  <a:cubicBezTo>
                    <a:pt x="90" y="1327"/>
                    <a:pt x="105" y="1339"/>
                    <a:pt x="153" y="1353"/>
                  </a:cubicBezTo>
                  <a:cubicBezTo>
                    <a:pt x="207" y="1369"/>
                    <a:pt x="163" y="1350"/>
                    <a:pt x="217" y="1377"/>
                  </a:cubicBezTo>
                  <a:cubicBezTo>
                    <a:pt x="222" y="1350"/>
                    <a:pt x="220" y="1321"/>
                    <a:pt x="233" y="1297"/>
                  </a:cubicBezTo>
                  <a:cubicBezTo>
                    <a:pt x="238" y="1289"/>
                    <a:pt x="245" y="1312"/>
                    <a:pt x="249" y="1321"/>
                  </a:cubicBezTo>
                  <a:cubicBezTo>
                    <a:pt x="256" y="1336"/>
                    <a:pt x="265" y="1369"/>
                    <a:pt x="265" y="1369"/>
                  </a:cubicBezTo>
                  <a:cubicBezTo>
                    <a:pt x="257" y="1372"/>
                    <a:pt x="246" y="1370"/>
                    <a:pt x="241" y="1377"/>
                  </a:cubicBezTo>
                  <a:cubicBezTo>
                    <a:pt x="232" y="1389"/>
                    <a:pt x="211" y="1482"/>
                    <a:pt x="209" y="1489"/>
                  </a:cubicBezTo>
                  <a:cubicBezTo>
                    <a:pt x="190" y="1461"/>
                    <a:pt x="190" y="1444"/>
                    <a:pt x="161" y="1425"/>
                  </a:cubicBezTo>
                  <a:cubicBezTo>
                    <a:pt x="148" y="1428"/>
                    <a:pt x="131" y="1423"/>
                    <a:pt x="121" y="1433"/>
                  </a:cubicBezTo>
                  <a:cubicBezTo>
                    <a:pt x="109" y="1445"/>
                    <a:pt x="110" y="1465"/>
                    <a:pt x="105" y="1481"/>
                  </a:cubicBezTo>
                  <a:cubicBezTo>
                    <a:pt x="102" y="1489"/>
                    <a:pt x="97" y="1505"/>
                    <a:pt x="97" y="1505"/>
                  </a:cubicBezTo>
                  <a:cubicBezTo>
                    <a:pt x="112" y="1611"/>
                    <a:pt x="119" y="1526"/>
                    <a:pt x="33" y="1569"/>
                  </a:cubicBezTo>
                  <a:cubicBezTo>
                    <a:pt x="25" y="1573"/>
                    <a:pt x="37" y="1585"/>
                    <a:pt x="41" y="1593"/>
                  </a:cubicBezTo>
                  <a:cubicBezTo>
                    <a:pt x="58" y="1626"/>
                    <a:pt x="69" y="1625"/>
                    <a:pt x="105" y="1649"/>
                  </a:cubicBezTo>
                  <a:cubicBezTo>
                    <a:pt x="113" y="1654"/>
                    <a:pt x="129" y="1665"/>
                    <a:pt x="129" y="1665"/>
                  </a:cubicBezTo>
                  <a:cubicBezTo>
                    <a:pt x="198" y="1642"/>
                    <a:pt x="90" y="1686"/>
                    <a:pt x="161" y="1601"/>
                  </a:cubicBezTo>
                  <a:cubicBezTo>
                    <a:pt x="163" y="1598"/>
                    <a:pt x="212" y="1615"/>
                    <a:pt x="217" y="1617"/>
                  </a:cubicBezTo>
                  <a:cubicBezTo>
                    <a:pt x="223" y="1598"/>
                    <a:pt x="221" y="1582"/>
                    <a:pt x="249" y="1585"/>
                  </a:cubicBezTo>
                  <a:cubicBezTo>
                    <a:pt x="271" y="1587"/>
                    <a:pt x="313" y="1601"/>
                    <a:pt x="313" y="1601"/>
                  </a:cubicBezTo>
                  <a:cubicBezTo>
                    <a:pt x="325" y="1518"/>
                    <a:pt x="306" y="1541"/>
                    <a:pt x="345" y="1569"/>
                  </a:cubicBezTo>
                  <a:cubicBezTo>
                    <a:pt x="355" y="1576"/>
                    <a:pt x="366" y="1580"/>
                    <a:pt x="377" y="1585"/>
                  </a:cubicBezTo>
                  <a:cubicBezTo>
                    <a:pt x="382" y="1593"/>
                    <a:pt x="392" y="1599"/>
                    <a:pt x="393" y="1609"/>
                  </a:cubicBezTo>
                  <a:cubicBezTo>
                    <a:pt x="401" y="1668"/>
                    <a:pt x="341" y="1634"/>
                    <a:pt x="313" y="1625"/>
                  </a:cubicBezTo>
                  <a:cubicBezTo>
                    <a:pt x="302" y="1628"/>
                    <a:pt x="286" y="1623"/>
                    <a:pt x="281" y="1633"/>
                  </a:cubicBezTo>
                  <a:cubicBezTo>
                    <a:pt x="275" y="1645"/>
                    <a:pt x="289" y="1659"/>
                    <a:pt x="289" y="1673"/>
                  </a:cubicBezTo>
                  <a:cubicBezTo>
                    <a:pt x="289" y="1687"/>
                    <a:pt x="284" y="1700"/>
                    <a:pt x="281" y="1713"/>
                  </a:cubicBezTo>
                  <a:cubicBezTo>
                    <a:pt x="262" y="1710"/>
                    <a:pt x="243" y="1710"/>
                    <a:pt x="225" y="1705"/>
                  </a:cubicBezTo>
                  <a:cubicBezTo>
                    <a:pt x="213" y="1702"/>
                    <a:pt x="205" y="1687"/>
                    <a:pt x="193" y="1689"/>
                  </a:cubicBezTo>
                  <a:cubicBezTo>
                    <a:pt x="184" y="1691"/>
                    <a:pt x="182" y="1705"/>
                    <a:pt x="177" y="1713"/>
                  </a:cubicBezTo>
                  <a:cubicBezTo>
                    <a:pt x="196" y="1771"/>
                    <a:pt x="189" y="1745"/>
                    <a:pt x="201" y="1793"/>
                  </a:cubicBezTo>
                  <a:cubicBezTo>
                    <a:pt x="212" y="1790"/>
                    <a:pt x="224" y="1779"/>
                    <a:pt x="233" y="1785"/>
                  </a:cubicBezTo>
                  <a:cubicBezTo>
                    <a:pt x="280" y="1813"/>
                    <a:pt x="203" y="1830"/>
                    <a:pt x="265" y="1809"/>
                  </a:cubicBezTo>
                  <a:cubicBezTo>
                    <a:pt x="268" y="1801"/>
                    <a:pt x="267" y="1779"/>
                    <a:pt x="273" y="1785"/>
                  </a:cubicBezTo>
                  <a:cubicBezTo>
                    <a:pt x="285" y="1797"/>
                    <a:pt x="284" y="1817"/>
                    <a:pt x="289" y="1833"/>
                  </a:cubicBezTo>
                  <a:cubicBezTo>
                    <a:pt x="298" y="1859"/>
                    <a:pt x="315" y="1882"/>
                    <a:pt x="337" y="1897"/>
                  </a:cubicBezTo>
                  <a:cubicBezTo>
                    <a:pt x="345" y="1889"/>
                    <a:pt x="359" y="1884"/>
                    <a:pt x="361" y="1873"/>
                  </a:cubicBezTo>
                  <a:cubicBezTo>
                    <a:pt x="365" y="1849"/>
                    <a:pt x="341" y="1781"/>
                    <a:pt x="361" y="1769"/>
                  </a:cubicBezTo>
                  <a:cubicBezTo>
                    <a:pt x="377" y="1759"/>
                    <a:pt x="398" y="1758"/>
                    <a:pt x="417" y="1753"/>
                  </a:cubicBezTo>
                  <a:cubicBezTo>
                    <a:pt x="412" y="1745"/>
                    <a:pt x="399" y="1738"/>
                    <a:pt x="401" y="1729"/>
                  </a:cubicBezTo>
                  <a:cubicBezTo>
                    <a:pt x="407" y="1700"/>
                    <a:pt x="447" y="1718"/>
                    <a:pt x="457" y="1721"/>
                  </a:cubicBezTo>
                  <a:cubicBezTo>
                    <a:pt x="454" y="1740"/>
                    <a:pt x="453" y="1759"/>
                    <a:pt x="449" y="1777"/>
                  </a:cubicBezTo>
                  <a:cubicBezTo>
                    <a:pt x="445" y="1793"/>
                    <a:pt x="433" y="1825"/>
                    <a:pt x="433" y="1825"/>
                  </a:cubicBezTo>
                  <a:cubicBezTo>
                    <a:pt x="445" y="1895"/>
                    <a:pt x="441" y="1881"/>
                    <a:pt x="377" y="1897"/>
                  </a:cubicBezTo>
                  <a:cubicBezTo>
                    <a:pt x="374" y="1921"/>
                    <a:pt x="379" y="1947"/>
                    <a:pt x="369" y="1969"/>
                  </a:cubicBezTo>
                  <a:cubicBezTo>
                    <a:pt x="364" y="1980"/>
                    <a:pt x="346" y="1977"/>
                    <a:pt x="337" y="1985"/>
                  </a:cubicBezTo>
                  <a:cubicBezTo>
                    <a:pt x="330" y="1991"/>
                    <a:pt x="326" y="2001"/>
                    <a:pt x="321" y="2009"/>
                  </a:cubicBezTo>
                  <a:cubicBezTo>
                    <a:pt x="349" y="2037"/>
                    <a:pt x="374" y="2039"/>
                    <a:pt x="409" y="2057"/>
                  </a:cubicBezTo>
                  <a:cubicBezTo>
                    <a:pt x="465" y="2038"/>
                    <a:pt x="551" y="2068"/>
                    <a:pt x="449" y="2017"/>
                  </a:cubicBezTo>
                  <a:cubicBezTo>
                    <a:pt x="399" y="1942"/>
                    <a:pt x="451" y="1952"/>
                    <a:pt x="513" y="1945"/>
                  </a:cubicBezTo>
                  <a:cubicBezTo>
                    <a:pt x="531" y="1918"/>
                    <a:pt x="537" y="1897"/>
                    <a:pt x="545" y="1865"/>
                  </a:cubicBezTo>
                  <a:cubicBezTo>
                    <a:pt x="595" y="1878"/>
                    <a:pt x="608" y="1863"/>
                    <a:pt x="633" y="1913"/>
                  </a:cubicBezTo>
                  <a:cubicBezTo>
                    <a:pt x="626" y="1956"/>
                    <a:pt x="629" y="2009"/>
                    <a:pt x="609" y="2049"/>
                  </a:cubicBezTo>
                  <a:cubicBezTo>
                    <a:pt x="605" y="2058"/>
                    <a:pt x="601" y="2068"/>
                    <a:pt x="593" y="2073"/>
                  </a:cubicBezTo>
                  <a:cubicBezTo>
                    <a:pt x="579" y="2082"/>
                    <a:pt x="545" y="2089"/>
                    <a:pt x="545" y="2089"/>
                  </a:cubicBezTo>
                  <a:cubicBezTo>
                    <a:pt x="529" y="2086"/>
                    <a:pt x="507" y="2093"/>
                    <a:pt x="497" y="2081"/>
                  </a:cubicBezTo>
                  <a:cubicBezTo>
                    <a:pt x="460" y="2037"/>
                    <a:pt x="552" y="2031"/>
                    <a:pt x="569" y="2025"/>
                  </a:cubicBezTo>
                  <a:cubicBezTo>
                    <a:pt x="563" y="2044"/>
                    <a:pt x="546" y="2061"/>
                    <a:pt x="545" y="2081"/>
                  </a:cubicBezTo>
                  <a:cubicBezTo>
                    <a:pt x="542" y="2123"/>
                    <a:pt x="553" y="2168"/>
                    <a:pt x="561" y="2209"/>
                  </a:cubicBezTo>
                  <a:cubicBezTo>
                    <a:pt x="613" y="2122"/>
                    <a:pt x="549" y="2201"/>
                    <a:pt x="633" y="2177"/>
                  </a:cubicBezTo>
                  <a:cubicBezTo>
                    <a:pt x="641" y="2175"/>
                    <a:pt x="639" y="2161"/>
                    <a:pt x="641" y="2153"/>
                  </a:cubicBezTo>
                  <a:cubicBezTo>
                    <a:pt x="644" y="2140"/>
                    <a:pt x="646" y="2126"/>
                    <a:pt x="649" y="2113"/>
                  </a:cubicBezTo>
                  <a:cubicBezTo>
                    <a:pt x="660" y="2116"/>
                    <a:pt x="672" y="2114"/>
                    <a:pt x="681" y="2121"/>
                  </a:cubicBezTo>
                  <a:cubicBezTo>
                    <a:pt x="688" y="2126"/>
                    <a:pt x="688" y="2137"/>
                    <a:pt x="689" y="2145"/>
                  </a:cubicBezTo>
                  <a:cubicBezTo>
                    <a:pt x="696" y="2198"/>
                    <a:pt x="705" y="2305"/>
                    <a:pt x="705" y="2305"/>
                  </a:cubicBezTo>
                  <a:cubicBezTo>
                    <a:pt x="777" y="2287"/>
                    <a:pt x="739" y="2240"/>
                    <a:pt x="721" y="2185"/>
                  </a:cubicBezTo>
                  <a:cubicBezTo>
                    <a:pt x="729" y="2180"/>
                    <a:pt x="735" y="2170"/>
                    <a:pt x="745" y="2169"/>
                  </a:cubicBezTo>
                  <a:cubicBezTo>
                    <a:pt x="823" y="2162"/>
                    <a:pt x="800" y="2204"/>
                    <a:pt x="817" y="2153"/>
                  </a:cubicBezTo>
                  <a:cubicBezTo>
                    <a:pt x="836" y="2181"/>
                    <a:pt x="849" y="2190"/>
                    <a:pt x="881" y="2201"/>
                  </a:cubicBezTo>
                  <a:cubicBezTo>
                    <a:pt x="889" y="2226"/>
                    <a:pt x="884" y="2298"/>
                    <a:pt x="865" y="2313"/>
                  </a:cubicBezTo>
                  <a:cubicBezTo>
                    <a:pt x="846" y="2328"/>
                    <a:pt x="817" y="2318"/>
                    <a:pt x="793" y="2321"/>
                  </a:cubicBezTo>
                  <a:cubicBezTo>
                    <a:pt x="806" y="2360"/>
                    <a:pt x="837" y="2373"/>
                    <a:pt x="873" y="2385"/>
                  </a:cubicBezTo>
                  <a:cubicBezTo>
                    <a:pt x="889" y="2382"/>
                    <a:pt x="908" y="2386"/>
                    <a:pt x="921" y="2377"/>
                  </a:cubicBezTo>
                  <a:cubicBezTo>
                    <a:pt x="930" y="2371"/>
                    <a:pt x="926" y="2356"/>
                    <a:pt x="929" y="2345"/>
                  </a:cubicBezTo>
                  <a:cubicBezTo>
                    <a:pt x="934" y="2329"/>
                    <a:pt x="931" y="2306"/>
                    <a:pt x="945" y="2297"/>
                  </a:cubicBezTo>
                  <a:cubicBezTo>
                    <a:pt x="968" y="2282"/>
                    <a:pt x="998" y="2286"/>
                    <a:pt x="1025" y="2281"/>
                  </a:cubicBezTo>
                  <a:cubicBezTo>
                    <a:pt x="988" y="2393"/>
                    <a:pt x="1047" y="2265"/>
                    <a:pt x="921" y="2337"/>
                  </a:cubicBezTo>
                  <a:cubicBezTo>
                    <a:pt x="909" y="2344"/>
                    <a:pt x="942" y="2354"/>
                    <a:pt x="953" y="2361"/>
                  </a:cubicBezTo>
                  <a:cubicBezTo>
                    <a:pt x="987" y="2382"/>
                    <a:pt x="990" y="2378"/>
                    <a:pt x="1033" y="2385"/>
                  </a:cubicBezTo>
                  <a:cubicBezTo>
                    <a:pt x="1044" y="2390"/>
                    <a:pt x="1056" y="2393"/>
                    <a:pt x="1065" y="2401"/>
                  </a:cubicBezTo>
                  <a:cubicBezTo>
                    <a:pt x="1098" y="2428"/>
                    <a:pt x="1066" y="2441"/>
                    <a:pt x="1113" y="2457"/>
                  </a:cubicBezTo>
                  <a:cubicBezTo>
                    <a:pt x="1124" y="2452"/>
                    <a:pt x="1137" y="2450"/>
                    <a:pt x="1145" y="2441"/>
                  </a:cubicBezTo>
                  <a:cubicBezTo>
                    <a:pt x="1210" y="2364"/>
                    <a:pt x="1096" y="2447"/>
                    <a:pt x="1177" y="2393"/>
                  </a:cubicBezTo>
                  <a:cubicBezTo>
                    <a:pt x="1178" y="2394"/>
                    <a:pt x="1218" y="2424"/>
                    <a:pt x="1225" y="2417"/>
                  </a:cubicBezTo>
                  <a:cubicBezTo>
                    <a:pt x="1233" y="2409"/>
                    <a:pt x="1217" y="2396"/>
                    <a:pt x="1217" y="2385"/>
                  </a:cubicBezTo>
                  <a:lnTo>
                    <a:pt x="1291" y="2410"/>
                  </a:ln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6760" y="399996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26760" y="525312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60920" y="471636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19240" y="3596040"/>
              <a:ext cx="418320" cy="312840"/>
            </a:xfrm>
            <a:prstGeom prst="rightArrow">
              <a:avLst>
                <a:gd name="adj1" fmla="val 50000"/>
                <a:gd name="adj2" fmla="val 33429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1520" y="3596040"/>
              <a:ext cx="559080" cy="535680"/>
            </a:xfrm>
            <a:prstGeom prst="ellipse">
              <a:avLst/>
            </a:prstGeom>
            <a:gradFill rotWithShape="0">
              <a:gsLst>
                <a:gs pos="0">
                  <a:srgbClr val="ff9999">
                    <a:alpha val="74117"/>
                  </a:srgbClr>
                </a:gs>
                <a:gs pos="100000">
                  <a:srgbClr val="75464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70840" y="3774960"/>
              <a:ext cx="279000" cy="223920"/>
            </a:xfrm>
            <a:prstGeom prst="ellipse">
              <a:avLst/>
            </a:prstGeom>
            <a:gradFill rotWithShape="0">
              <a:gsLst>
                <a:gs pos="0">
                  <a:srgbClr val="ffcccc">
                    <a:alpha val="85098"/>
                  </a:srgbClr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170000">
              <a:off x="4411800" y="4358160"/>
              <a:ext cx="605160" cy="447840"/>
            </a:xfrm>
            <a:custGeom>
              <a:avLst/>
              <a:gdLst>
                <a:gd name="textAreaLeft" fmla="*/ 0 w 605160"/>
                <a:gd name="textAreaRight" fmla="*/ 605520 w 60516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24800" y="3507480"/>
              <a:ext cx="558000" cy="49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11280" y="359748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645440" y="3865320"/>
              <a:ext cx="279000" cy="134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45440" y="4045320"/>
              <a:ext cx="279000" cy="133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24800" y="4045320"/>
              <a:ext cx="558000" cy="49140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11280" y="4134960"/>
              <a:ext cx="279000" cy="223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60920" y="431388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40280" y="43581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26760" y="47163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00600" y="408960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87440" y="498492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99360" y="377604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06120" y="43581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08080" y="50745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06120" y="570132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59680" y="5074560"/>
              <a:ext cx="139320" cy="89640"/>
            </a:xfrm>
            <a:prstGeom prst="flowChartExtra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558400">
              <a:off x="6701760" y="3287160"/>
              <a:ext cx="1069920" cy="179280"/>
            </a:xfrm>
            <a:prstGeom prst="rightArrow">
              <a:avLst>
                <a:gd name="adj1" fmla="val 50000"/>
                <a:gd name="adj2" fmla="val 149197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1237600">
              <a:off x="6783120" y="3595680"/>
              <a:ext cx="1012680" cy="179640"/>
            </a:xfrm>
            <a:prstGeom prst="rightArrow">
              <a:avLst>
                <a:gd name="adj1" fmla="val 50000"/>
                <a:gd name="adj2" fmla="val 140932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606600">
              <a:off x="6736680" y="3909240"/>
              <a:ext cx="1070280" cy="179640"/>
            </a:xfrm>
            <a:prstGeom prst="rightArrow">
              <a:avLst>
                <a:gd name="adj1" fmla="val 50000"/>
                <a:gd name="adj2" fmla="val 148948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714800">
              <a:off x="6643080" y="4222440"/>
              <a:ext cx="1070280" cy="179640"/>
            </a:xfrm>
            <a:prstGeom prst="rightArrow">
              <a:avLst>
                <a:gd name="adj1" fmla="val 50000"/>
                <a:gd name="adj2" fmla="val 148948"/>
              </a:avLst>
            </a:prstGeom>
            <a:noFill/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00560" y="2924280"/>
              <a:ext cx="465840" cy="402480"/>
            </a:xfrm>
            <a:prstGeom prst="rect">
              <a:avLst/>
            </a:prstGeom>
            <a:gradFill rotWithShape="0">
              <a:gsLst>
                <a:gs pos="0">
                  <a:srgbClr val="ccccff">
                    <a:alpha val="86274"/>
                  </a:srgbClr>
                </a:gs>
                <a:gs pos="100000">
                  <a:srgbClr val="5e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54480" y="3416760"/>
              <a:ext cx="605160" cy="40248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80392"/>
                  </a:srgbClr>
                </a:gs>
                <a:gs pos="100000">
                  <a:srgbClr val="465e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54480" y="3953520"/>
              <a:ext cx="605160" cy="312840"/>
            </a:xfrm>
            <a:prstGeom prst="flowChartAlternateProcess">
              <a:avLst/>
            </a:prstGeom>
            <a:gradFill rotWithShape="0">
              <a:gsLst>
                <a:gs pos="0">
                  <a:srgbClr val="cc99ff">
                    <a:alpha val="82352"/>
                  </a:srgbClr>
                </a:gs>
                <a:gs pos="100000">
                  <a:srgbClr val="5e467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54480" y="4401360"/>
              <a:ext cx="465840" cy="492480"/>
            </a:xfrm>
            <a:prstGeom prst="hexagon">
              <a:avLst>
                <a:gd name="adj" fmla="val 25000"/>
                <a:gd name="vf" fmla="val 115470"/>
              </a:avLst>
            </a:prstGeom>
            <a:gradFill rotWithShape="0">
              <a:gsLst>
                <a:gs pos="0">
                  <a:srgbClr val="ffcccc">
                    <a:alpha val="82352"/>
                  </a:srgbClr>
                </a:gs>
                <a:gs pos="100000">
                  <a:srgbClr val="755e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93800" y="3058560"/>
              <a:ext cx="18576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39880" y="3550680"/>
              <a:ext cx="18540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39880" y="3998880"/>
              <a:ext cx="18540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46640" y="4581000"/>
              <a:ext cx="185400" cy="17856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276720" y="5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élulas tron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060720" y="2276640"/>
            <a:ext cx="3384360" cy="1190520"/>
            <a:chOff x="3060720" y="2276640"/>
            <a:chExt cx="3384360" cy="1190520"/>
          </a:xfrm>
        </p:grpSpPr>
        <p:sp>
          <p:nvSpPr>
            <p:cNvPr id="204" name=""/>
            <p:cNvSpPr/>
            <p:nvPr/>
          </p:nvSpPr>
          <p:spPr>
            <a:xfrm>
              <a:off x="4141800" y="2709720"/>
              <a:ext cx="792000" cy="72036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781440" y="2709360"/>
              <a:ext cx="1655640" cy="70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347560"/>
              <a:ext cx="1295280" cy="3070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troncal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13080" y="30682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nich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3800" y="2276640"/>
              <a:ext cx="1511280" cy="3070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ahoma"/>
                </a:rPr>
                <a:t>diferenci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056240" y="458136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Señales  difu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84720" y="4724280"/>
            <a:ext cx="30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Interacción célula-cél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Adhesión 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38760" y="6093000"/>
            <a:ext cx="357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Fuchs     Cell 116: 76-778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Tahoma"/>
              </a:rPr>
              <a:t>Alonso   Genes Dev 17: 1189-1200,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5080" y="2637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54280" y="47242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Tahoma"/>
              </a:rPr>
              <a:t>Matriz extracel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8000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71640" y="1197000"/>
            <a:ext cx="403236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76720" y="3645000"/>
            <a:ext cx="1582920" cy="100800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3860640"/>
            <a:ext cx="0" cy="79236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987280" y="3645000"/>
            <a:ext cx="1150920" cy="93636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3T22:45:17Z</dcterms:created>
  <dc:creator>Andrea Kukuljan</dc:creator>
  <dc:description/>
  <dc:language>en-US</dc:language>
  <cp:lastModifiedBy>Gina Madariaga</cp:lastModifiedBy>
  <cp:lastPrinted>2002-06-30T12:51:04Z</cp:lastPrinted>
  <dcterms:modified xsi:type="dcterms:W3CDTF">2007-10-05T13:47:50Z</dcterms:modified>
  <cp:revision>200</cp:revision>
  <dc:subject/>
  <dc:title>No Slide Title</dc:title>
</cp:coreProperties>
</file>