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78B-B08F-49A3-BD6B-A8F858DE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B4E-4FC3-4F47-AE27-D8547839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F75-5580-4964-805E-9176807F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3DC-E066-4AC5-B6B3-EEA60139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4CC-EA15-4EDC-BCC9-1983B350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133-8D07-4309-ADEE-956D170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313-0FCA-4373-A72D-ECB2DED5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8D2-647E-4D16-9137-F0358985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EFA-17E4-4389-A138-8AF13D78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4E4-1CFF-4F37-825C-A9D983C4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ABF-0450-4DF2-848E-F6ED641E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AE3-7B84-417A-9488-64AA2D74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8DA3-1528-4F67-AA9E-AFC43BCDF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87280" y="1670040"/>
            <a:ext cx="1982880" cy="1168560"/>
            <a:chOff x="1187280" y="1670040"/>
            <a:chExt cx="1982880" cy="1168560"/>
          </a:xfrm>
        </p:grpSpPr>
        <p:sp>
          <p:nvSpPr>
            <p:cNvPr id="42" name=""/>
            <p:cNvSpPr/>
            <p:nvPr/>
          </p:nvSpPr>
          <p:spPr>
            <a:xfrm>
              <a:off x="1187280" y="190332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43080" y="1916280"/>
              <a:ext cx="1852560" cy="903240"/>
            </a:xfrm>
            <a:custGeom>
              <a:avLst/>
              <a:gdLst/>
              <a:ahLst/>
              <a:rect l="l" t="t" r="r" b="b"/>
              <a:pathLst>
                <a:path w="1167" h="569">
                  <a:moveTo>
                    <a:pt x="70" y="169"/>
                  </a:moveTo>
                  <a:cubicBezTo>
                    <a:pt x="110" y="135"/>
                    <a:pt x="191" y="89"/>
                    <a:pt x="243" y="75"/>
                  </a:cubicBezTo>
                  <a:cubicBezTo>
                    <a:pt x="295" y="60"/>
                    <a:pt x="366" y="57"/>
                    <a:pt x="382" y="83"/>
                  </a:cubicBezTo>
                  <a:cubicBezTo>
                    <a:pt x="398" y="109"/>
                    <a:pt x="348" y="204"/>
                    <a:pt x="340" y="232"/>
                  </a:cubicBezTo>
                  <a:cubicBezTo>
                    <a:pt x="331" y="260"/>
                    <a:pt x="330" y="250"/>
                    <a:pt x="330" y="253"/>
                  </a:cubicBezTo>
                  <a:cubicBezTo>
                    <a:pt x="331" y="257"/>
                    <a:pt x="329" y="288"/>
                    <a:pt x="346" y="256"/>
                  </a:cubicBezTo>
                  <a:cubicBezTo>
                    <a:pt x="364" y="225"/>
                    <a:pt x="405" y="108"/>
                    <a:pt x="436" y="67"/>
                  </a:cubicBezTo>
                  <a:cubicBezTo>
                    <a:pt x="466" y="26"/>
                    <a:pt x="498" y="18"/>
                    <a:pt x="531" y="9"/>
                  </a:cubicBezTo>
                  <a:cubicBezTo>
                    <a:pt x="564" y="0"/>
                    <a:pt x="613" y="10"/>
                    <a:pt x="635" y="11"/>
                  </a:cubicBezTo>
                  <a:cubicBezTo>
                    <a:pt x="657" y="11"/>
                    <a:pt x="664" y="10"/>
                    <a:pt x="665" y="15"/>
                  </a:cubicBezTo>
                  <a:cubicBezTo>
                    <a:pt x="667" y="21"/>
                    <a:pt x="653" y="34"/>
                    <a:pt x="645" y="43"/>
                  </a:cubicBezTo>
                  <a:cubicBezTo>
                    <a:pt x="638" y="52"/>
                    <a:pt x="628" y="57"/>
                    <a:pt x="621" y="69"/>
                  </a:cubicBezTo>
                  <a:cubicBezTo>
                    <a:pt x="614" y="80"/>
                    <a:pt x="603" y="103"/>
                    <a:pt x="603" y="110"/>
                  </a:cubicBezTo>
                  <a:cubicBezTo>
                    <a:pt x="603" y="117"/>
                    <a:pt x="606" y="126"/>
                    <a:pt x="621" y="111"/>
                  </a:cubicBezTo>
                  <a:cubicBezTo>
                    <a:pt x="636" y="97"/>
                    <a:pt x="665" y="35"/>
                    <a:pt x="688" y="24"/>
                  </a:cubicBezTo>
                  <a:cubicBezTo>
                    <a:pt x="712" y="14"/>
                    <a:pt x="756" y="22"/>
                    <a:pt x="762" y="49"/>
                  </a:cubicBezTo>
                  <a:cubicBezTo>
                    <a:pt x="769" y="76"/>
                    <a:pt x="727" y="166"/>
                    <a:pt x="728" y="187"/>
                  </a:cubicBezTo>
                  <a:cubicBezTo>
                    <a:pt x="730" y="208"/>
                    <a:pt x="762" y="200"/>
                    <a:pt x="774" y="179"/>
                  </a:cubicBezTo>
                  <a:cubicBezTo>
                    <a:pt x="786" y="157"/>
                    <a:pt x="769" y="74"/>
                    <a:pt x="801" y="58"/>
                  </a:cubicBezTo>
                  <a:cubicBezTo>
                    <a:pt x="834" y="42"/>
                    <a:pt x="918" y="63"/>
                    <a:pt x="971" y="83"/>
                  </a:cubicBezTo>
                  <a:cubicBezTo>
                    <a:pt x="1025" y="104"/>
                    <a:pt x="1089" y="149"/>
                    <a:pt x="1121" y="183"/>
                  </a:cubicBezTo>
                  <a:cubicBezTo>
                    <a:pt x="1153" y="218"/>
                    <a:pt x="1167" y="255"/>
                    <a:pt x="1162" y="290"/>
                  </a:cubicBezTo>
                  <a:cubicBezTo>
                    <a:pt x="1158" y="325"/>
                    <a:pt x="1116" y="401"/>
                    <a:pt x="1095" y="395"/>
                  </a:cubicBezTo>
                  <a:cubicBezTo>
                    <a:pt x="1074" y="390"/>
                    <a:pt x="1052" y="259"/>
                    <a:pt x="1040" y="256"/>
                  </a:cubicBezTo>
                  <a:cubicBezTo>
                    <a:pt x="1029" y="253"/>
                    <a:pt x="1053" y="374"/>
                    <a:pt x="1028" y="379"/>
                  </a:cubicBezTo>
                  <a:cubicBezTo>
                    <a:pt x="1003" y="384"/>
                    <a:pt x="911" y="272"/>
                    <a:pt x="887" y="286"/>
                  </a:cubicBezTo>
                  <a:cubicBezTo>
                    <a:pt x="863" y="300"/>
                    <a:pt x="894" y="423"/>
                    <a:pt x="887" y="462"/>
                  </a:cubicBezTo>
                  <a:cubicBezTo>
                    <a:pt x="880" y="501"/>
                    <a:pt x="867" y="548"/>
                    <a:pt x="843" y="520"/>
                  </a:cubicBezTo>
                  <a:cubicBezTo>
                    <a:pt x="819" y="492"/>
                    <a:pt x="769" y="295"/>
                    <a:pt x="741" y="296"/>
                  </a:cubicBezTo>
                  <a:cubicBezTo>
                    <a:pt x="713" y="297"/>
                    <a:pt x="698" y="491"/>
                    <a:pt x="677" y="528"/>
                  </a:cubicBezTo>
                  <a:cubicBezTo>
                    <a:pt x="656" y="565"/>
                    <a:pt x="619" y="558"/>
                    <a:pt x="613" y="518"/>
                  </a:cubicBezTo>
                  <a:cubicBezTo>
                    <a:pt x="607" y="478"/>
                    <a:pt x="635" y="335"/>
                    <a:pt x="638" y="290"/>
                  </a:cubicBezTo>
                  <a:cubicBezTo>
                    <a:pt x="641" y="245"/>
                    <a:pt x="638" y="254"/>
                    <a:pt x="630" y="249"/>
                  </a:cubicBezTo>
                  <a:cubicBezTo>
                    <a:pt x="623" y="243"/>
                    <a:pt x="607" y="214"/>
                    <a:pt x="590" y="256"/>
                  </a:cubicBezTo>
                  <a:cubicBezTo>
                    <a:pt x="573" y="298"/>
                    <a:pt x="550" y="451"/>
                    <a:pt x="525" y="498"/>
                  </a:cubicBezTo>
                  <a:cubicBezTo>
                    <a:pt x="500" y="545"/>
                    <a:pt x="450" y="569"/>
                    <a:pt x="439" y="536"/>
                  </a:cubicBezTo>
                  <a:cubicBezTo>
                    <a:pt x="428" y="503"/>
                    <a:pt x="476" y="310"/>
                    <a:pt x="457" y="300"/>
                  </a:cubicBezTo>
                  <a:cubicBezTo>
                    <a:pt x="438" y="290"/>
                    <a:pt x="372" y="458"/>
                    <a:pt x="325" y="474"/>
                  </a:cubicBezTo>
                  <a:cubicBezTo>
                    <a:pt x="278" y="490"/>
                    <a:pt x="178" y="439"/>
                    <a:pt x="173" y="395"/>
                  </a:cubicBezTo>
                  <a:cubicBezTo>
                    <a:pt x="168" y="351"/>
                    <a:pt x="284" y="234"/>
                    <a:pt x="292" y="209"/>
                  </a:cubicBezTo>
                  <a:cubicBezTo>
                    <a:pt x="300" y="184"/>
                    <a:pt x="251" y="210"/>
                    <a:pt x="219" y="241"/>
                  </a:cubicBezTo>
                  <a:cubicBezTo>
                    <a:pt x="187" y="272"/>
                    <a:pt x="135" y="392"/>
                    <a:pt x="99" y="398"/>
                  </a:cubicBezTo>
                  <a:cubicBezTo>
                    <a:pt x="63" y="405"/>
                    <a:pt x="9" y="321"/>
                    <a:pt x="5" y="282"/>
                  </a:cubicBezTo>
                  <a:cubicBezTo>
                    <a:pt x="0" y="244"/>
                    <a:pt x="31" y="197"/>
                    <a:pt x="70" y="169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05280" y="1670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9800" y="1903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187280" y="4064040"/>
            <a:ext cx="1943280" cy="1221840"/>
            <a:chOff x="1187280" y="4064040"/>
            <a:chExt cx="1943280" cy="1221840"/>
          </a:xfrm>
        </p:grpSpPr>
        <p:grpSp>
          <p:nvGrpSpPr>
            <p:cNvPr id="47" name=""/>
            <p:cNvGrpSpPr/>
            <p:nvPr/>
          </p:nvGrpSpPr>
          <p:grpSpPr>
            <a:xfrm>
              <a:off x="1187280" y="4368600"/>
              <a:ext cx="1943280" cy="917280"/>
              <a:chOff x="1187280" y="4368600"/>
              <a:chExt cx="1943280" cy="917280"/>
            </a:xfrm>
          </p:grpSpPr>
          <p:sp>
            <p:nvSpPr>
              <p:cNvPr id="48" name=""/>
              <p:cNvSpPr/>
              <p:nvPr/>
            </p:nvSpPr>
            <p:spPr>
              <a:xfrm>
                <a:off x="1187280" y="4368600"/>
                <a:ext cx="1943280" cy="91728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17960" y="4452840"/>
                <a:ext cx="1650240" cy="77904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981080" y="4512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4064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705040" y="2838600"/>
            <a:ext cx="1416960" cy="1671120"/>
            <a:chOff x="2705040" y="2838600"/>
            <a:chExt cx="1416960" cy="1671120"/>
          </a:xfrm>
        </p:grpSpPr>
        <p:grpSp>
          <p:nvGrpSpPr>
            <p:cNvPr id="53" name=""/>
            <p:cNvGrpSpPr/>
            <p:nvPr/>
          </p:nvGrpSpPr>
          <p:grpSpPr>
            <a:xfrm>
              <a:off x="3116160" y="2998800"/>
              <a:ext cx="684360" cy="1510920"/>
              <a:chOff x="3116160" y="2998800"/>
              <a:chExt cx="684360" cy="1510920"/>
            </a:xfrm>
          </p:grpSpPr>
          <p:sp>
            <p:nvSpPr>
              <p:cNvPr id="54" name=""/>
              <p:cNvSpPr/>
              <p:nvPr/>
            </p:nvSpPr>
            <p:spPr>
              <a:xfrm>
                <a:off x="3116160" y="2998800"/>
                <a:ext cx="684360" cy="151092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24160" y="3084120"/>
                <a:ext cx="50976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557200">
                <a:off x="3331800" y="3070080"/>
                <a:ext cx="144360" cy="21708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080"/>
                  <a:gd name="textAreaBottom" fmla="*/ 210240 h 217080"/>
                </a:gdLst>
                <a:ahLst/>
                <a:rect l="textAreaLeft" t="textAreaTop" r="textAreaRight" b="textAreaBottom"/>
                <a:pathLst>
                  <a:path w="21600" h="32454">
                    <a:moveTo>
                      <a:pt x="3600" y="0"/>
                    </a:moveTo>
                    <a:arcTo wR="3600" hR="3600" stAng="16200000" swAng="-5400000"/>
                    <a:lnTo>
                      <a:pt x="0" y="28854"/>
                    </a:lnTo>
                    <a:arcTo wR="3600" hR="3600" stAng="10800000" swAng="-5400000"/>
                    <a:lnTo>
                      <a:pt x="18000" y="324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138120" y="3852720"/>
                <a:ext cx="254520" cy="196560"/>
                <a:chOff x="3138120" y="3852720"/>
                <a:chExt cx="254520" cy="196560"/>
              </a:xfrm>
            </p:grpSpPr>
            <p:sp>
              <p:nvSpPr>
                <p:cNvPr id="58" name=""/>
                <p:cNvSpPr/>
                <p:nvPr/>
              </p:nvSpPr>
              <p:spPr>
                <a:xfrm flipV="1">
                  <a:off x="3138120" y="3892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202200" y="3962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49720" y="3852720"/>
                  <a:ext cx="142920" cy="14400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" name=""/>
            <p:cNvSpPr/>
            <p:nvPr/>
          </p:nvSpPr>
          <p:spPr>
            <a:xfrm flipH="1" flipV="1">
              <a:off x="3116160" y="2999880"/>
              <a:ext cx="43344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40160" y="312732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43320" y="367488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6320" y="3933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65800" y="3503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5600" y="33591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68480" y="2838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98640" y="2927160"/>
              <a:ext cx="3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043080" y="3790800"/>
              <a:ext cx="5050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05040" y="3935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25120" y="1241280"/>
            <a:ext cx="205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bran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200" y="5575320"/>
            <a:ext cx="29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) Membrana plasmátic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acte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952520" y="3198960"/>
            <a:ext cx="3590280" cy="2896560"/>
            <a:chOff x="4952520" y="3198960"/>
            <a:chExt cx="3590280" cy="2896560"/>
          </a:xfrm>
        </p:grpSpPr>
        <p:sp>
          <p:nvSpPr>
            <p:cNvPr id="74" name=""/>
            <p:cNvSpPr/>
            <p:nvPr/>
          </p:nvSpPr>
          <p:spPr>
            <a:xfrm>
              <a:off x="6222240" y="5575320"/>
              <a:ext cx="2320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) Membrana tilacoide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200640" y="4300560"/>
              <a:ext cx="1943280" cy="917640"/>
              <a:chOff x="6200640" y="4300560"/>
              <a:chExt cx="1943280" cy="917640"/>
            </a:xfrm>
          </p:grpSpPr>
          <p:sp>
            <p:nvSpPr>
              <p:cNvPr id="76" name=""/>
              <p:cNvSpPr/>
              <p:nvPr/>
            </p:nvSpPr>
            <p:spPr>
              <a:xfrm>
                <a:off x="6200640" y="4300560"/>
                <a:ext cx="1943280" cy="917640"/>
              </a:xfrm>
              <a:prstGeom prst="ellipse">
                <a:avLst/>
              </a:prstGeom>
              <a:noFill/>
              <a:ln w="93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77360" y="4372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1480" y="4714920"/>
                <a:ext cx="1202040" cy="378000"/>
              </a:xfrm>
              <a:custGeom>
                <a:avLst/>
                <a:gdLst/>
                <a:ahLst/>
                <a:rect l="l" t="t" r="r" b="b"/>
                <a:pathLst>
                  <a:path w="1080" h="339">
                    <a:moveTo>
                      <a:pt x="76" y="59"/>
                    </a:moveTo>
                    <a:cubicBezTo>
                      <a:pt x="121" y="59"/>
                      <a:pt x="261" y="103"/>
                      <a:pt x="304" y="98"/>
                    </a:cubicBezTo>
                    <a:cubicBezTo>
                      <a:pt x="347" y="93"/>
                      <a:pt x="306" y="46"/>
                      <a:pt x="336" y="31"/>
                    </a:cubicBezTo>
                    <a:cubicBezTo>
                      <a:pt x="366" y="16"/>
                      <a:pt x="407" y="11"/>
                      <a:pt x="485" y="7"/>
                    </a:cubicBezTo>
                    <a:cubicBezTo>
                      <a:pt x="563" y="3"/>
                      <a:pt x="747" y="0"/>
                      <a:pt x="803" y="7"/>
                    </a:cubicBezTo>
                    <a:cubicBezTo>
                      <a:pt x="859" y="14"/>
                      <a:pt x="843" y="43"/>
                      <a:pt x="820" y="51"/>
                    </a:cubicBezTo>
                    <a:cubicBezTo>
                      <a:pt x="797" y="59"/>
                      <a:pt x="714" y="49"/>
                      <a:pt x="667" y="53"/>
                    </a:cubicBezTo>
                    <a:cubicBezTo>
                      <a:pt x="620" y="57"/>
                      <a:pt x="550" y="63"/>
                      <a:pt x="536" y="73"/>
                    </a:cubicBezTo>
                    <a:cubicBezTo>
                      <a:pt x="522" y="83"/>
                      <a:pt x="506" y="100"/>
                      <a:pt x="584" y="113"/>
                    </a:cubicBezTo>
                    <a:cubicBezTo>
                      <a:pt x="662" y="126"/>
                      <a:pt x="932" y="136"/>
                      <a:pt x="1006" y="149"/>
                    </a:cubicBezTo>
                    <a:cubicBezTo>
                      <a:pt x="1080" y="162"/>
                      <a:pt x="1034" y="182"/>
                      <a:pt x="1030" y="189"/>
                    </a:cubicBezTo>
                    <a:cubicBezTo>
                      <a:pt x="1026" y="196"/>
                      <a:pt x="1022" y="189"/>
                      <a:pt x="984" y="189"/>
                    </a:cubicBezTo>
                    <a:cubicBezTo>
                      <a:pt x="946" y="189"/>
                      <a:pt x="878" y="189"/>
                      <a:pt x="803" y="189"/>
                    </a:cubicBezTo>
                    <a:cubicBezTo>
                      <a:pt x="728" y="189"/>
                      <a:pt x="576" y="177"/>
                      <a:pt x="531" y="189"/>
                    </a:cubicBezTo>
                    <a:cubicBezTo>
                      <a:pt x="486" y="201"/>
                      <a:pt x="462" y="244"/>
                      <a:pt x="530" y="259"/>
                    </a:cubicBezTo>
                    <a:cubicBezTo>
                      <a:pt x="598" y="274"/>
                      <a:pt x="871" y="268"/>
                      <a:pt x="939" y="279"/>
                    </a:cubicBezTo>
                    <a:cubicBezTo>
                      <a:pt x="1007" y="290"/>
                      <a:pt x="1016" y="317"/>
                      <a:pt x="940" y="325"/>
                    </a:cubicBezTo>
                    <a:cubicBezTo>
                      <a:pt x="864" y="333"/>
                      <a:pt x="578" y="339"/>
                      <a:pt x="485" y="325"/>
                    </a:cubicBezTo>
                    <a:cubicBezTo>
                      <a:pt x="392" y="311"/>
                      <a:pt x="400" y="263"/>
                      <a:pt x="384" y="241"/>
                    </a:cubicBezTo>
                    <a:cubicBezTo>
                      <a:pt x="368" y="219"/>
                      <a:pt x="443" y="219"/>
                      <a:pt x="388" y="195"/>
                    </a:cubicBezTo>
                    <a:cubicBezTo>
                      <a:pt x="333" y="171"/>
                      <a:pt x="104" y="122"/>
                      <a:pt x="52" y="99"/>
                    </a:cubicBezTo>
                    <a:cubicBezTo>
                      <a:pt x="0" y="76"/>
                      <a:pt x="71" y="67"/>
                      <a:pt x="76" y="59"/>
                    </a:cubicBezTo>
                    <a:close/>
                  </a:path>
                </a:pathLst>
              </a:custGeom>
              <a:solidFill>
                <a:srgbClr val="78e8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05720" y="4660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370480" y="4068720"/>
              <a:ext cx="684000" cy="1511280"/>
            </a:xfrm>
            <a:custGeom>
              <a:avLst/>
              <a:gdLst/>
              <a:ahLst/>
              <a:rect l="l" t="t" r="r" b="b"/>
              <a:pathLst>
                <a:path w="431" h="952">
                  <a:moveTo>
                    <a:pt x="295" y="0"/>
                  </a:moveTo>
                  <a:cubicBezTo>
                    <a:pt x="204" y="41"/>
                    <a:pt x="113" y="83"/>
                    <a:pt x="68" y="181"/>
                  </a:cubicBezTo>
                  <a:cubicBezTo>
                    <a:pt x="23" y="279"/>
                    <a:pt x="0" y="476"/>
                    <a:pt x="23" y="589"/>
                  </a:cubicBezTo>
                  <a:cubicBezTo>
                    <a:pt x="46" y="702"/>
                    <a:pt x="136" y="802"/>
                    <a:pt x="204" y="862"/>
                  </a:cubicBezTo>
                  <a:cubicBezTo>
                    <a:pt x="272" y="922"/>
                    <a:pt x="393" y="937"/>
                    <a:pt x="431" y="9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78480" y="4154400"/>
              <a:ext cx="509400" cy="1306440"/>
            </a:xfrm>
            <a:custGeom>
              <a:avLst/>
              <a:gdLst/>
              <a:ahLst/>
              <a:rect l="l" t="t" r="r" b="b"/>
              <a:pathLst>
                <a:path w="321" h="823">
                  <a:moveTo>
                    <a:pt x="249" y="0"/>
                  </a:moveTo>
                  <a:cubicBezTo>
                    <a:pt x="220" y="21"/>
                    <a:pt x="119" y="39"/>
                    <a:pt x="81" y="128"/>
                  </a:cubicBezTo>
                  <a:cubicBezTo>
                    <a:pt x="43" y="217"/>
                    <a:pt x="0" y="427"/>
                    <a:pt x="23" y="535"/>
                  </a:cubicBezTo>
                  <a:cubicBezTo>
                    <a:pt x="46" y="643"/>
                    <a:pt x="167" y="729"/>
                    <a:pt x="217" y="776"/>
                  </a:cubicBezTo>
                  <a:cubicBezTo>
                    <a:pt x="267" y="823"/>
                    <a:pt x="299" y="808"/>
                    <a:pt x="321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557200">
              <a:off x="5586120" y="4140000"/>
              <a:ext cx="144360" cy="21744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17440"/>
                <a:gd name="textAreaBottom" fmla="*/ 210600 h 217440"/>
              </a:gdLst>
              <a:ahLst/>
              <a:rect l="textAreaLeft" t="textAreaTop" r="textAreaRight" b="textAreaBottom"/>
              <a:pathLst>
                <a:path w="21600" h="32507">
                  <a:moveTo>
                    <a:pt x="3600" y="0"/>
                  </a:moveTo>
                  <a:arcTo wR="3600" hR="3600" stAng="16200000" swAng="-5400000"/>
                  <a:lnTo>
                    <a:pt x="0" y="28907"/>
                  </a:lnTo>
                  <a:arcTo wR="3600" hR="3600" stAng="10800000" swAng="-5400000"/>
                  <a:lnTo>
                    <a:pt x="18000" y="32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264280" y="4951440"/>
              <a:ext cx="254520" cy="196920"/>
              <a:chOff x="5264280" y="4951440"/>
              <a:chExt cx="254520" cy="19692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5409720" y="5026680"/>
                <a:ext cx="1090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5339160" y="4951440"/>
                <a:ext cx="1155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0800000">
                <a:off x="5264280" y="5004000"/>
                <a:ext cx="142920" cy="14436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478480" y="4140360"/>
              <a:ext cx="43344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 rot="17931600">
              <a:off x="5049000" y="4930920"/>
              <a:ext cx="312840" cy="40536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86440" y="54356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50080" y="4427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53360" y="4427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44960" y="42847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119560" y="493164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28960" y="48592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92640" y="3492360"/>
              <a:ext cx="358920" cy="648000"/>
            </a:xfrm>
            <a:prstGeom prst="lightningBolt">
              <a:avLst/>
            </a:prstGeom>
            <a:solidFill>
              <a:srgbClr val="eafa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9360" y="319896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717440" y="1012680"/>
            <a:ext cx="3366720" cy="2462040"/>
            <a:chOff x="4717440" y="1012680"/>
            <a:chExt cx="3366720" cy="2462040"/>
          </a:xfrm>
        </p:grpSpPr>
        <p:sp>
          <p:nvSpPr>
            <p:cNvPr id="98" name=""/>
            <p:cNvSpPr/>
            <p:nvPr/>
          </p:nvSpPr>
          <p:spPr>
            <a:xfrm>
              <a:off x="5574600" y="1012680"/>
              <a:ext cx="250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) Membrana plasmátic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cteria fotosinté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717440" y="1169640"/>
              <a:ext cx="1365120" cy="2305080"/>
              <a:chOff x="4717440" y="1169640"/>
              <a:chExt cx="1365120" cy="2305080"/>
            </a:xfrm>
          </p:grpSpPr>
          <p:sp>
            <p:nvSpPr>
              <p:cNvPr id="100" name=""/>
              <p:cNvSpPr/>
              <p:nvPr/>
            </p:nvSpPr>
            <p:spPr>
              <a:xfrm>
                <a:off x="5111640" y="1963440"/>
                <a:ext cx="684360" cy="151128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19640" y="2049120"/>
                <a:ext cx="50940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557200">
                <a:off x="5327280" y="2034360"/>
                <a:ext cx="144360" cy="21744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440"/>
                  <a:gd name="textAreaBottom" fmla="*/ 210600 h 217440"/>
                </a:gdLst>
                <a:ahLst/>
                <a:rect l="textAreaLeft" t="textAreaTop" r="textAreaRight" b="textAreaBottom"/>
                <a:pathLst>
                  <a:path w="21600" h="32507">
                    <a:moveTo>
                      <a:pt x="3600" y="0"/>
                    </a:moveTo>
                    <a:arcTo wR="3600" hR="3600" stAng="16200000" swAng="-5400000"/>
                    <a:lnTo>
                      <a:pt x="0" y="28907"/>
                    </a:lnTo>
                    <a:arcTo wR="3600" hR="3600" stAng="10800000" swAng="-5400000"/>
                    <a:lnTo>
                      <a:pt x="18000" y="325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133240" y="2817360"/>
                <a:ext cx="254520" cy="196920"/>
                <a:chOff x="5133240" y="2817360"/>
                <a:chExt cx="254520" cy="196920"/>
              </a:xfrm>
            </p:grpSpPr>
            <p:sp>
              <p:nvSpPr>
                <p:cNvPr id="104" name=""/>
                <p:cNvSpPr/>
                <p:nvPr/>
              </p:nvSpPr>
              <p:spPr>
                <a:xfrm flipV="1">
                  <a:off x="5133240" y="2857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5197320" y="2927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44840" y="2817360"/>
                  <a:ext cx="142920" cy="1443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H="1" flipV="1">
                <a:off x="5111640" y="1963440"/>
                <a:ext cx="43344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303880" y="2638080"/>
                <a:ext cx="312480" cy="404640"/>
              </a:xfrm>
              <a:custGeom>
                <a:avLst/>
                <a:gdLst/>
                <a:ahLst/>
                <a:rect l="l" t="t" r="r" b="b"/>
                <a:pathLst>
                  <a:path w="197" h="255">
                    <a:moveTo>
                      <a:pt x="197" y="0"/>
                    </a:moveTo>
                    <a:cubicBezTo>
                      <a:pt x="184" y="3"/>
                      <a:pt x="134" y="7"/>
                      <a:pt x="109" y="16"/>
                    </a:cubicBezTo>
                    <a:cubicBezTo>
                      <a:pt x="84" y="25"/>
                      <a:pt x="62" y="33"/>
                      <a:pt x="45" y="56"/>
                    </a:cubicBezTo>
                    <a:cubicBezTo>
                      <a:pt x="28" y="79"/>
                      <a:pt x="10" y="121"/>
                      <a:pt x="5" y="152"/>
                    </a:cubicBezTo>
                    <a:cubicBezTo>
                      <a:pt x="0" y="183"/>
                      <a:pt x="10" y="225"/>
                      <a:pt x="13" y="240"/>
                    </a:cubicBezTo>
                    <a:cubicBezTo>
                      <a:pt x="16" y="255"/>
                      <a:pt x="19" y="240"/>
                      <a:pt x="21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46880" y="289692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68960" y="23936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62520" y="237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29040" y="1801440"/>
                <a:ext cx="36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040360" y="2754000"/>
                <a:ext cx="50472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6880" y="1387080"/>
                <a:ext cx="358920" cy="647640"/>
              </a:xfrm>
              <a:prstGeom prst="lightningBolt">
                <a:avLst/>
              </a:prstGeom>
              <a:solidFill>
                <a:srgbClr val="eafa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17440" y="11696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868720" y="203328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24520" y="2077920"/>
              <a:ext cx="1846080" cy="849240"/>
            </a:xfrm>
            <a:custGeom>
              <a:avLst/>
              <a:gdLst/>
              <a:ahLst/>
              <a:rect l="l" t="t" r="r" b="b"/>
              <a:pathLst>
                <a:path w="1163" h="535">
                  <a:moveTo>
                    <a:pt x="70" y="162"/>
                  </a:moveTo>
                  <a:cubicBezTo>
                    <a:pt x="110" y="128"/>
                    <a:pt x="186" y="90"/>
                    <a:pt x="243" y="68"/>
                  </a:cubicBezTo>
                  <a:cubicBezTo>
                    <a:pt x="300" y="46"/>
                    <a:pt x="398" y="21"/>
                    <a:pt x="411" y="29"/>
                  </a:cubicBezTo>
                  <a:cubicBezTo>
                    <a:pt x="424" y="37"/>
                    <a:pt x="330" y="100"/>
                    <a:pt x="323" y="119"/>
                  </a:cubicBezTo>
                  <a:cubicBezTo>
                    <a:pt x="316" y="138"/>
                    <a:pt x="353" y="150"/>
                    <a:pt x="369" y="143"/>
                  </a:cubicBezTo>
                  <a:cubicBezTo>
                    <a:pt x="385" y="136"/>
                    <a:pt x="404" y="101"/>
                    <a:pt x="419" y="79"/>
                  </a:cubicBezTo>
                  <a:cubicBezTo>
                    <a:pt x="434" y="57"/>
                    <a:pt x="442" y="26"/>
                    <a:pt x="461" y="13"/>
                  </a:cubicBezTo>
                  <a:cubicBezTo>
                    <a:pt x="480" y="0"/>
                    <a:pt x="502" y="3"/>
                    <a:pt x="531" y="2"/>
                  </a:cubicBezTo>
                  <a:cubicBezTo>
                    <a:pt x="560" y="1"/>
                    <a:pt x="613" y="3"/>
                    <a:pt x="635" y="4"/>
                  </a:cubicBezTo>
                  <a:cubicBezTo>
                    <a:pt x="657" y="4"/>
                    <a:pt x="672" y="2"/>
                    <a:pt x="665" y="8"/>
                  </a:cubicBezTo>
                  <a:cubicBezTo>
                    <a:pt x="658" y="14"/>
                    <a:pt x="603" y="29"/>
                    <a:pt x="591" y="39"/>
                  </a:cubicBezTo>
                  <a:cubicBezTo>
                    <a:pt x="579" y="49"/>
                    <a:pt x="586" y="65"/>
                    <a:pt x="593" y="71"/>
                  </a:cubicBezTo>
                  <a:cubicBezTo>
                    <a:pt x="600" y="77"/>
                    <a:pt x="620" y="80"/>
                    <a:pt x="631" y="77"/>
                  </a:cubicBezTo>
                  <a:cubicBezTo>
                    <a:pt x="642" y="74"/>
                    <a:pt x="648" y="63"/>
                    <a:pt x="657" y="53"/>
                  </a:cubicBezTo>
                  <a:cubicBezTo>
                    <a:pt x="666" y="43"/>
                    <a:pt x="671" y="20"/>
                    <a:pt x="688" y="17"/>
                  </a:cubicBezTo>
                  <a:cubicBezTo>
                    <a:pt x="705" y="14"/>
                    <a:pt x="748" y="30"/>
                    <a:pt x="761" y="33"/>
                  </a:cubicBezTo>
                  <a:cubicBezTo>
                    <a:pt x="774" y="36"/>
                    <a:pt x="765" y="33"/>
                    <a:pt x="769" y="35"/>
                  </a:cubicBezTo>
                  <a:cubicBezTo>
                    <a:pt x="773" y="37"/>
                    <a:pt x="778" y="42"/>
                    <a:pt x="783" y="45"/>
                  </a:cubicBezTo>
                  <a:cubicBezTo>
                    <a:pt x="788" y="48"/>
                    <a:pt x="770" y="46"/>
                    <a:pt x="801" y="51"/>
                  </a:cubicBezTo>
                  <a:cubicBezTo>
                    <a:pt x="832" y="56"/>
                    <a:pt x="918" y="56"/>
                    <a:pt x="971" y="76"/>
                  </a:cubicBezTo>
                  <a:cubicBezTo>
                    <a:pt x="1025" y="97"/>
                    <a:pt x="1089" y="142"/>
                    <a:pt x="1121" y="176"/>
                  </a:cubicBezTo>
                  <a:cubicBezTo>
                    <a:pt x="1153" y="211"/>
                    <a:pt x="1163" y="257"/>
                    <a:pt x="1162" y="283"/>
                  </a:cubicBezTo>
                  <a:cubicBezTo>
                    <a:pt x="1161" y="309"/>
                    <a:pt x="1136" y="339"/>
                    <a:pt x="1113" y="333"/>
                  </a:cubicBezTo>
                  <a:cubicBezTo>
                    <a:pt x="1090" y="327"/>
                    <a:pt x="1035" y="239"/>
                    <a:pt x="1021" y="245"/>
                  </a:cubicBezTo>
                  <a:cubicBezTo>
                    <a:pt x="1007" y="251"/>
                    <a:pt x="1033" y="336"/>
                    <a:pt x="1028" y="372"/>
                  </a:cubicBezTo>
                  <a:cubicBezTo>
                    <a:pt x="1023" y="408"/>
                    <a:pt x="1028" y="436"/>
                    <a:pt x="988" y="460"/>
                  </a:cubicBezTo>
                  <a:cubicBezTo>
                    <a:pt x="948" y="484"/>
                    <a:pt x="844" y="520"/>
                    <a:pt x="789" y="520"/>
                  </a:cubicBezTo>
                  <a:cubicBezTo>
                    <a:pt x="734" y="519"/>
                    <a:pt x="674" y="488"/>
                    <a:pt x="658" y="457"/>
                  </a:cubicBezTo>
                  <a:cubicBezTo>
                    <a:pt x="642" y="426"/>
                    <a:pt x="698" y="367"/>
                    <a:pt x="693" y="331"/>
                  </a:cubicBezTo>
                  <a:cubicBezTo>
                    <a:pt x="688" y="295"/>
                    <a:pt x="658" y="247"/>
                    <a:pt x="630" y="242"/>
                  </a:cubicBezTo>
                  <a:cubicBezTo>
                    <a:pt x="602" y="237"/>
                    <a:pt x="534" y="260"/>
                    <a:pt x="527" y="303"/>
                  </a:cubicBezTo>
                  <a:cubicBezTo>
                    <a:pt x="520" y="346"/>
                    <a:pt x="612" y="471"/>
                    <a:pt x="587" y="503"/>
                  </a:cubicBezTo>
                  <a:cubicBezTo>
                    <a:pt x="562" y="535"/>
                    <a:pt x="434" y="504"/>
                    <a:pt x="376" y="497"/>
                  </a:cubicBezTo>
                  <a:cubicBezTo>
                    <a:pt x="318" y="490"/>
                    <a:pt x="272" y="481"/>
                    <a:pt x="239" y="463"/>
                  </a:cubicBezTo>
                  <a:cubicBezTo>
                    <a:pt x="205" y="445"/>
                    <a:pt x="186" y="403"/>
                    <a:pt x="173" y="388"/>
                  </a:cubicBezTo>
                  <a:cubicBezTo>
                    <a:pt x="160" y="373"/>
                    <a:pt x="166" y="381"/>
                    <a:pt x="159" y="375"/>
                  </a:cubicBezTo>
                  <a:cubicBezTo>
                    <a:pt x="152" y="369"/>
                    <a:pt x="141" y="348"/>
                    <a:pt x="131" y="351"/>
                  </a:cubicBezTo>
                  <a:cubicBezTo>
                    <a:pt x="121" y="354"/>
                    <a:pt x="120" y="404"/>
                    <a:pt x="99" y="391"/>
                  </a:cubicBezTo>
                  <a:cubicBezTo>
                    <a:pt x="78" y="378"/>
                    <a:pt x="9" y="314"/>
                    <a:pt x="5" y="275"/>
                  </a:cubicBezTo>
                  <a:cubicBezTo>
                    <a:pt x="0" y="237"/>
                    <a:pt x="31" y="190"/>
                    <a:pt x="70" y="16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91240" y="2033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6280" y="1746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75320" y="39852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AS TRANSFORMADORAS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114948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energía electroquímica inherente a la diferencia en la concentración de protones y a la separación de carga representa una conservación temporal, de parte de la energía de transferencia de electrones. La energía conservada en esta gradiente, llamada fuerza protón-motora tiene 2 componentes: (1) la energía química potencial originada por la diferente concentración de una especie químic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n las dos regiones separadas por la membrana, y (2) la energía potencial eléctrica que resulta de la separación de cargas cuando un protón se mueve a través de una membrana sin un contra 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473440" cy="4136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4076640"/>
            <a:ext cx="8569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2/C1 = razón de concentración del ión que se mu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= valor absoluto de su carga (1 para un prot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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iferencia en potencial eléctrico de transmenbrana (Vol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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en mitocondrias con respiración activa, el pH de la matriz e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0.75 unidades mas alcalino que el espacio intermem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66720" y="1486080"/>
            <a:ext cx="601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3762" r="0" b="0"/>
          <a:stretch/>
        </p:blipFill>
        <p:spPr>
          <a:xfrm>
            <a:off x="85680" y="609480"/>
            <a:ext cx="8879040" cy="1839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90520" y="3092400"/>
            <a:ext cx="62769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9880" y="404640"/>
            <a:ext cx="8442360" cy="4397760"/>
            <a:chOff x="389880" y="404640"/>
            <a:chExt cx="8442360" cy="4397760"/>
          </a:xfrm>
        </p:grpSpPr>
        <p:sp>
          <p:nvSpPr>
            <p:cNvPr id="149" name=""/>
            <p:cNvSpPr/>
            <p:nvPr/>
          </p:nvSpPr>
          <p:spPr>
            <a:xfrm>
              <a:off x="389880" y="404640"/>
              <a:ext cx="8442360" cy="439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... Transcurrieron mas de 150 años antes de precisar el mecanismo intracelular de las oxidaciones biológ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or ejemplo, la oxidación completa de la glucosa po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se describe por la siguiente ecuació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O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 = -2823 kJ/m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eamos esta reacción como dos semi-reacciones, para ver mas claramente la transferencia de electron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- Los átomos de carbono se oxida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2- el oxígeno molecular es reducid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2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 los organismos vivos, los procesos de transferencia de electrones que conectan a estas semi-reac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curren mediante una vía de varias etapas que recoge la energía libre para formar AT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os 12 pares de electrones que participan en la oxidación de la glucosa no se transfieren directamente 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xígeno. Son transferidos a coenzimas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y FAD para formar 10 NADH + 2 FADH2 en las reaccione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glicolisis y del ciclo del ac. Cítrico.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6880" y="119988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43200" y="22795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1800" y="28555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24000" y="1147680"/>
            <a:ext cx="8640720" cy="4858200"/>
            <a:chOff x="324000" y="1147680"/>
            <a:chExt cx="8640720" cy="4858200"/>
          </a:xfrm>
        </p:grpSpPr>
        <p:sp>
          <p:nvSpPr>
            <p:cNvPr id="154" name=""/>
            <p:cNvSpPr/>
            <p:nvPr/>
          </p:nvSpPr>
          <p:spPr>
            <a:xfrm>
              <a:off x="324000" y="1147680"/>
              <a:ext cx="8640720" cy="485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ransferencia de 2 electrones desde NADH a través de la cadena respiratoria hasta el oxígeno molecular se puede escribir com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 para el par (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NADH) = -0.32 V, y  para el pa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6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ara la reacción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tonc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5 – (-0.32) = 1.14  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nF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2 ( 96,5 kJ/Vmol)( 1.14V) = -220 kJ/mol (de NAD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ran parte de esta energía se usa para bombear protones fuera de la matriz. Por cada par de electrones que se transfieren al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, los complejos I y III bombean 4 protones, mientras que el complejo IV transfiere dos protones. La ecuación vectorial para el proceso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1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0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65320" y="2133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11280" y="5013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12920" y="406440"/>
            <a:ext cx="8608680" cy="6146640"/>
            <a:chOff x="412920" y="406440"/>
            <a:chExt cx="8608680" cy="6146640"/>
          </a:xfrm>
        </p:grpSpPr>
        <p:pic>
          <p:nvPicPr>
            <p:cNvPr id="158" name="" descr=""/>
            <p:cNvPicPr/>
            <p:nvPr/>
          </p:nvPicPr>
          <p:blipFill>
            <a:blip r:embed="rId1">
              <a:lum contrast="30000"/>
            </a:blip>
            <a:srcRect l="1384" t="0" r="0" b="0"/>
            <a:stretch/>
          </p:blipFill>
          <p:spPr>
            <a:xfrm>
              <a:off x="412920" y="406440"/>
              <a:ext cx="4616280" cy="61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076720" y="1484280"/>
              <a:ext cx="394488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adena respiratoria bacteriana (E.coli), contie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una forma mínima del complejo I . Este tipo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acterias tienen complejos FoF1 en la membrana plasmática. La porción F1 sobresale hacia el citoso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eoría sobre el origen endosimbiótico de las mitocondrias, sostiene que algunos procariontes fueron los primeros organismos capaces de metabolismo aeróbico, incluyendo la producción de ATP ligada a la respiración. Algunos eucariontes primitivos, que vivían anaeróbicamente (por fermentación),  pudieron realizar fosforilación oxidativa cuando establecieron una relación simbiótica con  ese tipo de bacterias que vivían en su citoso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793800"/>
            <a:ext cx="5734080" cy="601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28080" y="26028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MEMBRANA INTERN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38200" y="927000"/>
            <a:ext cx="8344800" cy="5150520"/>
            <a:chOff x="538200" y="927000"/>
            <a:chExt cx="8344800" cy="5150520"/>
          </a:xfrm>
        </p:grpSpPr>
        <p:sp>
          <p:nvSpPr>
            <p:cNvPr id="124" name=""/>
            <p:cNvSpPr/>
            <p:nvPr/>
          </p:nvSpPr>
          <p:spPr>
            <a:xfrm>
              <a:off x="5239440" y="1413000"/>
              <a:ext cx="1582920" cy="43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Número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Subun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42 (1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 (3-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880" y="927000"/>
              <a:ext cx="761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TEÍNAS COMPONENTES DE LA CADENA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FERENCIA DE  ELECTRONES DE LA MITOCONDR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200" y="1995480"/>
              <a:ext cx="3385800" cy="30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 ENZIMÁ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-   NADH dehidrogen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- Succinato de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I- Ubiquinona: 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xido-reduct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V- Citocromo oxid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00480" y="1585800"/>
              <a:ext cx="776520" cy="35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k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8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66360" y="1484280"/>
              <a:ext cx="1916640" cy="36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Grupo(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Prost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MN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AD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9640" y="162864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5440" y="5373720"/>
              <a:ext cx="80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El citocromo c no es parte de un complejo enzimático, se mueve entre 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s III y IV como una proteína libre solub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9640" y="256536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1280" y="537372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04960" y="1380960"/>
            <a:ext cx="573408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24000" y="878040"/>
            <a:ext cx="8604000" cy="4271400"/>
            <a:chOff x="324000" y="878040"/>
            <a:chExt cx="8604000" cy="4271400"/>
          </a:xfrm>
        </p:grpSpPr>
        <p:sp>
          <p:nvSpPr>
            <p:cNvPr id="139" name=""/>
            <p:cNvSpPr/>
            <p:nvPr/>
          </p:nvSpPr>
          <p:spPr>
            <a:xfrm>
              <a:off x="324000" y="878040"/>
              <a:ext cx="8604000" cy="42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La teoría quimio-osmótica,  propuesta por Peter Mitchell, es el paradigma para el mecanismo por  el cual el flujo de electrones está acoplado con la formación de ATP. De acuerdo a ella, la energía electroquímica inherente a la la diferencia de concentración de protones y a la separación de carga a través de la membrana interna mitocondrial, la fuerza protón-motora, permite la síntesis de ATP  a medida que los protones fluyen pasivamente de regreso a la matriz a través de un poro asociado con la ATP sintetasa. Según  esto, la siguiente ecuación representa la síntesis de ATP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DP + P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TP + 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5640" y="48387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22:03Z</dcterms:created>
  <dc:creator>INTA</dc:creator>
  <dc:description/>
  <dc:language>en-US</dc:language>
  <cp:lastModifiedBy>INTA</cp:lastModifiedBy>
  <dcterms:modified xsi:type="dcterms:W3CDTF">2007-08-29T21:28:07Z</dcterms:modified>
  <cp:revision>19</cp:revision>
  <dc:subject/>
  <dc:title>Diapositiva 1</dc:title>
</cp:coreProperties>
</file>