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397-807D-4016-AE31-7EC27111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1AA-7C6B-4014-9A4B-6E2B6AF0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79D-D459-465A-B167-E0AE6670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6E0-78B4-4EAE-B2ED-33A3B1AB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A59-D9A2-42B4-864B-F7FD9BF9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4C4-338B-42C1-88B1-754FD42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B0-9FB3-4C42-9100-2998740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96B-08A4-4505-B44F-082CBA45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89D-A036-45F1-8F16-F05AC03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611-AB30-4482-856B-F43032C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146-B9E3-45A1-BF20-0D1A02D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B29-CC45-4566-8D67-4FE3A8F7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5C9-428E-4822-8B4D-522F62142E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Blanca Escobar</cp:lastModifiedBy>
  <dcterms:modified xsi:type="dcterms:W3CDTF">2007-07-27T15:31:43Z</dcterms:modified>
  <cp:revision>1</cp:revision>
  <dc:subject/>
  <dc:title> SON MICROORGANISMOS ACIDÓFILOS</dc:title>
</cp:coreProperties>
</file>