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05C-7E0F-4A26-9EED-D980818B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E08-B14F-4D77-88DF-956E444C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52B-42EF-49C0-8C0C-1A1040CA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DA8-D8C5-4131-A122-FBFDF557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3DD-F580-4B49-9AE5-37AA2D02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915-B8FD-4085-948E-11B6F605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45D-4CC1-46A9-8D08-898B628B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297-FB31-414A-A5F5-E5D1DFF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A37-C821-43F5-94BE-F1E9B1B8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FB0-43BE-4CC1-A85A-23E6836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592-E6C2-4A17-896C-C14CA473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5CC-4BC9-4819-8046-71FFCE6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CF93-4ED4-45D0-ADEC-591A1FBFFF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6-10-10T16:10:17Z</dcterms:modified>
  <cp:revision>26</cp:revision>
  <dc:subject/>
  <dc:title>BIOTECNOLOGIA MICROBIANA</dc:title>
</cp:coreProperties>
</file>