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4DC97-FA9C-48BB-8CEF-4F5C45646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21CD5-7426-4CDA-8AF5-56DDCDD7B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42BDC-3BCE-429E-98F3-9AEB3874F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DC135-109B-4F02-85DF-2B6C7D88E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F9C00-4312-4596-949F-4BA9D3532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7967E-FC62-4BBE-8F33-78B14C12F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02BB-2D1D-45F5-B795-7BC021A29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1A382-8E9D-406B-9B57-10C5A1A51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030E8-9AED-4816-9F29-AEF2BF2C2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F258E-7685-452E-B239-D2BC7CAB7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0993F-32EF-4F2E-95CE-6062B61C0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03E9F-C0A7-44A5-9B26-13C89DC87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82EE-76A0-4341-8DC6-F954FD1ED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ONES EN ESTADO SÓLIDO O SEMISÓLID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ACTERÍSTICAS FISICOQUÍMICAS DE UN PROCESO DE FERMENTACIÓN EN ESTADO SÓLIDO</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Temperatur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justar pH (M.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Hacer un pretratamiento al sustrato  (poroso)</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debe quedar con una estructura granulos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gregar nutrientes (N, P)</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Inocular con alta concentración de espora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s. sólida</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numeros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scas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isiológic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bastante      suficient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tecnológico</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Mantención con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óptimas</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trol de</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parám</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       F.s. sólid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Vol. de equipos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Gasto de energí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nversión</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a</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Productivida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Rend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baj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ayuda de tecnología se puede hacer a muy pequeña escal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producen residuos al final de la fermentación; en tempeh 25% de azucares </a:t>
            </a:r>
            <a:r>
              <a:rPr b="0" lang="es-ES" sz="2800" spc="-1" strike="noStrike">
                <a:solidFill>
                  <a:srgbClr val="000000"/>
                </a:solidFill>
                <a:latin typeface="Symbol"/>
                <a:ea typeface="Symbol"/>
              </a:rPr>
              <a:t></a:t>
            </a:r>
            <a:r>
              <a:rPr b="0" lang="es-ES" sz="2800" spc="-1" strike="noStrike">
                <a:solidFill>
                  <a:srgbClr val="000000"/>
                </a:solidFill>
                <a:latin typeface="Times New Roman"/>
              </a:rPr>
              <a:t> proteí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requerimientos de agua son muy bajos y el producto se puede secar mas para estabilizarl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unque se produce contaminación esta es propia de los laboratorios, es limitada su extensión y fácilmente detectabl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general los productos no requieren un tratamiento posterior.</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No requiere concentración, mas bien dilució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Sólido aglomerado</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una expresión diferencial de ciertos metabolitos que no se expresan en medios líqui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n limitado de efluente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DE MANDIOCA CRUDA</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057400" y="19810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PORAS DE </a:t>
            </a:r>
            <a:r>
              <a:rPr b="1" i="1" lang="en-US" sz="3200" spc="-1" strike="noStrike">
                <a:solidFill>
                  <a:srgbClr val="000000"/>
                </a:solidFill>
                <a:latin typeface="Times New Roman"/>
              </a:rPr>
              <a:t>ASPERGILLUS HENNEBERGEI</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1828800" y="182880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COCIDO INOCULADO CON LAS ESPORAS (T=0)</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2133720" y="1709640"/>
            <a:ext cx="4876560" cy="51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RMINACIÓN DE LAS ESPORAS (8 HORAS DE INCUBACIÓN)</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1981080" y="1676520"/>
            <a:ext cx="49532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LA SUPERFICIE DE LOS GRANOS DE ALMIDÓN (T= 10 HORA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286000" y="18288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de uno o mas sustrato con una cierta hume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10% humeda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90%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sumergidas utilizan 10-20% material sólido, el resto es solución conteniendo nutrien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puede realizar en bandejas o en column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CIÓN DE PUENTES DE MICELIO ENTRE LOS GRANOS DE ALMIDÓN (16H)</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1828800" y="2052720"/>
            <a:ext cx="5506920" cy="48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PECTO GENERAL DEL PRODUCTO A LAS 20 HORAS DE INCUBACIÓN</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1712880" y="1676520"/>
            <a:ext cx="5716800" cy="488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NIZACIÓN TOTAL Y DIGESTIÓN DE LOS GRANOS DE ALMIDÓN (T=24HORAS)</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1981080" y="1981080"/>
            <a:ext cx="472464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ALIMENTOS FERMENTADOS ORIENTALES:</a:t>
            </a:r>
            <a:br>
              <a:rPr sz="3200"/>
            </a:br>
            <a:r>
              <a:rPr b="1" lang="en-US" sz="3200" spc="-1" strike="noStrike">
                <a:solidFill>
                  <a:srgbClr val="000000"/>
                </a:solidFill>
                <a:latin typeface="Arial Unicode MS"/>
                <a:ea typeface="Arial Unicode MS"/>
              </a:rPr>
              <a:t>SALSA DE SOYA O SHOYU</a:t>
            </a:r>
            <a:br>
              <a:rPr sz="3200"/>
            </a:br>
            <a:endParaRPr b="0" lang="en-US" sz="3200" spc="-1" strike="noStrike">
              <a:solidFill>
                <a:srgbClr val="000000"/>
              </a:solidFill>
              <a:latin typeface="Times New Roman"/>
            </a:endParaRPr>
          </a:p>
        </p:txBody>
      </p:sp>
      <p:sp>
        <p:nvSpPr>
          <p:cNvPr id="88"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Original de china, tendría miles de añ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epara a partir de porotos de soya, los que se remojan y se hierv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nfrían y mezclan con trigo tostado, lo que entrega nutrientes para el desarrollo del hon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 inicialmente con </a:t>
            </a:r>
            <a:r>
              <a:rPr b="0" i="1" lang="es-ES" sz="2800" spc="-1" strike="noStrike">
                <a:solidFill>
                  <a:srgbClr val="000000"/>
                </a:solidFill>
                <a:latin typeface="Arial Unicode MS"/>
                <a:ea typeface="Arial Unicode MS"/>
              </a:rPr>
              <a:t>Aspergillus oryzae </a:t>
            </a:r>
            <a:r>
              <a:rPr b="0" lang="es-ES" sz="2800" spc="-1" strike="noStrike">
                <a:solidFill>
                  <a:srgbClr val="000000"/>
                </a:solidFill>
                <a:latin typeface="Arial Unicode MS"/>
                <a:ea typeface="Arial Unicode MS"/>
              </a:rPr>
              <a:t>el que convier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midón </a:t>
            </a:r>
            <a:r>
              <a:rPr b="0" lang="es-ES" sz="2800" spc="-1" strike="noStrike">
                <a:solidFill>
                  <a:srgbClr val="000000"/>
                </a:solidFill>
                <a:latin typeface="Symbol"/>
                <a:ea typeface="Symbol"/>
              </a:rPr>
              <a:t></a:t>
            </a:r>
            <a:r>
              <a:rPr b="0" lang="es-ES" sz="2800" spc="-1" strike="noStrike">
                <a:solidFill>
                  <a:srgbClr val="000000"/>
                </a:solidFill>
                <a:latin typeface="Times New Roman"/>
                <a:ea typeface="Arial Unicode MS"/>
              </a:rPr>
              <a:t> Azúcares fermentables (gluc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puré de azucares fermentables se deja fermentar por 6-12 meses con una mezcla de bacterias del ác. Láctico y levadu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uando los porotos se encuentran completamente colonizados con el hongo, se agrega salmuera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2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oducen enzimas que hidrolizan:  proteínas, grasas, etc. y producen una solución que contiene el sabor típico de la carne y se denomina </a:t>
            </a:r>
            <a:r>
              <a:rPr b="0" lang="es-ES" sz="2800" spc="-1" strike="noStrike" u="sng">
                <a:solidFill>
                  <a:srgbClr val="000000"/>
                </a:solidFill>
                <a:uFillTx/>
                <a:latin typeface="Arial Unicode MS"/>
                <a:ea typeface="Arial Unicode MS"/>
              </a:rPr>
              <a:t>Salsa de Soy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nsume con arroz cocido generando un buen al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amari es similar pero tiene un sabor ligeramente más fuerte y está hecho sin trigo (por lo tanto sin gluten). La fermentación del shoyu y el tamari lleva más o menos un añ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La mayoría de la salsa de soja que se encuentra en supermercados convencionales no es salsa de soja real sino que se ha hecho mediante hidrólisis química partiendo de harina de soya desgrasada, colorante de caramelo y jarabe de maíz sin ningún proceso de fermentación.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asta de poroto soya con sabor a carn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iso es un condimento fermentado hecho de granos de soya, cereales (arroz o cebada), sal y agua.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shoyu-moho (</a:t>
            </a:r>
            <a:r>
              <a:rPr b="0" i="1" lang="es-ES" sz="2800" spc="-1" strike="noStrike">
                <a:solidFill>
                  <a:srgbClr val="000000"/>
                </a:solidFill>
                <a:latin typeface="Arial Unicode MS"/>
                <a:ea typeface="Arial Unicode MS"/>
              </a:rPr>
              <a:t>Aspergillus oryzae</a:t>
            </a:r>
            <a:r>
              <a:rPr b="0" lang="es-ES" sz="2800" spc="-1" strike="noStrike">
                <a:solidFill>
                  <a:srgbClr val="000000"/>
                </a:solidFill>
                <a:latin typeface="Arial Unicode MS"/>
                <a:ea typeface="Arial Unicode MS"/>
              </a:rPr>
              <a:t>)  se crece en arroz o cebada para formar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koji conteniendo enzimas las cuales se combinan y muelen hasta formar una pasta con los porotos de soya coci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agrega 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ara hacer miso hay que cocinar arroz pulido al vapor que luego se inocula con el hongo </a:t>
            </a:r>
            <a:r>
              <a:rPr b="0" i="1" lang="es-ES" sz="2800" spc="-1" strike="noStrike">
                <a:solidFill>
                  <a:srgbClr val="000000"/>
                </a:solidFill>
                <a:latin typeface="Times New Roman"/>
                <a:ea typeface="Times New Roman"/>
              </a:rPr>
              <a:t>Aspergillus oryzae</a:t>
            </a:r>
            <a:r>
              <a:rPr b="0" lang="es-ES" sz="2800" spc="-1" strike="noStrike">
                <a:solidFill>
                  <a:srgbClr val="000000"/>
                </a:solidFill>
                <a:latin typeface="Times New Roman"/>
                <a:ea typeface="Times New Roman"/>
              </a:rPr>
              <a:t> y se deja fermentar para así crear un producto llamado koji.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pués el koji se mezcla con los granos de soya que previamente han sido calentados y extrusionados con agua y sal dando lugar a hebras. Todo esto se deja fermentar en grandes cub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abor, color, textura y aroma del miso varia enormemente y depende de su origen y elabo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tiliza para dar sabor a sopas, potajes y sals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En el miso se come todo, por lo que se tiene una excelente dieta, con alta concentración  de proteín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Se produce un aumento de la digestibilidad de los alimen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Los japoneses lo comen o toman en forma de sopa al desayuno.</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imento original de  Indonesi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es una pasta de granos de soja fermentados que se hace inoculando un tipo de hongo llamado </a:t>
            </a:r>
            <a:r>
              <a:rPr b="0" i="1" lang="es-ES" sz="2800" spc="-1" strike="noStrike">
                <a:solidFill>
                  <a:srgbClr val="000000"/>
                </a:solidFill>
                <a:latin typeface="Arial Unicode MS"/>
                <a:ea typeface="Arial Unicode MS"/>
              </a:rPr>
              <a:t>Rhizopus oligosporous</a:t>
            </a:r>
            <a:r>
              <a:rPr b="0" lang="es-ES" sz="2800" spc="-1" strike="noStrike">
                <a:solidFill>
                  <a:srgbClr val="000000"/>
                </a:solidFill>
                <a:latin typeface="Arial Unicode MS"/>
                <a:ea typeface="Arial Unicode MS"/>
              </a:rPr>
              <a:t> a los porotos de soya cocidos.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e hongo forma un micelio que mantiene unidos los granos de soya y es responsable de esas manchas negras que se ven en el tempeh.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Tiene una textura ‘correosa’ y un sabor muy peculiar. Puede sustituir a la carne en recetas que lo requieran. Se puede freir, preparar al horno o al vapor.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os microorganismos utilizados son fundamentalmente hongos, en algunos casos pueden ser : levaduras y bacteri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pendiendo de la humedad del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desarrollaron inicialmente para mejorar la conservación de al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cambiar sus propiedades fís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eliminar factores antinutricio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mejorar digesti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contiene vitamina *B</a:t>
            </a:r>
            <a:r>
              <a:rPr b="0" lang="es-ES" sz="2800" spc="-1" strike="noStrike" baseline="-30000">
                <a:solidFill>
                  <a:srgbClr val="000000"/>
                </a:solidFill>
                <a:latin typeface="Arial Unicode MS"/>
                <a:ea typeface="Arial Unicode MS"/>
              </a:rPr>
              <a:t>12</a:t>
            </a:r>
            <a:r>
              <a:rPr b="0" lang="es-ES" sz="2800" spc="-1" strike="noStrike">
                <a:solidFill>
                  <a:srgbClr val="000000"/>
                </a:solidFill>
                <a:latin typeface="Arial Unicode MS"/>
                <a:ea typeface="Arial Unicode MS"/>
              </a:rPr>
              <a:t> la que se encuentra normalmente en carnes y otros alimentos de origen anima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Cianocobalamina, su deficiencia produce anemi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Requerimientos: 1- 1.5 mg/al dí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a vitamina es producida por una bacteria, no por el hong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reparación de tempeh</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oroto soya se remoja por dos horas en agua</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uecen por 30 minut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scurren y enfría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n con </a:t>
            </a:r>
            <a:r>
              <a:rPr b="0" i="1" lang="es-ES" sz="2800" spc="-1" strike="noStrike">
                <a:solidFill>
                  <a:srgbClr val="000000"/>
                </a:solidFill>
                <a:latin typeface="Arial Unicode MS"/>
                <a:ea typeface="Arial Unicode MS"/>
              </a:rPr>
              <a:t>Rhizopus oligosporu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locan sobre bandeja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cuban a 30ºc 8por 20-24 hr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obtiene tempe  (se fríe para com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Proceso para la producción de un forraje enriquecido en proteína a partir de la fermentación en estado sólido de la caña de azúcar que compren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Corte y molienda de la caña de azúcar, inoculación del sustrato y fermentación caracterizado porque se logra un proceso no estéril donde se mue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Hasta un tamaño de partículas comprendido en un diámetro equivalente entre 0,3 - 5 m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Se inocula con un nivel de inóculo que oscila entre l07- l08esporas/g de caña y la fase de fermentación se desarrolla con una humedad que oscila entre 50-8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La aireación de l-l0 l de aire /kg de caña a pH entre 3,5 - 6,0 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Temperatura entre 30 - 55ºC que se logra mediante la remoción de calor con 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Humedad de aire entre l0-80% de satur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Se obtuvo un producto final con las siguientes característic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eso Final: l30 K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Humedad Final: 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Proteína bruta en el producto final: 8% (b.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or este proceso se logró incrementar el contenido de proteína 4 ve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CCIÓN DE ÁCIDO GIBERÉLICO</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ido giberélico es una hormona vegetal que permite aumentar la maduración de la uva de mes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puede producir a partir del cultivo en estado sólido del hongo </a:t>
            </a:r>
            <a:r>
              <a:rPr b="0" i="1" lang="es-ES" sz="2800" spc="-1" strike="noStrike">
                <a:solidFill>
                  <a:srgbClr val="000000"/>
                </a:solidFill>
                <a:latin typeface="Times New Roman"/>
              </a:rPr>
              <a:t>Gibberella fujikuroi</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ndo nutrientes, sales, urea, y algún sustrato de bajo precio, se hace crecer en amberlita, con una a</a:t>
            </a:r>
            <a:r>
              <a:rPr b="0" lang="es-ES" sz="2800" spc="-1" strike="noStrike" baseline="-25000">
                <a:solidFill>
                  <a:srgbClr val="000000"/>
                </a:solidFill>
                <a:latin typeface="Times New Roman"/>
              </a:rPr>
              <a:t>w</a:t>
            </a:r>
            <a:r>
              <a:rPr b="0" lang="es-ES" sz="2800" spc="-1" strike="noStrike">
                <a:solidFill>
                  <a:srgbClr val="000000"/>
                </a:solidFill>
                <a:latin typeface="Times New Roman"/>
              </a:rPr>
              <a:t> de 0.985en columnas de vidrio. Se obtuvo un desarrollo de biomasa de 40mg/g de soporte y una producción de ácido giberélico de 0.73 mg/ g sopo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objeto de obtener un alimento animal rico en proteínas se cultivó </a:t>
            </a:r>
            <a:r>
              <a:rPr b="0" i="1" lang="es-ES" sz="2800" spc="-1" strike="noStrike">
                <a:solidFill>
                  <a:srgbClr val="000000"/>
                </a:solidFill>
                <a:latin typeface="Times New Roman"/>
              </a:rPr>
              <a:t>Aspergillus niger</a:t>
            </a:r>
            <a:r>
              <a:rPr b="0" lang="es-ES" sz="2800" spc="-1" strike="noStrike">
                <a:solidFill>
                  <a:srgbClr val="000000"/>
                </a:solidFill>
                <a:latin typeface="Times New Roman"/>
              </a:rPr>
              <a:t> en papa rallada, humedecida y precocida, agregándole algunas sales, a pH 4.5 y 55% de hume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ncentración de proteínas aumentó de 8.9% a 19.6% en base sec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obtuvo un aumento en la calidad biológica de la proteí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contenía aflatox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seta de remolacha un sustrato de muy bajo valor nutritivo, proveniente del proceso de obtención de azúcar de remolacha se utilizó para desarrollar mediante cultivo en estado sólido el hongo </a:t>
            </a:r>
            <a:r>
              <a:rPr b="0" i="1" lang="es-ES" sz="3200" spc="-1" strike="noStrike">
                <a:solidFill>
                  <a:srgbClr val="000000"/>
                </a:solidFill>
                <a:latin typeface="Times New Roman"/>
              </a:rPr>
              <a:t>Pleurotus ostreatus</a:t>
            </a:r>
            <a:r>
              <a:rPr b="0" lang="es-ES" sz="3200" spc="-1" strike="noStrike">
                <a:solidFill>
                  <a:srgbClr val="000000"/>
                </a:solidFill>
                <a:latin typeface="Times New Roman"/>
              </a:rPr>
              <a:t> (hongo ostra). Utilizando 70% de humeda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obtuvo también un alto enriquecimiento prote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CULTIVOS SUMERGIDOS Y EN MEDIO SÓLIDO</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1219320" y="1828800"/>
            <a:ext cx="69339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 tradicional en oriente para producción de alimen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mpeh,  Miso,  Koj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bido a la baja disponibilidad de agua, en estas fermentaciones, no hay problemas de contaminación con bacterias, a pesar de que el sustrato no se esteriliz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s nuev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enz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milasas,  celulasas, hormona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áci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ítrico,  gálico</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micotoxin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flatoxin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EN ESTADO SÓLID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981080" y="182880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043000" y="4680"/>
            <a:ext cx="505800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Arial Unicode MS"/>
                <a:ea typeface="Arial Unicode MS"/>
              </a:rPr>
              <a:t>CARACTERÍSTICAS FISICOQUÍMICAS DE UN PROCESO DE FERMENTACIÓN EN ESTADO SÓLIDO</a:t>
            </a:r>
            <a:r>
              <a:rPr b="1" lang="en-US" sz="4400" spc="-1" strike="noStrike">
                <a:solidFill>
                  <a:srgbClr val="000000"/>
                </a:solidFill>
                <a:latin typeface="Arial Unicode MS"/>
                <a:ea typeface="Arial Unicode MS"/>
              </a:rPr>
              <a:t>.</a:t>
            </a:r>
            <a:br>
              <a:rPr sz="4400"/>
            </a:br>
            <a:r>
              <a:rPr b="0" lang="en-US" sz="4400" spc="-1" strike="noStrike">
                <a:solidFill>
                  <a:srgbClr val="000000"/>
                </a:solidFill>
                <a:latin typeface="Arial Unicode MS"/>
                <a:ea typeface="Arial Unicode MS"/>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80000"/>
          </a:bodyPr>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ontenido de humedad:</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25000">
                <a:solidFill>
                  <a:srgbClr val="000000"/>
                </a:solidFill>
                <a:latin typeface="Arial Unicode MS"/>
                <a:ea typeface="Arial Unicode MS"/>
              </a:rPr>
              <a:t>w</a:t>
            </a:r>
            <a:r>
              <a:rPr b="0" lang="en-GB" sz="2800" spc="-1" strike="noStrike">
                <a:solidFill>
                  <a:srgbClr val="000000"/>
                </a:solidFill>
                <a:latin typeface="Arial Unicode MS"/>
                <a:ea typeface="Arial Unicode MS"/>
              </a:rPr>
              <a:t> : 0.86  -  0.90</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 p. vapor solutos/p. vapor solvente</a:t>
            </a: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Debe ser determinada en cada caso</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bacteria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0.9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hongo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0.7 </a:t>
            </a:r>
            <a:r>
              <a:rPr b="0" lang="es-ES" sz="2800" spc="-1" strike="noStrike">
                <a:solidFill>
                  <a:srgbClr val="000000"/>
                </a:solidFill>
                <a:latin typeface="Symbol"/>
                <a:ea typeface="Symbol"/>
              </a:rPr>
              <a:t></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03:27:08Z</dcterms:created>
  <dc:creator>Blanca Escobar</dc:creator>
  <dc:description/>
  <dc:language>en-US</dc:language>
  <cp:lastModifiedBy>Blanca Escobar</cp:lastModifiedBy>
  <dcterms:modified xsi:type="dcterms:W3CDTF">2004-10-27T22:18:55Z</dcterms:modified>
  <cp:revision>18</cp:revision>
  <dc:subject/>
  <dc:title>FERMENTACIONES EN ESTADO SÓLIDO O SEMISÓLIDAS</dc:title>
</cp:coreProperties>
</file>