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BD6B-6D14-4E7C-949C-404C26FA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1C0F-6FAA-4112-909D-F6E3E369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5A6-767C-4AAE-B291-5DD6E880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BD5-AFF7-4801-8476-9BF607E6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3E8-BAEF-4AF2-84F5-F170C727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A57-0C5E-4C17-8A48-B992D2E5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5F13-3B71-4A8E-8D6C-60F010DC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E90-398C-45E3-906B-15829C16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372-F8C2-4EA7-8C24-CA20F1E7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099-FBFB-4779-ACAA-7417A7DD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02EB-1EF8-4CE9-9F4B-EBB7AF71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51D-B4A9-4DE9-96D9-B96BF088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5B65-1B06-409B-8FBC-FB168634A20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Inocular suelo con hongos que forman micorrizas, estos colonizan raíces de las plantas y así aumentan superficie de las raíces disminuyen necesidades de agua y nutrien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ción de ácido giberélico (fitohormona del crecimiento) por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Gibberella fujikuro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ultivada en medios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especies de hongo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richoderm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n cultivos en campos estos producen metabolitos:  volátiles y/o difusibles, quitinasas, glucanasas o proteasas que actúan como antagonistas de fitopatógenos (para evitar pesticidas quím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Uso de M.O. como vectores para producir plantas transgénicas (resistentes a ciertas plag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ara evitar la rápida maduración y deterioro de las frutas (para exportaci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ción de fitohormo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utilizan naturales y sintéticas sobre mas de 1.000.000 de hectáreas en el mundo y sobre diferentes variedades de cult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umentan rendimiento, calidad de la producción, modificando el desarrollo de la planta, a través del sistema horm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ntrol biológico de pestes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uso de pesticidas o insecticidas para eliminar pestes acarrea muchos problemas secundarios sobre el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esticidas microbianos son específicos y son mas baratos que los pesticidas quím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j. Baculo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infecta a un macho de un insecto y este se cruza con la hembra y producen huevos infectados con el virus lo que les impide desarrolla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TECNOLOGÍA EN PROCESOS AGRÍCOLAS (CH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uso de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thuringiensis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para control de plagas (insectos)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Bacillus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duce una toxina especifica para insectos que les causa la mue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toxina es producida durante la espor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uelo está formado por compuestos orgánicos e inorgánicos y corresponde a la zona fértil que soporta la vida terres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puestos inorgánicos provienen del interior de la tierra y se mezclan con los compuestos orgánicos provenientes de la descomposición de organismos viv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CROBIOLOGIA AG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a gramo de suelo contiene mas de 2 billones de bacte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os junto a los hongos saprofíticos tienen gran importancia en la mantención de la fertilidad del su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los organismos sobre la tierra dependemos entre otros nutrient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lantas leguminosas  crecen bien en suelos pobres en nitrógeno produciendo su propio fertiliz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eguminosa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. phase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. lupini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hizobium primero se adhieren a las células de las raíces y así las bacterias penetran a la pla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suelos se pueden fertilizar usando estas plantas que dejan a estas bacterias en el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 porotos, alfalfa, soya, maní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ONIZACIÓN DE LAS RAICES DE UNA LEGUMINOSA PO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TERIAS RHIZOB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47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n desarrollando nuevos mutantes de Rhizobium con altas capacidades para fijar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está tratando de cultivar Azotobacter un fijador no simbiótico de nitrógeno, cerca de raíces de maíz, lo que entregará a esta planta no leguminosa altas concentraciones de compuestos nitroge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so de Cianobacterias en cultivos de arro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etende crear plantas con capacidad para fijar nitrógeno transfiriendo genes desde bacterias fijado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JACIÓN DE NITRÓGENO POR M.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.: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Klebsiella pneumoniae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contiene 17 genes en un plasmi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or ahora no ha funcionado la transferencia de estos genes a </a:t>
            </a: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accharomyces cerevisia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tro problema es la sensibilidad de la nitrogenasa al Oxígeno generado en la fotosíntesis.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CULANTES MICROBIANOS QUE AUMENTAN EL RENDIMIENTO DE LAS COSECH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plantas se pueden beneficiar también con M.O. no fijadores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tas cepas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putid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seudomona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luorescens  cuando se inoculan en el suelo aumentan las cosecha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en sideróforos, sustancias que enlazan hierro y así lo sacan del suelo, impidiendo que los M.O. crezcan allí y quiten agua y otros nutrientes a las plantas (raíc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4:53:44Z</dcterms:created>
  <dc:creator>Blanca Escobar</dc:creator>
  <dc:description/>
  <dc:language>en-US</dc:language>
  <cp:lastModifiedBy>Blanca Escobar</cp:lastModifiedBy>
  <dcterms:modified xsi:type="dcterms:W3CDTF">2006-11-02T21:33:48Z</dcterms:modified>
  <cp:revision>4</cp:revision>
  <dc:subject/>
  <dc:title>MICROBIOLOGIA AGRICOLA</dc:title>
</cp:coreProperties>
</file>