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72D-4321-47C7-82E2-A06C8660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A06-A031-4FE3-BD5E-D25188EC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281-8BEB-4653-98EB-CD4BE8FE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87F-7DE6-4CC0-BFCD-8E05AF3D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1EB-3F45-483C-A196-5F7CE19D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FC4-7BA6-4823-8489-A5E020F9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AA8-B81D-49AA-B2FB-57561287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119-0447-42CA-95B7-9EF249D2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52F-2814-46CD-9AF4-0E999C5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E2A-33F6-4A56-953F-F4A4C4EB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E9C-AEC0-4719-BB13-FCA5B2FC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702-6C34-4740-B467-1161297A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DCBC-840A-4B90-BA46-ACB091DBBCD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 Software Orientado a Obje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quisi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uede interactuar con el ACII para planear el menú de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213-C830-4436-99B9-351DA10509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dentificar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software complejo se inicia identificando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una componente (en el diseñ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 conjunto pequeño y bien definido de responsabi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actuar mínimamente con otr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C20-73B9-465C-9B0D-DA27C63AD5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257800" y="4267080"/>
            <a:ext cx="3124080" cy="1981080"/>
            <a:chOff x="5257800" y="4267080"/>
            <a:chExt cx="3124080" cy="1981080"/>
          </a:xfrm>
        </p:grpSpPr>
        <p:sp>
          <p:nvSpPr>
            <p:cNvPr id="89" name=""/>
            <p:cNvSpPr/>
            <p:nvPr/>
          </p:nvSpPr>
          <p:spPr>
            <a:xfrm>
              <a:off x="5257800" y="4267080"/>
              <a:ext cx="3124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42670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61040" y="433512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9960" y="47448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4640" y="4335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4724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arjetas CR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tarjeta con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de la compon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de 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componentes con las que interactú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miembro del equipo de desarrollo tiene una o más tarjetas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68A-6AC0-4D10-9E83-3D9F283E08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iclo “Qué - Quién”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actividad, tarea o funcionalidad identificada en la especificación de requisitos debe ser asignada a una componente como parte de sus respons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ún el análisis se hace a nivel del sistema comple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diseño están frescas en la mente de los desarrol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12B-7B7A-458B-B634-A690CF0341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mponentes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rrer las recetas exist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una nueva receta a la base de da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ificar una receta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ar un plan de comidas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ctividades pueden clasificarse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as rec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os planes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A60-BF2C-4949-B219-9E45063932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3880" y="1905120"/>
            <a:ext cx="6175440" cy="4114800"/>
            <a:chOff x="1523880" y="1905120"/>
            <a:chExt cx="617544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90512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88000" y="19051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275616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640" y="19926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Bienven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3440" y="2824560"/>
              <a:ext cx="2838240" cy="21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mensaje in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Ofrecer las opciones de 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asar el control 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0960" y="205776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ienveni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4BE-0BBB-42C2-9C15-5CFAA4957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ase de Datos de 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8AC-5ACA-48A8-88F1-2D72F52CE3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Cambio es Inevi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r los cambios probables en una o d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, formatos de comunicación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las dependencias del hardware (por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el acoplamiento entr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981-61F6-4D6A-A320-53C7893D05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osponer Decis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65C-4DE2-491A-B3F2-859169204C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Receta será también un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contener una cierta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dientes neces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 a segu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que debe realizar una recet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plegar la receta en panta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modificar ingredientes y/o pa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la rec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es un modelo de formato para cada una de las re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Base de Datos ofrece incluir una nueva rec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ea una nueva componente de Receta en blan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asignan los valores de la información con los datos proporcionados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117-BFF0-463D-AD23-5A1F188505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¿Qué es Orientación a Objetos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ón de clases y h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aje de mensa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estáticos y vir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un lenguaje orientado a objetos no es condición necesaria ni suficiente para hacer un programa orientado 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4B5-8D02-456A-862F-4E54DE5587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Recet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3880" y="2057400"/>
            <a:ext cx="6175440" cy="4114800"/>
            <a:chOff x="1523880" y="2057400"/>
            <a:chExt cx="6175440" cy="4114800"/>
          </a:xfrm>
        </p:grpSpPr>
        <p:sp>
          <p:nvSpPr>
            <p:cNvPr id="126" name=""/>
            <p:cNvSpPr/>
            <p:nvPr/>
          </p:nvSpPr>
          <p:spPr>
            <a:xfrm>
              <a:off x="1523880" y="205740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8000" y="20574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290844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0160" y="21448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Rec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5880" y="2976480"/>
              <a:ext cx="291420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la recet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ingred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pasos a segu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mprimir la rece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220968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 de Com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135-77FD-4B10-B842-6CEA4FD86C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de Comidas permite (responsabilid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 y modificar un plan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un plan de comid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cular la lista de compras neces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nuevo plan tiene una Fecha asoci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Fecha es también una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ltar la comida de una Fecha partic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 del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067-76B9-4CD2-8632-0D1CE9E6AE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comens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legar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/modificar recetas de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95B-7BFD-4F1A-986B-88C5F20AD8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v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Rec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2"/>
            <a:endCxn id="137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7" idx="2"/>
            <a:endCxn id="139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2"/>
            <a:endCxn id="140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2"/>
            <a:endCxn id="141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1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9" idx="3"/>
            <a:endCxn id="140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Estructura de AC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A6C-A9C2-44D2-925F-60199ABFC4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71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96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70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920" y="19875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ienven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6680" y="1987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99960" y="1987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6600" y="1987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Planes de 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712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224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58452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79040" y="4495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5105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7040" y="265572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9640" y="297180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7360" y="35053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419112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4320" y="480060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4840" y="251460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9600" y="259092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7000" y="3124080"/>
            <a:ext cx="3049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0" y="502920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514600"/>
            <a:ext cx="304560" cy="3505320"/>
          </a:xfrm>
          <a:prstGeom prst="downArrow">
            <a:avLst>
              <a:gd name="adj1" fmla="val 40620"/>
              <a:gd name="adj2" fmla="val 198058"/>
            </a:avLst>
          </a:prstGeom>
          <a:gradFill rotWithShape="0">
            <a:gsLst>
              <a:gs pos="0">
                <a:srgbClr val="00cc99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102960" y="388440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Diagrama de Secu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85F-8A3D-4243-A1F3-62271E31F4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3824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stado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 de una componente es el conjunto de acciones que pue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junto de todas las acciones posibles de una componente se llama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es la información contenida dentro de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no es estático sino que puede cambiar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BEF-EFAD-4C26-A4F4-857FC54442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stancias y Cl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varias Recetas en la Base de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ablemente tienen distintos ingredientes y distintos pasos a seguir (es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todas tendrán las mismas responsabilidades (comportami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ando la especificación de un sistema, nos centramos en el comportamiento común de las Rec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lase es un conjunto de objetos con el mismo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ndividuo de una Clase es una Instancia; la caracteriza su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768-73C8-404A-ABB4-9DD1D776FE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r el comportamiento de una componente permite que otro programador pueda usarla sin conocer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se llama ocultamiento de la información (information hi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mos que la componente encapsula  su comportamiento y muestra sólo los detalles necesarios para us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faz describe lo que la componente puede ha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hacia otros progra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lementación describe cómo la componente realiza sus t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que ve el programador trabajando e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8E1-727D-4586-8DEA-3278D5F47A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factor crítico aquí es la comunic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componentes se desarroll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A4B-4AFB-4018-908D-42CE1BE8E2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Parn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será provisto de toda la información neces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s implementaciones pueden probarse para la mism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226-5C4D-410C-A108-8AE32A6CA7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4160" y="4008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7520" y="40086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5380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94120" y="53802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1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Diseñ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El diseño del software consiste en crear un modelo del software deseado de modo que satisfaga los requisitos de buena 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5F0-6659-44EF-B098-E5FD55ACFE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guiendo el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general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sin estado interno, pueden implementarse como una fun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con estado y varias responsabilidades pueden implementarse como cla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responsabilidad será un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datos necesarios deben identifica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parámetros de los métodos se identifican con su nombre y su ori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atos internos se identifi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F16-E6F5-4580-82AD-44F0E5EF81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ección de Nombr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ías para elección de nombres [Keller, 1990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nombres fácilmente pronunciab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mayúsculas o guiones para unir palab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uidadoso con las abrevia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nombres con diferentes interpretacio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los números como parte de un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funciones o variables con valores lógicos, deben tener nombres que sugieran este tipo, e.g., está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7A4-CE7B-4235-A499-0714276EF7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Fech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617544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4320" y="1981080"/>
            <a:ext cx="2700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1800" y="2068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29005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Fecha (año, mes, día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AE1-06B1-4DC1-B76A-C26659116B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tallad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diseño detal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ligen las estructuras de datos inter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implementan los métodos definidos en l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420-CBCB-421E-AD04-9E557E53F1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336840"/>
            <a:ext cx="175284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336840"/>
            <a:ext cx="175248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2920" y="490680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3622680"/>
            <a:ext cx="511200" cy="121284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198108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404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196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Proceso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805-BDC1-4BB8-819F-3985C7FF9B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5105520" y="4403880"/>
            <a:ext cx="3637800" cy="1923480"/>
            <a:chOff x="5105520" y="4403880"/>
            <a:chExt cx="3637800" cy="1923480"/>
          </a:xfrm>
        </p:grpSpPr>
        <p:sp>
          <p:nvSpPr>
            <p:cNvPr id="63" name=""/>
            <p:cNvSpPr/>
            <p:nvPr/>
          </p:nvSpPr>
          <p:spPr>
            <a:xfrm>
              <a:off x="5105520" y="526104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87360" y="4403880"/>
              <a:ext cx="2955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Más que métodos, 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notaciones y guías pa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l diseño de softwa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La creatividad y el rigor</a:t>
              </a:r>
              <a:br>
                <a:rPr sz="2000"/>
              </a:b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siguen siendo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sencia del diseñ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étodos Estructurados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Estructu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Yourd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nálisis Estructurado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Gane &amp; Sars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Sistemas Jac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Jackson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Orientado a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inson,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Booch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M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0FC-6DC2-44E2-9108-D51FA79789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7400" y="3386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im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2360" y="54165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por 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por Responsabi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r a alguien una responsabilidad impl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pera un cierto comport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e dará independencia para hacer su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incipios de delegación y no interferencia son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psulamiento y modularidad como un 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para la 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54F-8F1B-47C7-9137-ED0F5099FF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stemas Chicos y Gran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ch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desarrollado por uno o unos pocos programad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persona entiende todas las faceta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gr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as personas participan en la program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abarca todo el conocimiento del siste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5F1-A384-42F8-9D88-567FEFA00B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ar el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Dirigido por l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077-6352-465B-B02E-B0231699D6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yudante de Cocin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a desarrol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udante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c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ractivo 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ligente (AC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76D-D1C9-4EB2-82E5-AD5B149F9C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28T15:52:47Z</cp:lastPrinted>
  <dcterms:modified xsi:type="dcterms:W3CDTF">2007-10-02T18:31:08Z</dcterms:modified>
  <cp:revision>34</cp:revision>
  <dc:subject/>
  <dc:title>CC31B: Desarrollo de Software de Aplicaciones</dc:title>
</cp:coreProperties>
</file>