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E085-4B14-41EC-975D-992D93F0C03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4B6-DCA0-4595-BB49-FF31D0A3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591-D24E-4C9C-A98A-53A4894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1DA-0858-43D0-8E41-87DB1B6F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793-FDA4-4810-8FD2-61ACAD8D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3120-DB04-4EB3-96A6-E904436B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8CDC-593C-463D-8347-22190108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C39E-4AE8-4E54-A8A1-BE62231B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9813-8A9E-422B-B572-8315B1B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9124-5C05-418A-A23D-80144B2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9C9F-3F32-4053-8BF6-6B29135C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529D-C7EE-405E-8B13-F3758AD3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BE4-8B32-40CF-B395-71217E42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FD9F-FD4C-40A3-8D34-59CDD59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8DDD-2901-4130-8D08-23FABAD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9A16-6F1B-4D46-9278-E01468AA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7D3A-9492-4F77-9FCD-162D94EC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4E92-D235-4D8D-B1EA-2D4EE136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10A-1973-4210-A0F6-6A69070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F95-0F9C-40DE-9141-0675E3B4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F6B-7440-4181-B2FB-4A14E322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AF5-C2F5-43C9-9FE6-7C4B9F33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B8F-1ABB-4AB2-B180-8450E20E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56C-52E9-4171-9690-84FE142A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007-BE25-4522-9EFD-8B999A3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7FEA-13A8-4390-9343-77D3C49151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593-EFC7-4190-8BF7-9C8820AAF7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weblogs en la 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46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62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80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5" idx="2"/>
              <a:endCxn id="180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0" idx="0"/>
              <a:endCxn id="186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0" idx="7"/>
              <a:endCxn id="187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0" idx="5"/>
              <a:endCxn id="183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0" idx="3"/>
              <a:endCxn id="182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0" idx="2"/>
              <a:endCxn id="181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0" idx="6"/>
              <a:endCxn id="184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96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197" idx="2"/>
              <a:endCxn id="196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8" idx="2"/>
              <a:endCxn id="196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0" idx="2"/>
              <a:endCxn id="196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99" idx="2"/>
              <a:endCxn id="196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668880" y="3214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400" y="5958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2440" y="3214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63280" y="5958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41760" y="3689280"/>
            <a:ext cx="9280080" cy="3007800"/>
            <a:chOff x="-41760" y="3689280"/>
            <a:chExt cx="9280080" cy="3007800"/>
          </a:xfrm>
        </p:grpSpPr>
        <p:grpSp>
          <p:nvGrpSpPr>
            <p:cNvPr id="226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960" y="612756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67400" y="5652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6720" y="6054480"/>
              <a:ext cx="155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41760" y="3692520"/>
              <a:ext cx="2512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880" y="3689280"/>
              <a:ext cx="5667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97480" y="43113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00000" y="5257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7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77640" y="3917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140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936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8800" y="3841920"/>
            <a:ext cx="6674760" cy="2406600"/>
            <a:chOff x="1828800" y="3841920"/>
            <a:chExt cx="6674760" cy="2406600"/>
          </a:xfrm>
        </p:grpSpPr>
        <p:sp>
          <p:nvSpPr>
            <p:cNvPr id="286" name=""/>
            <p:cNvSpPr/>
            <p:nvPr/>
          </p:nvSpPr>
          <p:spPr>
            <a:xfrm>
              <a:off x="2899800" y="38419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8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242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96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58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78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14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394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2720" y="4967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62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17520" y="3827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092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924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3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120" y="3291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52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784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5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91080" y="3062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tat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4267080"/>
            <a:ext cx="7467480" cy="2355480"/>
            <a:chOff x="1219320" y="4267080"/>
            <a:chExt cx="7467480" cy="2355480"/>
          </a:xfrm>
        </p:grpSpPr>
        <p:sp>
          <p:nvSpPr>
            <p:cNvPr id="42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4495680"/>
              <a:ext cx="10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556272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4400" y="42670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6720" y="42814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24080" y="5181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0360" y="5257800"/>
              <a:ext cx="108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234080" y="3733920"/>
            <a:ext cx="6215760" cy="609480"/>
            <a:chOff x="1234080" y="3733920"/>
            <a:chExt cx="6215760" cy="609480"/>
          </a:xfrm>
        </p:grpSpPr>
        <p:sp>
          <p:nvSpPr>
            <p:cNvPr id="441" name=""/>
            <p:cNvSpPr/>
            <p:nvPr/>
          </p:nvSpPr>
          <p:spPr>
            <a:xfrm>
              <a:off x="1234080" y="3733920"/>
              <a:ext cx="62157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74200" y="4114800"/>
            <a:ext cx="2977200" cy="2592360"/>
            <a:chOff x="3274200" y="4114800"/>
            <a:chExt cx="2977200" cy="2592360"/>
          </a:xfrm>
        </p:grpSpPr>
        <p:grpSp>
          <p:nvGrpSpPr>
            <p:cNvPr id="44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45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40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088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508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30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420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204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9400" y="4114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331440" y="4114800"/>
            <a:ext cx="2805840" cy="2592360"/>
            <a:chOff x="3331440" y="4114800"/>
            <a:chExt cx="2805840" cy="2592360"/>
          </a:xfrm>
        </p:grpSpPr>
        <p:grpSp>
          <p:nvGrpSpPr>
            <p:cNvPr id="48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48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48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4996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684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4104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886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144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508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64000" y="411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34960" y="4114800"/>
            <a:ext cx="2859840" cy="2592360"/>
            <a:chOff x="3234960" y="4114800"/>
            <a:chExt cx="2859840" cy="2592360"/>
          </a:xfrm>
        </p:grpSpPr>
        <p:grpSp>
          <p:nvGrpSpPr>
            <p:cNvPr id="51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96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2612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032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788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496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260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877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54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56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56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34880" y="2286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57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91600" y="3138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57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2000" y="4510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57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29400" y="5486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2913480" y="3232080"/>
            <a:ext cx="347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0" y="4073400"/>
            <a:ext cx="5804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9120" y="1600200"/>
            <a:ext cx="5626440" cy="368280"/>
            <a:chOff x="1149120" y="1600200"/>
            <a:chExt cx="5626440" cy="368280"/>
          </a:xfrm>
        </p:grpSpPr>
        <p:sp>
          <p:nvSpPr>
            <p:cNvPr id="584" name=""/>
            <p:cNvSpPr/>
            <p:nvPr/>
          </p:nvSpPr>
          <p:spPr>
            <a:xfrm>
              <a:off x="114912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676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768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58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61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61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62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62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62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62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63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63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63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64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64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64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65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65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65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65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66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66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67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67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67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004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72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416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134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3480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7012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7224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564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544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1012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69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2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5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6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77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78200" y="4738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6868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68360" y="3048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8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79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13320" y="3689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460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464000" y="2819520"/>
            <a:ext cx="3259080" cy="2971800"/>
            <a:chOff x="4464000" y="2819520"/>
            <a:chExt cx="3259080" cy="2971800"/>
          </a:xfrm>
        </p:grpSpPr>
        <p:sp>
          <p:nvSpPr>
            <p:cNvPr id="79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080" y="3003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64000" y="3290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21160" y="4586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80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7708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047760" y="2285640"/>
            <a:ext cx="4958280" cy="2972160"/>
            <a:chOff x="3047760" y="2285640"/>
            <a:chExt cx="4958280" cy="2972160"/>
          </a:xfrm>
        </p:grpSpPr>
        <p:sp>
          <p:nvSpPr>
            <p:cNvPr id="82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57480" y="2514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71680" y="37479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19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165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6560" y="30481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76240" y="3124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0" name=""/>
          <p:cNvGrpSpPr/>
          <p:nvPr/>
        </p:nvGrpSpPr>
        <p:grpSpPr>
          <a:xfrm>
            <a:off x="3139920" y="3505320"/>
            <a:ext cx="1278000" cy="1523880"/>
            <a:chOff x="3139920" y="3505320"/>
            <a:chExt cx="1278000" cy="1523880"/>
          </a:xfrm>
        </p:grpSpPr>
        <p:sp>
          <p:nvSpPr>
            <p:cNvPr id="841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992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464360" y="3504960"/>
            <a:ext cx="455040" cy="1600200"/>
            <a:chOff x="4464360" y="3504960"/>
            <a:chExt cx="455040" cy="1600200"/>
          </a:xfrm>
        </p:grpSpPr>
        <p:sp>
          <p:nvSpPr>
            <p:cNvPr id="844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43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495320" y="3505320"/>
            <a:ext cx="1950120" cy="1600200"/>
            <a:chOff x="4495320" y="3505320"/>
            <a:chExt cx="1950120" cy="1600200"/>
          </a:xfrm>
        </p:grpSpPr>
        <p:sp>
          <p:nvSpPr>
            <p:cNvPr id="847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440" y="3994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90760" y="3581280"/>
            <a:ext cx="1003680" cy="1524240"/>
            <a:chOff x="4190760" y="3581280"/>
            <a:chExt cx="1003680" cy="1524240"/>
          </a:xfrm>
        </p:grpSpPr>
        <p:sp>
          <p:nvSpPr>
            <p:cNvPr id="850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0760" y="3886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853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3840" y="435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el que entre y encola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7-03-21T18:49:46Z</dcterms:modified>
  <cp:revision>124</cp:revision>
  <dc:subject/>
  <dc:title>Sistemas Distribuídos</dc:title>
</cp:coreProperties>
</file>