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3CC-6FB8-4A52-B2DD-4C29BB0C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2DA-887C-4A35-8FE1-E570A984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59F-DF49-4CED-8053-2BE371E8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6654-0942-423E-9FDA-92B2F03C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C96-58E1-4925-83C3-91AC765E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0D0-4E06-4A92-B68C-E41837A4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B82-0640-403F-897D-C23961DA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CFC-1113-435A-A946-F5610112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B2B-53AE-40AE-AAB1-C6425A79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A97-47C5-4A20-A5F1-B535FCD0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419-8465-4F9A-B6B9-F7F834B1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11A-8445-400B-BEC7-8BE9B38E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3182-BF7C-445F-A473-D2E4CD861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745" r="0" b="0"/>
          <a:stretch/>
        </p:blipFill>
        <p:spPr>
          <a:xfrm>
            <a:off x="2209680" y="0"/>
            <a:ext cx="50594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49:12Z</dcterms:created>
  <dc:creator>IDIEM</dc:creator>
  <dc:description/>
  <dc:language>en-US</dc:language>
  <cp:lastModifiedBy> ivan</cp:lastModifiedBy>
  <cp:lastPrinted>2000-07-02T22:20:01Z</cp:lastPrinted>
  <dcterms:modified xsi:type="dcterms:W3CDTF">2005-06-09T03:51:30Z</dcterms:modified>
  <cp:revision>35</cp:revision>
  <dc:subject/>
  <dc:title>Sin título de diapositiva</dc:title>
</cp:coreProperties>
</file>