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click.wav" ContentType="audio/x-wav"/>
  <Override PartName="/ppt/media/image7.png" ContentType="image/png"/>
  <Override PartName="/ppt/media/image1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816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995800" y="-360"/>
            <a:ext cx="857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8680" y="739440"/>
            <a:ext cx="49356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3216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687960"/>
            <a:ext cx="9176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6594120" y="9687960"/>
            <a:ext cx="2588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8759-E05E-43AF-9E35-F8C9198974B6}" type="slidenum"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sldImg"/>
          </p:nvPr>
        </p:nvSpPr>
        <p:spPr>
          <a:xfrm>
            <a:off x="95868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98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572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° cl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BCA-8030-422E-8B88-59DD7946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C097-EC23-43DC-B842-D194C905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825B-3C9C-4E39-A573-CC0C16F5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C54A-5065-4A0F-B8EB-AEC16DDC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820B-E641-4015-A2D2-05C9FDBA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348-E5D7-4535-826D-D425B07E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4DE-4F29-4A1A-B5E4-B9D8CD98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E97-202A-4283-8F33-D82B306E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C41-3271-4538-9C13-D50D54EF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C7F-DAFF-44A6-8E8F-8ED740C8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B1E-6D91-4CD0-B240-FF93ABDF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4CA-E1DA-405D-B2F5-6502D841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48C0-311D-4330-A6E0-FC0DB8C9D1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4680" y="105228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CURSO  CI52B</a:t>
            </a:r>
            <a:br>
              <a:rPr sz="2400"/>
            </a:b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Semestre Primavera</a:t>
            </a:r>
            <a:br>
              <a:rPr sz="2000"/>
            </a:b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2007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GRAMACION, SEGUIMIENTO Y CONTROL  DE  PROYECT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419640" y="3500280"/>
            <a:ext cx="2374200" cy="2592360"/>
            <a:chOff x="3419640" y="3500280"/>
            <a:chExt cx="2374200" cy="25923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419640" y="3514680"/>
              <a:ext cx="1396800" cy="25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391640" y="3500280"/>
              <a:ext cx="1402200" cy="253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6515280" y="6242040"/>
            <a:ext cx="2914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GREGORIO AZOCAR G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20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discontinu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711360" y="212580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11360" y="244008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50960" y="278136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50960" y="30956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50960" y="34304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50960" y="374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50960" y="40608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50960" y="437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50960" y="47102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50960" y="504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50960" y="535932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50960" y="567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11360" y="598176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750960" y="209340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1387440" y="21128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714680" y="2093760"/>
            <a:ext cx="0" cy="38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19782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24890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27446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30002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32558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35323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3787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043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42991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4554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4811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5067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5322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5785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8341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6089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6345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6600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68580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71136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73882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76438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7900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8156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816120" y="216072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72680" y="216072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919440" y="25146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919440" y="28479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919440" y="31431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914040" y="347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914040" y="37926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914040" y="410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914040" y="44416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15480" y="47563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915480" y="50911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915480" y="540540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915480" y="5721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423440" y="2514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22334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23440" y="3478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423440" y="3813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423440" y="2828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423440" y="4756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23440" y="4127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423440" y="3164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423440" y="5091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423440" y="4441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423440" y="5425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423440" y="5740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8424720" y="2072880"/>
            <a:ext cx="0" cy="387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716120" y="2583000"/>
            <a:ext cx="2832120" cy="1076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716120" y="2584440"/>
            <a:ext cx="52560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227320" y="2932200"/>
            <a:ext cx="3338280" cy="730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227320" y="2930400"/>
            <a:ext cx="1042920" cy="7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781440" y="3247920"/>
            <a:ext cx="3319560" cy="1018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781440" y="3247920"/>
            <a:ext cx="1568520" cy="9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971720" y="3581280"/>
            <a:ext cx="3101760" cy="730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971720" y="3581280"/>
            <a:ext cx="129204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971720" y="3876840"/>
            <a:ext cx="3101760" cy="7272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71720" y="3876840"/>
            <a:ext cx="760320" cy="8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738520" y="4172040"/>
            <a:ext cx="3082680" cy="9216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005280" y="4191120"/>
            <a:ext cx="25056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797280" y="4525920"/>
            <a:ext cx="3573360" cy="730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781440" y="4525920"/>
            <a:ext cx="101772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270240" y="4840200"/>
            <a:ext cx="2295360" cy="73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249720" y="4840200"/>
            <a:ext cx="52524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800520" y="5175360"/>
            <a:ext cx="3576600" cy="73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805280" y="5175360"/>
            <a:ext cx="74160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586480" y="5489640"/>
            <a:ext cx="2330280" cy="936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595840" y="5489640"/>
            <a:ext cx="506520" cy="921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108840" y="5775480"/>
            <a:ext cx="2035080" cy="889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118200" y="5765760"/>
            <a:ext cx="230040" cy="92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754640" y="214956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2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546360" y="2585880"/>
            <a:ext cx="582840" cy="111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543560" y="2932200"/>
            <a:ext cx="1042920" cy="74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40400" y="3249720"/>
            <a:ext cx="1568520" cy="918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768840" y="3578400"/>
            <a:ext cx="1292040" cy="72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282920" y="3873600"/>
            <a:ext cx="760680" cy="824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573880" y="4187880"/>
            <a:ext cx="250560" cy="730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037120" y="4846680"/>
            <a:ext cx="525600" cy="73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354720" y="5172120"/>
            <a:ext cx="741240" cy="824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378560" y="5486400"/>
            <a:ext cx="506520" cy="1015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891560" y="5762520"/>
            <a:ext cx="258840" cy="1144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340320" y="4532400"/>
            <a:ext cx="1017720" cy="730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2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2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2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2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2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6135840" y="3405240"/>
            <a:ext cx="723600" cy="371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054600" y="437832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742160" y="3392640"/>
            <a:ext cx="723960" cy="371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541760" y="3392640"/>
            <a:ext cx="723960" cy="371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548240" y="4389480"/>
            <a:ext cx="723960" cy="371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516560" y="2452680"/>
            <a:ext cx="723600" cy="371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928960" y="3398760"/>
            <a:ext cx="723960" cy="371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303200" y="3392640"/>
            <a:ext cx="723960" cy="371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278000" y="2455920"/>
            <a:ext cx="723960" cy="371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86440" y="3571920"/>
            <a:ext cx="876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705640" y="3666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5695920" y="3666600"/>
            <a:ext cx="0" cy="9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267160" y="459108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267160" y="3543480"/>
            <a:ext cx="895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248440" y="28479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552920" y="3781440"/>
            <a:ext cx="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038480" y="2733840"/>
            <a:ext cx="50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4048200" y="2714400"/>
            <a:ext cx="0" cy="90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648240" y="3619440"/>
            <a:ext cx="923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038320" y="3610080"/>
            <a:ext cx="89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290600" y="2838600"/>
            <a:ext cx="0" cy="54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562640" y="4371840"/>
            <a:ext cx="733320" cy="371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143760" y="3381480"/>
            <a:ext cx="733320" cy="371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TIVIDADES CONTINUAS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300320" y="3394080"/>
            <a:ext cx="72360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266840" y="2465280"/>
            <a:ext cx="7239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53680" y="245916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309680" y="4383000"/>
            <a:ext cx="7239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935440" y="246528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055680" y="246060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35440" y="340344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935440" y="438300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560840" y="246528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671360" y="245736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560840" y="340344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560840" y="438300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164280" y="3403440"/>
            <a:ext cx="7048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748640" y="339408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054600" y="33955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cf0e30"/>
                </a:solidFill>
                <a:latin typeface="Geneva"/>
              </a:rPr>
              <a:t>C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680720" y="341784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cf0e30"/>
                </a:solidFill>
                <a:latin typeface="Geneva"/>
              </a:rPr>
              <a:t>C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734360" y="437832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322320" y="33973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cf0e30"/>
                </a:solidFill>
                <a:latin typeface="Geneva"/>
              </a:rPr>
              <a:t>C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398680" y="26114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2378160" y="3703680"/>
            <a:ext cx="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941560" y="3780000"/>
            <a:ext cx="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954160" y="416088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891560" y="33955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cf0e30"/>
                </a:solidFill>
                <a:latin typeface="Geneva"/>
              </a:rPr>
              <a:t>C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551240" y="277956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551240" y="37069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549440" y="4700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152880" y="4700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151440" y="37069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151440" y="27828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770720" y="278748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794480" y="37069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815000" y="4700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418440" y="37260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001000" y="37260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895920" y="43578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223960" y="294156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305720" y="296244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09680" y="2987640"/>
            <a:ext cx="203040" cy="20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246640" y="2987640"/>
            <a:ext cx="203400" cy="18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935520" y="4383000"/>
            <a:ext cx="182520" cy="20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06488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00160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03500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99224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03320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96992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1908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63528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65392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61296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63196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64140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31784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169960" y="22525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18752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20812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182480" y="41911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162040" y="41911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860800" y="3206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78456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376760" y="32162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836424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837216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422840" y="369720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795720" y="369720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862240" y="37069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177880" y="37069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1541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19372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195440" y="2759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16844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20480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53952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5269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5045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53340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614320" y="277956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58084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88064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002240" y="46702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91880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04976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945080" y="27320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046520" y="27320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454400" y="437976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470600" y="218772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483200" y="31258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093120" y="31384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702680" y="31510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675680" y="220356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701240" y="412740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306120" y="313992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909560" y="314640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033800" y="2733840"/>
            <a:ext cx="51444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055960" y="3600360"/>
            <a:ext cx="87624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033800" y="2727360"/>
            <a:ext cx="0" cy="912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678120" y="3629160"/>
            <a:ext cx="355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546440" y="3780000"/>
            <a:ext cx="0" cy="60480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686560" y="3652920"/>
            <a:ext cx="49500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88240" y="3573360"/>
            <a:ext cx="87624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249880" y="4583160"/>
            <a:ext cx="458640" cy="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5700600" y="3639600"/>
            <a:ext cx="0" cy="95580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488240" y="411336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053520" y="4173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37c03"/>
                </a:solidFill>
                <a:latin typeface="Geneva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102480" y="22096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285920" y="2838600"/>
            <a:ext cx="0" cy="552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248440" y="2833560"/>
            <a:ext cx="0" cy="552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305000" y="3762360"/>
            <a:ext cx="0" cy="619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048040" y="2629080"/>
            <a:ext cx="885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400480" y="3514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381400" y="3714840"/>
            <a:ext cx="56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028960" y="4562640"/>
            <a:ext cx="89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629160" y="2610000"/>
            <a:ext cx="94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638520" y="4581360"/>
            <a:ext cx="94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629160" y="416232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1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370240" y="2602080"/>
            <a:ext cx="58680" cy="45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343240" y="4532400"/>
            <a:ext cx="5868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002120" y="3591000"/>
            <a:ext cx="5868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657440" y="5638680"/>
            <a:ext cx="6800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Camino Crítico: A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B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A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B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475000" y="1089000"/>
            <a:ext cx="4862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Arial"/>
              </a:rPr>
              <a:t>Más  Tempr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489040" y="1117440"/>
            <a:ext cx="4862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Arial"/>
              </a:rPr>
              <a:t>Más  Tar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494080" y="1108080"/>
            <a:ext cx="4862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Arial"/>
              </a:rPr>
              <a:t>Holg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517840" y="1116000"/>
            <a:ext cx="4862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Arial"/>
              </a:rPr>
              <a:t>Camino Crí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5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650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75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9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65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95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5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15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50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50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50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65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750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850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95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35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55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65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75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8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500"/>
                            </p:stCondLst>
                            <p:childTnLst>
                              <p:par>
                                <p:cTn id="8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5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650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7500"/>
                            </p:stCondLst>
                            <p:childTnLst>
                              <p:par>
                                <p:cTn id="9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8500"/>
                            </p:stCondLst>
                            <p:childTnLst>
                              <p:par>
                                <p:cTn id="91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9500"/>
                            </p:stCondLst>
                            <p:childTnLst>
                              <p:par>
                                <p:cTn id="91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500"/>
                            </p:stCondLst>
                            <p:childTnLst>
                              <p:par>
                                <p:cTn id="9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1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5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5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7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9500"/>
                            </p:stCondLst>
                            <p:childTnLst>
                              <p:par>
                                <p:cTn id="94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1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1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9500"/>
                            </p:stCondLst>
                            <p:childTnLst>
                              <p:par>
                                <p:cTn id="96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8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9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35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5500"/>
                            </p:stCondLst>
                            <p:childTnLst>
                              <p:par>
                                <p:cTn id="97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7500"/>
                            </p:stCondLst>
                            <p:childTnLst>
                              <p:par>
                                <p:cTn id="98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33500"/>
                            </p:stCondLst>
                            <p:childTnLst>
                              <p:par>
                                <p:cTn id="99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2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RONOGRAMA</a:t>
            </a:r>
            <a:br>
              <a:rPr sz="2800"/>
            </a:b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continuo)</a:t>
            </a:r>
            <a:br>
              <a:rPr sz="2000"/>
            </a:b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1130400" y="1996920"/>
            <a:ext cx="6257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130400" y="1687680"/>
            <a:ext cx="4803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739880" y="2243160"/>
            <a:ext cx="49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130400" y="1687680"/>
            <a:ext cx="0" cy="404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130400" y="2503440"/>
            <a:ext cx="6238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123920" y="2860560"/>
            <a:ext cx="625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123920" y="3149640"/>
            <a:ext cx="627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123920" y="3711600"/>
            <a:ext cx="625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106640" y="3440160"/>
            <a:ext cx="626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123920" y="3984480"/>
            <a:ext cx="625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123920" y="4273560"/>
            <a:ext cx="621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123920" y="4546440"/>
            <a:ext cx="623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123920" y="4854600"/>
            <a:ext cx="624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363760" y="1687680"/>
            <a:ext cx="0" cy="404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176720" y="1687680"/>
            <a:ext cx="0" cy="404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916600" y="1687680"/>
            <a:ext cx="0" cy="404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737400" y="1954080"/>
            <a:ext cx="0" cy="377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758960" y="202572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298680" y="2025720"/>
            <a:ext cx="0" cy="36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040360" y="2008080"/>
            <a:ext cx="0" cy="372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151240" y="2076480"/>
            <a:ext cx="22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208880" y="1714680"/>
            <a:ext cx="110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IV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376720" y="1714680"/>
            <a:ext cx="191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FECHAS TEMPRAN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286160" y="1714680"/>
            <a:ext cx="160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FECHAS TARDI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151280" y="2112840"/>
            <a:ext cx="56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C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1730520" y="2004840"/>
            <a:ext cx="553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D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35760" y="2004840"/>
            <a:ext cx="751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217680" y="2004840"/>
            <a:ext cx="987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RMI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212360" y="2022480"/>
            <a:ext cx="751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993920" y="2022480"/>
            <a:ext cx="987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RMI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907960" y="2004840"/>
            <a:ext cx="725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O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370640" y="1978200"/>
            <a:ext cx="0" cy="372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793160" y="2259000"/>
            <a:ext cx="45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596320" y="22766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497040" y="22766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E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421160" y="22766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250600" y="229392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L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073200" y="2276640"/>
            <a:ext cx="422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778800" y="2004840"/>
            <a:ext cx="5806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Criti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755400" y="2239920"/>
            <a:ext cx="63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c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252800" y="2567160"/>
            <a:ext cx="40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252800" y="2892600"/>
            <a:ext cx="40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252800" y="3165480"/>
            <a:ext cx="40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254600" y="3454560"/>
            <a:ext cx="40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254600" y="3745080"/>
            <a:ext cx="40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254600" y="4016520"/>
            <a:ext cx="40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254600" y="4287960"/>
            <a:ext cx="40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257480" y="457848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257480" y="48690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257480" y="519444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257480" y="546732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143000" y="5143680"/>
            <a:ext cx="625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143000" y="5451480"/>
            <a:ext cx="624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149480" y="5730840"/>
            <a:ext cx="620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93932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939320" y="2892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939320" y="3165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939320" y="3454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93932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939320" y="40165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939320" y="42879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939320" y="4578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939320" y="48690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939320" y="51944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939320" y="5467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71584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57120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52376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30172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109920" y="25844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715840" y="2892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571200" y="2892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423680" y="28926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201640" y="28926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109920" y="2892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715840" y="3165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461760" y="3165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23680" y="3165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201640" y="3165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109920" y="31827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715840" y="3454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571200" y="3454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523760" y="3454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201640" y="34545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109920" y="34732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71584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7120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2376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201640" y="37450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0992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706120" y="40165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571200" y="40165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442760" y="40165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220720" y="40165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057360" y="40165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606040" y="42879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461760" y="42879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442760" y="42879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220720" y="42879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060600" y="428796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715840" y="4578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571200" y="4578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423680" y="4578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201640" y="4578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109920" y="4597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606040" y="48690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442760" y="48690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461760" y="48690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201640" y="48690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060600" y="486900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625120" y="519444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442760" y="519444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461760" y="519444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220720" y="519444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09920" y="5137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606040" y="54673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461760" y="54673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442760" y="54673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220720" y="54673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109920" y="54277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883560" y="260028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83560" y="290844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8/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883560" y="319896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883560" y="348948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883560" y="376092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8/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831000" y="4032360"/>
            <a:ext cx="56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10/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834600" y="4303800"/>
            <a:ext cx="504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883560" y="461340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834600" y="4884840"/>
            <a:ext cx="504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883560" y="515304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883560" y="544356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20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continu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1360" y="212580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11360" y="244008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50960" y="278136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750960" y="30956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750960" y="34304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750960" y="374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750960" y="40608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50960" y="437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50960" y="47102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50960" y="504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750960" y="535932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50960" y="567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11360" y="598176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V="1">
            <a:off x="750960" y="209340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V="1">
            <a:off x="1387440" y="21128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V="1">
            <a:off x="1714680" y="2093760"/>
            <a:ext cx="0" cy="38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19782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24890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27446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30002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32558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35323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3787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4043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 flipV="1">
            <a:off x="42991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4554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4811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5067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5322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V="1">
            <a:off x="55785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V="1">
            <a:off x="58341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6089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6345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6600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flipV="1">
            <a:off x="68580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V="1">
            <a:off x="71136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73882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 flipV="1">
            <a:off x="76438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7900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8156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816120" y="216072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372680" y="216072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919440" y="25146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919440" y="28479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919440" y="31431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914040" y="347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914040" y="37926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914040" y="410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914040" y="44416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915480" y="47563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915480" y="50911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915480" y="540540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915480" y="5721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423440" y="2514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22334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423440" y="3478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423440" y="3813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423440" y="2828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423440" y="4756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423440" y="4127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423440" y="3164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423440" y="5091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423440" y="4441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423440" y="5425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423440" y="5740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8424720" y="2072880"/>
            <a:ext cx="0" cy="387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716120" y="2563920"/>
            <a:ext cx="2033640" cy="982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716120" y="2565360"/>
            <a:ext cx="52560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227320" y="2922480"/>
            <a:ext cx="3120840" cy="777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27320" y="2930400"/>
            <a:ext cx="1042920" cy="7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781440" y="3247920"/>
            <a:ext cx="3090960" cy="954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81440" y="3247920"/>
            <a:ext cx="1568520" cy="9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71720" y="3581280"/>
            <a:ext cx="2835360" cy="6696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971720" y="3562200"/>
            <a:ext cx="1292040" cy="92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987560" y="3867120"/>
            <a:ext cx="2838600" cy="8892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981080" y="3876840"/>
            <a:ext cx="760680" cy="8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014640" y="4191120"/>
            <a:ext cx="2806560" cy="1108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005280" y="4191120"/>
            <a:ext cx="250560" cy="91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07080" y="4525920"/>
            <a:ext cx="2563560" cy="9216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800600" y="4535640"/>
            <a:ext cx="1017720" cy="72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270240" y="4840200"/>
            <a:ext cx="2066760" cy="828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249720" y="4840200"/>
            <a:ext cx="52524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791240" y="5175360"/>
            <a:ext cx="2309760" cy="6336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805280" y="5175360"/>
            <a:ext cx="74160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848200" y="5499000"/>
            <a:ext cx="2040120" cy="637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838840" y="5489640"/>
            <a:ext cx="50652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335640" y="5765760"/>
            <a:ext cx="1808280" cy="889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351480" y="5765760"/>
            <a:ext cx="230400" cy="92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754640" y="214956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2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246480" y="2567160"/>
            <a:ext cx="525600" cy="91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286160" y="2932200"/>
            <a:ext cx="1042920" cy="74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5321160" y="3249720"/>
            <a:ext cx="1568520" cy="1015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521160" y="3578400"/>
            <a:ext cx="1292040" cy="72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025880" y="3873600"/>
            <a:ext cx="760320" cy="824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592600" y="4187880"/>
            <a:ext cx="231840" cy="1112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89440" y="4846680"/>
            <a:ext cx="525600" cy="73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335640" y="5172120"/>
            <a:ext cx="741600" cy="824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78560" y="5486400"/>
            <a:ext cx="506520" cy="82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891560" y="5762520"/>
            <a:ext cx="258840" cy="856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340320" y="4532400"/>
            <a:ext cx="1017720" cy="730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2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7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2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2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7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2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7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2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7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2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MPUTO DE RECURS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8550720" y="119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RECURSO FUNGIB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763920" y="2027160"/>
            <a:ext cx="12664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Cant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7319880" y="5524560"/>
            <a:ext cx="1073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Tiemp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4" name=""/>
          <p:cNvGrpSpPr/>
          <p:nvPr/>
        </p:nvGrpSpPr>
        <p:grpSpPr>
          <a:xfrm>
            <a:off x="1679400" y="2303640"/>
            <a:ext cx="123840" cy="3746160"/>
            <a:chOff x="1679400" y="2303640"/>
            <a:chExt cx="123840" cy="3746160"/>
          </a:xfrm>
        </p:grpSpPr>
        <p:sp>
          <p:nvSpPr>
            <p:cNvPr id="1805" name=""/>
            <p:cNvSpPr/>
            <p:nvPr/>
          </p:nvSpPr>
          <p:spPr>
            <a:xfrm>
              <a:off x="1679400" y="2303640"/>
              <a:ext cx="123840" cy="258480"/>
            </a:xfrm>
            <a:custGeom>
              <a:avLst/>
              <a:gdLst/>
              <a:ahLst/>
              <a:rect l="l" t="t" r="r" b="b"/>
              <a:pathLst>
                <a:path w="78" h="163">
                  <a:moveTo>
                    <a:pt x="46" y="0"/>
                  </a:moveTo>
                  <a:lnTo>
                    <a:pt x="77" y="162"/>
                  </a:lnTo>
                  <a:lnTo>
                    <a:pt x="46" y="162"/>
                  </a:lnTo>
                  <a:lnTo>
                    <a:pt x="0" y="162"/>
                  </a:lnTo>
                  <a:lnTo>
                    <a:pt x="4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773360" y="2579760"/>
              <a:ext cx="0" cy="347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1766880" y="5397480"/>
            <a:ext cx="6141960" cy="95400"/>
            <a:chOff x="1766880" y="5397480"/>
            <a:chExt cx="6141960" cy="95400"/>
          </a:xfrm>
        </p:grpSpPr>
        <p:sp>
          <p:nvSpPr>
            <p:cNvPr id="1808" name=""/>
            <p:cNvSpPr/>
            <p:nvPr/>
          </p:nvSpPr>
          <p:spPr>
            <a:xfrm>
              <a:off x="7650000" y="5397480"/>
              <a:ext cx="258840" cy="95400"/>
            </a:xfrm>
            <a:custGeom>
              <a:avLst/>
              <a:gdLst/>
              <a:ahLst/>
              <a:rect l="l" t="t" r="r" b="b"/>
              <a:pathLst>
                <a:path w="163" h="60">
                  <a:moveTo>
                    <a:pt x="162" y="29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6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766880" y="5462640"/>
              <a:ext cx="589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0" name=""/>
          <p:cNvSpPr/>
          <p:nvPr/>
        </p:nvSpPr>
        <p:spPr>
          <a:xfrm>
            <a:off x="1766880" y="51134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766880" y="47642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766880" y="441468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766880" y="40640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766880" y="37148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766880" y="33656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766880" y="301608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3115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8494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3876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9243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50007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55389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0768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6150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151760" y="3009960"/>
            <a:ext cx="0" cy="298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1836360" y="5497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23475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9109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4491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9873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5255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0367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6289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1383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614280" y="5470560"/>
            <a:ext cx="4557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400400" y="49593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1400400" y="46101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400400" y="42591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400400" y="39099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400400" y="35607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379160" y="3157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386360" y="285444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746360" y="3365640"/>
            <a:ext cx="5381640" cy="2098440"/>
          </a:xfrm>
          <a:custGeom>
            <a:avLst/>
            <a:gdLst/>
            <a:ahLst/>
            <a:rect l="l" t="t" r="r" b="b"/>
            <a:pathLst>
              <a:path w="3390" h="1322">
                <a:moveTo>
                  <a:pt x="0" y="881"/>
                </a:moveTo>
                <a:lnTo>
                  <a:pt x="339" y="881"/>
                </a:lnTo>
                <a:lnTo>
                  <a:pt x="339" y="220"/>
                </a:lnTo>
                <a:lnTo>
                  <a:pt x="695" y="220"/>
                </a:lnTo>
                <a:lnTo>
                  <a:pt x="695" y="661"/>
                </a:lnTo>
                <a:lnTo>
                  <a:pt x="1034" y="644"/>
                </a:lnTo>
                <a:lnTo>
                  <a:pt x="1034" y="1084"/>
                </a:lnTo>
                <a:lnTo>
                  <a:pt x="1372" y="1084"/>
                </a:lnTo>
                <a:lnTo>
                  <a:pt x="1372" y="424"/>
                </a:lnTo>
                <a:lnTo>
                  <a:pt x="1711" y="424"/>
                </a:lnTo>
                <a:lnTo>
                  <a:pt x="1711" y="864"/>
                </a:lnTo>
                <a:lnTo>
                  <a:pt x="2033" y="864"/>
                </a:lnTo>
                <a:lnTo>
                  <a:pt x="2033" y="0"/>
                </a:lnTo>
                <a:lnTo>
                  <a:pt x="2728" y="0"/>
                </a:lnTo>
                <a:lnTo>
                  <a:pt x="2728" y="440"/>
                </a:lnTo>
                <a:lnTo>
                  <a:pt x="3067" y="457"/>
                </a:lnTo>
                <a:lnTo>
                  <a:pt x="3050" y="881"/>
                </a:lnTo>
                <a:lnTo>
                  <a:pt x="3389" y="881"/>
                </a:lnTo>
                <a:lnTo>
                  <a:pt x="3389" y="1321"/>
                </a:lnTo>
                <a:lnTo>
                  <a:pt x="17" y="1321"/>
                </a:lnTo>
                <a:lnTo>
                  <a:pt x="17" y="881"/>
                </a:lnTo>
                <a:lnTo>
                  <a:pt x="0" y="881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462560" y="3009960"/>
            <a:ext cx="0" cy="30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674800" y="5746680"/>
            <a:ext cx="9828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6" name=""/>
          <p:cNvGrpSpPr/>
          <p:nvPr/>
        </p:nvGrpSpPr>
        <p:grpSpPr>
          <a:xfrm>
            <a:off x="1760400" y="5765760"/>
            <a:ext cx="2678400" cy="378360"/>
            <a:chOff x="1760400" y="5765760"/>
            <a:chExt cx="2678400" cy="378360"/>
          </a:xfrm>
        </p:grpSpPr>
        <p:grpSp>
          <p:nvGrpSpPr>
            <p:cNvPr id="1847" name=""/>
            <p:cNvGrpSpPr/>
            <p:nvPr/>
          </p:nvGrpSpPr>
          <p:grpSpPr>
            <a:xfrm>
              <a:off x="1760400" y="5854680"/>
              <a:ext cx="2678400" cy="95400"/>
              <a:chOff x="1760400" y="5854680"/>
              <a:chExt cx="2678400" cy="95400"/>
            </a:xfrm>
          </p:grpSpPr>
          <p:sp>
            <p:nvSpPr>
              <p:cNvPr id="1848" name=""/>
              <p:cNvSpPr/>
              <p:nvPr/>
            </p:nvSpPr>
            <p:spPr>
              <a:xfrm>
                <a:off x="1760400" y="5854680"/>
                <a:ext cx="231840" cy="9540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0" y="29"/>
                    </a:moveTo>
                    <a:lnTo>
                      <a:pt x="145" y="0"/>
                    </a:lnTo>
                    <a:lnTo>
                      <a:pt x="145" y="29"/>
                    </a:lnTo>
                    <a:lnTo>
                      <a:pt x="145" y="5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181400" y="5854680"/>
                <a:ext cx="25740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161" y="29"/>
                    </a:moveTo>
                    <a:lnTo>
                      <a:pt x="0" y="5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009880" y="5919840"/>
                <a:ext cx="21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1" name=""/>
            <p:cNvSpPr/>
            <p:nvPr/>
          </p:nvSpPr>
          <p:spPr>
            <a:xfrm>
              <a:off x="2643480" y="5765760"/>
              <a:ext cx="1082160" cy="3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Geneva"/>
                </a:rPr>
                <a:t>CICLO 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2" name=""/>
          <p:cNvSpPr/>
          <p:nvPr/>
        </p:nvSpPr>
        <p:spPr>
          <a:xfrm>
            <a:off x="5364000" y="5746680"/>
            <a:ext cx="9828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3" name=""/>
          <p:cNvGrpSpPr/>
          <p:nvPr/>
        </p:nvGrpSpPr>
        <p:grpSpPr>
          <a:xfrm>
            <a:off x="4503600" y="5765760"/>
            <a:ext cx="2651400" cy="378360"/>
            <a:chOff x="4503600" y="5765760"/>
            <a:chExt cx="2651400" cy="378360"/>
          </a:xfrm>
        </p:grpSpPr>
        <p:grpSp>
          <p:nvGrpSpPr>
            <p:cNvPr id="1854" name=""/>
            <p:cNvGrpSpPr/>
            <p:nvPr/>
          </p:nvGrpSpPr>
          <p:grpSpPr>
            <a:xfrm>
              <a:off x="4503600" y="5854680"/>
              <a:ext cx="2651400" cy="95400"/>
              <a:chOff x="4503600" y="5854680"/>
              <a:chExt cx="2651400" cy="95400"/>
            </a:xfrm>
          </p:grpSpPr>
          <p:sp>
            <p:nvSpPr>
              <p:cNvPr id="1855" name=""/>
              <p:cNvSpPr/>
              <p:nvPr/>
            </p:nvSpPr>
            <p:spPr>
              <a:xfrm>
                <a:off x="4503600" y="5854680"/>
                <a:ext cx="231840" cy="9540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0" y="29"/>
                    </a:moveTo>
                    <a:lnTo>
                      <a:pt x="145" y="0"/>
                    </a:lnTo>
                    <a:lnTo>
                      <a:pt x="145" y="29"/>
                    </a:lnTo>
                    <a:lnTo>
                      <a:pt x="145" y="5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897600" y="5854680"/>
                <a:ext cx="25740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161" y="29"/>
                    </a:moveTo>
                    <a:lnTo>
                      <a:pt x="0" y="5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753080" y="5919840"/>
                <a:ext cx="215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8" name=""/>
            <p:cNvSpPr/>
            <p:nvPr/>
          </p:nvSpPr>
          <p:spPr>
            <a:xfrm>
              <a:off x="5332680" y="5765760"/>
              <a:ext cx="1082160" cy="3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Geneva"/>
                </a:rPr>
                <a:t>CICLO 2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9" name=""/>
          <p:cNvSpPr/>
          <p:nvPr/>
        </p:nvSpPr>
        <p:spPr>
          <a:xfrm>
            <a:off x="8550720" y="119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771560" y="4762440"/>
            <a:ext cx="5335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2305080" y="3714840"/>
            <a:ext cx="0" cy="1047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2305080" y="3714840"/>
            <a:ext cx="5335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838600" y="3733920"/>
            <a:ext cx="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838600" y="4419720"/>
            <a:ext cx="5331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371760" y="4400640"/>
            <a:ext cx="0" cy="723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371760" y="5124600"/>
            <a:ext cx="552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3924360" y="4076280"/>
            <a:ext cx="0" cy="1047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924360" y="4076640"/>
            <a:ext cx="552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476600" y="4076640"/>
            <a:ext cx="0" cy="704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438800" y="4781520"/>
            <a:ext cx="552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4991040" y="3352320"/>
            <a:ext cx="0" cy="14288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010120" y="3352680"/>
            <a:ext cx="1066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076800" y="3352680"/>
            <a:ext cx="0" cy="723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076800" y="4076640"/>
            <a:ext cx="5335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610320" y="4076640"/>
            <a:ext cx="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1787400" y="4723920"/>
            <a:ext cx="0" cy="723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2533680" y="4572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200560" y="4572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464000" y="3016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800440" y="1733400"/>
            <a:ext cx="3504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MA DE LOS RECURSOS  EN EL CIC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591240" y="4781520"/>
            <a:ext cx="571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flipV="1">
            <a:off x="7143840" y="4781160"/>
            <a:ext cx="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1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1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1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9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10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1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4464000" y="3016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RECURSO REUTILIZAB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1188720" y="2027160"/>
            <a:ext cx="5914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h/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319880" y="5524560"/>
            <a:ext cx="1073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Tiemp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7" name=""/>
          <p:cNvGrpSpPr/>
          <p:nvPr/>
        </p:nvGrpSpPr>
        <p:grpSpPr>
          <a:xfrm>
            <a:off x="1679400" y="2303640"/>
            <a:ext cx="123840" cy="3746160"/>
            <a:chOff x="1679400" y="2303640"/>
            <a:chExt cx="123840" cy="3746160"/>
          </a:xfrm>
        </p:grpSpPr>
        <p:sp>
          <p:nvSpPr>
            <p:cNvPr id="1888" name=""/>
            <p:cNvSpPr/>
            <p:nvPr/>
          </p:nvSpPr>
          <p:spPr>
            <a:xfrm>
              <a:off x="1679400" y="2303640"/>
              <a:ext cx="123840" cy="258480"/>
            </a:xfrm>
            <a:custGeom>
              <a:avLst/>
              <a:gdLst/>
              <a:ahLst/>
              <a:rect l="l" t="t" r="r" b="b"/>
              <a:pathLst>
                <a:path w="78" h="163">
                  <a:moveTo>
                    <a:pt x="46" y="0"/>
                  </a:moveTo>
                  <a:lnTo>
                    <a:pt x="77" y="162"/>
                  </a:lnTo>
                  <a:lnTo>
                    <a:pt x="46" y="162"/>
                  </a:lnTo>
                  <a:lnTo>
                    <a:pt x="0" y="162"/>
                  </a:lnTo>
                  <a:lnTo>
                    <a:pt x="4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773360" y="2579760"/>
              <a:ext cx="0" cy="347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0" name=""/>
          <p:cNvGrpSpPr/>
          <p:nvPr/>
        </p:nvGrpSpPr>
        <p:grpSpPr>
          <a:xfrm>
            <a:off x="1766880" y="5397480"/>
            <a:ext cx="6141960" cy="95400"/>
            <a:chOff x="1766880" y="5397480"/>
            <a:chExt cx="6141960" cy="95400"/>
          </a:xfrm>
        </p:grpSpPr>
        <p:sp>
          <p:nvSpPr>
            <p:cNvPr id="1891" name=""/>
            <p:cNvSpPr/>
            <p:nvPr/>
          </p:nvSpPr>
          <p:spPr>
            <a:xfrm>
              <a:off x="7650000" y="5397480"/>
              <a:ext cx="258840" cy="95400"/>
            </a:xfrm>
            <a:custGeom>
              <a:avLst/>
              <a:gdLst/>
              <a:ahLst/>
              <a:rect l="l" t="t" r="r" b="b"/>
              <a:pathLst>
                <a:path w="163" h="60">
                  <a:moveTo>
                    <a:pt x="162" y="29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6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766880" y="5462640"/>
              <a:ext cx="589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3" name=""/>
          <p:cNvSpPr/>
          <p:nvPr/>
        </p:nvSpPr>
        <p:spPr>
          <a:xfrm>
            <a:off x="1766880" y="51134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766880" y="47642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766880" y="441468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766880" y="40640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766880" y="37148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766880" y="33656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766880" y="301608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3115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8494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3876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9243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50007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55389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0768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6150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151760" y="3009960"/>
            <a:ext cx="0" cy="298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836360" y="5497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3475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9109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4491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9873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5255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0367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56289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1383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6614280" y="5470560"/>
            <a:ext cx="4557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400400" y="49593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400400" y="46101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400400" y="42591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400400" y="39099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400400" y="35607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379160" y="3157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1386360" y="285444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1746360" y="3365640"/>
            <a:ext cx="5381640" cy="2098440"/>
          </a:xfrm>
          <a:custGeom>
            <a:avLst/>
            <a:gdLst/>
            <a:ahLst/>
            <a:rect l="l" t="t" r="r" b="b"/>
            <a:pathLst>
              <a:path w="3390" h="1322">
                <a:moveTo>
                  <a:pt x="0" y="881"/>
                </a:moveTo>
                <a:lnTo>
                  <a:pt x="339" y="881"/>
                </a:lnTo>
                <a:lnTo>
                  <a:pt x="339" y="220"/>
                </a:lnTo>
                <a:lnTo>
                  <a:pt x="695" y="220"/>
                </a:lnTo>
                <a:lnTo>
                  <a:pt x="695" y="661"/>
                </a:lnTo>
                <a:lnTo>
                  <a:pt x="1034" y="644"/>
                </a:lnTo>
                <a:lnTo>
                  <a:pt x="1034" y="1084"/>
                </a:lnTo>
                <a:lnTo>
                  <a:pt x="1372" y="1084"/>
                </a:lnTo>
                <a:lnTo>
                  <a:pt x="1372" y="424"/>
                </a:lnTo>
                <a:lnTo>
                  <a:pt x="1711" y="424"/>
                </a:lnTo>
                <a:lnTo>
                  <a:pt x="1711" y="864"/>
                </a:lnTo>
                <a:lnTo>
                  <a:pt x="2033" y="864"/>
                </a:lnTo>
                <a:lnTo>
                  <a:pt x="2033" y="0"/>
                </a:lnTo>
                <a:lnTo>
                  <a:pt x="2728" y="0"/>
                </a:lnTo>
                <a:lnTo>
                  <a:pt x="2728" y="440"/>
                </a:lnTo>
                <a:lnTo>
                  <a:pt x="3067" y="457"/>
                </a:lnTo>
                <a:lnTo>
                  <a:pt x="3050" y="881"/>
                </a:lnTo>
                <a:lnTo>
                  <a:pt x="3389" y="881"/>
                </a:lnTo>
                <a:lnTo>
                  <a:pt x="3389" y="1321"/>
                </a:lnTo>
                <a:lnTo>
                  <a:pt x="17" y="1321"/>
                </a:lnTo>
                <a:lnTo>
                  <a:pt x="17" y="881"/>
                </a:lnTo>
                <a:lnTo>
                  <a:pt x="0" y="881"/>
                </a:lnTo>
              </a:path>
            </a:pathLst>
          </a:custGeom>
          <a:solidFill>
            <a:srgbClr val="67c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2674800" y="5746680"/>
            <a:ext cx="9828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1760400" y="5765760"/>
            <a:ext cx="2678400" cy="378360"/>
            <a:chOff x="1760400" y="5765760"/>
            <a:chExt cx="2678400" cy="378360"/>
          </a:xfrm>
        </p:grpSpPr>
        <p:grpSp>
          <p:nvGrpSpPr>
            <p:cNvPr id="1929" name=""/>
            <p:cNvGrpSpPr/>
            <p:nvPr/>
          </p:nvGrpSpPr>
          <p:grpSpPr>
            <a:xfrm>
              <a:off x="1760400" y="5854680"/>
              <a:ext cx="2678400" cy="95400"/>
              <a:chOff x="1760400" y="5854680"/>
              <a:chExt cx="2678400" cy="95400"/>
            </a:xfrm>
          </p:grpSpPr>
          <p:sp>
            <p:nvSpPr>
              <p:cNvPr id="1930" name=""/>
              <p:cNvSpPr/>
              <p:nvPr/>
            </p:nvSpPr>
            <p:spPr>
              <a:xfrm>
                <a:off x="1760400" y="5854680"/>
                <a:ext cx="231840" cy="9540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0" y="29"/>
                    </a:moveTo>
                    <a:lnTo>
                      <a:pt x="145" y="0"/>
                    </a:lnTo>
                    <a:lnTo>
                      <a:pt x="145" y="29"/>
                    </a:lnTo>
                    <a:lnTo>
                      <a:pt x="145" y="5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181400" y="5854680"/>
                <a:ext cx="25740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161" y="29"/>
                    </a:moveTo>
                    <a:lnTo>
                      <a:pt x="0" y="5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009880" y="5919840"/>
                <a:ext cx="21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33" name=""/>
            <p:cNvSpPr/>
            <p:nvPr/>
          </p:nvSpPr>
          <p:spPr>
            <a:xfrm>
              <a:off x="2643480" y="5765760"/>
              <a:ext cx="1082160" cy="3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Geneva"/>
                </a:rPr>
                <a:t>CICLO 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4" name=""/>
          <p:cNvSpPr/>
          <p:nvPr/>
        </p:nvSpPr>
        <p:spPr>
          <a:xfrm>
            <a:off x="5364000" y="5746680"/>
            <a:ext cx="9828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5" name=""/>
          <p:cNvGrpSpPr/>
          <p:nvPr/>
        </p:nvGrpSpPr>
        <p:grpSpPr>
          <a:xfrm>
            <a:off x="4503600" y="5765760"/>
            <a:ext cx="2651400" cy="378360"/>
            <a:chOff x="4503600" y="5765760"/>
            <a:chExt cx="2651400" cy="378360"/>
          </a:xfrm>
        </p:grpSpPr>
        <p:grpSp>
          <p:nvGrpSpPr>
            <p:cNvPr id="1936" name=""/>
            <p:cNvGrpSpPr/>
            <p:nvPr/>
          </p:nvGrpSpPr>
          <p:grpSpPr>
            <a:xfrm>
              <a:off x="4503600" y="5854680"/>
              <a:ext cx="2651400" cy="95400"/>
              <a:chOff x="4503600" y="5854680"/>
              <a:chExt cx="2651400" cy="95400"/>
            </a:xfrm>
          </p:grpSpPr>
          <p:sp>
            <p:nvSpPr>
              <p:cNvPr id="1937" name=""/>
              <p:cNvSpPr/>
              <p:nvPr/>
            </p:nvSpPr>
            <p:spPr>
              <a:xfrm>
                <a:off x="4503600" y="5854680"/>
                <a:ext cx="231840" cy="9540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0" y="29"/>
                    </a:moveTo>
                    <a:lnTo>
                      <a:pt x="145" y="0"/>
                    </a:lnTo>
                    <a:lnTo>
                      <a:pt x="145" y="29"/>
                    </a:lnTo>
                    <a:lnTo>
                      <a:pt x="145" y="5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897600" y="5854680"/>
                <a:ext cx="25740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161" y="29"/>
                    </a:moveTo>
                    <a:lnTo>
                      <a:pt x="0" y="5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753080" y="5919840"/>
                <a:ext cx="215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40" name=""/>
            <p:cNvSpPr/>
            <p:nvPr/>
          </p:nvSpPr>
          <p:spPr>
            <a:xfrm>
              <a:off x="5332680" y="5765760"/>
              <a:ext cx="1082160" cy="3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Geneva"/>
                </a:rPr>
                <a:t>CICLO 2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1" name=""/>
          <p:cNvSpPr/>
          <p:nvPr/>
        </p:nvSpPr>
        <p:spPr>
          <a:xfrm>
            <a:off x="8550720" y="119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771560" y="4762440"/>
            <a:ext cx="53352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V="1">
            <a:off x="2305080" y="3714840"/>
            <a:ext cx="0" cy="104760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305080" y="3714840"/>
            <a:ext cx="53352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838600" y="3733920"/>
            <a:ext cx="0" cy="68580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838600" y="4419720"/>
            <a:ext cx="53316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371760" y="4400640"/>
            <a:ext cx="0" cy="72396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371760" y="5124600"/>
            <a:ext cx="55260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3924360" y="4076280"/>
            <a:ext cx="0" cy="104796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924360" y="4076640"/>
            <a:ext cx="55224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476600" y="4076640"/>
            <a:ext cx="0" cy="70488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438800" y="4781520"/>
            <a:ext cx="55224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flipV="1">
            <a:off x="4991040" y="3352320"/>
            <a:ext cx="0" cy="142884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010120" y="3352680"/>
            <a:ext cx="106668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076800" y="3352680"/>
            <a:ext cx="0" cy="72396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076800" y="4076640"/>
            <a:ext cx="53352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610320" y="4076640"/>
            <a:ext cx="0" cy="68580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flipV="1">
            <a:off x="1787400" y="4723920"/>
            <a:ext cx="0" cy="72396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533680" y="4572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5200560" y="4572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800440" y="1733400"/>
            <a:ext cx="3504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ICK DE LOS RECURSOS  EN EL CIC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591240" y="4781520"/>
            <a:ext cx="57168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V="1">
            <a:off x="7143840" y="4781160"/>
            <a:ext cx="0" cy="68580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771560" y="3733920"/>
            <a:ext cx="533520" cy="99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838600" y="3714840"/>
            <a:ext cx="1619280" cy="1371600"/>
          </a:xfrm>
          <a:custGeom>
            <a:avLst/>
            <a:gdLst/>
            <a:ahLst/>
            <a:rect l="l" t="t" r="r" b="b"/>
            <a:pathLst>
              <a:path w="1020" h="864">
                <a:moveTo>
                  <a:pt x="0" y="0"/>
                </a:moveTo>
                <a:lnTo>
                  <a:pt x="0" y="432"/>
                </a:lnTo>
                <a:lnTo>
                  <a:pt x="336" y="432"/>
                </a:lnTo>
                <a:lnTo>
                  <a:pt x="336" y="864"/>
                </a:lnTo>
                <a:lnTo>
                  <a:pt x="684" y="864"/>
                </a:lnTo>
                <a:lnTo>
                  <a:pt x="684" y="204"/>
                </a:lnTo>
                <a:lnTo>
                  <a:pt x="1020" y="204"/>
                </a:lnTo>
                <a:lnTo>
                  <a:pt x="102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8ac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476600" y="3371760"/>
            <a:ext cx="495360" cy="13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076800" y="3352680"/>
            <a:ext cx="1067040" cy="1409760"/>
          </a:xfrm>
          <a:custGeom>
            <a:avLst/>
            <a:gdLst/>
            <a:ahLst/>
            <a:rect l="l" t="t" r="r" b="b"/>
            <a:pathLst>
              <a:path w="672" h="888">
                <a:moveTo>
                  <a:pt x="0" y="0"/>
                </a:moveTo>
                <a:lnTo>
                  <a:pt x="0" y="444"/>
                </a:lnTo>
                <a:lnTo>
                  <a:pt x="336" y="444"/>
                </a:lnTo>
                <a:lnTo>
                  <a:pt x="336" y="888"/>
                </a:lnTo>
                <a:lnTo>
                  <a:pt x="672" y="888"/>
                </a:lnTo>
                <a:lnTo>
                  <a:pt x="67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8ac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905040" y="2004840"/>
            <a:ext cx="1495440" cy="37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h/sem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462560" y="3009960"/>
            <a:ext cx="0" cy="30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10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1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10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10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10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10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10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10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10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10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10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10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10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10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10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10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2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0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COMPUTO DE RECURSO</a:t>
            </a:r>
            <a:br>
              <a:rPr sz="3200"/>
            </a:b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iscontinuas)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387360" y="1515960"/>
            <a:ext cx="816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63680" y="1830240"/>
            <a:ext cx="808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07880" y="2171880"/>
            <a:ext cx="814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46040" y="2486160"/>
            <a:ext cx="810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7600" y="2820960"/>
            <a:ext cx="813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26960" y="3135240"/>
            <a:ext cx="81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26960" y="3451320"/>
            <a:ext cx="81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26960" y="3765600"/>
            <a:ext cx="81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65120" y="4100400"/>
            <a:ext cx="808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36680" y="4433760"/>
            <a:ext cx="811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26960" y="4749840"/>
            <a:ext cx="81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65120" y="5064120"/>
            <a:ext cx="808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53960" y="5372280"/>
            <a:ext cx="809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446040" y="1483920"/>
            <a:ext cx="0" cy="443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1082520" y="1503360"/>
            <a:ext cx="0" cy="387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1866960" y="1484280"/>
            <a:ext cx="0" cy="443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2130480" y="1503360"/>
            <a:ext cx="0" cy="441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264168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2897280" y="1503360"/>
            <a:ext cx="0" cy="441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3152880" y="148392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3408480" y="15030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V="1">
            <a:off x="368460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3940200" y="1503360"/>
            <a:ext cx="0" cy="44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419580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V="1">
            <a:off x="4451400" y="15030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4707000" y="1503360"/>
            <a:ext cx="0" cy="43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4964040" y="1503360"/>
            <a:ext cx="0" cy="43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5219640" y="1503360"/>
            <a:ext cx="0" cy="44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5475240" y="150336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573084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 flipV="1">
            <a:off x="5986440" y="1503360"/>
            <a:ext cx="0" cy="44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V="1">
            <a:off x="6242040" y="15030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V="1">
            <a:off x="6488280" y="1512360"/>
            <a:ext cx="0" cy="438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6753240" y="15030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V="1">
            <a:off x="701028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V="1">
            <a:off x="7265880" y="150336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7540560" y="1503360"/>
            <a:ext cx="0" cy="44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V="1">
            <a:off x="7796160" y="1503360"/>
            <a:ext cx="0" cy="441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V="1">
            <a:off x="8062920" y="149400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V="1">
            <a:off x="8308800" y="150336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11200" y="155088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34320" y="155088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14520" y="190512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14520" y="223848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14520" y="253368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14160" y="28684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14160" y="318276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14160" y="349884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14160" y="38322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20280" y="4146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20280" y="448164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20280" y="47959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20280" y="511164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580760" y="1905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V="1">
            <a:off x="2386080" y="150336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1580760" y="2868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1580760" y="32036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1580760" y="2219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1580760" y="4146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580760" y="3517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1580760" y="2554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580760" y="44816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580760" y="3832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580760" y="48164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580760" y="5073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8577360" y="1463760"/>
            <a:ext cx="0" cy="444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1868400" y="1973160"/>
            <a:ext cx="2832120" cy="1080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1882800" y="1979640"/>
            <a:ext cx="52560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379600" y="2308320"/>
            <a:ext cx="3338640" cy="101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379600" y="2306520"/>
            <a:ext cx="1042920" cy="104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933720" y="2654280"/>
            <a:ext cx="3319560" cy="1015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919680" y="2652840"/>
            <a:ext cx="1552320" cy="9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124000" y="2952720"/>
            <a:ext cx="3102120" cy="122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124000" y="2948040"/>
            <a:ext cx="1292400" cy="12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2124000" y="3267000"/>
            <a:ext cx="3102120" cy="10152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124000" y="3267000"/>
            <a:ext cx="760320" cy="112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905200" y="3581280"/>
            <a:ext cx="3082680" cy="1159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157560" y="3581280"/>
            <a:ext cx="235080" cy="101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949560" y="3916440"/>
            <a:ext cx="3573720" cy="101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933720" y="3916440"/>
            <a:ext cx="1017720" cy="87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422520" y="4230720"/>
            <a:ext cx="2295720" cy="101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02000" y="4245120"/>
            <a:ext cx="525600" cy="871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952800" y="4565520"/>
            <a:ext cx="3576600" cy="874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957920" y="4565520"/>
            <a:ext cx="741240" cy="1033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724360" y="4879800"/>
            <a:ext cx="2316240" cy="101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724360" y="4879800"/>
            <a:ext cx="506520" cy="103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259680" y="5156280"/>
            <a:ext cx="2036520" cy="982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256440" y="5156280"/>
            <a:ext cx="230040" cy="92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6920" y="153972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684600" y="1962000"/>
            <a:ext cx="525600" cy="1209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695840" y="2308320"/>
            <a:ext cx="1042920" cy="1029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921120" y="2954160"/>
            <a:ext cx="1292400" cy="1159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464000" y="3263760"/>
            <a:ext cx="760320" cy="1112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5740560" y="3578400"/>
            <a:ext cx="264960" cy="115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189400" y="4237200"/>
            <a:ext cx="525600" cy="1015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531200" y="4890960"/>
            <a:ext cx="506160" cy="1112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8043840" y="5153040"/>
            <a:ext cx="258840" cy="1141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6492960" y="3908520"/>
            <a:ext cx="1017360" cy="1015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flipV="1">
            <a:off x="1488960" y="1509480"/>
            <a:ext cx="0" cy="387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186920" y="1892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186920" y="2855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186920" y="3191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186920" y="22068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1186920" y="4133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1186920" y="3505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1186920" y="2541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1186920" y="4468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1186920" y="3819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1186920" y="4759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1186920" y="5092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162080" y="158112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h/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2" name=""/>
          <p:cNvGrpSpPr/>
          <p:nvPr/>
        </p:nvGrpSpPr>
        <p:grpSpPr>
          <a:xfrm>
            <a:off x="1841760" y="1771560"/>
            <a:ext cx="560160" cy="271440"/>
            <a:chOff x="1841760" y="1771560"/>
            <a:chExt cx="560160" cy="271440"/>
          </a:xfrm>
        </p:grpSpPr>
        <p:sp>
          <p:nvSpPr>
            <p:cNvPr id="2083" name=""/>
            <p:cNvSpPr/>
            <p:nvPr/>
          </p:nvSpPr>
          <p:spPr>
            <a:xfrm>
              <a:off x="1841760" y="17715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133720" y="17715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2374920" y="2103480"/>
            <a:ext cx="1028520" cy="271440"/>
            <a:chOff x="2374920" y="2103480"/>
            <a:chExt cx="1028520" cy="271440"/>
          </a:xfrm>
        </p:grpSpPr>
        <p:sp>
          <p:nvSpPr>
            <p:cNvPr id="2086" name=""/>
            <p:cNvSpPr/>
            <p:nvPr/>
          </p:nvSpPr>
          <p:spPr>
            <a:xfrm>
              <a:off x="2374920" y="21034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629080" y="21034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901960" y="21034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138480" y="21034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3937320" y="2422440"/>
            <a:ext cx="1557000" cy="271440"/>
            <a:chOff x="3937320" y="2422440"/>
            <a:chExt cx="1557000" cy="271440"/>
          </a:xfrm>
        </p:grpSpPr>
        <p:sp>
          <p:nvSpPr>
            <p:cNvPr id="2091" name=""/>
            <p:cNvSpPr/>
            <p:nvPr/>
          </p:nvSpPr>
          <p:spPr>
            <a:xfrm>
              <a:off x="393732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19112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46436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69908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97232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22612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7" name=""/>
          <p:cNvGrpSpPr/>
          <p:nvPr/>
        </p:nvGrpSpPr>
        <p:grpSpPr>
          <a:xfrm>
            <a:off x="2108160" y="2728800"/>
            <a:ext cx="1296720" cy="271440"/>
            <a:chOff x="2108160" y="2728800"/>
            <a:chExt cx="1296720" cy="271440"/>
          </a:xfrm>
        </p:grpSpPr>
        <p:sp>
          <p:nvSpPr>
            <p:cNvPr id="2098" name=""/>
            <p:cNvSpPr/>
            <p:nvPr/>
          </p:nvSpPr>
          <p:spPr>
            <a:xfrm>
              <a:off x="210816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38104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65392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13668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91420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3" name=""/>
          <p:cNvGrpSpPr/>
          <p:nvPr/>
        </p:nvGrpSpPr>
        <p:grpSpPr>
          <a:xfrm>
            <a:off x="2146320" y="3063960"/>
            <a:ext cx="776160" cy="271440"/>
            <a:chOff x="2146320" y="3063960"/>
            <a:chExt cx="776160" cy="271440"/>
          </a:xfrm>
        </p:grpSpPr>
        <p:sp>
          <p:nvSpPr>
            <p:cNvPr id="2104" name=""/>
            <p:cNvSpPr/>
            <p:nvPr/>
          </p:nvSpPr>
          <p:spPr>
            <a:xfrm>
              <a:off x="2146320" y="3063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381400" y="3063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654280" y="3063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3156120" y="3368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8" name=""/>
          <p:cNvGrpSpPr/>
          <p:nvPr/>
        </p:nvGrpSpPr>
        <p:grpSpPr>
          <a:xfrm>
            <a:off x="3403800" y="4016520"/>
            <a:ext cx="541080" cy="271440"/>
            <a:chOff x="3403800" y="4016520"/>
            <a:chExt cx="541080" cy="271440"/>
          </a:xfrm>
        </p:grpSpPr>
        <p:sp>
          <p:nvSpPr>
            <p:cNvPr id="2109" name=""/>
            <p:cNvSpPr/>
            <p:nvPr/>
          </p:nvSpPr>
          <p:spPr>
            <a:xfrm>
              <a:off x="3403800" y="40165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676680" y="40165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4961160" y="4340160"/>
            <a:ext cx="794880" cy="271440"/>
            <a:chOff x="4961160" y="4340160"/>
            <a:chExt cx="794880" cy="271440"/>
          </a:xfrm>
        </p:grpSpPr>
        <p:sp>
          <p:nvSpPr>
            <p:cNvPr id="2112" name=""/>
            <p:cNvSpPr/>
            <p:nvPr/>
          </p:nvSpPr>
          <p:spPr>
            <a:xfrm>
              <a:off x="4961160" y="43401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233680" y="43401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487840" y="43401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5" name=""/>
          <p:cNvGrpSpPr/>
          <p:nvPr/>
        </p:nvGrpSpPr>
        <p:grpSpPr>
          <a:xfrm>
            <a:off x="5727960" y="4660920"/>
            <a:ext cx="522000" cy="271440"/>
            <a:chOff x="5727960" y="4660920"/>
            <a:chExt cx="522000" cy="271440"/>
          </a:xfrm>
        </p:grpSpPr>
        <p:sp>
          <p:nvSpPr>
            <p:cNvPr id="2116" name=""/>
            <p:cNvSpPr/>
            <p:nvPr/>
          </p:nvSpPr>
          <p:spPr>
            <a:xfrm>
              <a:off x="5727960" y="4660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981760" y="4660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8" name=""/>
          <p:cNvSpPr/>
          <p:nvPr/>
        </p:nvSpPr>
        <p:spPr>
          <a:xfrm>
            <a:off x="6242040" y="494676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9" name=""/>
          <p:cNvGrpSpPr/>
          <p:nvPr/>
        </p:nvGrpSpPr>
        <p:grpSpPr>
          <a:xfrm>
            <a:off x="3662280" y="1758960"/>
            <a:ext cx="560160" cy="271440"/>
            <a:chOff x="3662280" y="1758960"/>
            <a:chExt cx="560160" cy="271440"/>
          </a:xfrm>
        </p:grpSpPr>
        <p:sp>
          <p:nvSpPr>
            <p:cNvPr id="2120" name=""/>
            <p:cNvSpPr/>
            <p:nvPr/>
          </p:nvSpPr>
          <p:spPr>
            <a:xfrm>
              <a:off x="3662280" y="1758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954240" y="1758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5724720" y="2428920"/>
            <a:ext cx="1557000" cy="271440"/>
            <a:chOff x="5724720" y="2428920"/>
            <a:chExt cx="1557000" cy="271440"/>
          </a:xfrm>
        </p:grpSpPr>
        <p:sp>
          <p:nvSpPr>
            <p:cNvPr id="2123" name=""/>
            <p:cNvSpPr/>
            <p:nvPr/>
          </p:nvSpPr>
          <p:spPr>
            <a:xfrm>
              <a:off x="572472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97852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25176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48648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75972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1352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4734000" y="2114640"/>
            <a:ext cx="1030320" cy="271440"/>
            <a:chOff x="4734000" y="2114640"/>
            <a:chExt cx="1030320" cy="271440"/>
          </a:xfrm>
        </p:grpSpPr>
        <p:sp>
          <p:nvSpPr>
            <p:cNvPr id="2130" name=""/>
            <p:cNvSpPr/>
            <p:nvPr/>
          </p:nvSpPr>
          <p:spPr>
            <a:xfrm>
              <a:off x="4734000" y="2114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988160" y="2114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261040" y="2114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496120" y="2114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43440" y="2739960"/>
            <a:ext cx="1296720" cy="271440"/>
            <a:chOff x="3943440" y="2739960"/>
            <a:chExt cx="1296720" cy="271440"/>
          </a:xfrm>
        </p:grpSpPr>
        <p:sp>
          <p:nvSpPr>
            <p:cNvPr id="2135" name=""/>
            <p:cNvSpPr/>
            <p:nvPr/>
          </p:nvSpPr>
          <p:spPr>
            <a:xfrm>
              <a:off x="394344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21632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48956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97196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74984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4476960" y="3046320"/>
            <a:ext cx="775800" cy="271440"/>
            <a:chOff x="4476960" y="3046320"/>
            <a:chExt cx="775800" cy="271440"/>
          </a:xfrm>
        </p:grpSpPr>
        <p:sp>
          <p:nvSpPr>
            <p:cNvPr id="2141" name=""/>
            <p:cNvSpPr/>
            <p:nvPr/>
          </p:nvSpPr>
          <p:spPr>
            <a:xfrm>
              <a:off x="4476960" y="30463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711320" y="30463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984560" y="30463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4" name=""/>
          <p:cNvSpPr/>
          <p:nvPr/>
        </p:nvSpPr>
        <p:spPr>
          <a:xfrm>
            <a:off x="5715000" y="33750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5" name=""/>
          <p:cNvGrpSpPr/>
          <p:nvPr/>
        </p:nvGrpSpPr>
        <p:grpSpPr>
          <a:xfrm>
            <a:off x="5200920" y="4022640"/>
            <a:ext cx="541080" cy="271440"/>
            <a:chOff x="5200920" y="4022640"/>
            <a:chExt cx="541080" cy="271440"/>
          </a:xfrm>
        </p:grpSpPr>
        <p:sp>
          <p:nvSpPr>
            <p:cNvPr id="2146" name=""/>
            <p:cNvSpPr/>
            <p:nvPr/>
          </p:nvSpPr>
          <p:spPr>
            <a:xfrm>
              <a:off x="5200920" y="4022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473800" y="4022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6724800" y="4325760"/>
            <a:ext cx="794880" cy="271440"/>
            <a:chOff x="6724800" y="4325760"/>
            <a:chExt cx="794880" cy="271440"/>
          </a:xfrm>
        </p:grpSpPr>
        <p:sp>
          <p:nvSpPr>
            <p:cNvPr id="2149" name=""/>
            <p:cNvSpPr/>
            <p:nvPr/>
          </p:nvSpPr>
          <p:spPr>
            <a:xfrm>
              <a:off x="6724800" y="43257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997320" y="43257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251480" y="43257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2" name=""/>
          <p:cNvGrpSpPr/>
          <p:nvPr/>
        </p:nvGrpSpPr>
        <p:grpSpPr>
          <a:xfrm>
            <a:off x="7524720" y="4667400"/>
            <a:ext cx="522000" cy="271440"/>
            <a:chOff x="7524720" y="4667400"/>
            <a:chExt cx="522000" cy="271440"/>
          </a:xfrm>
        </p:grpSpPr>
        <p:sp>
          <p:nvSpPr>
            <p:cNvPr id="2153" name=""/>
            <p:cNvSpPr/>
            <p:nvPr/>
          </p:nvSpPr>
          <p:spPr>
            <a:xfrm>
              <a:off x="7524720" y="46674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778520" y="46674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5" name=""/>
          <p:cNvSpPr/>
          <p:nvPr/>
        </p:nvSpPr>
        <p:spPr>
          <a:xfrm>
            <a:off x="8039160" y="4943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Genev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00068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25448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50864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705200" y="568332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5006880" y="568332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241960" y="5683320"/>
            <a:ext cx="20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505480" y="568332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581652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607068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632448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657864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683244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709596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732456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757872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783288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812952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92420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19708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2432160" y="5419800"/>
            <a:ext cx="20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600280" y="5419800"/>
            <a:ext cx="3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295920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165480" y="54198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476520" y="541980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73068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4003560" y="541980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25772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511520" y="541980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476568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01984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28336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54688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81976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07392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327720" y="541980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495440" y="5425920"/>
            <a:ext cx="33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(h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501920" y="5680080"/>
            <a:ext cx="33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h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707080" y="2654280"/>
            <a:ext cx="1552680" cy="921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788160" y="4552920"/>
            <a:ext cx="741240" cy="1033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803160" y="5423040"/>
            <a:ext cx="85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03160" y="5670720"/>
            <a:ext cx="85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Cantid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438120" y="560088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19040" y="590544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5924520" y="135252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759120" y="56707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1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20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20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7" dur="1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20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500"/>
                            </p:stCondLst>
                            <p:childTnLst>
                              <p:par>
                                <p:cTn id="14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0" dur="10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20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500"/>
                            </p:stCondLst>
                            <p:childTnLst>
                              <p:par>
                                <p:cTn id="14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3" dur="10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7" dur="20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6" dur="1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1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8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10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6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20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9" dur="10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20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00"/>
                            </p:stCondLst>
                            <p:childTnLst>
                              <p:par>
                                <p:cTn id="15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2" dur="10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20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1" dur="10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3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5" dur="1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8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8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9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9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0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0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500"/>
                            </p:stCondLst>
                            <p:childTnLst>
                              <p:par>
                                <p:cTn id="1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4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500"/>
                            </p:stCondLst>
                            <p:childTnLst>
                              <p:par>
                                <p:cTn id="1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3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500"/>
                            </p:stCondLst>
                            <p:childTnLst>
                              <p:par>
                                <p:cTn id="1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500"/>
                            </p:stCondLst>
                            <p:childTnLst>
                              <p:par>
                                <p:cTn id="1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5" dur="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0" dur="5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62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8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500"/>
                            </p:stCondLst>
                            <p:childTnLst>
                              <p:par>
                                <p:cTn id="167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6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1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500"/>
                            </p:stCondLst>
                            <p:childTnLst>
                              <p:par>
                                <p:cTn id="1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500"/>
                            </p:stCondLst>
                            <p:childTnLst>
                              <p:par>
                                <p:cTn id="17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"/>
          <p:cNvSpPr/>
          <p:nvPr/>
        </p:nvSpPr>
        <p:spPr>
          <a:xfrm>
            <a:off x="1752480" y="1467000"/>
            <a:ext cx="4486320" cy="2943000"/>
          </a:xfrm>
          <a:custGeom>
            <a:avLst/>
            <a:gdLst/>
            <a:ahLst/>
            <a:rect l="l" t="t" r="r" b="b"/>
            <a:pathLst>
              <a:path w="2826" h="1854">
                <a:moveTo>
                  <a:pt x="0" y="1854"/>
                </a:moveTo>
                <a:lnTo>
                  <a:pt x="0" y="1386"/>
                </a:lnTo>
                <a:lnTo>
                  <a:pt x="156" y="1386"/>
                </a:lnTo>
                <a:lnTo>
                  <a:pt x="156" y="468"/>
                </a:lnTo>
                <a:lnTo>
                  <a:pt x="312" y="468"/>
                </a:lnTo>
                <a:lnTo>
                  <a:pt x="312" y="0"/>
                </a:lnTo>
                <a:lnTo>
                  <a:pt x="624" y="0"/>
                </a:lnTo>
                <a:lnTo>
                  <a:pt x="624" y="774"/>
                </a:lnTo>
                <a:lnTo>
                  <a:pt x="780" y="762"/>
                </a:lnTo>
                <a:lnTo>
                  <a:pt x="768" y="324"/>
                </a:lnTo>
                <a:lnTo>
                  <a:pt x="948" y="318"/>
                </a:lnTo>
                <a:lnTo>
                  <a:pt x="942" y="1230"/>
                </a:lnTo>
                <a:lnTo>
                  <a:pt x="1272" y="1230"/>
                </a:lnTo>
                <a:lnTo>
                  <a:pt x="1266" y="1536"/>
                </a:lnTo>
                <a:lnTo>
                  <a:pt x="1884" y="1542"/>
                </a:lnTo>
                <a:lnTo>
                  <a:pt x="1884" y="1392"/>
                </a:lnTo>
                <a:lnTo>
                  <a:pt x="2202" y="1392"/>
                </a:lnTo>
                <a:lnTo>
                  <a:pt x="2202" y="1686"/>
                </a:lnTo>
                <a:lnTo>
                  <a:pt x="2364" y="1686"/>
                </a:lnTo>
                <a:lnTo>
                  <a:pt x="2364" y="1242"/>
                </a:lnTo>
                <a:lnTo>
                  <a:pt x="2670" y="1242"/>
                </a:lnTo>
                <a:lnTo>
                  <a:pt x="2670" y="930"/>
                </a:lnTo>
                <a:lnTo>
                  <a:pt x="2826" y="930"/>
                </a:lnTo>
                <a:lnTo>
                  <a:pt x="2826" y="184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1768320" y="990720"/>
            <a:ext cx="0" cy="341928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017800" y="1247760"/>
            <a:ext cx="0" cy="3162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226692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51604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755800" y="124776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01608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265560" y="1200240"/>
            <a:ext cx="0" cy="3209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514680" y="1190520"/>
            <a:ext cx="0" cy="32194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76380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014720" y="12096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426420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51332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76244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01336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262480" y="1228680"/>
            <a:ext cx="0" cy="3181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51196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76108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01020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26112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6510240" y="1228680"/>
            <a:ext cx="0" cy="3181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75972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700884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725976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508880" y="1247760"/>
            <a:ext cx="0" cy="3162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7758000" y="12096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800748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8258040" y="1200240"/>
            <a:ext cx="0" cy="3209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774800" y="1236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774800" y="1479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774800" y="1722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1774800" y="196524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774800" y="22068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1774800" y="2449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1774800" y="2692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1774800" y="2935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1774800" y="34196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1774800" y="3662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1774800" y="3905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1774800" y="4148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1774800" y="4390920"/>
            <a:ext cx="67057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1825560" y="44100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2792520" y="44100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4049640" y="4410000"/>
            <a:ext cx="3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265720" y="4410000"/>
            <a:ext cx="2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541920" y="441000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7802640" y="441000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1558800" y="306396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406520" y="18320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558800" y="427032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 flipV="1">
            <a:off x="3247920" y="476208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247920" y="4762440"/>
            <a:ext cx="266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3247920" y="2943360"/>
            <a:ext cx="2743200" cy="1199880"/>
          </a:xfrm>
          <a:custGeom>
            <a:avLst/>
            <a:gdLst/>
            <a:ahLst/>
            <a:rect l="l" t="t" r="r" b="b"/>
            <a:pathLst>
              <a:path w="1728" h="756">
                <a:moveTo>
                  <a:pt x="0" y="0"/>
                </a:moveTo>
                <a:lnTo>
                  <a:pt x="0" y="312"/>
                </a:lnTo>
                <a:lnTo>
                  <a:pt x="312" y="312"/>
                </a:lnTo>
                <a:lnTo>
                  <a:pt x="312" y="606"/>
                </a:lnTo>
                <a:lnTo>
                  <a:pt x="936" y="606"/>
                </a:lnTo>
                <a:lnTo>
                  <a:pt x="936" y="462"/>
                </a:lnTo>
                <a:lnTo>
                  <a:pt x="1254" y="462"/>
                </a:lnTo>
                <a:lnTo>
                  <a:pt x="1254" y="750"/>
                </a:lnTo>
                <a:lnTo>
                  <a:pt x="1416" y="756"/>
                </a:lnTo>
                <a:lnTo>
                  <a:pt x="1428" y="306"/>
                </a:lnTo>
                <a:lnTo>
                  <a:pt x="1728" y="306"/>
                </a:lnTo>
                <a:lnTo>
                  <a:pt x="172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189840" y="4552920"/>
            <a:ext cx="203652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6026040" y="4813200"/>
            <a:ext cx="1982880" cy="986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15800" y="5283360"/>
            <a:ext cx="784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0600" y="4743360"/>
            <a:ext cx="4680" cy="1057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384120" y="4768920"/>
            <a:ext cx="787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98400" y="5022720"/>
            <a:ext cx="756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0" name=""/>
          <p:cNvGrpSpPr/>
          <p:nvPr/>
        </p:nvGrpSpPr>
        <p:grpSpPr>
          <a:xfrm>
            <a:off x="741240" y="4816440"/>
            <a:ext cx="5488200" cy="186120"/>
            <a:chOff x="741240" y="4816440"/>
            <a:chExt cx="5488200" cy="186120"/>
          </a:xfrm>
        </p:grpSpPr>
        <p:sp>
          <p:nvSpPr>
            <p:cNvPr id="2261" name=""/>
            <p:cNvSpPr/>
            <p:nvPr/>
          </p:nvSpPr>
          <p:spPr>
            <a:xfrm>
              <a:off x="181440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07972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308320" y="481644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471760" y="4816440"/>
              <a:ext cx="31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82096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022560" y="4816440"/>
              <a:ext cx="22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3242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57192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83868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08456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3322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57992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82616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08320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33880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60556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8514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09912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41240" y="4819680"/>
              <a:ext cx="111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Necesidadv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0" name=""/>
          <p:cNvSpPr/>
          <p:nvPr/>
        </p:nvSpPr>
        <p:spPr>
          <a:xfrm>
            <a:off x="2209680" y="3257640"/>
            <a:ext cx="8193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523880" y="781200"/>
            <a:ext cx="5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a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420040" y="4159080"/>
            <a:ext cx="590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457360" y="343080"/>
            <a:ext cx="4819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DE NECESIDAD DE RECURSOS FUNGI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4" name=""/>
          <p:cNvGrpSpPr/>
          <p:nvPr/>
        </p:nvGrpSpPr>
        <p:grpSpPr>
          <a:xfrm>
            <a:off x="741240" y="5327640"/>
            <a:ext cx="7234200" cy="195480"/>
            <a:chOff x="741240" y="5327640"/>
            <a:chExt cx="7234200" cy="195480"/>
          </a:xfrm>
        </p:grpSpPr>
        <p:sp>
          <p:nvSpPr>
            <p:cNvPr id="2285" name=""/>
            <p:cNvSpPr/>
            <p:nvPr/>
          </p:nvSpPr>
          <p:spPr>
            <a:xfrm>
              <a:off x="3828960" y="53402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07520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32288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514760" y="5340240"/>
              <a:ext cx="23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780080" y="534024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37120" y="534024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292720" y="534024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595840" y="53402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84208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08976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33744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585120" y="53402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840360" y="53402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06284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31052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558200" y="53402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84548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41240" y="5327640"/>
              <a:ext cx="103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Neces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3602160" y="53276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4" name=""/>
          <p:cNvSpPr/>
          <p:nvPr/>
        </p:nvSpPr>
        <p:spPr>
          <a:xfrm>
            <a:off x="3533760" y="1447920"/>
            <a:ext cx="4487760" cy="2962080"/>
          </a:xfrm>
          <a:custGeom>
            <a:avLst/>
            <a:gdLst/>
            <a:ahLst/>
            <a:rect l="l" t="t" r="r" b="b"/>
            <a:pathLst>
              <a:path w="2827" h="1866">
                <a:moveTo>
                  <a:pt x="0" y="1866"/>
                </a:moveTo>
                <a:lnTo>
                  <a:pt x="6" y="1386"/>
                </a:lnTo>
                <a:lnTo>
                  <a:pt x="132" y="1392"/>
                </a:lnTo>
                <a:lnTo>
                  <a:pt x="138" y="1236"/>
                </a:lnTo>
                <a:lnTo>
                  <a:pt x="300" y="1242"/>
                </a:lnTo>
                <a:lnTo>
                  <a:pt x="306" y="1674"/>
                </a:lnTo>
                <a:lnTo>
                  <a:pt x="456" y="1680"/>
                </a:lnTo>
                <a:lnTo>
                  <a:pt x="462" y="930"/>
                </a:lnTo>
                <a:lnTo>
                  <a:pt x="630" y="936"/>
                </a:lnTo>
                <a:lnTo>
                  <a:pt x="609" y="0"/>
                </a:lnTo>
                <a:lnTo>
                  <a:pt x="936" y="6"/>
                </a:lnTo>
                <a:lnTo>
                  <a:pt x="936" y="306"/>
                </a:lnTo>
                <a:lnTo>
                  <a:pt x="1239" y="312"/>
                </a:lnTo>
                <a:lnTo>
                  <a:pt x="1251" y="1074"/>
                </a:lnTo>
                <a:lnTo>
                  <a:pt x="1416" y="1068"/>
                </a:lnTo>
                <a:lnTo>
                  <a:pt x="1416" y="1524"/>
                </a:lnTo>
                <a:lnTo>
                  <a:pt x="1869" y="1536"/>
                </a:lnTo>
                <a:lnTo>
                  <a:pt x="1869" y="1374"/>
                </a:lnTo>
                <a:lnTo>
                  <a:pt x="2187" y="1374"/>
                </a:lnTo>
                <a:lnTo>
                  <a:pt x="2187" y="1692"/>
                </a:lnTo>
                <a:lnTo>
                  <a:pt x="2343" y="1692"/>
                </a:lnTo>
                <a:lnTo>
                  <a:pt x="2343" y="1224"/>
                </a:lnTo>
                <a:lnTo>
                  <a:pt x="2676" y="1218"/>
                </a:lnTo>
                <a:lnTo>
                  <a:pt x="2670" y="948"/>
                </a:lnTo>
                <a:lnTo>
                  <a:pt x="2826" y="942"/>
                </a:lnTo>
                <a:lnTo>
                  <a:pt x="2827" y="1845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4540320" y="3197160"/>
            <a:ext cx="780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8256600" y="4410000"/>
            <a:ext cx="25560" cy="137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714240" y="4762440"/>
            <a:ext cx="0" cy="1047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554040" y="4873680"/>
            <a:ext cx="5787000" cy="393120"/>
            <a:chOff x="554040" y="4873680"/>
            <a:chExt cx="5787000" cy="393120"/>
          </a:xfrm>
        </p:grpSpPr>
        <p:sp>
          <p:nvSpPr>
            <p:cNvPr id="2309" name=""/>
            <p:cNvSpPr/>
            <p:nvPr/>
          </p:nvSpPr>
          <p:spPr>
            <a:xfrm>
              <a:off x="554040" y="5037120"/>
              <a:ext cx="1114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rot="18627600">
              <a:off x="178596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rot="18627600">
              <a:off x="20620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rot="18627600">
              <a:off x="22906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rot="18627600">
              <a:off x="255744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18627600">
              <a:off x="280512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rot="18627600">
              <a:off x="303192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rot="18627600">
              <a:off x="33004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rot="18627600">
              <a:off x="3556080" y="50191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18627600">
              <a:off x="3803760" y="50191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rot="18627600">
              <a:off x="40510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rot="18627600">
              <a:off x="43066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rot="18627600">
              <a:off x="458136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rot="18627600">
              <a:off x="4748040" y="4973400"/>
              <a:ext cx="32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rot="18627600">
              <a:off x="5026680" y="4964760"/>
              <a:ext cx="32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rot="18627600">
              <a:off x="5286960" y="4980600"/>
              <a:ext cx="29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rot="18627600">
              <a:off x="5518080" y="4993920"/>
              <a:ext cx="25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rot="18627600">
              <a:off x="5814000" y="5015520"/>
              <a:ext cx="26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rot="18627600">
              <a:off x="6045120" y="4992480"/>
              <a:ext cx="27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54200" y="5073480"/>
              <a:ext cx="103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9" name=""/>
          <p:cNvSpPr/>
          <p:nvPr/>
        </p:nvSpPr>
        <p:spPr>
          <a:xfrm rot="18627600">
            <a:off x="7032240" y="5509800"/>
            <a:ext cx="25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 rot="18627600">
            <a:off x="7267320" y="5511600"/>
            <a:ext cx="26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rot="18627600">
            <a:off x="7526160" y="5510160"/>
            <a:ext cx="25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8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rot="18627600">
            <a:off x="7822440" y="5551920"/>
            <a:ext cx="219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78000" y="5784840"/>
            <a:ext cx="787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701640" y="5543640"/>
            <a:ext cx="755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560520" y="5557680"/>
            <a:ext cx="11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 rot="18627600">
            <a:off x="3841560" y="5530680"/>
            <a:ext cx="21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rot="18627600">
            <a:off x="4089240" y="554004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rot="18627600">
            <a:off x="431784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 rot="18627600">
            <a:off x="459252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rot="18627600">
            <a:off x="482112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rot="18627600">
            <a:off x="5086440" y="555876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 rot="18627600">
            <a:off x="533376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rot="18627600">
            <a:off x="556236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rot="18627600">
            <a:off x="582912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 rot="18627600">
            <a:off x="608472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6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rot="18627600">
            <a:off x="633240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6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 rot="18627600">
            <a:off x="658008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 rot="18627600">
            <a:off x="6791400" y="555876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rot="18627600">
            <a:off x="3619440" y="5530680"/>
            <a:ext cx="21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44480" y="5551560"/>
            <a:ext cx="111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Costo Lim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 rot="16200000">
            <a:off x="304200" y="4934520"/>
            <a:ext cx="48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1752480" y="4400640"/>
            <a:ext cx="0" cy="1361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2768760" y="4397400"/>
            <a:ext cx="0" cy="1390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4060800" y="4394160"/>
            <a:ext cx="0" cy="134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5257800" y="4400640"/>
            <a:ext cx="0" cy="1380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6512040" y="440676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7756560" y="439416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1762200" y="317988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1781280" y="1454040"/>
            <a:ext cx="4473360" cy="2936880"/>
          </a:xfrm>
          <a:custGeom>
            <a:avLst/>
            <a:gdLst/>
            <a:ahLst/>
            <a:rect l="l" t="t" r="r" b="b"/>
            <a:pathLst>
              <a:path w="2818" h="1850">
                <a:moveTo>
                  <a:pt x="0" y="1850"/>
                </a:moveTo>
                <a:lnTo>
                  <a:pt x="6" y="1388"/>
                </a:lnTo>
                <a:lnTo>
                  <a:pt x="148" y="1386"/>
                </a:lnTo>
                <a:lnTo>
                  <a:pt x="148" y="468"/>
                </a:lnTo>
                <a:lnTo>
                  <a:pt x="304" y="468"/>
                </a:lnTo>
                <a:lnTo>
                  <a:pt x="304" y="0"/>
                </a:lnTo>
                <a:lnTo>
                  <a:pt x="616" y="0"/>
                </a:lnTo>
                <a:lnTo>
                  <a:pt x="616" y="774"/>
                </a:lnTo>
                <a:lnTo>
                  <a:pt x="778" y="774"/>
                </a:lnTo>
                <a:lnTo>
                  <a:pt x="778" y="318"/>
                </a:lnTo>
                <a:lnTo>
                  <a:pt x="940" y="318"/>
                </a:lnTo>
                <a:lnTo>
                  <a:pt x="934" y="1230"/>
                </a:lnTo>
                <a:lnTo>
                  <a:pt x="1252" y="1230"/>
                </a:lnTo>
                <a:lnTo>
                  <a:pt x="1258" y="1542"/>
                </a:lnTo>
                <a:lnTo>
                  <a:pt x="1876" y="1542"/>
                </a:lnTo>
                <a:lnTo>
                  <a:pt x="1876" y="1392"/>
                </a:lnTo>
                <a:lnTo>
                  <a:pt x="2194" y="1392"/>
                </a:lnTo>
                <a:lnTo>
                  <a:pt x="2194" y="1686"/>
                </a:lnTo>
                <a:lnTo>
                  <a:pt x="2356" y="1686"/>
                </a:lnTo>
                <a:lnTo>
                  <a:pt x="2356" y="1242"/>
                </a:lnTo>
                <a:lnTo>
                  <a:pt x="2662" y="1242"/>
                </a:lnTo>
                <a:lnTo>
                  <a:pt x="2662" y="930"/>
                </a:lnTo>
                <a:lnTo>
                  <a:pt x="2818" y="930"/>
                </a:lnTo>
                <a:lnTo>
                  <a:pt x="2818" y="1848"/>
                </a:ln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524400" y="1447920"/>
            <a:ext cx="4502160" cy="2952720"/>
          </a:xfrm>
          <a:custGeom>
            <a:avLst/>
            <a:gdLst/>
            <a:ahLst/>
            <a:rect l="l" t="t" r="r" b="b"/>
            <a:pathLst>
              <a:path w="2836" h="1860">
                <a:moveTo>
                  <a:pt x="0" y="1860"/>
                </a:moveTo>
                <a:lnTo>
                  <a:pt x="6" y="1398"/>
                </a:lnTo>
                <a:lnTo>
                  <a:pt x="150" y="1398"/>
                </a:lnTo>
                <a:lnTo>
                  <a:pt x="150" y="1242"/>
                </a:lnTo>
                <a:lnTo>
                  <a:pt x="306" y="1242"/>
                </a:lnTo>
                <a:lnTo>
                  <a:pt x="312" y="1680"/>
                </a:lnTo>
                <a:lnTo>
                  <a:pt x="462" y="1680"/>
                </a:lnTo>
                <a:lnTo>
                  <a:pt x="456" y="942"/>
                </a:lnTo>
                <a:lnTo>
                  <a:pt x="624" y="936"/>
                </a:lnTo>
                <a:lnTo>
                  <a:pt x="616" y="4"/>
                </a:lnTo>
                <a:lnTo>
                  <a:pt x="948" y="0"/>
                </a:lnTo>
                <a:lnTo>
                  <a:pt x="948" y="300"/>
                </a:lnTo>
                <a:lnTo>
                  <a:pt x="1260" y="318"/>
                </a:lnTo>
                <a:lnTo>
                  <a:pt x="1258" y="1078"/>
                </a:lnTo>
                <a:lnTo>
                  <a:pt x="1422" y="1074"/>
                </a:lnTo>
                <a:lnTo>
                  <a:pt x="1416" y="1536"/>
                </a:lnTo>
                <a:lnTo>
                  <a:pt x="1876" y="1540"/>
                </a:lnTo>
                <a:lnTo>
                  <a:pt x="1876" y="1378"/>
                </a:lnTo>
                <a:lnTo>
                  <a:pt x="2194" y="1378"/>
                </a:lnTo>
                <a:lnTo>
                  <a:pt x="2194" y="1696"/>
                </a:lnTo>
                <a:lnTo>
                  <a:pt x="2350" y="1696"/>
                </a:lnTo>
                <a:lnTo>
                  <a:pt x="2350" y="1228"/>
                </a:lnTo>
                <a:lnTo>
                  <a:pt x="2676" y="1236"/>
                </a:lnTo>
                <a:lnTo>
                  <a:pt x="2664" y="948"/>
                </a:lnTo>
                <a:lnTo>
                  <a:pt x="2836" y="937"/>
                </a:lnTo>
                <a:lnTo>
                  <a:pt x="2836" y="185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rot="16200000">
            <a:off x="310320" y="5435640"/>
            <a:ext cx="48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4" dur="indefinite" restart="never" nodeType="tmRoot">
          <p:childTnLst>
            <p:seq>
              <p:cTn id="1765" dur="indefinite" nodeType="mainSeq">
                <p:childTnLst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30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9" dur="80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2" dur="50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7" dur="50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5" dur="50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0" dur="50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10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2" dur="10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6" dur="10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10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4" dur="10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8" dur="10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2" dur="10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10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8500"/>
                            </p:stCondLst>
                            <p:childTnLst>
                              <p:par>
                                <p:cTn id="1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0" dur="10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4" dur="10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8" dur="10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2" dur="10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10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0" dur="10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/>
          <p:nvPr/>
        </p:nvSpPr>
        <p:spPr>
          <a:xfrm>
            <a:off x="29448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1939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4434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3722760" y="1576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971880" y="1576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19256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444168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6926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49417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51912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4403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708520" y="155268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5945040" y="15667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18984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43896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68808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939000" y="15620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71881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74376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76867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793764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1415880" y="160020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415880" y="184140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415880" y="208440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1415880" y="232740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415880" y="257004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1454040" y="281304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454040" y="305424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1417680" y="32958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1454040" y="354024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1454040" y="37828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454040" y="40258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454040" y="42670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454040" y="45100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1454040" y="47530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454040" y="499572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425600" y="5238720"/>
            <a:ext cx="681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828960" y="5257800"/>
            <a:ext cx="3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5045040" y="5257800"/>
            <a:ext cx="2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321600" y="5257800"/>
            <a:ext cx="24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7581960" y="525780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3" name=""/>
          <p:cNvGrpSpPr/>
          <p:nvPr/>
        </p:nvGrpSpPr>
        <p:grpSpPr>
          <a:xfrm>
            <a:off x="324000" y="5696280"/>
            <a:ext cx="5800320" cy="298800"/>
            <a:chOff x="324000" y="5696280"/>
            <a:chExt cx="5800320" cy="298800"/>
          </a:xfrm>
        </p:grpSpPr>
        <p:sp>
          <p:nvSpPr>
            <p:cNvPr id="2404" name=""/>
            <p:cNvSpPr/>
            <p:nvPr/>
          </p:nvSpPr>
          <p:spPr>
            <a:xfrm rot="18627600">
              <a:off x="4591080" y="5754600"/>
              <a:ext cx="226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rot="18627600">
              <a:off x="4887000" y="5753880"/>
              <a:ext cx="225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rot="18627600">
              <a:off x="5141880" y="5767200"/>
              <a:ext cx="20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rot="18627600">
              <a:off x="160164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rot="18627600">
              <a:off x="1878120" y="574452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rot="18627600">
              <a:off x="2106720" y="574452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rot="18627600">
              <a:off x="237312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rot="18627600">
              <a:off x="262080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rot="18627600">
              <a:off x="284940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rot="18627600">
              <a:off x="311616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rot="18627600">
              <a:off x="337176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rot="18627600">
              <a:off x="361944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rot="18627600">
              <a:off x="386712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rot="18627600">
              <a:off x="412596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rot="18627600">
              <a:off x="439740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rot="18627600">
              <a:off x="5371200" y="57618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rot="18627600">
              <a:off x="5645880" y="5744160"/>
              <a:ext cx="177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rot="18627600">
              <a:off x="5899680" y="5753520"/>
              <a:ext cx="187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24000" y="5746680"/>
              <a:ext cx="102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PREV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3" name=""/>
          <p:cNvSpPr/>
          <p:nvPr/>
        </p:nvSpPr>
        <p:spPr>
          <a:xfrm>
            <a:off x="198360" y="6384960"/>
            <a:ext cx="787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66680" y="6067440"/>
            <a:ext cx="787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209520" y="5635800"/>
            <a:ext cx="787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1584360" y="5219640"/>
            <a:ext cx="0" cy="1106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74600" y="5630760"/>
            <a:ext cx="0" cy="72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835280" y="5219640"/>
            <a:ext cx="0" cy="11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208584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2336760" y="521964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58768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283860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308916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334008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3591000" y="5219640"/>
            <a:ext cx="0" cy="11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84192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092480" y="521964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34340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59432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484488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509580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5346720" y="5219640"/>
            <a:ext cx="0" cy="11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559764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5848200" y="521964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609912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635004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660096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85152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7102440" y="5219640"/>
            <a:ext cx="0" cy="11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735336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7604280" y="521964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785484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810576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670200" y="50482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184560" y="52196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3429000" y="51404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714680" y="514440"/>
            <a:ext cx="624816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DE BAL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“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(Recursos fungibl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8128080" y="5022720"/>
            <a:ext cx="8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9" name=""/>
          <p:cNvGrpSpPr/>
          <p:nvPr/>
        </p:nvGrpSpPr>
        <p:grpSpPr>
          <a:xfrm>
            <a:off x="5924520" y="2425680"/>
            <a:ext cx="1752480" cy="487080"/>
            <a:chOff x="5924520" y="2425680"/>
            <a:chExt cx="1752480" cy="487080"/>
          </a:xfrm>
        </p:grpSpPr>
        <p:sp>
          <p:nvSpPr>
            <p:cNvPr id="2460" name=""/>
            <p:cNvSpPr/>
            <p:nvPr/>
          </p:nvSpPr>
          <p:spPr>
            <a:xfrm flipV="1">
              <a:off x="5924520" y="25333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7664400" y="25585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924520" y="266688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426360" y="2425680"/>
              <a:ext cx="10476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00"/>
                  </a:solidFill>
                  <a:latin typeface="Arial"/>
                </a:rPr>
                <a:t>Demora Permiti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1428840" y="1295280"/>
            <a:ext cx="0" cy="3962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169704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94616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19564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244476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695680" y="155268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604880" y="52578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2600280" y="52578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047600" y="414648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1200240" y="511812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1047600" y="318132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857160" y="2197080"/>
            <a:ext cx="5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047600" y="46292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1047600" y="366408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857160" y="2679840"/>
            <a:ext cx="5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933480" y="1714680"/>
            <a:ext cx="43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211480" y="46386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438200" y="52149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704960" y="51228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952640" y="49258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2454120" y="43466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143000" y="990720"/>
            <a:ext cx="8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322200" y="6009480"/>
            <a:ext cx="7631640" cy="390600"/>
            <a:chOff x="322200" y="6009480"/>
            <a:chExt cx="7631640" cy="390600"/>
          </a:xfrm>
        </p:grpSpPr>
        <p:sp>
          <p:nvSpPr>
            <p:cNvPr id="2487" name=""/>
            <p:cNvSpPr/>
            <p:nvPr/>
          </p:nvSpPr>
          <p:spPr>
            <a:xfrm>
              <a:off x="322200" y="6156360"/>
              <a:ext cx="102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LIM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rot="18627600">
              <a:off x="3663720" y="608616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rot="18627600">
              <a:off x="391140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rot="18627600">
              <a:off x="414000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rot="18627600">
              <a:off x="441468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rot="18627600">
              <a:off x="464328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rot="18627600">
              <a:off x="490860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rot="18627600">
              <a:off x="5156280" y="6114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rot="18627600">
              <a:off x="5384880" y="6114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rot="18627600">
              <a:off x="565128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rot="18627600">
              <a:off x="590688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rot="18627600">
              <a:off x="615456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rot="18627600">
              <a:off x="640224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rot="18627600">
              <a:off x="661356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rot="18627600">
              <a:off x="6854760" y="6132240"/>
              <a:ext cx="25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rot="18627600">
              <a:off x="7089480" y="6134040"/>
              <a:ext cx="26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rot="18627600">
              <a:off x="7348320" y="6132240"/>
              <a:ext cx="25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8627600">
              <a:off x="7589880" y="6113160"/>
              <a:ext cx="35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rot="18627600">
              <a:off x="3441600" y="608616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6" name=""/>
          <p:cNvGrpSpPr/>
          <p:nvPr/>
        </p:nvGrpSpPr>
        <p:grpSpPr>
          <a:xfrm>
            <a:off x="1365120" y="4699080"/>
            <a:ext cx="1838160" cy="549360"/>
            <a:chOff x="1365120" y="4699080"/>
            <a:chExt cx="1838160" cy="549360"/>
          </a:xfrm>
        </p:grpSpPr>
        <p:sp>
          <p:nvSpPr>
            <p:cNvPr id="2507" name=""/>
            <p:cNvSpPr/>
            <p:nvPr/>
          </p:nvSpPr>
          <p:spPr>
            <a:xfrm flipH="1">
              <a:off x="3200040" y="4800600"/>
              <a:ext cx="3240" cy="44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425600" y="491184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365120" y="4699080"/>
              <a:ext cx="180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Demora  Permitid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0" name=""/>
          <p:cNvSpPr/>
          <p:nvPr/>
        </p:nvSpPr>
        <p:spPr>
          <a:xfrm rot="20051400">
            <a:off x="2689200" y="341928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S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 rot="19855200">
            <a:off x="2481120" y="3568320"/>
            <a:ext cx="118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Mas tempr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 rot="18952800">
            <a:off x="4087800" y="3898440"/>
            <a:ext cx="118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Mas tardí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 rot="18952800">
            <a:off x="4168800" y="390492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L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698920" y="41814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952720" y="3930480"/>
            <a:ext cx="42840" cy="43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197160" y="38322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451320" y="3733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695760" y="3692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3959280" y="3632040"/>
            <a:ext cx="42840" cy="43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210200" y="35830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451400" y="35434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676760" y="34686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921200" y="33987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175360" y="33861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 rot="20837400">
            <a:off x="5419440" y="32778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rot="20837400">
            <a:off x="5682960" y="3179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1447920" y="3067200"/>
            <a:ext cx="4505040" cy="2181240"/>
          </a:xfrm>
          <a:custGeom>
            <a:avLst/>
            <a:gdLst/>
            <a:ahLst/>
            <a:rect l="l" t="t" r="r" b="b"/>
            <a:pathLst>
              <a:path w="2838" h="1374">
                <a:moveTo>
                  <a:pt x="0" y="1374"/>
                </a:moveTo>
                <a:lnTo>
                  <a:pt x="165" y="1317"/>
                </a:lnTo>
                <a:lnTo>
                  <a:pt x="321" y="1200"/>
                </a:lnTo>
                <a:lnTo>
                  <a:pt x="474" y="1002"/>
                </a:lnTo>
                <a:lnTo>
                  <a:pt x="633" y="819"/>
                </a:lnTo>
                <a:lnTo>
                  <a:pt x="789" y="717"/>
                </a:lnTo>
                <a:lnTo>
                  <a:pt x="948" y="564"/>
                </a:lnTo>
                <a:lnTo>
                  <a:pt x="1098" y="498"/>
                </a:lnTo>
                <a:lnTo>
                  <a:pt x="1263" y="441"/>
                </a:lnTo>
                <a:lnTo>
                  <a:pt x="1419" y="411"/>
                </a:lnTo>
                <a:lnTo>
                  <a:pt x="1578" y="372"/>
                </a:lnTo>
                <a:lnTo>
                  <a:pt x="1734" y="342"/>
                </a:lnTo>
                <a:lnTo>
                  <a:pt x="1896" y="315"/>
                </a:lnTo>
                <a:lnTo>
                  <a:pt x="2040" y="270"/>
                </a:lnTo>
                <a:lnTo>
                  <a:pt x="2202" y="222"/>
                </a:lnTo>
                <a:lnTo>
                  <a:pt x="2367" y="216"/>
                </a:lnTo>
                <a:lnTo>
                  <a:pt x="2520" y="150"/>
                </a:lnTo>
                <a:lnTo>
                  <a:pt x="2691" y="84"/>
                </a:lnTo>
                <a:cubicBezTo>
                  <a:pt x="2734" y="69"/>
                  <a:pt x="2736" y="62"/>
                  <a:pt x="2760" y="48"/>
                </a:cubicBezTo>
                <a:cubicBezTo>
                  <a:pt x="2784" y="34"/>
                  <a:pt x="2822" y="10"/>
                  <a:pt x="2838" y="0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3924360" y="50212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178160" y="48751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422600" y="457668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667400" y="42973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921200" y="40561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175360" y="38052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5419800" y="36972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5683320" y="36370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918040" y="357660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162840" y="35542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416640" y="34653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6670800" y="33861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915240" y="33638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7159680" y="3274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7413480" y="31766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7667640" y="30304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5921280" y="30272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191040" y="3048120"/>
            <a:ext cx="4495680" cy="2190600"/>
          </a:xfrm>
          <a:custGeom>
            <a:avLst/>
            <a:gdLst/>
            <a:ahLst/>
            <a:rect l="l" t="t" r="r" b="b"/>
            <a:pathLst>
              <a:path w="2832" h="1380">
                <a:moveTo>
                  <a:pt x="0" y="1380"/>
                </a:moveTo>
                <a:lnTo>
                  <a:pt x="156" y="1320"/>
                </a:lnTo>
                <a:lnTo>
                  <a:pt x="312" y="1278"/>
                </a:lnTo>
                <a:lnTo>
                  <a:pt x="474" y="1248"/>
                </a:lnTo>
                <a:lnTo>
                  <a:pt x="636" y="1158"/>
                </a:lnTo>
                <a:lnTo>
                  <a:pt x="786" y="978"/>
                </a:lnTo>
                <a:lnTo>
                  <a:pt x="942" y="798"/>
                </a:lnTo>
                <a:lnTo>
                  <a:pt x="1098" y="642"/>
                </a:lnTo>
                <a:lnTo>
                  <a:pt x="1260" y="504"/>
                </a:lnTo>
                <a:lnTo>
                  <a:pt x="1422" y="420"/>
                </a:lnTo>
                <a:lnTo>
                  <a:pt x="1584" y="384"/>
                </a:lnTo>
                <a:lnTo>
                  <a:pt x="1734" y="342"/>
                </a:lnTo>
                <a:lnTo>
                  <a:pt x="1890" y="330"/>
                </a:lnTo>
                <a:lnTo>
                  <a:pt x="2046" y="270"/>
                </a:lnTo>
                <a:lnTo>
                  <a:pt x="2208" y="222"/>
                </a:lnTo>
                <a:lnTo>
                  <a:pt x="2364" y="210"/>
                </a:lnTo>
                <a:lnTo>
                  <a:pt x="2520" y="150"/>
                </a:lnTo>
                <a:lnTo>
                  <a:pt x="2670" y="96"/>
                </a:lnTo>
                <a:lnTo>
                  <a:pt x="2832" y="0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1473120" y="3070080"/>
            <a:ext cx="4496040" cy="2190960"/>
          </a:xfrm>
          <a:custGeom>
            <a:avLst/>
            <a:gdLst/>
            <a:ahLst/>
            <a:rect l="l" t="t" r="r" b="b"/>
            <a:pathLst>
              <a:path w="2832" h="1380">
                <a:moveTo>
                  <a:pt x="0" y="1380"/>
                </a:moveTo>
                <a:lnTo>
                  <a:pt x="156" y="1320"/>
                </a:lnTo>
                <a:lnTo>
                  <a:pt x="312" y="1278"/>
                </a:lnTo>
                <a:lnTo>
                  <a:pt x="474" y="1248"/>
                </a:lnTo>
                <a:lnTo>
                  <a:pt x="636" y="1158"/>
                </a:lnTo>
                <a:lnTo>
                  <a:pt x="786" y="978"/>
                </a:lnTo>
                <a:lnTo>
                  <a:pt x="942" y="798"/>
                </a:lnTo>
                <a:lnTo>
                  <a:pt x="1098" y="642"/>
                </a:lnTo>
                <a:lnTo>
                  <a:pt x="1260" y="504"/>
                </a:lnTo>
                <a:lnTo>
                  <a:pt x="1422" y="420"/>
                </a:lnTo>
                <a:lnTo>
                  <a:pt x="1584" y="384"/>
                </a:lnTo>
                <a:lnTo>
                  <a:pt x="1734" y="342"/>
                </a:lnTo>
                <a:lnTo>
                  <a:pt x="1890" y="330"/>
                </a:lnTo>
                <a:lnTo>
                  <a:pt x="2046" y="270"/>
                </a:lnTo>
                <a:lnTo>
                  <a:pt x="2208" y="222"/>
                </a:lnTo>
                <a:lnTo>
                  <a:pt x="2364" y="210"/>
                </a:lnTo>
                <a:lnTo>
                  <a:pt x="2520" y="150"/>
                </a:lnTo>
                <a:lnTo>
                  <a:pt x="2670" y="96"/>
                </a:lnTo>
                <a:lnTo>
                  <a:pt x="2832" y="0"/>
                </a:lnTo>
              </a:path>
            </a:pathLst>
          </a:custGeom>
          <a:noFill/>
          <a:ln w="1908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197160" y="3044880"/>
            <a:ext cx="4496040" cy="2190600"/>
          </a:xfrm>
          <a:custGeom>
            <a:avLst/>
            <a:gdLst/>
            <a:ahLst/>
            <a:rect l="l" t="t" r="r" b="b"/>
            <a:pathLst>
              <a:path w="2832" h="1380">
                <a:moveTo>
                  <a:pt x="0" y="1380"/>
                </a:moveTo>
                <a:lnTo>
                  <a:pt x="156" y="1320"/>
                </a:lnTo>
                <a:lnTo>
                  <a:pt x="312" y="1278"/>
                </a:lnTo>
                <a:lnTo>
                  <a:pt x="474" y="1248"/>
                </a:lnTo>
                <a:lnTo>
                  <a:pt x="636" y="1158"/>
                </a:lnTo>
                <a:lnTo>
                  <a:pt x="786" y="978"/>
                </a:lnTo>
                <a:lnTo>
                  <a:pt x="942" y="798"/>
                </a:lnTo>
                <a:lnTo>
                  <a:pt x="1098" y="642"/>
                </a:lnTo>
                <a:lnTo>
                  <a:pt x="1260" y="504"/>
                </a:lnTo>
                <a:lnTo>
                  <a:pt x="1422" y="420"/>
                </a:lnTo>
                <a:lnTo>
                  <a:pt x="1584" y="384"/>
                </a:lnTo>
                <a:lnTo>
                  <a:pt x="1734" y="342"/>
                </a:lnTo>
                <a:lnTo>
                  <a:pt x="1890" y="330"/>
                </a:lnTo>
                <a:lnTo>
                  <a:pt x="2046" y="270"/>
                </a:lnTo>
                <a:lnTo>
                  <a:pt x="2208" y="222"/>
                </a:lnTo>
                <a:lnTo>
                  <a:pt x="2364" y="210"/>
                </a:lnTo>
                <a:lnTo>
                  <a:pt x="2520" y="150"/>
                </a:lnTo>
                <a:lnTo>
                  <a:pt x="2670" y="96"/>
                </a:lnTo>
                <a:lnTo>
                  <a:pt x="2832" y="0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20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2" dur="2000"/>
                                        <p:tgtEl>
                                          <p:spTgt spid="2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7" dur="1000"/>
                                        <p:tgtEl>
                                          <p:spTgt spid="2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6" dur="2000"/>
                                        <p:tgtEl>
                                          <p:spTgt spid="2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1" dur="20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6" dur="10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1" dur="20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219640" y="3543480"/>
            <a:ext cx="9334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3619440"/>
            <a:ext cx="89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285768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8320" y="36003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2666880"/>
            <a:ext cx="5904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962520" y="2666520"/>
            <a:ext cx="0" cy="9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14360" y="2857680"/>
            <a:ext cx="0" cy="59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1560" y="3390840"/>
            <a:ext cx="723960" cy="36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53320" y="3390840"/>
            <a:ext cx="723960" cy="36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43560" y="2467080"/>
            <a:ext cx="723600" cy="36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4560" y="3400560"/>
            <a:ext cx="723960" cy="361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14360" y="3381480"/>
            <a:ext cx="723960" cy="361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ACTIVIDADES DISCONTINUAS</a:t>
            </a:r>
            <a:br>
              <a:rPr sz="3200"/>
            </a:b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plazo de construcción 25 día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09680" y="2465280"/>
            <a:ext cx="72396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6840" y="247824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9680" y="3384720"/>
            <a:ext cx="723960" cy="37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09680" y="4383000"/>
            <a:ext cx="72396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35440" y="2465280"/>
            <a:ext cx="70308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840" y="249876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35440" y="340344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35440" y="4383000"/>
            <a:ext cx="70308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0840" y="246528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97280" y="245736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344160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60840" y="4383000"/>
            <a:ext cx="68256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83360" y="3403440"/>
            <a:ext cx="7048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48640" y="339408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262160" y="3800520"/>
            <a:ext cx="112680" cy="608040"/>
            <a:chOff x="1262160" y="3800520"/>
            <a:chExt cx="112680" cy="608040"/>
          </a:xfrm>
        </p:grpSpPr>
        <p:sp>
          <p:nvSpPr>
            <p:cNvPr id="81" name=""/>
            <p:cNvSpPr/>
            <p:nvPr/>
          </p:nvSpPr>
          <p:spPr>
            <a:xfrm>
              <a:off x="1262160" y="4251240"/>
              <a:ext cx="112680" cy="15732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23" y="98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70" y="0"/>
                  </a:lnTo>
                  <a:lnTo>
                    <a:pt x="23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16160" y="3800520"/>
              <a:ext cx="0" cy="4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441800" y="341640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54600" y="33955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4600" y="438768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73880" y="34369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6200" y="438768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15120" y="341640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038320" y="2584440"/>
            <a:ext cx="920880" cy="73080"/>
            <a:chOff x="2038320" y="2584440"/>
            <a:chExt cx="920880" cy="73080"/>
          </a:xfrm>
        </p:grpSpPr>
        <p:sp>
          <p:nvSpPr>
            <p:cNvPr id="90" name=""/>
            <p:cNvSpPr/>
            <p:nvPr/>
          </p:nvSpPr>
          <p:spPr>
            <a:xfrm>
              <a:off x="2782800" y="2584440"/>
              <a:ext cx="176400" cy="73080"/>
            </a:xfrm>
            <a:custGeom>
              <a:avLst/>
              <a:gdLst/>
              <a:ahLst/>
              <a:rect l="l" t="t" r="r" b="b"/>
              <a:pathLst>
                <a:path w="111" h="46">
                  <a:moveTo>
                    <a:pt x="110" y="11"/>
                  </a:moveTo>
                  <a:lnTo>
                    <a:pt x="0" y="4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38320" y="2617920"/>
              <a:ext cx="74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64080" y="2563920"/>
            <a:ext cx="920520" cy="73080"/>
            <a:chOff x="3664080" y="2563920"/>
            <a:chExt cx="920520" cy="73080"/>
          </a:xfrm>
        </p:grpSpPr>
        <p:sp>
          <p:nvSpPr>
            <p:cNvPr id="93" name=""/>
            <p:cNvSpPr/>
            <p:nvPr/>
          </p:nvSpPr>
          <p:spPr>
            <a:xfrm>
              <a:off x="4365720" y="2563920"/>
              <a:ext cx="218880" cy="73080"/>
            </a:xfrm>
            <a:custGeom>
              <a:avLst/>
              <a:gdLst/>
              <a:ahLst/>
              <a:rect l="l" t="t" r="r" b="b"/>
              <a:pathLst>
                <a:path w="138" h="46">
                  <a:moveTo>
                    <a:pt x="137" y="22"/>
                  </a:moveTo>
                  <a:lnTo>
                    <a:pt x="0" y="45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37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64080" y="2617920"/>
              <a:ext cx="70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664080" y="3543480"/>
            <a:ext cx="879480" cy="93600"/>
            <a:chOff x="3664080" y="3543480"/>
            <a:chExt cx="879480" cy="93600"/>
          </a:xfrm>
        </p:grpSpPr>
        <p:sp>
          <p:nvSpPr>
            <p:cNvPr id="96" name=""/>
            <p:cNvSpPr/>
            <p:nvPr/>
          </p:nvSpPr>
          <p:spPr>
            <a:xfrm>
              <a:off x="4344840" y="3543480"/>
              <a:ext cx="198720" cy="93600"/>
            </a:xfrm>
            <a:custGeom>
              <a:avLst/>
              <a:gdLst/>
              <a:ahLst/>
              <a:rect l="l" t="t" r="r" b="b"/>
              <a:pathLst>
                <a:path w="125" h="59">
                  <a:moveTo>
                    <a:pt x="124" y="35"/>
                  </a:moveTo>
                  <a:lnTo>
                    <a:pt x="0" y="58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4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64080" y="361944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38320" y="4522680"/>
            <a:ext cx="879480" cy="93600"/>
            <a:chOff x="2038320" y="4522680"/>
            <a:chExt cx="879480" cy="93600"/>
          </a:xfrm>
        </p:grpSpPr>
        <p:sp>
          <p:nvSpPr>
            <p:cNvPr id="99" name=""/>
            <p:cNvSpPr/>
            <p:nvPr/>
          </p:nvSpPr>
          <p:spPr>
            <a:xfrm>
              <a:off x="2698920" y="4522680"/>
              <a:ext cx="218880" cy="93600"/>
            </a:xfrm>
            <a:custGeom>
              <a:avLst/>
              <a:gdLst/>
              <a:ahLst/>
              <a:rect l="l" t="t" r="r" b="b"/>
              <a:pathLst>
                <a:path w="138" h="59">
                  <a:moveTo>
                    <a:pt x="137" y="11"/>
                  </a:moveTo>
                  <a:lnTo>
                    <a:pt x="0" y="58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7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38320" y="4556160"/>
              <a:ext cx="6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684600" y="4522680"/>
            <a:ext cx="858960" cy="114480"/>
            <a:chOff x="3684600" y="4522680"/>
            <a:chExt cx="858960" cy="114480"/>
          </a:xfrm>
        </p:grpSpPr>
        <p:sp>
          <p:nvSpPr>
            <p:cNvPr id="102" name=""/>
            <p:cNvSpPr/>
            <p:nvPr/>
          </p:nvSpPr>
          <p:spPr>
            <a:xfrm>
              <a:off x="4344840" y="4522680"/>
              <a:ext cx="198720" cy="114480"/>
            </a:xfrm>
            <a:custGeom>
              <a:avLst/>
              <a:gdLst/>
              <a:ahLst/>
              <a:rect l="l" t="t" r="r" b="b"/>
              <a:pathLst>
                <a:path w="125" h="72">
                  <a:moveTo>
                    <a:pt x="124" y="36"/>
                  </a:moveTo>
                  <a:lnTo>
                    <a:pt x="0" y="71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24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84600" y="4599000"/>
              <a:ext cx="6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98680" y="26114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371680" y="3481560"/>
            <a:ext cx="566640" cy="91800"/>
            <a:chOff x="2371680" y="3481560"/>
            <a:chExt cx="566640" cy="91800"/>
          </a:xfrm>
        </p:grpSpPr>
        <p:sp>
          <p:nvSpPr>
            <p:cNvPr id="106" name=""/>
            <p:cNvSpPr/>
            <p:nvPr/>
          </p:nvSpPr>
          <p:spPr>
            <a:xfrm>
              <a:off x="2719440" y="3481560"/>
              <a:ext cx="218880" cy="91800"/>
            </a:xfrm>
            <a:custGeom>
              <a:avLst/>
              <a:gdLst/>
              <a:ahLst/>
              <a:rect l="l" t="t" r="r" b="b"/>
              <a:pathLst>
                <a:path w="138" h="58">
                  <a:moveTo>
                    <a:pt x="137" y="11"/>
                  </a:moveTo>
                  <a:lnTo>
                    <a:pt x="0" y="5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7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71680" y="351468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371680" y="3668760"/>
            <a:ext cx="566640" cy="93600"/>
            <a:chOff x="2371680" y="3668760"/>
            <a:chExt cx="566640" cy="93600"/>
          </a:xfrm>
        </p:grpSpPr>
        <p:sp>
          <p:nvSpPr>
            <p:cNvPr id="109" name=""/>
            <p:cNvSpPr/>
            <p:nvPr/>
          </p:nvSpPr>
          <p:spPr>
            <a:xfrm>
              <a:off x="2719440" y="3668760"/>
              <a:ext cx="218880" cy="93600"/>
            </a:xfrm>
            <a:custGeom>
              <a:avLst/>
              <a:gdLst/>
              <a:ahLst/>
              <a:rect l="l" t="t" r="r" b="b"/>
              <a:pathLst>
                <a:path w="138" h="59">
                  <a:moveTo>
                    <a:pt x="137" y="34"/>
                  </a:moveTo>
                  <a:lnTo>
                    <a:pt x="0" y="58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37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71680" y="374328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2378160" y="3703680"/>
            <a:ext cx="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960" y="2654280"/>
            <a:ext cx="0" cy="95256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2673360"/>
            <a:ext cx="66024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41560" y="3780000"/>
            <a:ext cx="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35440" y="4160880"/>
            <a:ext cx="72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595680" y="4154400"/>
            <a:ext cx="92160" cy="231840"/>
            <a:chOff x="3595680" y="4154400"/>
            <a:chExt cx="92160" cy="231840"/>
          </a:xfrm>
        </p:grpSpPr>
        <p:sp>
          <p:nvSpPr>
            <p:cNvPr id="117" name=""/>
            <p:cNvSpPr/>
            <p:nvPr/>
          </p:nvSpPr>
          <p:spPr>
            <a:xfrm>
              <a:off x="3595680" y="4230720"/>
              <a:ext cx="92160" cy="155520"/>
            </a:xfrm>
            <a:custGeom>
              <a:avLst/>
              <a:gdLst/>
              <a:ahLst/>
              <a:rect l="l" t="t" r="r" b="b"/>
              <a:pathLst>
                <a:path w="58" h="98">
                  <a:moveTo>
                    <a:pt x="23" y="97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57" y="0"/>
                  </a:lnTo>
                  <a:lnTo>
                    <a:pt x="23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49680" y="4154400"/>
              <a:ext cx="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491000" y="3780000"/>
            <a:ext cx="114480" cy="606240"/>
            <a:chOff x="4491000" y="3780000"/>
            <a:chExt cx="114480" cy="606240"/>
          </a:xfrm>
        </p:grpSpPr>
        <p:sp>
          <p:nvSpPr>
            <p:cNvPr id="120" name=""/>
            <p:cNvSpPr/>
            <p:nvPr/>
          </p:nvSpPr>
          <p:spPr>
            <a:xfrm>
              <a:off x="4491000" y="4230720"/>
              <a:ext cx="114480" cy="155520"/>
            </a:xfrm>
            <a:custGeom>
              <a:avLst/>
              <a:gdLst/>
              <a:ahLst/>
              <a:rect l="l" t="t" r="r" b="b"/>
              <a:pathLst>
                <a:path w="72" h="98">
                  <a:moveTo>
                    <a:pt x="36" y="97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71" y="0"/>
                  </a:lnTo>
                  <a:lnTo>
                    <a:pt x="36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67320" y="3780000"/>
              <a:ext cx="0" cy="45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234040" y="3639960"/>
            <a:ext cx="376200" cy="917640"/>
          </a:xfrm>
          <a:custGeom>
            <a:avLst/>
            <a:gdLst/>
            <a:ahLst/>
            <a:rect l="l" t="t" r="r" b="b"/>
            <a:pathLst>
              <a:path w="237" h="578">
                <a:moveTo>
                  <a:pt x="0" y="577"/>
                </a:moveTo>
                <a:lnTo>
                  <a:pt x="236" y="577"/>
                </a:lnTo>
                <a:lnTo>
                  <a:pt x="23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602320" y="3606840"/>
            <a:ext cx="587520" cy="92160"/>
            <a:chOff x="5602320" y="3606840"/>
            <a:chExt cx="587520" cy="92160"/>
          </a:xfrm>
        </p:grpSpPr>
        <p:sp>
          <p:nvSpPr>
            <p:cNvPr id="124" name=""/>
            <p:cNvSpPr/>
            <p:nvPr/>
          </p:nvSpPr>
          <p:spPr>
            <a:xfrm>
              <a:off x="5991120" y="3606840"/>
              <a:ext cx="19872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124" y="11"/>
                  </a:moveTo>
                  <a:lnTo>
                    <a:pt x="0" y="5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2320" y="363996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891560" y="33955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45120" y="2774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512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43680" y="4713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46760" y="4713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4532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5320" y="279576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89800" y="2774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744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8880" y="4713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1232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9524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95920" y="43578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227920" y="2941560"/>
            <a:ext cx="268200" cy="271440"/>
            <a:chOff x="5227920" y="2941560"/>
            <a:chExt cx="268200" cy="271440"/>
          </a:xfrm>
        </p:grpSpPr>
        <p:sp>
          <p:nvSpPr>
            <p:cNvPr id="140" name=""/>
            <p:cNvSpPr/>
            <p:nvPr/>
          </p:nvSpPr>
          <p:spPr>
            <a:xfrm>
              <a:off x="5227920" y="29415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46640" y="2987640"/>
              <a:ext cx="20340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935520" y="4383000"/>
            <a:ext cx="182520" cy="20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8072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3076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1160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648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2744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6416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0000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2952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4852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0720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2620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344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1208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58800" y="22525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8832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9696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4404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31800" y="41911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708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7340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1780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5308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7216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1168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456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0356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7644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41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9372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412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6844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461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3952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1576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3340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3484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5060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8064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4248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10880" y="3716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55520" y="37162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3788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6520" y="27320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54400" y="435132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00320" y="2446200"/>
            <a:ext cx="0" cy="3924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34040" y="3430080"/>
            <a:ext cx="0" cy="397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613320" y="3613320"/>
            <a:ext cx="366480" cy="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05000" y="2854440"/>
            <a:ext cx="0" cy="51264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8960" y="3557520"/>
            <a:ext cx="91260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14960" y="2844720"/>
            <a:ext cx="19080" cy="58896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322640" y="2941560"/>
            <a:ext cx="268200" cy="271440"/>
            <a:chOff x="1322640" y="2941560"/>
            <a:chExt cx="268200" cy="271440"/>
          </a:xfrm>
        </p:grpSpPr>
        <p:sp>
          <p:nvSpPr>
            <p:cNvPr id="195" name=""/>
            <p:cNvSpPr/>
            <p:nvPr/>
          </p:nvSpPr>
          <p:spPr>
            <a:xfrm>
              <a:off x="1322640" y="29415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41360" y="2987640"/>
              <a:ext cx="20340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900840" y="3630600"/>
            <a:ext cx="841320" cy="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48040" y="360036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06440" y="336708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27160" y="33735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38320" y="33987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9040" y="33861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60840" y="244008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24320" y="2446200"/>
            <a:ext cx="0" cy="3924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83360" y="33861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75640" y="339264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48640" y="338940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50280" y="33861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226692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68360" y="321624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79560" y="32130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95480" y="32194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92360" y="32068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46440" y="227952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67360" y="226692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35680" y="323532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89760" y="317484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24800" y="32004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21640" y="31878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80360" y="32130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11240" y="22636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01960" y="22734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8200" y="227016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65120" y="4213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66960" y="42102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4219560"/>
            <a:ext cx="3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78240" y="4216320"/>
            <a:ext cx="29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18000" y="3251160"/>
            <a:ext cx="3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13360" y="4203720"/>
            <a:ext cx="4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210200"/>
            <a:ext cx="3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5600880"/>
            <a:ext cx="689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Camino Crítico: </a:t>
            </a:r>
            <a:r>
              <a:rPr b="1" lang="es-CL" sz="2000" spc="-1" strike="noStrike" u="sng">
                <a:solidFill>
                  <a:srgbClr val="0000ff"/>
                </a:solidFill>
                <a:uFillTx/>
                <a:latin typeface="Arial"/>
              </a:rPr>
              <a:t>Ini. A1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B1, C1, A3, </a:t>
            </a:r>
            <a:r>
              <a:rPr b="1" lang="es-CL" sz="2000" spc="-1" strike="noStrike" u="sng">
                <a:solidFill>
                  <a:srgbClr val="0000ff"/>
                </a:solidFill>
                <a:uFillTx/>
                <a:latin typeface="Arial"/>
              </a:rPr>
              <a:t>TER. C2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3, C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84280" y="2602080"/>
            <a:ext cx="59040" cy="45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43240" y="4518000"/>
            <a:ext cx="5868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30480" y="3576600"/>
            <a:ext cx="5904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09960" y="1714680"/>
            <a:ext cx="30481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ECHAS PREVIS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35160" y="1701720"/>
            <a:ext cx="30481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ECHAS LIM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1640" y="1689120"/>
            <a:ext cx="30481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LOTAMIEN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1695600"/>
            <a:ext cx="30477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MINO CRI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9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3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"/>
          <p:cNvSpPr/>
          <p:nvPr/>
        </p:nvSpPr>
        <p:spPr>
          <a:xfrm>
            <a:off x="3762360" y="3390840"/>
            <a:ext cx="1752480" cy="723960"/>
          </a:xfrm>
          <a:custGeom>
            <a:avLst/>
            <a:gdLst/>
            <a:ahLst/>
            <a:rect l="l" t="t" r="r" b="b"/>
            <a:pathLst>
              <a:path w="1104" h="456">
                <a:moveTo>
                  <a:pt x="0" y="0"/>
                </a:moveTo>
                <a:lnTo>
                  <a:pt x="1104" y="0"/>
                </a:lnTo>
                <a:lnTo>
                  <a:pt x="1104" y="456"/>
                </a:lnTo>
                <a:lnTo>
                  <a:pt x="936" y="456"/>
                </a:lnTo>
                <a:lnTo>
                  <a:pt x="936" y="168"/>
                </a:lnTo>
                <a:lnTo>
                  <a:pt x="618" y="168"/>
                </a:lnTo>
                <a:lnTo>
                  <a:pt x="618" y="318"/>
                </a:lnTo>
                <a:lnTo>
                  <a:pt x="6" y="31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267000" y="2933640"/>
            <a:ext cx="2733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3911760" y="3178080"/>
            <a:ext cx="1104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898800" y="3184560"/>
            <a:ext cx="1104840" cy="21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752480" y="1467000"/>
            <a:ext cx="4486320" cy="2943000"/>
          </a:xfrm>
          <a:custGeom>
            <a:avLst/>
            <a:gdLst/>
            <a:ahLst/>
            <a:rect l="l" t="t" r="r" b="b"/>
            <a:pathLst>
              <a:path w="2826" h="1854">
                <a:moveTo>
                  <a:pt x="0" y="1854"/>
                </a:moveTo>
                <a:lnTo>
                  <a:pt x="0" y="1386"/>
                </a:lnTo>
                <a:lnTo>
                  <a:pt x="156" y="1386"/>
                </a:lnTo>
                <a:lnTo>
                  <a:pt x="156" y="468"/>
                </a:lnTo>
                <a:lnTo>
                  <a:pt x="312" y="468"/>
                </a:lnTo>
                <a:lnTo>
                  <a:pt x="312" y="0"/>
                </a:lnTo>
                <a:lnTo>
                  <a:pt x="624" y="0"/>
                </a:lnTo>
                <a:lnTo>
                  <a:pt x="624" y="774"/>
                </a:lnTo>
                <a:lnTo>
                  <a:pt x="780" y="762"/>
                </a:lnTo>
                <a:lnTo>
                  <a:pt x="780" y="324"/>
                </a:lnTo>
                <a:lnTo>
                  <a:pt x="948" y="318"/>
                </a:lnTo>
                <a:lnTo>
                  <a:pt x="942" y="1230"/>
                </a:lnTo>
                <a:lnTo>
                  <a:pt x="1272" y="1230"/>
                </a:lnTo>
                <a:lnTo>
                  <a:pt x="1266" y="1536"/>
                </a:lnTo>
                <a:lnTo>
                  <a:pt x="1884" y="1542"/>
                </a:lnTo>
                <a:lnTo>
                  <a:pt x="1884" y="1392"/>
                </a:lnTo>
                <a:lnTo>
                  <a:pt x="2202" y="1392"/>
                </a:lnTo>
                <a:lnTo>
                  <a:pt x="2202" y="1686"/>
                </a:lnTo>
                <a:lnTo>
                  <a:pt x="2364" y="1686"/>
                </a:lnTo>
                <a:lnTo>
                  <a:pt x="2364" y="1242"/>
                </a:lnTo>
                <a:lnTo>
                  <a:pt x="2670" y="1242"/>
                </a:lnTo>
                <a:lnTo>
                  <a:pt x="2670" y="930"/>
                </a:lnTo>
                <a:lnTo>
                  <a:pt x="2826" y="930"/>
                </a:lnTo>
                <a:lnTo>
                  <a:pt x="2826" y="1848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768320" y="990720"/>
            <a:ext cx="0" cy="341928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017800" y="1247760"/>
            <a:ext cx="0" cy="3162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226692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251604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755800" y="124776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301608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265560" y="1200240"/>
            <a:ext cx="0" cy="3209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3514680" y="1190520"/>
            <a:ext cx="0" cy="32194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376380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014720" y="12096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26420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51332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476244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501336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5262480" y="1228680"/>
            <a:ext cx="0" cy="3181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551196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576108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601020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626112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6510240" y="1228680"/>
            <a:ext cx="0" cy="3181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675972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700884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725976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7508880" y="1247760"/>
            <a:ext cx="0" cy="3162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7758000" y="12096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800748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8258040" y="1200240"/>
            <a:ext cx="0" cy="3209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774800" y="1236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774800" y="1479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1774800" y="1722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1774800" y="22068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774800" y="196524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1774800" y="2449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1774800" y="2692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774800" y="2935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774800" y="34196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774800" y="3662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1774800" y="3905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1774800" y="4148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1774800" y="4390920"/>
            <a:ext cx="67057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1825560" y="44100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2792520" y="44100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4049640" y="4410000"/>
            <a:ext cx="3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5265720" y="4410000"/>
            <a:ext cx="2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6541920" y="441000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802640" y="441000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1558800" y="306396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1406520" y="18320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1558800" y="427032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V="1">
            <a:off x="3247920" y="476208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3247920" y="4762440"/>
            <a:ext cx="266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3247920" y="2943360"/>
            <a:ext cx="2743200" cy="1199880"/>
          </a:xfrm>
          <a:custGeom>
            <a:avLst/>
            <a:gdLst/>
            <a:ahLst/>
            <a:rect l="l" t="t" r="r" b="b"/>
            <a:pathLst>
              <a:path w="1728" h="756">
                <a:moveTo>
                  <a:pt x="0" y="0"/>
                </a:moveTo>
                <a:lnTo>
                  <a:pt x="0" y="312"/>
                </a:lnTo>
                <a:lnTo>
                  <a:pt x="312" y="312"/>
                </a:lnTo>
                <a:lnTo>
                  <a:pt x="312" y="606"/>
                </a:lnTo>
                <a:lnTo>
                  <a:pt x="936" y="606"/>
                </a:lnTo>
                <a:lnTo>
                  <a:pt x="936" y="462"/>
                </a:lnTo>
                <a:lnTo>
                  <a:pt x="1254" y="462"/>
                </a:lnTo>
                <a:lnTo>
                  <a:pt x="1254" y="750"/>
                </a:lnTo>
                <a:lnTo>
                  <a:pt x="1416" y="756"/>
                </a:lnTo>
                <a:lnTo>
                  <a:pt x="1428" y="306"/>
                </a:lnTo>
                <a:lnTo>
                  <a:pt x="1728" y="306"/>
                </a:lnTo>
                <a:lnTo>
                  <a:pt x="172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6189840" y="4552920"/>
            <a:ext cx="203652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415800" y="5511960"/>
            <a:ext cx="784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384120" y="4768920"/>
            <a:ext cx="787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698400" y="5022720"/>
            <a:ext cx="756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9" name=""/>
          <p:cNvGrpSpPr/>
          <p:nvPr/>
        </p:nvGrpSpPr>
        <p:grpSpPr>
          <a:xfrm>
            <a:off x="741240" y="4816440"/>
            <a:ext cx="5488200" cy="186120"/>
            <a:chOff x="741240" y="4816440"/>
            <a:chExt cx="5488200" cy="186120"/>
          </a:xfrm>
        </p:grpSpPr>
        <p:sp>
          <p:nvSpPr>
            <p:cNvPr id="2610" name=""/>
            <p:cNvSpPr/>
            <p:nvPr/>
          </p:nvSpPr>
          <p:spPr>
            <a:xfrm>
              <a:off x="181440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07972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308320" y="481644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471760" y="4816440"/>
              <a:ext cx="31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82096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022560" y="4816440"/>
              <a:ext cx="22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3242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57192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83868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08456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3322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57992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82616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08320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33880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60556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8514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609912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41240" y="4819680"/>
              <a:ext cx="111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Neces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9" name=""/>
          <p:cNvSpPr/>
          <p:nvPr/>
        </p:nvSpPr>
        <p:spPr>
          <a:xfrm>
            <a:off x="2324160" y="3257640"/>
            <a:ext cx="4665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Út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1523880" y="781200"/>
            <a:ext cx="5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a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8420040" y="4159080"/>
            <a:ext cx="590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2457360" y="343080"/>
            <a:ext cx="4819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DE NECESIDAD DE RECURSOS REUTILIZ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3" name=""/>
          <p:cNvGrpSpPr/>
          <p:nvPr/>
        </p:nvGrpSpPr>
        <p:grpSpPr>
          <a:xfrm>
            <a:off x="741240" y="5556240"/>
            <a:ext cx="7234200" cy="195480"/>
            <a:chOff x="741240" y="5556240"/>
            <a:chExt cx="7234200" cy="195480"/>
          </a:xfrm>
        </p:grpSpPr>
        <p:sp>
          <p:nvSpPr>
            <p:cNvPr id="2634" name=""/>
            <p:cNvSpPr/>
            <p:nvPr/>
          </p:nvSpPr>
          <p:spPr>
            <a:xfrm>
              <a:off x="3828960" y="55688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407520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32288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514760" y="5568840"/>
              <a:ext cx="23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780080" y="556884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037120" y="556884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292720" y="556884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595840" y="55688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84208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08976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33744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585120" y="55688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840360" y="55688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06284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31052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558200" y="55688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84548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41240" y="5556240"/>
              <a:ext cx="103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Neces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602160" y="55562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3" name=""/>
          <p:cNvSpPr/>
          <p:nvPr/>
        </p:nvSpPr>
        <p:spPr>
          <a:xfrm>
            <a:off x="3533760" y="1447920"/>
            <a:ext cx="4487760" cy="2962080"/>
          </a:xfrm>
          <a:custGeom>
            <a:avLst/>
            <a:gdLst/>
            <a:ahLst/>
            <a:rect l="l" t="t" r="r" b="b"/>
            <a:pathLst>
              <a:path w="2827" h="1866">
                <a:moveTo>
                  <a:pt x="0" y="1866"/>
                </a:moveTo>
                <a:lnTo>
                  <a:pt x="6" y="1386"/>
                </a:lnTo>
                <a:lnTo>
                  <a:pt x="132" y="1392"/>
                </a:lnTo>
                <a:lnTo>
                  <a:pt x="138" y="1236"/>
                </a:lnTo>
                <a:lnTo>
                  <a:pt x="300" y="1242"/>
                </a:lnTo>
                <a:lnTo>
                  <a:pt x="306" y="1674"/>
                </a:lnTo>
                <a:lnTo>
                  <a:pt x="456" y="1680"/>
                </a:lnTo>
                <a:lnTo>
                  <a:pt x="462" y="930"/>
                </a:lnTo>
                <a:lnTo>
                  <a:pt x="630" y="936"/>
                </a:lnTo>
                <a:lnTo>
                  <a:pt x="609" y="0"/>
                </a:lnTo>
                <a:lnTo>
                  <a:pt x="936" y="6"/>
                </a:lnTo>
                <a:lnTo>
                  <a:pt x="936" y="306"/>
                </a:lnTo>
                <a:lnTo>
                  <a:pt x="1239" y="312"/>
                </a:lnTo>
                <a:lnTo>
                  <a:pt x="1251" y="1074"/>
                </a:lnTo>
                <a:lnTo>
                  <a:pt x="1416" y="1068"/>
                </a:lnTo>
                <a:lnTo>
                  <a:pt x="1416" y="1524"/>
                </a:lnTo>
                <a:lnTo>
                  <a:pt x="1869" y="1536"/>
                </a:lnTo>
                <a:lnTo>
                  <a:pt x="1869" y="1374"/>
                </a:lnTo>
                <a:lnTo>
                  <a:pt x="2187" y="1374"/>
                </a:lnTo>
                <a:lnTo>
                  <a:pt x="2187" y="1692"/>
                </a:lnTo>
                <a:lnTo>
                  <a:pt x="2343" y="1692"/>
                </a:lnTo>
                <a:lnTo>
                  <a:pt x="2343" y="1224"/>
                </a:lnTo>
                <a:lnTo>
                  <a:pt x="2676" y="1218"/>
                </a:lnTo>
                <a:lnTo>
                  <a:pt x="2670" y="948"/>
                </a:lnTo>
                <a:lnTo>
                  <a:pt x="2826" y="942"/>
                </a:lnTo>
                <a:lnTo>
                  <a:pt x="2827" y="1845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4" name=""/>
          <p:cNvGrpSpPr/>
          <p:nvPr/>
        </p:nvGrpSpPr>
        <p:grpSpPr>
          <a:xfrm>
            <a:off x="554040" y="5131080"/>
            <a:ext cx="5787000" cy="486720"/>
            <a:chOff x="554040" y="5131080"/>
            <a:chExt cx="5787000" cy="486720"/>
          </a:xfrm>
        </p:grpSpPr>
        <p:sp>
          <p:nvSpPr>
            <p:cNvPr id="2655" name=""/>
            <p:cNvSpPr/>
            <p:nvPr/>
          </p:nvSpPr>
          <p:spPr>
            <a:xfrm>
              <a:off x="554040" y="5294520"/>
              <a:ext cx="1114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 rot="18627600">
              <a:off x="178596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rot="18627600">
              <a:off x="20620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rot="18627600">
              <a:off x="22906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 rot="18627600">
              <a:off x="255744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 rot="18627600">
              <a:off x="280512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rot="18627600">
              <a:off x="303192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rot="18627600">
              <a:off x="33004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rot="18627600">
              <a:off x="3556080" y="52765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 rot="18627600">
              <a:off x="3803760" y="52765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rot="18627600">
              <a:off x="40510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rot="18627600">
              <a:off x="43066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 rot="18627600">
              <a:off x="458136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rot="18627600">
              <a:off x="4748040" y="5230800"/>
              <a:ext cx="32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rot="18627600">
              <a:off x="5026680" y="5222160"/>
              <a:ext cx="32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rot="18627600">
              <a:off x="5290200" y="5238000"/>
              <a:ext cx="29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rot="18627600">
              <a:off x="5590440" y="5218920"/>
              <a:ext cx="25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rot="18627600">
              <a:off x="5814000" y="5272920"/>
              <a:ext cx="26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rot="18627600">
              <a:off x="6045120" y="5249880"/>
              <a:ext cx="27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54200" y="5330880"/>
              <a:ext cx="103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Direc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5" name=""/>
          <p:cNvSpPr/>
          <p:nvPr/>
        </p:nvSpPr>
        <p:spPr>
          <a:xfrm>
            <a:off x="378000" y="6289560"/>
            <a:ext cx="787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701640" y="5772240"/>
            <a:ext cx="755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60520" y="5786280"/>
            <a:ext cx="11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8" name=""/>
          <p:cNvGrpSpPr/>
          <p:nvPr/>
        </p:nvGrpSpPr>
        <p:grpSpPr>
          <a:xfrm>
            <a:off x="744480" y="5942520"/>
            <a:ext cx="7394400" cy="385560"/>
            <a:chOff x="744480" y="5942520"/>
            <a:chExt cx="7394400" cy="385560"/>
          </a:xfrm>
        </p:grpSpPr>
        <p:sp>
          <p:nvSpPr>
            <p:cNvPr id="2679" name=""/>
            <p:cNvSpPr/>
            <p:nvPr/>
          </p:nvSpPr>
          <p:spPr>
            <a:xfrm rot="18627600">
              <a:off x="6996960" y="6059880"/>
              <a:ext cx="30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rot="18627600">
              <a:off x="7275240" y="6046560"/>
              <a:ext cx="30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 rot="18627600">
              <a:off x="7509240" y="6053760"/>
              <a:ext cx="29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1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 rot="18627600">
              <a:off x="7810200" y="6029640"/>
              <a:ext cx="31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rot="18627600">
              <a:off x="3841560" y="60260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rot="18627600">
              <a:off x="4089240" y="60354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rot="18627600">
              <a:off x="431784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rot="18627600">
              <a:off x="459252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rot="18627600">
              <a:off x="482112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rot="18627600">
              <a:off x="5086440" y="60541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5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rot="18627600">
              <a:off x="533376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rot="18627600">
              <a:off x="556236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rot="18627600">
              <a:off x="582912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7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rot="18627600">
              <a:off x="608472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7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rot="18627600">
              <a:off x="633240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8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rot="18627600">
              <a:off x="658008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9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rot="18627600">
              <a:off x="679428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9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rot="18627600">
              <a:off x="3619440" y="60260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44480" y="6046920"/>
              <a:ext cx="111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Costo Directo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8" name=""/>
          <p:cNvSpPr/>
          <p:nvPr/>
        </p:nvSpPr>
        <p:spPr>
          <a:xfrm rot="16200000">
            <a:off x="241920" y="5043600"/>
            <a:ext cx="6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TEMP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1752480" y="440064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1762200" y="317988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 rot="16200000">
            <a:off x="234000" y="5826240"/>
            <a:ext cx="6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TARD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2771640" y="1952640"/>
            <a:ext cx="238320" cy="733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717480" y="5264280"/>
            <a:ext cx="755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717480" y="6016680"/>
            <a:ext cx="755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399960" y="4753080"/>
            <a:ext cx="0" cy="1542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701640" y="4749840"/>
            <a:ext cx="0" cy="1542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7" name=""/>
          <p:cNvGrpSpPr/>
          <p:nvPr/>
        </p:nvGrpSpPr>
        <p:grpSpPr>
          <a:xfrm>
            <a:off x="712800" y="5057640"/>
            <a:ext cx="5516280" cy="186120"/>
            <a:chOff x="712800" y="5057640"/>
            <a:chExt cx="5516280" cy="186120"/>
          </a:xfrm>
        </p:grpSpPr>
        <p:grpSp>
          <p:nvGrpSpPr>
            <p:cNvPr id="2708" name=""/>
            <p:cNvGrpSpPr/>
            <p:nvPr/>
          </p:nvGrpSpPr>
          <p:grpSpPr>
            <a:xfrm>
              <a:off x="1814400" y="5057640"/>
              <a:ext cx="4414680" cy="182880"/>
              <a:chOff x="1814400" y="5057640"/>
              <a:chExt cx="4414680" cy="182880"/>
            </a:xfrm>
          </p:grpSpPr>
          <p:sp>
            <p:nvSpPr>
              <p:cNvPr id="2709" name=""/>
              <p:cNvSpPr/>
              <p:nvPr/>
            </p:nvSpPr>
            <p:spPr>
              <a:xfrm>
                <a:off x="181440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207936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2307960" y="5057640"/>
                <a:ext cx="20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2471760" y="5057640"/>
                <a:ext cx="315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2763720" y="5057640"/>
                <a:ext cx="282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3022560" y="5057640"/>
                <a:ext cx="222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332424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357192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3838320" y="505764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408456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433224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4579920" y="5057640"/>
                <a:ext cx="128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82580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5083200" y="5057640"/>
                <a:ext cx="128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533880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605200" y="505764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585144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09912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27" name=""/>
            <p:cNvSpPr/>
            <p:nvPr/>
          </p:nvSpPr>
          <p:spPr>
            <a:xfrm>
              <a:off x="712800" y="5060880"/>
              <a:ext cx="11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Disponibil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8" name=""/>
          <p:cNvGrpSpPr/>
          <p:nvPr/>
        </p:nvGrpSpPr>
        <p:grpSpPr>
          <a:xfrm>
            <a:off x="700200" y="5791320"/>
            <a:ext cx="7262640" cy="195480"/>
            <a:chOff x="700200" y="5791320"/>
            <a:chExt cx="7262640" cy="195480"/>
          </a:xfrm>
        </p:grpSpPr>
        <p:sp>
          <p:nvSpPr>
            <p:cNvPr id="2729" name=""/>
            <p:cNvSpPr/>
            <p:nvPr/>
          </p:nvSpPr>
          <p:spPr>
            <a:xfrm>
              <a:off x="3816360" y="580392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06224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30992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502160" y="5803920"/>
              <a:ext cx="23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767120" y="5803920"/>
              <a:ext cx="252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024520" y="580392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280120" y="580392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58324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829480" y="580392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07680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32448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572160" y="580392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82776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050240" y="580392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29756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545240" y="58039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832880" y="580392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00200" y="5791320"/>
              <a:ext cx="11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Disponibil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3589200" y="57913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8" name=""/>
          <p:cNvSpPr/>
          <p:nvPr/>
        </p:nvSpPr>
        <p:spPr>
          <a:xfrm>
            <a:off x="2768760" y="437832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4060800" y="439416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5257800" y="440064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6512040" y="439740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7756560" y="439416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8258040" y="4390920"/>
            <a:ext cx="0" cy="1895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2311560" y="3254400"/>
            <a:ext cx="466560" cy="212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4019400" y="3419640"/>
            <a:ext cx="238320" cy="685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5781600" y="3619440"/>
            <a:ext cx="723960" cy="266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7010280" y="3619440"/>
            <a:ext cx="247680" cy="514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5537160" y="2943360"/>
            <a:ext cx="2247840" cy="676080"/>
          </a:xfrm>
          <a:custGeom>
            <a:avLst/>
            <a:gdLst/>
            <a:ahLst/>
            <a:rect l="l" t="t" r="r" b="b"/>
            <a:pathLst>
              <a:path w="1416" h="426">
                <a:moveTo>
                  <a:pt x="0" y="0"/>
                </a:moveTo>
                <a:lnTo>
                  <a:pt x="12" y="138"/>
                </a:lnTo>
                <a:lnTo>
                  <a:pt x="168" y="126"/>
                </a:lnTo>
                <a:lnTo>
                  <a:pt x="168" y="426"/>
                </a:lnTo>
                <a:lnTo>
                  <a:pt x="1092" y="426"/>
                </a:lnTo>
                <a:lnTo>
                  <a:pt x="1092" y="288"/>
                </a:lnTo>
                <a:lnTo>
                  <a:pt x="1416" y="288"/>
                </a:lnTo>
                <a:lnTo>
                  <a:pt x="1416" y="18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4572000" y="3390840"/>
            <a:ext cx="888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Ut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1781280" y="1454040"/>
            <a:ext cx="4473360" cy="2936880"/>
          </a:xfrm>
          <a:custGeom>
            <a:avLst/>
            <a:gdLst/>
            <a:ahLst/>
            <a:rect l="l" t="t" r="r" b="b"/>
            <a:pathLst>
              <a:path w="2818" h="1850">
                <a:moveTo>
                  <a:pt x="0" y="1850"/>
                </a:moveTo>
                <a:lnTo>
                  <a:pt x="6" y="1388"/>
                </a:lnTo>
                <a:lnTo>
                  <a:pt x="148" y="1386"/>
                </a:lnTo>
                <a:lnTo>
                  <a:pt x="148" y="468"/>
                </a:lnTo>
                <a:lnTo>
                  <a:pt x="304" y="468"/>
                </a:lnTo>
                <a:lnTo>
                  <a:pt x="304" y="0"/>
                </a:lnTo>
                <a:lnTo>
                  <a:pt x="616" y="0"/>
                </a:lnTo>
                <a:lnTo>
                  <a:pt x="616" y="774"/>
                </a:lnTo>
                <a:lnTo>
                  <a:pt x="778" y="774"/>
                </a:lnTo>
                <a:lnTo>
                  <a:pt x="778" y="318"/>
                </a:lnTo>
                <a:lnTo>
                  <a:pt x="940" y="318"/>
                </a:lnTo>
                <a:lnTo>
                  <a:pt x="934" y="1230"/>
                </a:lnTo>
                <a:lnTo>
                  <a:pt x="1252" y="1230"/>
                </a:lnTo>
                <a:lnTo>
                  <a:pt x="1258" y="1542"/>
                </a:lnTo>
                <a:lnTo>
                  <a:pt x="1876" y="1542"/>
                </a:lnTo>
                <a:lnTo>
                  <a:pt x="1876" y="1392"/>
                </a:lnTo>
                <a:lnTo>
                  <a:pt x="2194" y="1392"/>
                </a:lnTo>
                <a:lnTo>
                  <a:pt x="2194" y="1686"/>
                </a:lnTo>
                <a:lnTo>
                  <a:pt x="2356" y="1686"/>
                </a:lnTo>
                <a:lnTo>
                  <a:pt x="2356" y="1242"/>
                </a:lnTo>
                <a:lnTo>
                  <a:pt x="2662" y="1242"/>
                </a:lnTo>
                <a:lnTo>
                  <a:pt x="2662" y="930"/>
                </a:lnTo>
                <a:lnTo>
                  <a:pt x="2818" y="930"/>
                </a:lnTo>
                <a:lnTo>
                  <a:pt x="2818" y="1848"/>
                </a:ln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3524400" y="1447920"/>
            <a:ext cx="4502160" cy="2952720"/>
          </a:xfrm>
          <a:custGeom>
            <a:avLst/>
            <a:gdLst/>
            <a:ahLst/>
            <a:rect l="l" t="t" r="r" b="b"/>
            <a:pathLst>
              <a:path w="2836" h="1860">
                <a:moveTo>
                  <a:pt x="0" y="1860"/>
                </a:moveTo>
                <a:lnTo>
                  <a:pt x="6" y="1398"/>
                </a:lnTo>
                <a:lnTo>
                  <a:pt x="150" y="1398"/>
                </a:lnTo>
                <a:lnTo>
                  <a:pt x="150" y="1242"/>
                </a:lnTo>
                <a:lnTo>
                  <a:pt x="306" y="1242"/>
                </a:lnTo>
                <a:lnTo>
                  <a:pt x="312" y="1680"/>
                </a:lnTo>
                <a:lnTo>
                  <a:pt x="462" y="1680"/>
                </a:lnTo>
                <a:lnTo>
                  <a:pt x="456" y="942"/>
                </a:lnTo>
                <a:lnTo>
                  <a:pt x="624" y="936"/>
                </a:lnTo>
                <a:lnTo>
                  <a:pt x="616" y="4"/>
                </a:lnTo>
                <a:lnTo>
                  <a:pt x="948" y="0"/>
                </a:lnTo>
                <a:lnTo>
                  <a:pt x="948" y="300"/>
                </a:lnTo>
                <a:lnTo>
                  <a:pt x="1260" y="318"/>
                </a:lnTo>
                <a:lnTo>
                  <a:pt x="1258" y="1078"/>
                </a:lnTo>
                <a:lnTo>
                  <a:pt x="1422" y="1074"/>
                </a:lnTo>
                <a:lnTo>
                  <a:pt x="1416" y="1536"/>
                </a:lnTo>
                <a:lnTo>
                  <a:pt x="1876" y="1540"/>
                </a:lnTo>
                <a:lnTo>
                  <a:pt x="1876" y="1378"/>
                </a:lnTo>
                <a:lnTo>
                  <a:pt x="2194" y="1378"/>
                </a:lnTo>
                <a:lnTo>
                  <a:pt x="2194" y="1696"/>
                </a:lnTo>
                <a:lnTo>
                  <a:pt x="2350" y="1696"/>
                </a:lnTo>
                <a:lnTo>
                  <a:pt x="2350" y="1228"/>
                </a:lnTo>
                <a:lnTo>
                  <a:pt x="2676" y="1236"/>
                </a:lnTo>
                <a:lnTo>
                  <a:pt x="2664" y="948"/>
                </a:lnTo>
                <a:lnTo>
                  <a:pt x="2836" y="937"/>
                </a:lnTo>
                <a:lnTo>
                  <a:pt x="2836" y="185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4508640" y="3403440"/>
            <a:ext cx="1104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3276720" y="29718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3251160" y="2933640"/>
            <a:ext cx="29973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4495680" y="3403440"/>
            <a:ext cx="1105200" cy="2127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4" dur="indefinite" restart="never" nodeType="tmRoot">
          <p:childTnLst>
            <p:seq>
              <p:cTn id="2035" dur="indefinite" nodeType="mainSeq">
                <p:childTnLst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3" dur="30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7" dur="80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1" dur="50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0" dur="2000"/>
                                        <p:tgtEl>
                                          <p:spTgt spid="2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5" dur="2000"/>
                                        <p:tgtEl>
                                          <p:spTgt spid="2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20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2" dur="50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7" dur="50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2" dur="2000"/>
                                        <p:tgtEl>
                                          <p:spTgt spid="2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6" dur="50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0" dur="50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9" dur="10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4" dur="10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7" dur="1000"/>
                                        <p:tgtEl>
                                          <p:spTgt spid="2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20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0" dur="20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5" dur="20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"/>
          <p:cNvSpPr/>
          <p:nvPr/>
        </p:nvSpPr>
        <p:spPr>
          <a:xfrm>
            <a:off x="300204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32511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350028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37512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400068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42498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4989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474984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9989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524844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54975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5756400" y="16477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6002280" y="115740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2467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64962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67453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6996240" y="163836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72453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749448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77439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79945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1473120" y="167652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1473120" y="191772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1473120" y="216072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1473120" y="240336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1473120" y="264636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1511280" y="288936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511280" y="313056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474920" y="337176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511280" y="36162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511280" y="38592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511280" y="41022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1511280" y="43434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1511280" y="45864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1511280" y="482904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1511280" y="507204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1482840" y="5315040"/>
            <a:ext cx="681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3886200" y="5334120"/>
            <a:ext cx="3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5102280" y="5334120"/>
            <a:ext cx="2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6378480" y="533412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7639200" y="533412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7" name=""/>
          <p:cNvGrpSpPr/>
          <p:nvPr/>
        </p:nvGrpSpPr>
        <p:grpSpPr>
          <a:xfrm>
            <a:off x="380880" y="5772240"/>
            <a:ext cx="5836680" cy="433440"/>
            <a:chOff x="380880" y="5772240"/>
            <a:chExt cx="5836680" cy="433440"/>
          </a:xfrm>
        </p:grpSpPr>
        <p:sp>
          <p:nvSpPr>
            <p:cNvPr id="2808" name=""/>
            <p:cNvSpPr/>
            <p:nvPr/>
          </p:nvSpPr>
          <p:spPr>
            <a:xfrm rot="18627600">
              <a:off x="4603320" y="5864040"/>
              <a:ext cx="32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rot="18627600">
              <a:off x="165852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rot="18627600">
              <a:off x="1935000" y="582084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 rot="18627600">
              <a:off x="2163600" y="582084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rot="18627600">
              <a:off x="243000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 rot="18627600">
              <a:off x="267768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rot="18627600">
              <a:off x="290484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 rot="18627600">
              <a:off x="317304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rot="18627600">
              <a:off x="342864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 rot="18627600">
              <a:off x="367632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rot="18627600">
              <a:off x="392400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 rot="18627600">
              <a:off x="418284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 rot="18627600">
              <a:off x="445428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rot="18627600">
              <a:off x="4899240" y="5863320"/>
              <a:ext cx="32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rot="18627600">
              <a:off x="5159880" y="5853960"/>
              <a:ext cx="29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 rot="18627600">
              <a:off x="5460120" y="5806800"/>
              <a:ext cx="25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rot="18627600">
              <a:off x="5669280" y="5841000"/>
              <a:ext cx="26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 rot="18627600">
              <a:off x="5921280" y="5844600"/>
              <a:ext cx="27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80880" y="5823000"/>
              <a:ext cx="102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PREV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7" name=""/>
          <p:cNvSpPr/>
          <p:nvPr/>
        </p:nvSpPr>
        <p:spPr>
          <a:xfrm>
            <a:off x="255600" y="6461280"/>
            <a:ext cx="787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23920" y="6143760"/>
            <a:ext cx="787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66760" y="5711760"/>
            <a:ext cx="787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641600" y="5295960"/>
            <a:ext cx="0" cy="110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231840" y="5707080"/>
            <a:ext cx="0" cy="72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1892160" y="5295960"/>
            <a:ext cx="0" cy="1149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214308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2394000" y="529596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264492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289548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1464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339732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3648240" y="5295960"/>
            <a:ext cx="0" cy="1149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38988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4149720" y="529596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440064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46512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490212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515304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5403960" y="5295960"/>
            <a:ext cx="0" cy="1149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565452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5905440" y="529596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615636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640728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665784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690876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7159680" y="5295960"/>
            <a:ext cx="0" cy="1149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74106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7661160" y="529596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791208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81630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2979720" y="396072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3232080" y="38052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3486240" y="36450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5978520" y="21938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1467000" y="2209680"/>
            <a:ext cx="4514760" cy="3119400"/>
          </a:xfrm>
          <a:custGeom>
            <a:avLst/>
            <a:gdLst/>
            <a:ahLst/>
            <a:rect l="l" t="t" r="r" b="b"/>
            <a:pathLst>
              <a:path w="2844" h="1965">
                <a:moveTo>
                  <a:pt x="0" y="1965"/>
                </a:moveTo>
                <a:lnTo>
                  <a:pt x="168" y="1917"/>
                </a:lnTo>
                <a:lnTo>
                  <a:pt x="335" y="1796"/>
                </a:lnTo>
                <a:lnTo>
                  <a:pt x="479" y="1611"/>
                </a:lnTo>
                <a:lnTo>
                  <a:pt x="647" y="1410"/>
                </a:lnTo>
                <a:lnTo>
                  <a:pt x="810" y="1260"/>
                </a:lnTo>
                <a:lnTo>
                  <a:pt x="960" y="1116"/>
                </a:lnTo>
                <a:lnTo>
                  <a:pt x="1122" y="1026"/>
                </a:lnTo>
                <a:lnTo>
                  <a:pt x="1272" y="924"/>
                </a:lnTo>
                <a:lnTo>
                  <a:pt x="2844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3727440" y="51246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4229280" y="48830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5730840" y="3508200"/>
            <a:ext cx="42840" cy="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3241800" y="52959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3486240" y="52164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5479920" y="36576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971960" y="40356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235480" y="37940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4727520" y="42861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4476600" y="45878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7718400" y="23432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3730680" y="34988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3984480" y="335268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4229280" y="32162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4483080" y="306072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4727520" y="29336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4976640" y="2773440"/>
            <a:ext cx="432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5221440" y="26319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5475240" y="24861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5724360" y="2349360"/>
            <a:ext cx="432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5969160" y="33656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7223040" y="26478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6216480" y="3222720"/>
            <a:ext cx="432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6470640" y="30765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6724800" y="29304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6969240" y="27939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1619280" y="361800"/>
            <a:ext cx="624852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DE BAL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“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(Recursos reutilizabl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8185320" y="5099040"/>
            <a:ext cx="8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7467480" y="25020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5848200" y="1847880"/>
            <a:ext cx="362160" cy="24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7588080" y="1959120"/>
            <a:ext cx="362160" cy="24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12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4" name=""/>
          <p:cNvGrpSpPr/>
          <p:nvPr/>
        </p:nvGrpSpPr>
        <p:grpSpPr>
          <a:xfrm>
            <a:off x="5981760" y="1187280"/>
            <a:ext cx="1752480" cy="487080"/>
            <a:chOff x="5981760" y="1187280"/>
            <a:chExt cx="1752480" cy="487080"/>
          </a:xfrm>
        </p:grpSpPr>
        <p:sp>
          <p:nvSpPr>
            <p:cNvPr id="2895" name=""/>
            <p:cNvSpPr/>
            <p:nvPr/>
          </p:nvSpPr>
          <p:spPr>
            <a:xfrm flipV="1">
              <a:off x="5981760" y="12949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V="1">
              <a:off x="7721640" y="13201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981760" y="142848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6483600" y="1187280"/>
              <a:ext cx="10476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00"/>
                  </a:solidFill>
                  <a:latin typeface="Arial"/>
                </a:rPr>
                <a:t>Demora Permiti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9" name=""/>
          <p:cNvSpPr/>
          <p:nvPr/>
        </p:nvSpPr>
        <p:spPr>
          <a:xfrm>
            <a:off x="1486080" y="1371600"/>
            <a:ext cx="0" cy="3962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175428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20034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22525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25020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2752560" y="1628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1662120" y="533412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2657520" y="533412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1104840" y="422280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1257480" y="519444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1104840" y="32576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914400" y="2273400"/>
            <a:ext cx="5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1104840" y="470520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1104840" y="37400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914400" y="2755800"/>
            <a:ext cx="5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990720" y="1790640"/>
            <a:ext cx="43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2230560" y="470052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1467000" y="52959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1733400" y="52038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1981080" y="500688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2482920" y="44276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2730600" y="41846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1200240" y="1066680"/>
            <a:ext cx="8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379440" y="6085800"/>
            <a:ext cx="7631280" cy="489600"/>
            <a:chOff x="379440" y="6085800"/>
            <a:chExt cx="7631280" cy="489600"/>
          </a:xfrm>
        </p:grpSpPr>
        <p:sp>
          <p:nvSpPr>
            <p:cNvPr id="2923" name=""/>
            <p:cNvSpPr/>
            <p:nvPr/>
          </p:nvSpPr>
          <p:spPr>
            <a:xfrm>
              <a:off x="379440" y="6232680"/>
              <a:ext cx="102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LIM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rot="18627600">
              <a:off x="3720600" y="61624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 rot="18627600">
              <a:off x="396828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 rot="18627600">
              <a:off x="419688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 rot="18627600">
              <a:off x="447156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 rot="18627600">
              <a:off x="470016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 rot="18627600">
              <a:off x="496548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 rot="18627600">
              <a:off x="521280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rot="18627600">
              <a:off x="544140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 rot="18627600">
              <a:off x="570816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 rot="18627600">
              <a:off x="596376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 rot="18627600">
              <a:off x="621144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 rot="18627600">
              <a:off x="645912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 rot="18627600">
              <a:off x="667044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 rot="18627600">
              <a:off x="6981120" y="6176520"/>
              <a:ext cx="25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 rot="18627600">
              <a:off x="7146360" y="6210360"/>
              <a:ext cx="26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 rot="18627600">
              <a:off x="7474680" y="6176520"/>
              <a:ext cx="25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 rot="18627600">
              <a:off x="7646760" y="6189480"/>
              <a:ext cx="35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 rot="18627600">
              <a:off x="3498480" y="61624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2" name=""/>
          <p:cNvSpPr/>
          <p:nvPr/>
        </p:nvSpPr>
        <p:spPr>
          <a:xfrm>
            <a:off x="3981600" y="500688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3257640" y="2362320"/>
            <a:ext cx="4486320" cy="2962080"/>
          </a:xfrm>
          <a:custGeom>
            <a:avLst/>
            <a:gdLst/>
            <a:ahLst/>
            <a:rect l="l" t="t" r="r" b="b"/>
            <a:pathLst>
              <a:path w="2826" h="1866">
                <a:moveTo>
                  <a:pt x="0" y="1866"/>
                </a:moveTo>
                <a:lnTo>
                  <a:pt x="150" y="1800"/>
                </a:lnTo>
                <a:lnTo>
                  <a:pt x="306" y="1752"/>
                </a:lnTo>
                <a:lnTo>
                  <a:pt x="474" y="1674"/>
                </a:lnTo>
                <a:lnTo>
                  <a:pt x="618" y="1602"/>
                </a:lnTo>
                <a:lnTo>
                  <a:pt x="942" y="1230"/>
                </a:lnTo>
                <a:lnTo>
                  <a:pt x="1080" y="1068"/>
                </a:lnTo>
                <a:lnTo>
                  <a:pt x="1260" y="912"/>
                </a:lnTo>
                <a:lnTo>
                  <a:pt x="2826" y="0"/>
                </a:lnTo>
              </a:path>
            </a:pathLst>
          </a:custGeom>
          <a:noFill/>
          <a:ln w="1908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4" name=""/>
          <p:cNvGrpSpPr/>
          <p:nvPr/>
        </p:nvGrpSpPr>
        <p:grpSpPr>
          <a:xfrm>
            <a:off x="1422360" y="4775040"/>
            <a:ext cx="1838160" cy="549360"/>
            <a:chOff x="1422360" y="4775040"/>
            <a:chExt cx="1838160" cy="549360"/>
          </a:xfrm>
        </p:grpSpPr>
        <p:sp>
          <p:nvSpPr>
            <p:cNvPr id="2945" name=""/>
            <p:cNvSpPr/>
            <p:nvPr/>
          </p:nvSpPr>
          <p:spPr>
            <a:xfrm flipH="1">
              <a:off x="3257280" y="4876560"/>
              <a:ext cx="3240" cy="44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1482840" y="498780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1422360" y="4775040"/>
              <a:ext cx="180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Demora  </a:t>
              </a: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Permitid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8" name=""/>
          <p:cNvSpPr/>
          <p:nvPr/>
        </p:nvSpPr>
        <p:spPr>
          <a:xfrm rot="20051400">
            <a:off x="3660840" y="289512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S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 rot="19855200">
            <a:off x="3452760" y="3044520"/>
            <a:ext cx="118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Mas tempr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 rot="18952800">
            <a:off x="4145040" y="3965040"/>
            <a:ext cx="118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Mas tardí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 rot="18952800">
            <a:off x="4226040" y="386676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L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2727360" y="42624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2981160" y="401148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3225960" y="39132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3479760" y="3814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3724200" y="3773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3987720" y="37130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4238640" y="36640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4479840" y="36241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4734000" y="3544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4978440" y="34750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5232240" y="346248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 rot="20837400">
            <a:off x="5476680" y="33541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 rot="20837400">
            <a:off x="5740200" y="32554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1476360" y="50385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0" y="180"/>
                </a:moveTo>
                <a:lnTo>
                  <a:pt x="174" y="120"/>
                </a:lnTo>
                <a:lnTo>
                  <a:pt x="32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1495440" y="3143160"/>
            <a:ext cx="4505400" cy="2181240"/>
          </a:xfrm>
          <a:custGeom>
            <a:avLst/>
            <a:gdLst/>
            <a:ahLst/>
            <a:rect l="l" t="t" r="r" b="b"/>
            <a:pathLst>
              <a:path w="2838" h="1374">
                <a:moveTo>
                  <a:pt x="0" y="1374"/>
                </a:moveTo>
                <a:lnTo>
                  <a:pt x="165" y="1317"/>
                </a:lnTo>
                <a:lnTo>
                  <a:pt x="321" y="1200"/>
                </a:lnTo>
                <a:lnTo>
                  <a:pt x="474" y="1002"/>
                </a:lnTo>
                <a:lnTo>
                  <a:pt x="633" y="819"/>
                </a:lnTo>
                <a:lnTo>
                  <a:pt x="789" y="717"/>
                </a:lnTo>
                <a:lnTo>
                  <a:pt x="948" y="564"/>
                </a:lnTo>
                <a:lnTo>
                  <a:pt x="1098" y="498"/>
                </a:lnTo>
                <a:lnTo>
                  <a:pt x="1263" y="441"/>
                </a:lnTo>
                <a:lnTo>
                  <a:pt x="1419" y="411"/>
                </a:lnTo>
                <a:lnTo>
                  <a:pt x="1578" y="372"/>
                </a:lnTo>
                <a:lnTo>
                  <a:pt x="1734" y="342"/>
                </a:lnTo>
                <a:lnTo>
                  <a:pt x="1896" y="315"/>
                </a:lnTo>
                <a:lnTo>
                  <a:pt x="2040" y="270"/>
                </a:lnTo>
                <a:lnTo>
                  <a:pt x="2202" y="222"/>
                </a:lnTo>
                <a:lnTo>
                  <a:pt x="2367" y="216"/>
                </a:lnTo>
                <a:lnTo>
                  <a:pt x="2520" y="150"/>
                </a:lnTo>
                <a:lnTo>
                  <a:pt x="2691" y="84"/>
                </a:lnTo>
                <a:cubicBezTo>
                  <a:pt x="2734" y="69"/>
                  <a:pt x="2736" y="62"/>
                  <a:pt x="2760" y="48"/>
                </a:cubicBezTo>
                <a:cubicBezTo>
                  <a:pt x="2784" y="34"/>
                  <a:pt x="2822" y="10"/>
                  <a:pt x="2838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981600" y="50976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4235400" y="49514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4479840" y="46530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4724280" y="43736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4978440" y="41324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5232240" y="388152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5477040" y="3773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5740560" y="37130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5975280" y="3652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6219720" y="36306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6473880" y="35416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6727680" y="34624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6972480" y="34401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7216920" y="33512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7470720" y="32529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7724880" y="31068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5978520" y="31035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3247920" y="3133800"/>
            <a:ext cx="4496040" cy="2190600"/>
          </a:xfrm>
          <a:custGeom>
            <a:avLst/>
            <a:gdLst/>
            <a:ahLst/>
            <a:rect l="l" t="t" r="r" b="b"/>
            <a:pathLst>
              <a:path w="2832" h="1380">
                <a:moveTo>
                  <a:pt x="0" y="1380"/>
                </a:moveTo>
                <a:lnTo>
                  <a:pt x="156" y="1320"/>
                </a:lnTo>
                <a:lnTo>
                  <a:pt x="312" y="1278"/>
                </a:lnTo>
                <a:lnTo>
                  <a:pt x="474" y="1248"/>
                </a:lnTo>
                <a:lnTo>
                  <a:pt x="636" y="1158"/>
                </a:lnTo>
                <a:lnTo>
                  <a:pt x="786" y="978"/>
                </a:lnTo>
                <a:lnTo>
                  <a:pt x="942" y="798"/>
                </a:lnTo>
                <a:lnTo>
                  <a:pt x="1098" y="642"/>
                </a:lnTo>
                <a:lnTo>
                  <a:pt x="1260" y="504"/>
                </a:lnTo>
                <a:lnTo>
                  <a:pt x="1422" y="420"/>
                </a:lnTo>
                <a:lnTo>
                  <a:pt x="1584" y="384"/>
                </a:lnTo>
                <a:lnTo>
                  <a:pt x="1734" y="342"/>
                </a:lnTo>
                <a:lnTo>
                  <a:pt x="1890" y="330"/>
                </a:lnTo>
                <a:lnTo>
                  <a:pt x="2046" y="270"/>
                </a:lnTo>
                <a:lnTo>
                  <a:pt x="2208" y="222"/>
                </a:lnTo>
                <a:lnTo>
                  <a:pt x="2364" y="210"/>
                </a:lnTo>
                <a:lnTo>
                  <a:pt x="2520" y="150"/>
                </a:lnTo>
                <a:lnTo>
                  <a:pt x="2670" y="96"/>
                </a:lnTo>
                <a:lnTo>
                  <a:pt x="2832" y="0"/>
                </a:ln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6" dur="20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9" dur="20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4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5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6" dur="250" autoRev="1" fill="hold"/>
                                        <p:tgtEl>
                                          <p:spTgt spid="28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1" dur="1000"/>
                                        <p:tgtEl>
                                          <p:spTgt spid="2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9" dur="20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2" dur="2000"/>
                                        <p:tgtEl>
                                          <p:spTgt spid="2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7" nodeType="afterEffect" fill="hold" presetClass="emph" presetID="26" repeatCount="3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8" dur="5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9" dur="250" autoRev="1" fill="hold"/>
                                        <p:tgtEl>
                                          <p:spTgt spid="2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500"/>
                                        <p:tgtEl>
                                          <p:spTgt spid="2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500"/>
                            </p:stCondLst>
                            <p:childTnLst>
                              <p:par>
                                <p:cTn id="2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2" dur="2000"/>
                                        <p:tgtEl>
                                          <p:spTgt spid="2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7" dur="10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ACTIVIDADES DISCONTINUAS</a:t>
            </a: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137320" y="1357200"/>
            <a:ext cx="4396320" cy="1715400"/>
            <a:chOff x="2137320" y="1357200"/>
            <a:chExt cx="4396320" cy="1715400"/>
          </a:xfrm>
        </p:grpSpPr>
        <p:sp>
          <p:nvSpPr>
            <p:cNvPr id="241" name=""/>
            <p:cNvSpPr/>
            <p:nvPr/>
          </p:nvSpPr>
          <p:spPr>
            <a:xfrm>
              <a:off x="4490280" y="2145960"/>
              <a:ext cx="514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94600" y="2192400"/>
              <a:ext cx="49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0280" y="1726920"/>
              <a:ext cx="0" cy="32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4920" y="2180880"/>
              <a:ext cx="50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96560" y="1610280"/>
              <a:ext cx="325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796560" y="1610280"/>
              <a:ext cx="0" cy="57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35320" y="1726920"/>
              <a:ext cx="0" cy="36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21280" y="2052720"/>
              <a:ext cx="399240" cy="221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88520" y="2052720"/>
              <a:ext cx="399240" cy="221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17320" y="1488240"/>
              <a:ext cx="399240" cy="221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18400" y="2058480"/>
              <a:ext cx="399240" cy="2210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35320" y="2046960"/>
              <a:ext cx="399240" cy="221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32800" y="1487160"/>
              <a:ext cx="39924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12000" y="1495080"/>
              <a:ext cx="309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32800" y="2048760"/>
              <a:ext cx="39924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32800" y="2658960"/>
              <a:ext cx="39924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29920" y="1487160"/>
              <a:ext cx="38772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94360" y="1506240"/>
              <a:ext cx="309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29920" y="2060280"/>
              <a:ext cx="38772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29920" y="2658960"/>
              <a:ext cx="38772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27040" y="1487160"/>
              <a:ext cx="37656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03000" y="1482120"/>
              <a:ext cx="309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27040" y="2083680"/>
              <a:ext cx="37656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27040" y="2658960"/>
              <a:ext cx="37656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22360" y="2060280"/>
              <a:ext cx="38880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86000" y="2054520"/>
              <a:ext cx="38772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2306520" y="2302920"/>
              <a:ext cx="61920" cy="371520"/>
              <a:chOff x="2306520" y="2302920"/>
              <a:chExt cx="61920" cy="371520"/>
            </a:xfrm>
          </p:grpSpPr>
          <p:sp>
            <p:nvSpPr>
              <p:cNvPr id="268" name=""/>
              <p:cNvSpPr/>
              <p:nvPr/>
            </p:nvSpPr>
            <p:spPr>
              <a:xfrm>
                <a:off x="2306520" y="2578320"/>
                <a:ext cx="61920" cy="9612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23" y="98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70" y="0"/>
                    </a:lnTo>
                    <a:lnTo>
                      <a:pt x="23" y="9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36040" y="2302920"/>
                <a:ext cx="0" cy="27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2413080" y="2068200"/>
              <a:ext cx="30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96520" y="20574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94000" y="2664000"/>
              <a:ext cx="30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91840" y="208008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00120" y="2664000"/>
              <a:ext cx="30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96880" y="20682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2734920" y="1559880"/>
              <a:ext cx="507960" cy="44640"/>
              <a:chOff x="2734920" y="1559880"/>
              <a:chExt cx="507960" cy="44640"/>
            </a:xfrm>
          </p:grpSpPr>
          <p:sp>
            <p:nvSpPr>
              <p:cNvPr id="277" name=""/>
              <p:cNvSpPr/>
              <p:nvPr/>
            </p:nvSpPr>
            <p:spPr>
              <a:xfrm>
                <a:off x="3145680" y="1559880"/>
                <a:ext cx="97200" cy="44640"/>
              </a:xfrm>
              <a:custGeom>
                <a:avLst/>
                <a:gdLst/>
                <a:ahLst/>
                <a:rect l="l" t="t" r="r" b="b"/>
                <a:pathLst>
                  <a:path w="111" h="46">
                    <a:moveTo>
                      <a:pt x="110" y="11"/>
                    </a:moveTo>
                    <a:lnTo>
                      <a:pt x="0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34920" y="1580040"/>
                <a:ext cx="4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632040" y="1547280"/>
              <a:ext cx="507600" cy="44640"/>
              <a:chOff x="3632040" y="1547280"/>
              <a:chExt cx="507600" cy="44640"/>
            </a:xfrm>
          </p:grpSpPr>
          <p:sp>
            <p:nvSpPr>
              <p:cNvPr id="280" name=""/>
              <p:cNvSpPr/>
              <p:nvPr/>
            </p:nvSpPr>
            <p:spPr>
              <a:xfrm>
                <a:off x="4019040" y="1547280"/>
                <a:ext cx="120600" cy="4464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137" y="22"/>
                    </a:moveTo>
                    <a:lnTo>
                      <a:pt x="0" y="45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37" y="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632040" y="1580040"/>
                <a:ext cx="38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632040" y="2145960"/>
              <a:ext cx="484920" cy="56880"/>
              <a:chOff x="3632040" y="2145960"/>
              <a:chExt cx="484920" cy="56880"/>
            </a:xfrm>
          </p:grpSpPr>
          <p:sp>
            <p:nvSpPr>
              <p:cNvPr id="283" name=""/>
              <p:cNvSpPr/>
              <p:nvPr/>
            </p:nvSpPr>
            <p:spPr>
              <a:xfrm>
                <a:off x="4007520" y="2145960"/>
                <a:ext cx="109440" cy="56880"/>
              </a:xfrm>
              <a:custGeom>
                <a:avLst/>
                <a:gdLst/>
                <a:ahLst/>
                <a:rect l="l" t="t" r="r" b="b"/>
                <a:pathLst>
                  <a:path w="125" h="59">
                    <a:moveTo>
                      <a:pt x="124" y="35"/>
                    </a:moveTo>
                    <a:lnTo>
                      <a:pt x="0" y="58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24" y="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32040" y="219204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734920" y="2744280"/>
              <a:ext cx="484920" cy="56880"/>
              <a:chOff x="2734920" y="2744280"/>
              <a:chExt cx="484920" cy="56880"/>
            </a:xfrm>
          </p:grpSpPr>
          <p:sp>
            <p:nvSpPr>
              <p:cNvPr id="286" name=""/>
              <p:cNvSpPr/>
              <p:nvPr/>
            </p:nvSpPr>
            <p:spPr>
              <a:xfrm>
                <a:off x="3099240" y="2744280"/>
                <a:ext cx="120600" cy="56880"/>
              </a:xfrm>
              <a:custGeom>
                <a:avLst/>
                <a:gdLst/>
                <a:ahLst/>
                <a:rect l="l" t="t" r="r" b="b"/>
                <a:pathLst>
                  <a:path w="138" h="59">
                    <a:moveTo>
                      <a:pt x="137" y="11"/>
                    </a:moveTo>
                    <a:lnTo>
                      <a:pt x="0" y="5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37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34920" y="2764440"/>
                <a:ext cx="36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643200" y="2744280"/>
              <a:ext cx="473400" cy="69840"/>
              <a:chOff x="3643200" y="2744280"/>
              <a:chExt cx="473400" cy="69840"/>
            </a:xfrm>
          </p:grpSpPr>
          <p:sp>
            <p:nvSpPr>
              <p:cNvPr id="289" name=""/>
              <p:cNvSpPr/>
              <p:nvPr/>
            </p:nvSpPr>
            <p:spPr>
              <a:xfrm>
                <a:off x="4007160" y="2744280"/>
                <a:ext cx="109440" cy="69840"/>
              </a:xfrm>
              <a:custGeom>
                <a:avLst/>
                <a:gdLst/>
                <a:ahLst/>
                <a:rect l="l" t="t" r="r" b="b"/>
                <a:pathLst>
                  <a:path w="125" h="72">
                    <a:moveTo>
                      <a:pt x="124" y="36"/>
                    </a:moveTo>
                    <a:lnTo>
                      <a:pt x="0" y="71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24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643200" y="2790720"/>
                <a:ext cx="36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933640" y="1576440"/>
              <a:ext cx="0" cy="55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918880" y="2108160"/>
              <a:ext cx="312120" cy="55800"/>
              <a:chOff x="2918880" y="2108160"/>
              <a:chExt cx="312120" cy="55800"/>
            </a:xfrm>
          </p:grpSpPr>
          <p:sp>
            <p:nvSpPr>
              <p:cNvPr id="293" name=""/>
              <p:cNvSpPr/>
              <p:nvPr/>
            </p:nvSpPr>
            <p:spPr>
              <a:xfrm>
                <a:off x="3110400" y="2108160"/>
                <a:ext cx="120600" cy="55800"/>
              </a:xfrm>
              <a:custGeom>
                <a:avLst/>
                <a:gdLst/>
                <a:ahLst/>
                <a:rect l="l" t="t" r="r" b="b"/>
                <a:pathLst>
                  <a:path w="138" h="58">
                    <a:moveTo>
                      <a:pt x="137" y="11"/>
                    </a:moveTo>
                    <a:lnTo>
                      <a:pt x="0" y="5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37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918880" y="2128320"/>
                <a:ext cx="19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918880" y="2222640"/>
              <a:ext cx="312120" cy="56880"/>
              <a:chOff x="2918880" y="2222640"/>
              <a:chExt cx="312120" cy="56880"/>
            </a:xfrm>
          </p:grpSpPr>
          <p:sp>
            <p:nvSpPr>
              <p:cNvPr id="296" name=""/>
              <p:cNvSpPr/>
              <p:nvPr/>
            </p:nvSpPr>
            <p:spPr>
              <a:xfrm>
                <a:off x="3110400" y="2222640"/>
                <a:ext cx="120600" cy="56880"/>
              </a:xfrm>
              <a:custGeom>
                <a:avLst/>
                <a:gdLst/>
                <a:ahLst/>
                <a:rect l="l" t="t" r="r" b="b"/>
                <a:pathLst>
                  <a:path w="138" h="59">
                    <a:moveTo>
                      <a:pt x="137" y="34"/>
                    </a:moveTo>
                    <a:lnTo>
                      <a:pt x="0" y="58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37" y="3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918880" y="2268000"/>
                <a:ext cx="19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V="1">
              <a:off x="2922480" y="2243520"/>
              <a:ext cx="0" cy="52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97640" y="1602720"/>
              <a:ext cx="0" cy="5821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75680" y="1614240"/>
              <a:ext cx="36432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33160" y="2290680"/>
              <a:ext cx="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29920" y="2523240"/>
              <a:ext cx="3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594240" y="2519280"/>
              <a:ext cx="50760" cy="141120"/>
              <a:chOff x="3594240" y="2519280"/>
              <a:chExt cx="50760" cy="141120"/>
            </a:xfrm>
          </p:grpSpPr>
          <p:sp>
            <p:nvSpPr>
              <p:cNvPr id="304" name=""/>
              <p:cNvSpPr/>
              <p:nvPr/>
            </p:nvSpPr>
            <p:spPr>
              <a:xfrm>
                <a:off x="3594240" y="2565720"/>
                <a:ext cx="50760" cy="94680"/>
              </a:xfrm>
              <a:custGeom>
                <a:avLst/>
                <a:gdLst/>
                <a:ahLst/>
                <a:rect l="l" t="t" r="r" b="b"/>
                <a:pathLst>
                  <a:path w="58" h="98">
                    <a:moveTo>
                      <a:pt x="23" y="97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57" y="0"/>
                    </a:lnTo>
                    <a:lnTo>
                      <a:pt x="23" y="9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623760" y="2519280"/>
                <a:ext cx="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088160" y="2290680"/>
              <a:ext cx="63000" cy="370440"/>
              <a:chOff x="4088160" y="2290680"/>
              <a:chExt cx="63000" cy="370440"/>
            </a:xfrm>
          </p:grpSpPr>
          <p:sp>
            <p:nvSpPr>
              <p:cNvPr id="307" name=""/>
              <p:cNvSpPr/>
              <p:nvPr/>
            </p:nvSpPr>
            <p:spPr>
              <a:xfrm>
                <a:off x="4088160" y="2566080"/>
                <a:ext cx="63000" cy="95040"/>
              </a:xfrm>
              <a:custGeom>
                <a:avLst/>
                <a:gdLst/>
                <a:ahLst/>
                <a:rect l="l" t="t" r="r" b="b"/>
                <a:pathLst>
                  <a:path w="72" h="98">
                    <a:moveTo>
                      <a:pt x="36" y="97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71" y="0"/>
                    </a:lnTo>
                    <a:lnTo>
                      <a:pt x="36" y="9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29920" y="2290680"/>
                <a:ext cx="0" cy="27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4498560" y="2205000"/>
              <a:ext cx="207360" cy="560520"/>
            </a:xfrm>
            <a:custGeom>
              <a:avLst/>
              <a:gdLst/>
              <a:ahLst/>
              <a:rect l="l" t="t" r="r" b="b"/>
              <a:pathLst>
                <a:path w="237" h="578">
                  <a:moveTo>
                    <a:pt x="0" y="577"/>
                  </a:moveTo>
                  <a:lnTo>
                    <a:pt x="236" y="577"/>
                  </a:lnTo>
                  <a:lnTo>
                    <a:pt x="2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4701600" y="2184840"/>
              <a:ext cx="323640" cy="56160"/>
              <a:chOff x="4701600" y="2184840"/>
              <a:chExt cx="323640" cy="56160"/>
            </a:xfrm>
          </p:grpSpPr>
          <p:sp>
            <p:nvSpPr>
              <p:cNvPr id="311" name=""/>
              <p:cNvSpPr/>
              <p:nvPr/>
            </p:nvSpPr>
            <p:spPr>
              <a:xfrm>
                <a:off x="4915800" y="2184840"/>
                <a:ext cx="109440" cy="56160"/>
              </a:xfrm>
              <a:custGeom>
                <a:avLst/>
                <a:gdLst/>
                <a:ahLst/>
                <a:rect l="l" t="t" r="r" b="b"/>
                <a:pathLst>
                  <a:path w="125" h="58">
                    <a:moveTo>
                      <a:pt x="124" y="11"/>
                    </a:moveTo>
                    <a:lnTo>
                      <a:pt x="0" y="5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24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01600" y="2205000"/>
                <a:ext cx="21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5967000" y="20574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44400" y="1676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4440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40800" y="2862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26760" y="2862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2676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26760" y="16869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34680" y="1676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4476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45840" y="2859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2856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0336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33200" y="26424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4467960" y="1778040"/>
              <a:ext cx="239400" cy="210600"/>
              <a:chOff x="4467960" y="1778040"/>
              <a:chExt cx="239400" cy="210600"/>
            </a:xfrm>
          </p:grpSpPr>
          <p:sp>
            <p:nvSpPr>
              <p:cNvPr id="327" name=""/>
              <p:cNvSpPr/>
              <p:nvPr/>
            </p:nvSpPr>
            <p:spPr>
              <a:xfrm>
                <a:off x="4467960" y="1778040"/>
                <a:ext cx="2394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Geneva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05400" y="1806120"/>
                <a:ext cx="111960" cy="111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3781800" y="2658960"/>
              <a:ext cx="100440" cy="12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8664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1044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4992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8848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5820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7552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196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9352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5208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8056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3912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6940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6936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65080" y="13572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5856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8488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3300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48520" y="25416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1536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5500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1068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2764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3628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0816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6184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2040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7444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6148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8344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6468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824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0600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7048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5644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9304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6760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7116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2472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5500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3732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65800" y="2252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74760" y="2252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8812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69000" y="1651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11280" y="2639520"/>
              <a:ext cx="30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7400" y="1475280"/>
              <a:ext cx="0" cy="2397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498560" y="2076840"/>
              <a:ext cx="0" cy="24264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603600" y="2188800"/>
              <a:ext cx="201960" cy="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30280" y="1724760"/>
              <a:ext cx="0" cy="313200"/>
            </a:xfrm>
            <a:prstGeom prst="line">
              <a:avLst/>
            </a:prstGeom>
            <a:ln w="38160">
              <a:solidFill>
                <a:srgbClr val="cf0e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17640" y="2154600"/>
              <a:ext cx="503280" cy="0"/>
            </a:xfrm>
            <a:prstGeom prst="line">
              <a:avLst/>
            </a:prstGeom>
            <a:ln w="28440">
              <a:solidFill>
                <a:srgbClr val="cf0e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87760" y="1719000"/>
              <a:ext cx="10440" cy="359640"/>
            </a:xfrm>
            <a:prstGeom prst="line">
              <a:avLst/>
            </a:prstGeom>
            <a:ln w="38160">
              <a:solidFill>
                <a:srgbClr val="cf0e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2314080" y="1778040"/>
              <a:ext cx="239400" cy="210600"/>
              <a:chOff x="2314080" y="1778040"/>
              <a:chExt cx="239400" cy="21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2314080" y="1778040"/>
                <a:ext cx="2394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Geneva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350080" y="1806120"/>
                <a:ext cx="111960" cy="111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5418360" y="2199240"/>
              <a:ext cx="464040" cy="0"/>
            </a:xfrm>
            <a:prstGeom prst="line">
              <a:avLst/>
            </a:prstGeom>
            <a:ln w="38160">
              <a:solidFill>
                <a:srgbClr val="cf0e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40320" y="2180880"/>
              <a:ext cx="504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31000" y="203832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28800" y="204228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31360" y="205740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29160" y="204984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27040" y="147168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93160" y="1475280"/>
              <a:ext cx="0" cy="2397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22360" y="204984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04320" y="205380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86000" y="205164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73360" y="204984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25720" y="1570680"/>
              <a:ext cx="32400" cy="27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03040" y="2741400"/>
              <a:ext cx="32040" cy="28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78920" y="2166120"/>
              <a:ext cx="32400" cy="28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211480" y="3402000"/>
            <a:ext cx="4243680" cy="2717280"/>
            <a:chOff x="2211480" y="3402000"/>
            <a:chExt cx="4243680" cy="2717280"/>
          </a:xfrm>
        </p:grpSpPr>
        <p:sp>
          <p:nvSpPr>
            <p:cNvPr id="400" name=""/>
            <p:cNvSpPr/>
            <p:nvPr/>
          </p:nvSpPr>
          <p:spPr>
            <a:xfrm>
              <a:off x="2225520" y="3606120"/>
              <a:ext cx="415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25520" y="3402000"/>
              <a:ext cx="378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93800" y="3768840"/>
              <a:ext cx="34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2552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25520" y="3940560"/>
              <a:ext cx="415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21560" y="417636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21560" y="436716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21560" y="473832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11480" y="4558680"/>
              <a:ext cx="416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221560" y="491832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21560" y="510912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21560" y="528948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21560" y="549288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7072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6548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1632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0336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05320" y="3624840"/>
              <a:ext cx="0" cy="244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35200" y="3624840"/>
              <a:ext cx="0" cy="24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87120" y="361368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629960" y="3658680"/>
              <a:ext cx="20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1280" y="361368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2320" y="3420720"/>
              <a:ext cx="7131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ACTIV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88000" y="3420720"/>
              <a:ext cx="1092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PREVISTA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22360" y="3420720"/>
              <a:ext cx="964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LIMIT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05520" y="3420720"/>
              <a:ext cx="9435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LOTAMIENTO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37040" y="3682800"/>
              <a:ext cx="399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88400" y="3611520"/>
              <a:ext cx="39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DU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16440" y="36115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85160" y="361152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87800" y="36241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58680" y="362412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96160" y="36115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1000" y="3611520"/>
              <a:ext cx="478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.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86040" y="3593520"/>
              <a:ext cx="0" cy="24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24400" y="3779280"/>
              <a:ext cx="338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09680" y="37929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55440" y="37929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12720" y="37929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12400" y="380232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14600" y="3792960"/>
              <a:ext cx="2682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58120" y="3792960"/>
              <a:ext cx="281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70600" y="3611520"/>
              <a:ext cx="410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riti-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16320" y="3765600"/>
              <a:ext cx="438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00760" y="398232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00760" y="419832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00760" y="43776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00040" y="45705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00040" y="47613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00040" y="49406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00040" y="51195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03640" y="532296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03640" y="550224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03640" y="571608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03640" y="589752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33440" y="5683320"/>
              <a:ext cx="416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33440" y="5887080"/>
              <a:ext cx="416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37040" y="6071400"/>
              <a:ext cx="415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70432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0432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04320" y="4377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04320" y="457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0432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04320" y="4940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04320" y="5119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04320" y="53103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04320" y="5502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04320" y="5716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04320" y="5897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4244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9036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6060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86840" y="3982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23960" y="39949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68260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4244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9036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92920" y="4198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86840" y="4198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2396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8260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42440" y="4377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33840" y="43776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2920" y="43776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86840" y="43776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23960" y="4389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82600" y="4389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42440" y="457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90360" y="457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60600" y="457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86840" y="457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23960" y="4581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82600" y="4581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4244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9036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92920" y="4760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86840" y="4760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2396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8260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42440" y="4940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90360" y="4940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92920" y="4940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86840" y="4940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01640" y="4940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72520" y="4940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42440" y="5119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3384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9292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8684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20164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7252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42440" y="53103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90360" y="53103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92920" y="53103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686840" y="53103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23960" y="53229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82600" y="53229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42440" y="5502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92920" y="5502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33840" y="5502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6840" y="5502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01640" y="5502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82600" y="5512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88440" y="5716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92920" y="5716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633840" y="5716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86840" y="5716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223960" y="5728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82600" y="5728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88440" y="5897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33840" y="5897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92920" y="5897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86840" y="5897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23960" y="5908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82600" y="5908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37920" y="39823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37920" y="41983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37920" y="43650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37920" y="45684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37920" y="47613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81040" y="493848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81040" y="513108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37920" y="53103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37920" y="550224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37920" y="57168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39720" y="58975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RONOGRAMA</a:t>
            </a:r>
            <a:br>
              <a:rPr sz="2800"/>
            </a:b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discontinuo)</a:t>
            </a:r>
            <a:br>
              <a:rPr sz="2000"/>
            </a:b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106640" y="2011320"/>
            <a:ext cx="6933960" cy="4099320"/>
            <a:chOff x="1106640" y="2011320"/>
            <a:chExt cx="6933960" cy="4099320"/>
          </a:xfrm>
        </p:grpSpPr>
        <p:sp>
          <p:nvSpPr>
            <p:cNvPr id="548" name=""/>
            <p:cNvSpPr/>
            <p:nvPr/>
          </p:nvSpPr>
          <p:spPr>
            <a:xfrm>
              <a:off x="1130400" y="2320920"/>
              <a:ext cx="688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30400" y="2011320"/>
              <a:ext cx="627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39880" y="2567160"/>
              <a:ext cx="564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3040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30400" y="2827440"/>
              <a:ext cx="688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23920" y="318456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23920" y="347328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23920" y="403560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106640" y="3763800"/>
              <a:ext cx="689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23920" y="430848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23920" y="459756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23920" y="487044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23920" y="517860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36376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7672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1660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8504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58960" y="2349360"/>
              <a:ext cx="0" cy="370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98680" y="2349360"/>
              <a:ext cx="0" cy="36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40360" y="2332080"/>
              <a:ext cx="0" cy="372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51240" y="2400480"/>
              <a:ext cx="227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653160" y="2332080"/>
              <a:ext cx="0" cy="372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08880" y="2038320"/>
              <a:ext cx="1109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ACTIVID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95800" y="2038320"/>
              <a:ext cx="177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FECHAS PREVIST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73200" y="2038320"/>
              <a:ext cx="1548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FECHAS LIMI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900400" y="2038320"/>
              <a:ext cx="1512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FLOTAMIENT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51280" y="2436840"/>
              <a:ext cx="562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C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30520" y="2328840"/>
              <a:ext cx="553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D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35760" y="2328840"/>
              <a:ext cx="751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17680" y="2328840"/>
              <a:ext cx="987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12360" y="2346480"/>
              <a:ext cx="751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993920" y="2346480"/>
              <a:ext cx="987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80600" y="2328840"/>
              <a:ext cx="751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71880" y="2328840"/>
              <a:ext cx="699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TERM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18640" y="2301840"/>
              <a:ext cx="0" cy="369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93160" y="2583000"/>
              <a:ext cx="455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596320" y="260028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97040" y="260028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E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21160" y="260028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50600" y="261792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L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77520" y="2600280"/>
              <a:ext cx="333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F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13720" y="2600280"/>
              <a:ext cx="356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F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31400" y="2328840"/>
              <a:ext cx="5806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Criti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403040" y="2563920"/>
              <a:ext cx="63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cid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252800" y="2890800"/>
              <a:ext cx="39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252800" y="3216240"/>
              <a:ext cx="39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52800" y="3489480"/>
              <a:ext cx="39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52080" y="3778200"/>
              <a:ext cx="39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52080" y="4068720"/>
              <a:ext cx="39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52080" y="4340160"/>
              <a:ext cx="39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52080" y="4611600"/>
              <a:ext cx="39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58200" y="4921200"/>
              <a:ext cx="396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58200" y="5192640"/>
              <a:ext cx="396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258200" y="5518080"/>
              <a:ext cx="396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58200" y="5791320"/>
              <a:ext cx="396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43000" y="5467320"/>
              <a:ext cx="689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43000" y="5775480"/>
              <a:ext cx="689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49480" y="6054840"/>
              <a:ext cx="688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3932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3932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39320" y="34894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39320" y="3778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3932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39320" y="4340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39320" y="46116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39320" y="49021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39320" y="51926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39320" y="55180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39320" y="57913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6472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57120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1440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01640" y="28908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09920" y="29084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7024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472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7120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85520" y="32162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201640" y="32162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0992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7024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4720" y="34894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61760" y="34894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385520" y="34894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01640" y="34894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09920" y="35067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870240" y="35067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64720" y="3778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71200" y="3778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14400" y="3778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01640" y="37782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09920" y="37972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70240" y="37972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66472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7120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85520" y="40687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01640" y="40687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0992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7024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664720" y="4340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71200" y="4340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85520" y="434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1640" y="434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57360" y="434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36760" y="434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4720" y="46116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46176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38552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20164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5736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3676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64720" y="49021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71200" y="49021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85520" y="49021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201640" y="49021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09920" y="4921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70240" y="4921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64720" y="51926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85520" y="51926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61760" y="51926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01640" y="51926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57360" y="51926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870240" y="52102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55280" y="55180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85520" y="55180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61760" y="55180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201640" y="55180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109920" y="5537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70240" y="5537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55280" y="57913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461760" y="57913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385520" y="57913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201640" y="57913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109920" y="58086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70240" y="58086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40480" y="289080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/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40480" y="321624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40480" y="347040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40480" y="377820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40480" y="406872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/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343640" y="4340160"/>
              <a:ext cx="554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/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343640" y="4630680"/>
              <a:ext cx="554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40480" y="490212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440480" y="519264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40480" y="551808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440480" y="579132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DIAGRAMA DE BARR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32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evist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97320" y="3765600"/>
            <a:ext cx="479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397320" y="3973680"/>
            <a:ext cx="479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22520" y="420048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422520" y="441000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422520" y="463248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22520" y="484020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422520" y="505152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422520" y="525924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22520" y="548172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422520" y="570384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422520" y="591336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422520" y="612144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397320" y="6326280"/>
            <a:ext cx="479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422520" y="3745080"/>
            <a:ext cx="0" cy="25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819600" y="3757680"/>
            <a:ext cx="0" cy="25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022640" y="3744720"/>
            <a:ext cx="0" cy="258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18608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5054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6656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8243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98312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15628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3150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4738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56340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7927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59529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11172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27228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64310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65912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67500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69087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70689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722952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738828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75596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77184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78786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80391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462840" y="3789360"/>
            <a:ext cx="367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16720" y="3789360"/>
            <a:ext cx="275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528000" y="4024440"/>
            <a:ext cx="30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28000" y="4245120"/>
            <a:ext cx="30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28000" y="4441680"/>
            <a:ext cx="30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527280" y="4664160"/>
            <a:ext cx="30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27280" y="4871880"/>
            <a:ext cx="30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527280" y="5081760"/>
            <a:ext cx="30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527280" y="5303880"/>
            <a:ext cx="30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31240" y="551196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31240" y="573552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531240" y="594360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31240" y="615312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37960" y="402444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43466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37960" y="466416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37960" y="488628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37960" y="423216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37960" y="551196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37960" y="509436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837960" y="445464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837960" y="573552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37960" y="530388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37960" y="595800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837960" y="616572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8205840" y="3730680"/>
            <a:ext cx="0" cy="25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024440" y="4070520"/>
            <a:ext cx="326880" cy="60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41960" y="4300560"/>
            <a:ext cx="650880" cy="4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11800" y="4510080"/>
            <a:ext cx="976320" cy="61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183200" y="4732200"/>
            <a:ext cx="804600" cy="47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183200" y="4927680"/>
            <a:ext cx="474480" cy="5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27600" y="5137200"/>
            <a:ext cx="155520" cy="49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11800" y="5359320"/>
            <a:ext cx="633240" cy="49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79880" y="5568840"/>
            <a:ext cx="327240" cy="47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950080" y="5791320"/>
            <a:ext cx="461880" cy="47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42200" y="5999040"/>
            <a:ext cx="315720" cy="49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767640" y="6183360"/>
            <a:ext cx="144360" cy="601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72680" y="3781440"/>
            <a:ext cx="4148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1   2    3   4   5    6    7   8    9   10  11 12  13  14 15 16  17 18  19  20  21 22  23  24  25 2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763560" y="906480"/>
            <a:ext cx="4244040" cy="2717280"/>
            <a:chOff x="763560" y="906480"/>
            <a:chExt cx="4244040" cy="2717280"/>
          </a:xfrm>
        </p:grpSpPr>
        <p:sp>
          <p:nvSpPr>
            <p:cNvPr id="775" name=""/>
            <p:cNvSpPr/>
            <p:nvPr/>
          </p:nvSpPr>
          <p:spPr>
            <a:xfrm>
              <a:off x="777600" y="111060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77600" y="906480"/>
              <a:ext cx="378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145880" y="1273320"/>
              <a:ext cx="341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7760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77600" y="144504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73640" y="168084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3640" y="187164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3640" y="224280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3560" y="206316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3640" y="242280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3640" y="261360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3640" y="279396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3640" y="299736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52280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792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6876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5580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57400" y="1129320"/>
              <a:ext cx="0" cy="244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87640" y="1129320"/>
              <a:ext cx="0" cy="24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39560" y="111816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182400" y="1163160"/>
              <a:ext cx="20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13720" y="111816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4400" y="925200"/>
              <a:ext cx="7131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ACTIV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540080" y="925200"/>
              <a:ext cx="1092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PREVISTA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74800" y="925200"/>
              <a:ext cx="964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LIMIT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57600" y="925200"/>
              <a:ext cx="9435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LOTAMIENTO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89120" y="1187280"/>
              <a:ext cx="399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140480" y="1116000"/>
              <a:ext cx="39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DU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568520" y="111600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037600" y="111600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0240" y="112860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111120" y="112860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48600" y="111600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23440" y="1116000"/>
              <a:ext cx="478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.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38480" y="1098000"/>
              <a:ext cx="0" cy="24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76480" y="1283760"/>
              <a:ext cx="338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661760" y="129744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207520" y="129744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765160" y="129744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264480" y="130680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767040" y="1297440"/>
              <a:ext cx="2682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210560" y="1297440"/>
              <a:ext cx="281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523040" y="1116000"/>
              <a:ext cx="410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riti-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568760" y="1270080"/>
              <a:ext cx="438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52840" y="14868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52840" y="17028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52840" y="188208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52120" y="20750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52120" y="22658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52120" y="244512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52120" y="26240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55720" y="282744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55720" y="300672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55720" y="322056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55720" y="340200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85520" y="318780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85520" y="339156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9120" y="357588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25640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5640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56400" y="1882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56400" y="207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5640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56400" y="2445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56400" y="2624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56400" y="281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56400" y="30067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56400" y="322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256400" y="3402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69452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24244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81268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239280" y="14868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76400" y="14994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3504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69452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24244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45360" y="17028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239280" y="17028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77640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23504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694520" y="1882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186280" y="1882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45360" y="1882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239280" y="1882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76400" y="1893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235040" y="1893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694520" y="207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242440" y="207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12680" y="207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39280" y="207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76400" y="20854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35040" y="20854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9452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24244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45360" y="22647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39280" y="22647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7640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3504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94520" y="2445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42440" y="2445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745360" y="2445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39280" y="2445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754080" y="2445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224960" y="2445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694520" y="2624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18628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74536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3928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5408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2496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694520" y="281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42440" y="281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45360" y="281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39280" y="281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76400" y="28274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235040" y="28274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94520" y="30067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745360" y="30067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186280" y="30067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39280" y="30067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54080" y="30067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35040" y="3017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640520" y="322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745360" y="322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186280" y="322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239280" y="322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76400" y="3233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35040" y="3233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40520" y="34020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86280" y="34020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745360" y="34020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39280" y="34020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776400" y="3413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235040" y="3413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590360" y="14868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590360" y="17028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590360" y="18694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590360" y="20728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590360" y="226584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33480" y="244296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533480" y="263556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90360" y="281484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90360" y="30067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90360" y="32212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92160" y="34020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32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evistas</a:t>
            </a:r>
            <a:br>
              <a:rPr sz="20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discontinu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11360" y="212580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11360" y="244008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50960" y="278136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50960" y="30956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50960" y="34304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50960" y="374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50960" y="40608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50960" y="437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50960" y="47102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50960" y="504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50960" y="535932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50960" y="567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11360" y="598176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750960" y="209340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387440" y="21128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1714680" y="2093760"/>
            <a:ext cx="0" cy="38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19782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24890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27446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30002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32558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5323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787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4043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2991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4554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4811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5067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5322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55785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58341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6089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6345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6600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68580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71136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73882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76438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7900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8156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16120" y="216072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372680" y="216072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9440" y="25146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9440" y="28479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9440" y="31431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914040" y="347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914040" y="37926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914040" y="410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914040" y="44416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915480" y="47563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915480" y="50911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915480" y="540540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15480" y="5721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23440" y="2514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22334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423440" y="3478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423440" y="3813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423440" y="2828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423440" y="4756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423440" y="4127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423440" y="3164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423440" y="5091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23440" y="4441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23440" y="5425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423440" y="5740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8424720" y="2072880"/>
            <a:ext cx="0" cy="387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716120" y="2584440"/>
            <a:ext cx="52560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227320" y="2930400"/>
            <a:ext cx="1042920" cy="7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781440" y="3247920"/>
            <a:ext cx="1568520" cy="9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971720" y="3581280"/>
            <a:ext cx="129204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71720" y="3876840"/>
            <a:ext cx="760320" cy="8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38480" y="4176720"/>
            <a:ext cx="117360" cy="87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781440" y="4525920"/>
            <a:ext cx="101772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249720" y="4840200"/>
            <a:ext cx="52524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819680" y="5160960"/>
            <a:ext cx="74124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557680" y="5448240"/>
            <a:ext cx="559080" cy="100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099120" y="5765760"/>
            <a:ext cx="249120" cy="92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754640" y="214956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2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728800" y="4165560"/>
            <a:ext cx="50796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706840" y="4164120"/>
            <a:ext cx="155520" cy="1062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800520" y="5162400"/>
            <a:ext cx="96840" cy="92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772080" y="5143680"/>
            <a:ext cx="1790640" cy="9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7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32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ími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763560" y="1020600"/>
            <a:ext cx="4244040" cy="2717640"/>
            <a:chOff x="763560" y="1020600"/>
            <a:chExt cx="4244040" cy="2717640"/>
          </a:xfrm>
        </p:grpSpPr>
        <p:sp>
          <p:nvSpPr>
            <p:cNvPr id="1007" name=""/>
            <p:cNvSpPr/>
            <p:nvPr/>
          </p:nvSpPr>
          <p:spPr>
            <a:xfrm>
              <a:off x="777600" y="122472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77600" y="1020600"/>
              <a:ext cx="378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145880" y="1387440"/>
              <a:ext cx="341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7760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77600" y="155916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3640" y="179496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73640" y="198576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3640" y="235692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63560" y="217764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73640" y="253728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73640" y="272808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73640" y="290808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73640" y="311184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52280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1792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66876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55580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57400" y="1243800"/>
              <a:ext cx="0" cy="24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087640" y="1243800"/>
              <a:ext cx="0" cy="243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139560" y="123228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182400" y="1277280"/>
              <a:ext cx="20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113720" y="123228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24400" y="1039320"/>
              <a:ext cx="7131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ACTIV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540080" y="1039320"/>
              <a:ext cx="1092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PREVISTA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74800" y="1039320"/>
              <a:ext cx="964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LIMIT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57600" y="1039320"/>
              <a:ext cx="9435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LOTAMIENTO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89120" y="1301400"/>
              <a:ext cx="399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40480" y="1230120"/>
              <a:ext cx="39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DU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568520" y="12301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037600" y="123012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40240" y="12427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111120" y="124272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648600" y="12301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123440" y="1230120"/>
              <a:ext cx="478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.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938480" y="1212120"/>
              <a:ext cx="0" cy="24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176480" y="1397880"/>
              <a:ext cx="338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61760" y="14115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207520" y="14115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65160" y="14115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4480" y="142092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767040" y="1411560"/>
              <a:ext cx="2682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210560" y="1411560"/>
              <a:ext cx="281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523040" y="1230120"/>
              <a:ext cx="410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riti-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68760" y="1384200"/>
              <a:ext cx="438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52840" y="160128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52840" y="181728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52840" y="199656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2120" y="21891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2120" y="23799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52120" y="25592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52120" y="273852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55720" y="294192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55720" y="312084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5720" y="333504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5720" y="351612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85520" y="330228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85520" y="350568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89120" y="369036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25640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25640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256400" y="1996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256400" y="2189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5640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56400" y="2559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256400" y="2738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56400" y="2929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256400" y="3120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256400" y="333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256400" y="3516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69452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24244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1268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239280" y="1601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776400" y="1613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23504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69452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24244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45360" y="1817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39280" y="1817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7640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23504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694520" y="1996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186280" y="1996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745360" y="1996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39280" y="1996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776400" y="20077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235040" y="20077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694520" y="2189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2440" y="2189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812680" y="2189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39280" y="21891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776400" y="2199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235040" y="2199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69452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24244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745360" y="23788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39280" y="23788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77640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23504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694520" y="2559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242440" y="2559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45360" y="2559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239280" y="2559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54080" y="2559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24960" y="2559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694520" y="2738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8628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74536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3928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5408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2496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694520" y="2929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242440" y="2929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45360" y="2929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239280" y="2929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76400" y="29419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235040" y="29419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694520" y="3120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745360" y="3120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186280" y="3120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239280" y="3120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54080" y="3120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235040" y="313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640520" y="333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745360" y="333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186280" y="333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39280" y="333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6400" y="3347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235040" y="3347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640520" y="3516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86280" y="3516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5360" y="3516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39280" y="3516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76400" y="3527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235040" y="3527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90360" y="16012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590360" y="18172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590360" y="19839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590360" y="21870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90360" y="23799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533480" y="255708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533480" y="275004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590360" y="29293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590360" y="312084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90360" y="33357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592160" y="35161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4054320" y="393552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054320" y="414036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078440" y="436104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078440" y="456552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78440" y="478296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078440" y="498636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078440" y="519264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078440" y="539604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78440" y="561348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078440" y="582948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078440" y="603396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078440" y="623880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054320" y="643896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078440" y="3914640"/>
            <a:ext cx="0" cy="25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4459320" y="3927600"/>
            <a:ext cx="0" cy="246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4654440" y="3914280"/>
            <a:ext cx="0" cy="25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481176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1181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527040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54230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557676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58942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60469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62006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63532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650700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6596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68119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696420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71182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72709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742320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75772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72956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78836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80470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820116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83534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85075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18040" y="3957480"/>
            <a:ext cx="390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454280" y="3957480"/>
            <a:ext cx="286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180320" y="4189320"/>
            <a:ext cx="320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80320" y="4405320"/>
            <a:ext cx="320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180320" y="4597560"/>
            <a:ext cx="320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179600" y="4815000"/>
            <a:ext cx="3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179600" y="5019840"/>
            <a:ext cx="3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79600" y="5221440"/>
            <a:ext cx="3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179600" y="5440320"/>
            <a:ext cx="3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183920" y="5643720"/>
            <a:ext cx="31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83920" y="5861160"/>
            <a:ext cx="31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183920" y="6066000"/>
            <a:ext cx="31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183920" y="6269040"/>
            <a:ext cx="31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70840" y="418932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9640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70840" y="481500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70840" y="503244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470840" y="439416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470840" y="564372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70840" y="523548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70840" y="461016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470840" y="586116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70840" y="544032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470840" y="607860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470840" y="628344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8667720" y="3902040"/>
            <a:ext cx="0" cy="25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597920" y="3951360"/>
            <a:ext cx="4218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1   2   3   4  5   6   7   8   9  10 11 12 1314 15 16 17 1819  20 21 22 23 24 25 2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738760" y="4235400"/>
            <a:ext cx="314280" cy="58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356520" y="4459320"/>
            <a:ext cx="623880" cy="4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962760" y="4665600"/>
            <a:ext cx="938160" cy="6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905440" y="4865760"/>
            <a:ext cx="773280" cy="47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199200" y="5070600"/>
            <a:ext cx="453960" cy="5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970680" y="5273640"/>
            <a:ext cx="150840" cy="47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649920" y="5702400"/>
            <a:ext cx="314280" cy="4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424640" y="5913360"/>
            <a:ext cx="444600" cy="5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037360" y="6116760"/>
            <a:ext cx="303480" cy="5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32920" y="6296040"/>
            <a:ext cx="155520" cy="5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432560" y="5497560"/>
            <a:ext cx="608040" cy="47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5738760" y="393228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3200"/>
            </a:b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LÍmites</a:t>
            </a:r>
            <a:br>
              <a:rPr sz="20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711360" y="212580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1360" y="244008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50960" y="278136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50960" y="30956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50960" y="34304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50960" y="374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50960" y="40608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50960" y="437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50960" y="47102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50960" y="504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50960" y="535932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50960" y="567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11360" y="598176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750960" y="209340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1387440" y="21128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714680" y="2093760"/>
            <a:ext cx="0" cy="38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19782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24890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27446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30002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32558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3787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4043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42991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4554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4811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5067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5322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55785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58341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089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6345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6600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68580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71136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73882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76438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7900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8156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16120" y="216072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372680" y="216072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919440" y="25146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919440" y="28479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9440" y="31431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14040" y="347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914040" y="37926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914040" y="410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914040" y="44416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915480" y="47563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915480" y="50911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15480" y="540540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915480" y="5721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423440" y="2514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22334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423440" y="3478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423440" y="3813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423440" y="2828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423440" y="4756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423440" y="4127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423440" y="3164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423440" y="5091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423440" y="4441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423440" y="5425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23440" y="5740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8424720" y="2072880"/>
            <a:ext cx="0" cy="387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754640" y="214956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2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527280" y="2570040"/>
            <a:ext cx="430200" cy="12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537080" y="2932200"/>
            <a:ext cx="1042920" cy="74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584680" y="3249720"/>
            <a:ext cx="1568520" cy="9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774960" y="3559320"/>
            <a:ext cx="1292400" cy="72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295880" y="3873600"/>
            <a:ext cx="760320" cy="8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332320" y="4187880"/>
            <a:ext cx="25092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056200" y="4846680"/>
            <a:ext cx="52560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350040" y="5153040"/>
            <a:ext cx="608040" cy="120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416720" y="5486400"/>
            <a:ext cx="506520" cy="82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896240" y="5762520"/>
            <a:ext cx="258840" cy="856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346800" y="4519440"/>
            <a:ext cx="101772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3529080" y="211932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560760" y="2570040"/>
            <a:ext cx="99216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342120" y="5148360"/>
            <a:ext cx="1041480" cy="12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435560" y="2576520"/>
            <a:ext cx="118800" cy="1224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273800" y="5159520"/>
            <a:ext cx="106560" cy="104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4T04:40:31Z</dcterms:created>
  <dc:creator>Gregorio Rodolfo Azócar Gajardo</dc:creator>
  <dc:description>Computo de Recursos</dc:description>
  <dc:language>en-US</dc:language>
  <cp:lastModifiedBy> </cp:lastModifiedBy>
  <dcterms:modified xsi:type="dcterms:W3CDTF">2007-10-02T13:57:23Z</dcterms:modified>
  <cp:revision>449</cp:revision>
  <dc:subject>TRANSPARENCIAS</dc:subject>
  <dc:title>CI52B POGRAMACION; SEGUIMIENTO Y CONTROL</dc:title>
</cp:coreProperties>
</file>