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2AD-0FD0-4F03-8352-117C1A86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4D5-66B4-4B64-B972-95DF8D6A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261-4906-4DE3-8E49-40C9C94C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485-88F9-4EF8-927A-98147061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40B-7CDE-4529-8338-7E5962BF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E98-6755-411D-91A5-6F59A281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2EA-40E3-4A34-9A80-11720E78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15B-EDBF-49E1-91E0-64019B9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F68-6561-4E97-AFAE-A4A10CCE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DFE-9A0F-48D5-A87F-E6D5081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286-14E3-43BD-A07C-0435D0A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A1B-CDB2-4686-A090-494B3BA1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5C2E-8BA1-4E34-800D-B9E943367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38280" y="4876920"/>
            <a:ext cx="6477120" cy="16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pues que cargan el mapa de fondo hacen lo siguie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r-Dimension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parece la ventana en pantalla y le dan las coorden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uego para trazar las tuberías deben estar en modo “Long-Auto Sí” (boton derecho sobre lo encerrado en rojo) y de esta forma cada vez que tracen una tubería tendrá la longitud que ustedes dibujen automatic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28600" y="6553080"/>
            <a:ext cx="91440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6:13:12Z</dcterms:created>
  <dc:creator>Gerardo Ahumada</dc:creator>
  <dc:description/>
  <dc:language>en-US</dc:language>
  <cp:lastModifiedBy>Gerardo Ahumada</cp:lastModifiedBy>
  <dcterms:modified xsi:type="dcterms:W3CDTF">2005-11-03T16:27:05Z</dcterms:modified>
  <cp:revision>2</cp:revision>
  <dc:subject/>
  <dc:title>Sin título de diapositiva</dc:title>
</cp:coreProperties>
</file>