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EA6-6C9E-4F1B-9290-C0B6CAE4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383-189D-4FC3-B1E1-DE4C74C9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6E4-9929-442F-BCA3-EC30EAC5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D0F-3F35-4236-AC6F-F9265A61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617-4128-435A-8625-E94ADA9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D65-A0E6-4627-9496-244889E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630-8D86-45DF-BD26-8FDCBB9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E54-802C-46DE-829F-B74CCE6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37C-0F48-482E-B0BF-E20C829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CCB-35C7-468C-A22F-B786852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CD5-8471-4080-B6AD-DDF69B4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C0C-5547-4B91-B3B1-1A5D4723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4F4D-69F1-4BA8-B83F-2B58806B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77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pues que cargan el mapa de fondo hacen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r-Dimension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ece la ventana en pantalla y le dan las coorden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ego para trazar las tuberías deben estar en modo “Long-Auto Sí” (boton derecho sobre lo encerrado en rojo) y de esta forma cada vez que tracen una tubería tendrá la longitud que ustedes dibujen automa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6553080"/>
            <a:ext cx="91440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3:12Z</dcterms:created>
  <dc:creator>Gerardo Ahumada</dc:creator>
  <dc:description/>
  <dc:language>en-US</dc:language>
  <cp:lastModifiedBy>Gerardo Ahumada</cp:lastModifiedBy>
  <dcterms:modified xsi:type="dcterms:W3CDTF">2005-11-03T16:27:05Z</dcterms:modified>
  <cp:revision>2</cp:revision>
  <dc:subject/>
  <dc:title>Sin título de diapositiva</dc:title>
</cp:coreProperties>
</file>