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36F-50BA-4AE8-A6D4-C3D2EE4B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CDD-FB8A-41CD-8993-139CD17A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1BC-EC96-4A41-BA6B-60A076A5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2A7-79D7-4D7E-9354-17057B7E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A28-62EB-4675-AB4D-590CBF44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A35-5018-4DAD-A446-25F879F4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FA3-268C-462F-BE80-BA1DAFF5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869-0DCD-4226-A779-FFF2ECAA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EF3-8949-4051-BD57-9B743FEB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496-E358-4BA4-BC74-CFE0556D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50E-5FDE-43E1-B42D-E848F13D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9F0-7AE8-4FC7-89DD-2AB95CE7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472F82-8844-41A9-BA2F-7E4175D56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ítulo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8006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EBB-A622-4B9D-9130-B54A4091FBDA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3348000" y="378936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258560" y="3860640"/>
            <a:ext cx="2017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32000" y="48690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 la ut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12920" y="5462640"/>
                <a:ext cx="379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537320" y="5445000"/>
                <a:ext cx="419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32000" y="256536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551664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16800">
            <a:off x="1835280" y="2492280"/>
            <a:ext cx="4897440" cy="208908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321300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2760" y="2297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9000" y="477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41360" y="5084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57600" y="3952800"/>
            <a:ext cx="97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560" y="3573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4640" y="4581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6120" y="5734080"/>
            <a:ext cx="5865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variable con la localizació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ero estrictamente positiva siemp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969240" y="5016600"/>
                <a:ext cx="1396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C51-271B-4BF7-AECD-E3E6C76D5F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l ingr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156120" y="5300640"/>
                <a:ext cx="336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V="1">
            <a:off x="3348000" y="420012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332000" y="41292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332000" y="463248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232884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528012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61612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297648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2760" y="2060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99760" y="44164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91760" y="48481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58040" y="3716280"/>
            <a:ext cx="7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lt;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9960" y="393228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5040" y="434484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6640" y="5661000"/>
            <a:ext cx="6171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constante para toda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764480" y="5229360"/>
                <a:ext cx="452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0B2-4F58-4A91-8D07-E261702771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La disposición a paga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amilia de curvas condicionales a un nivel de utilidad exógeno (se da en el equilibr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ingreso y precios son parámetr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inversamente proporcional a la ut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tos diferencian los valores de DP, incluyendo accesibilidad, en el espa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P a pagar varía en el espacio, compensando diferencias de atributos, manteniendo util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D36-E914-4BAC-8129-03BF989766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7080" y="196056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Excedentes del Consumidor en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303-0823-43A4-A5A8-BC12731D59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78936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79320" y="1773360"/>
          <a:ext cx="317988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773360"/>
                    <a:ext cx="31798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189680" y="188424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4640" y="2878200"/>
          <a:ext cx="2667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640" y="2878200"/>
                    <a:ext cx="2667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302000" y="292428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to en otros bienes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5960" y="401940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5148360" y="378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a pagar como función del gasto en otr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44600" y="5846760"/>
          <a:ext cx="551484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600" y="5846760"/>
                    <a:ext cx="55148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6840" y="505944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 se paga un precio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p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gasto total 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B27-5262-4DA6-9B52-130069C4F8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32040" y="2901960"/>
          <a:ext cx="290844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2040" y="2901960"/>
                    <a:ext cx="29084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743200" y="1989000"/>
          <a:ext cx="394344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989000"/>
                    <a:ext cx="39434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820960" y="4255920"/>
          <a:ext cx="371808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20960" y="4255920"/>
                    <a:ext cx="37180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Función de gasto: caso de utilidad cuasi lineal</a:t>
            </a: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AC7-26D9-4FBD-8270-FF776DBAE3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ahoma"/>
              </a:rPr>
              <a:t>La función de gast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911240" y="1773360"/>
          <a:ext cx="632952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1773360"/>
                    <a:ext cx="632952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296000" y="2637000"/>
            <a:ext cx="63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=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igual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l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l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en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g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203720" y="3998880"/>
          <a:ext cx="4835520" cy="268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3720" y="3998880"/>
                    <a:ext cx="483552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240560" y="4478400"/>
            <a:ext cx="21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N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equilibr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5EC-B35A-4859-A44E-4A154732C4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520" y="3129120"/>
          <a:ext cx="8173800" cy="12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29120"/>
                    <a:ext cx="817380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825480" y="23670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838080" y="48150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6BE-468F-4184-99A8-376012E8F4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constant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381400" y="3313080"/>
          <a:ext cx="478764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1400" y="3313080"/>
                    <a:ext cx="4787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30080" y="4627440"/>
          <a:ext cx="6397920" cy="19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080" y="4627440"/>
                    <a:ext cx="639792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308720" y="5589720"/>
            <a:ext cx="1371600" cy="691920"/>
          </a:xfrm>
          <a:prstGeom prst="wedgeRectCallout">
            <a:avLst>
              <a:gd name="adj1" fmla="val -177893"/>
              <a:gd name="adj2" fmla="val -90597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351080" y="2421000"/>
                <a:ext cx="7792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9EA-17C6-4D40-9271-EA83B5CDA5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381400" y="2879640"/>
          <a:ext cx="478764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1400" y="2879640"/>
                    <a:ext cx="4787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76280" y="4576680"/>
          <a:ext cx="694368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4576680"/>
                    <a:ext cx="6943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547640" y="2133720"/>
                <a:ext cx="69138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0F2-EA99-4FE4-BA9E-D5CE730484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240" y="2437920"/>
            <a:ext cx="6945480" cy="33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Modelo Microeconómico de Localizació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I. El corto plaz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(oferta exógen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46B-B39C-4937-B74C-F81BF569E0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, Utilidad cuasi-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039760" y="1870200"/>
          <a:ext cx="402912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870200"/>
                    <a:ext cx="402912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109960" y="4765680"/>
          <a:ext cx="367488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9960" y="4765680"/>
                    <a:ext cx="367488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552-326B-4042-8B36-1AB3D3D7A6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A5E-188E-44A8-9E4B-669CAD42D1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EAD-2F25-43F8-AB86-E60D02C926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DETERMINÍ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CC6-8604-42A9-9E60-D398695CC4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84280" y="1600200"/>
                <a:ext cx="79372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20680" y="537372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i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72C-0906-4A77-9F79-11C137FB13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57360" y="3657600"/>
                <a:ext cx="8162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399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29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77344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4468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688-6047-46AA-86F2-07BD2B0717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44720" y="1752480"/>
                <a:ext cx="5199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7E2-FB55-4CB3-A115-B16F24C05C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Ú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B5A-53E0-4354-8A51-47AC3E0A99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245120" y="2209680"/>
                <a:ext cx="3776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95640" y="4581360"/>
                <a:ext cx="4554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73E-9D5E-4A96-B1CD-B7F76E7FD7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971640" y="1125360"/>
                <a:ext cx="3101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59280" y="1111320"/>
                <a:ext cx="3780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619280" y="3068640"/>
                <a:ext cx="5761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140360" y="4508640"/>
                <a:ext cx="43923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0DA-3ABC-42DE-AF4B-E023CF1D7F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 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o del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conómicas sobre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 en us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4A2-F645-4CCB-9F49-1383672EDC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14560" y="2378160"/>
                <a:ext cx="6084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979640" y="3213000"/>
                <a:ext cx="4922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C3B-29D3-4DC6-9BA8-B0A83E755D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MODELO DE EQUILIBRIO ESTOCÁSTICO EN LOCALIZACIÓN Y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A84-9E15-46F2-B5CF-29E4CE70DF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14A-A07D-41FE-A401-A2A5026D0D0A}" type="slidenum">
              <a:t>32</a:t>
            </a:fld>
          </a:p>
        </p:txBody>
      </p:sp>
    </p:spTree>
  </p:cSld>
  <p:transition spd="med" advTm="16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9FC-92A5-4576-88E3-2EC43D62B37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D1F-DDE0-45A0-85C2-BC245FA5414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F76-FCCB-4A02-9111-ACAB88C0443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64D-2CAB-42C0-845A-FA58DEB6173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B75-62F5-49A0-87DD-E9F6214D628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209680" y="5029200"/>
            <a:ext cx="5747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780000" y="2349360"/>
                <a:ext cx="3376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780000" y="3500280"/>
                <a:ext cx="3357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414520" y="5157720"/>
                <a:ext cx="53262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C96-F7CD-45FD-8150-7C542A5CABB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71640" y="1413000"/>
            <a:ext cx="7342200" cy="1778040"/>
            <a:chOff x="971640" y="1413000"/>
            <a:chExt cx="7342200" cy="1778040"/>
          </a:xfrm>
        </p:grpSpPr>
        <p:sp>
          <p:nvSpPr>
            <p:cNvPr id="353" name=""/>
            <p:cNvSpPr/>
            <p:nvPr/>
          </p:nvSpPr>
          <p:spPr>
            <a:xfrm>
              <a:off x="971640" y="1413000"/>
              <a:ext cx="7342200" cy="17780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1347840" y="1427040"/>
                  <a:ext cx="6404040" cy="16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i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</m:den>
                              </m:f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h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b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5" name=""/>
          <p:cNvSpPr/>
          <p:nvPr/>
        </p:nvSpPr>
        <p:spPr>
          <a:xfrm>
            <a:off x="1116000" y="3886200"/>
            <a:ext cx="5673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.. hay re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=1 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oferta se remat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.equilibrio oferta dema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ED9-7BC4-4E16-A383-3A965810902F}" type="slidenum">
              <a:t>39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LA DISPOSICIÓN </a:t>
            </a:r>
            <a:br>
              <a:rPr sz="4800"/>
            </a:b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A PAGAR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7F9-498D-4D18-97A6-2E0A180562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libr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15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rrelación entre atributos z y rentas r afecta parámetros de modelo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posturas calibradas son truncada en ambas ver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mbigüedad en la función calibrada por choice: es de postura o utilidad. No hay ambigüedad en versión b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arámetro de accesibilidad mejor en versión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clusión: estimar sistema de ecuaciones (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h/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i/h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, 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E02-17B2-4AD4-B144-99BE4D5E131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7080" y="1916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EQUILIBRIO EN 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ESTOCÁ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CCC-DD1A-44B8-8416-4C56B30CCF7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371600" y="236232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335240" y="2438280"/>
                <a:ext cx="6399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833400" y="6019920"/>
            <a:ext cx="628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nto fijo en localización dadas utilida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Externalidades</a:t>
            </a:r>
            <a:br>
              <a:rPr sz="4000"/>
            </a:b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 Equilibrio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286000" y="4724280"/>
                <a:ext cx="41148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9F1-A5FF-4296-B291-0ED7AFEC2A0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49fff"/>
                </a:solidFill>
                <a:latin typeface="Tahoma"/>
              </a:rPr>
              <a:t>Caso utilidad cuasi 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550880" y="1600200"/>
                <a:ext cx="59277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693800" y="4114800"/>
                <a:ext cx="56818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vi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D5B-88D7-4CD9-A162-53430A57755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A4D-3505-41C1-9BC8-2F84313935C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34092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Equilibrio en Localización</a:t>
            </a:r>
            <a:br>
              <a:rPr sz="4000"/>
            </a:b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“Todo agente se localiza”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076480" y="4183200"/>
                <a:ext cx="57531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1978920" y="6156360"/>
            <a:ext cx="4187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133720" y="207000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0FD-42E9-4721-AA94-D8E41A0362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41D-5E8B-41DD-902C-8E0CB340AF5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5715000"/>
            <a:ext cx="1676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238880" y="2057400"/>
            <a:ext cx="0" cy="365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5105520"/>
            <a:ext cx="1981440" cy="1218960"/>
          </a:xfrm>
          <a:prstGeom prst="diamond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98800" y="54853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AAB-EA1C-4430-9193-E2EBA4929BB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: caso estocást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FA0-3EA2-44CF-9393-71FB82F92E0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90C-7F07-4FE4-9DA9-EA7A634E99B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52480" y="1828800"/>
            <a:ext cx="5555880" cy="1887120"/>
            <a:chOff x="1752480" y="1828800"/>
            <a:chExt cx="5555880" cy="188712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752480" y="2022840"/>
                  <a:ext cx="5166360" cy="158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1752480" y="3715920"/>
              <a:ext cx="555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08360" y="1828800"/>
              <a:ext cx="0" cy="18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58920" y="3777120"/>
            <a:ext cx="75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texto: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bien es la localiz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umo  de un solo bien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Bienes discretos y diferenciables en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pacio dis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xtension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ngreso end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stricción de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tilidad de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3716280"/>
            <a:ext cx="1403280" cy="609480"/>
          </a:xfrm>
          <a:prstGeom prst="borderCallout1">
            <a:avLst>
              <a:gd name="adj1" fmla="val 18750"/>
              <a:gd name="adj2" fmla="val -8333"/>
              <a:gd name="adj3" fmla="val -56250"/>
              <a:gd name="adj4" fmla="val -1675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n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04000" y="3860640"/>
          <a:ext cx="36504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3860640"/>
                    <a:ext cx="365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B45-5700-4B63-A07B-E69249D52A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5334120"/>
            <a:ext cx="669636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Derivación de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28800" y="1295280"/>
            <a:ext cx="5638320" cy="1752480"/>
            <a:chOff x="1828800" y="1295280"/>
            <a:chExt cx="5638320" cy="175248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828800" y="1475280"/>
                  <a:ext cx="5243040" cy="14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>
              <a:off x="1828800" y="3047760"/>
              <a:ext cx="563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67120" y="129528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34920" y="3424320"/>
                <a:ext cx="327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179600" y="350532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14400" y="4308480"/>
                <a:ext cx="4521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853960" y="44956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206360" y="5486400"/>
                <a:ext cx="58755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042920" y="628488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. 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C37-7554-4697-B73D-ED9CE0C80B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14680" y="1590840"/>
                <a:ext cx="601956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6659640" y="342900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3794"/>
                </a:moveTo>
                <a:lnTo>
                  <a:pt x="27044" y="10800"/>
                </a:lnTo>
                <a:lnTo>
                  <a:pt x="13031" y="1780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E3D-68A6-49BE-8B1A-7E95E82BAD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02920" y="520200"/>
            <a:ext cx="7669080" cy="4837320"/>
            <a:chOff x="502920" y="520200"/>
            <a:chExt cx="7669080" cy="4837320"/>
          </a:xfrm>
        </p:grpSpPr>
        <p:sp>
          <p:nvSpPr>
            <p:cNvPr id="110" name=""/>
            <p:cNvSpPr/>
            <p:nvPr/>
          </p:nvSpPr>
          <p:spPr>
            <a:xfrm>
              <a:off x="502920" y="520200"/>
              <a:ext cx="5438520" cy="703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erivación de la utilidad cuasi lineal</a:t>
              </a:r>
              <a:r>
                <a:rPr b="0" lang="es-MX" sz="12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504720" y="1376280"/>
            <a:ext cx="2837880" cy="7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4720" y="1376280"/>
                      <a:ext cx="283788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04720" y="2105280"/>
            <a:ext cx="3102480" cy="41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4720" y="2105280"/>
                      <a:ext cx="3102480" cy="4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04720" y="2515680"/>
            <a:ext cx="4459320" cy="4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4720" y="2515680"/>
                      <a:ext cx="445932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>
              <a:off x="505800" y="3205800"/>
              <a:ext cx="52056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PO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504720" y="3945240"/>
            <a:ext cx="7667280" cy="1412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4720" y="3945240"/>
                      <a:ext cx="7667280" cy="141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5734080"/>
          <a:ext cx="71294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5734080"/>
                    <a:ext cx="7129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548-E018-461A-B5FB-5E7AD91775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: 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áximo valor dispuesto a pagar para alcanzar nivel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manda compensada (Hicksiana) por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ensa diferenciales de atributos entre opciones para mantener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calizaciones con precio igual a DP son indiferentes para el consumid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328-192E-4381-AAAC-FD7D4DD656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7-10-05T15:53:44Z</dcterms:modified>
  <cp:revision>107</cp:revision>
  <dc:subject/>
  <dc:title>General</dc:title>
</cp:coreProperties>
</file>