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A8E-629B-44CA-98DE-FDB6AC3A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A3B-0585-4B24-9E83-94F87110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B13-4794-4C7E-A1B8-4E537D3B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2A5-3A86-419A-9451-4DD55D04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55AA-2A61-4DE4-884E-CEBE3E56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3C2C-747C-492E-8284-626558F9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7A71-2260-4B46-A5B9-144C247F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EBD1-D801-4A41-BA0F-18A6E782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5A89-B4F4-41D2-B700-5B44FAED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C1F6-CA3A-457D-97BD-DACA8E52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1F5A-C0EB-40B8-8294-893BB478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EF8-E714-4BF2-B37B-FA767B74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34C8-D3F8-48DC-BEC0-54C6F215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554A-BC7B-44C3-99CD-1E9C8C40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AA24-97F3-4B87-A330-D4BA50E6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06D1-BE29-49D8-8D80-F487CE0A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1820-FE5C-4760-A8EA-2FA5B6A9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1A9-44FC-4C22-9907-EAE4128D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47B-EF4F-4186-9F00-1EF371AF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2C3-7128-4A9A-8A48-FB2AAC25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367-277D-4FEC-98D7-F34DBEE6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72E-6A4B-4188-A98E-712BD86D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7ED-2A7F-4159-B615-7C13E015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317-FDA8-4B69-AC52-9D120EB3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797A-6E85-4972-A59A-C6CA7290057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4DF3-0192-48FF-B082-E0A4AE06D9A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imes New Roman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imes New Roman"/>
              </a:rPr>
              <a:t>Jorge Casti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2286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838080"/>
            <a:ext cx="6121440" cy="2683440"/>
            <a:chOff x="1143000" y="838080"/>
            <a:chExt cx="6121440" cy="2683440"/>
          </a:xfrm>
        </p:grpSpPr>
        <p:sp>
          <p:nvSpPr>
            <p:cNvPr id="217" name=""/>
            <p:cNvSpPr/>
            <p:nvPr/>
          </p:nvSpPr>
          <p:spPr>
            <a:xfrm>
              <a:off x="4887720" y="838080"/>
              <a:ext cx="23767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roduct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758960"/>
              <a:ext cx="237636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nálisis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7720" y="2198520"/>
              <a:ext cx="23749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jor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re-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399800">
              <a:off x="3808080" y="2350440"/>
              <a:ext cx="863280" cy="433440"/>
            </a:xfrm>
            <a:prstGeom prst="rightArrow">
              <a:avLst>
                <a:gd name="adj1" fmla="val 56046"/>
                <a:gd name="adj2" fmla="val 7242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8614800">
              <a:off x="3734640" y="1271520"/>
              <a:ext cx="863640" cy="433440"/>
            </a:xfrm>
            <a:prstGeom prst="rightArrow">
              <a:avLst>
                <a:gd name="adj1" fmla="val 56046"/>
                <a:gd name="adj2" fmla="val 7245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14200" y="4724280"/>
            <a:ext cx="8929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0458c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65760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¿Es lo mismo que Re-ingeniería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3657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NO!!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26028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907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uncional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907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sirv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90792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ción de Funcionami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066680"/>
            <a:ext cx="576000" cy="28908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98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tructiv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1916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De qué (o cómo) está hech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20588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ción (Destructiva o 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1337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uari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357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Quiénes lo usa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3376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cuesta de opin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5053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495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Ét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179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fue diseñad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427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impacto (Ambiental - Social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46483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1840" y="260280"/>
            <a:ext cx="14414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260280"/>
            <a:ext cx="151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conóm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5080" y="5497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studio de Co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3640" y="54864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Merc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55627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2T15:42:03Z</dcterms:modified>
  <cp:revision>293</cp:revision>
  <dc:subject/>
  <dc:title>Reactor Agitado</dc:title>
</cp:coreProperties>
</file>