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E9D-3AF3-4597-B002-9C71A13E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2FFB-6FA1-46BB-9602-96571477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F35-4597-4E7B-9A97-51818CCE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2C6-3899-4399-B794-B5F77C99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97D8-B850-417F-AA44-0F524A3B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FE9C-BC89-43DA-B55A-2463F9B1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B85F-4031-4BEF-8E6B-5618D357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323C-BD0E-47CD-AF49-7A077F45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946F-E50C-4085-87EC-AD4065ED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DC76-86E3-4C16-8F08-EED8F7F0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7697-B36F-4922-8D8E-C87AC6D3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582-1F7C-44EE-BBCB-1EF7FEE1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56F2-A005-4B32-86FE-63804FAC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A902-8902-4CD5-B677-ADFFE80B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0F71-1A22-4C40-AEBD-3D206983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FCD7-EFB5-432E-9347-2ADC56B3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92C0-CB44-45C3-97EC-6705839E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F09-A943-45C4-B536-7CC2B324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789-DF51-4349-9762-FDD25A61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003B-8FED-452D-9384-464FD65D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41EA-9558-40A9-B004-EF5CEE5C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0B2E-61F6-42E2-9F8D-FD783143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0601-F926-4A89-8DF1-5F20A669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F61C-8FDF-4AFE-8004-D2308F92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A66F-DB9F-4939-A59B-EA14DC4FDCF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E612-EC42-4255-BF7D-4DCD3B66151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EI1B2 Introducción a la Ingeniería 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Jorge Castillo Guzmá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659448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14400" y="6066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4680" y="1143000"/>
            <a:ext cx="796824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esentación del curso, ¿Que es la Ingenierí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Definición Proyecto 1, Artefacto Misterios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tica I , El Rol social de la Ingeniería, H. Galleg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Trabajo en Equipo, Pla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 Proceso de Dise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tica II, La división del Trabajo, Lucro, Adam Smi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tapas del Proyecto de Ingenierí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-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Tahoma"/>
              </a:rPr>
              <a:t>Introducción a la Ingeniería I,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91360" y="2743200"/>
            <a:ext cx="726264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Análisis Proyecto 1, Planteamiento Proyecto 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xpresión Escri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tica III, la ética en la ingenierí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xpresión Or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Proyecto II, Presentacio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06840" y="914400"/>
            <a:ext cx="74667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esentación de Datos  (Presentaciones Oral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oyecto 1, Presentacio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1960560"/>
            <a:ext cx="3257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C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oncebi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iseña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mplementa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perar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imes New Roman"/>
              </a:rPr>
              <a:t>(Administrar las operacione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87680" y="2286000"/>
            <a:ext cx="84240" cy="2057400"/>
          </a:xfrm>
          <a:custGeom>
            <a:avLst/>
            <a:gdLst>
              <a:gd name="textAreaLeft" fmla="*/ 0 w 84240"/>
              <a:gd name="textAreaRight" fmla="*/ 30240 w 842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60120" y="289548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yecto 1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2209680"/>
            <a:ext cx="228600" cy="2743200"/>
          </a:xfrm>
          <a:custGeom>
            <a:avLst/>
            <a:gdLst>
              <a:gd name="textAreaLeft" fmla="*/ 0 w 228600"/>
              <a:gd name="textAreaRight" fmla="*/ 8244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89960" y="328464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yecto 2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676520"/>
            <a:ext cx="30258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oncebi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iseña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mplementa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pera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71120" y="1905120"/>
            <a:ext cx="28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Para qué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70400" y="2819520"/>
            <a:ext cx="229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Cómo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29000" y="3505320"/>
            <a:ext cx="523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Con qué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En qué condiciones?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9680" y="4648320"/>
            <a:ext cx="267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Cuándo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73392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7160" y="304920"/>
            <a:ext cx="59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Caso de estudio evaluado Semestre anterio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3080" y="5867280"/>
            <a:ext cx="81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Bajas Notas : Falta de Coherencia, no es un discurs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848720" cy="506556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5000" y="1371600"/>
            <a:ext cx="7969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Proyecto 1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Ingeniería Reversa (capítulo 4),  3 semanas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Elegir Product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Analizarlo (Funcionamiento, construcción, etc.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Proponer mejor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41320" y="3962520"/>
            <a:ext cx="69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Proyecto 2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C-DIO de un Proceso 10 semanas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3 grupos en cada etapa de en un proces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0920" y="5715000"/>
            <a:ext cx="74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Ambos proyectos con el mismo grupo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0240" y="137160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Evaluación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9520" y="1905120"/>
            <a:ext cx="39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20% Nota de clas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0240" y="2514600"/>
            <a:ext cx="48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80% Nota de Proyectos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4480" y="32004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25% Proyecto 1: Informe-Presenta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4120" y="3733920"/>
            <a:ext cx="677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75% Proyecto 2: Ingeniería - Construc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5680" y="4724280"/>
            <a:ext cx="37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Auto-evaluacion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7-26T17:04:15Z</dcterms:modified>
  <cp:revision>316</cp:revision>
  <dc:subject/>
  <dc:title>Reactor Agitado</dc:title>
</cp:coreProperties>
</file>