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54A-EE5F-4E17-80CE-8FA54D0C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18D-A15F-4480-939F-8DF894AA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D94-9220-456B-947D-666F9109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3A6-A732-4AD4-A3EA-F303DF81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E8DD-94C3-46B2-BA55-476E22B1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ED52-86CB-48ED-BD97-150FF252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EF42-FBF6-419D-88D1-3E677A7D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3A46-4624-4415-A565-B99F7211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09AE-88D4-416F-9D42-64B83F19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D11B-922F-40D2-8A30-DD338C77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6D90-676B-45A0-A9B9-E4974454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9B6-924B-45A1-85CE-C7FB478C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BD2E-570D-43E7-9286-66EBF95D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4743-4545-4587-AA6F-A6EA0666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C584-23F3-4107-8960-0BD18465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A841-EDD3-43F1-A183-11CD8A21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7E94-FD63-4D99-B1D7-0F9569B1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8635-84DB-4D11-8D97-B4CE390B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5944-2E3E-40F8-9ADD-939FC433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982-4E3C-4C05-A948-3795940E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4EBC-514C-47F0-AB5A-9918FC10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176-B12E-4275-A85B-E9185C59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2971-CBE4-47E8-80D2-C7BECE9C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A1D-2EF3-4A4A-9C1C-99500B1F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6CBB-3F41-415C-9FDF-012C4A71ED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621F-6DB3-4D3B-B672-319A31078D0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imes New Roman"/>
              </a:rPr>
              <a:t>EI1B2 Introducción a la Ingeniería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imes New Roman"/>
              </a:rPr>
              <a:t>Jorge Castil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-2286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838080"/>
            <a:ext cx="6121440" cy="2683440"/>
            <a:chOff x="1143000" y="838080"/>
            <a:chExt cx="6121440" cy="2683440"/>
          </a:xfrm>
        </p:grpSpPr>
        <p:sp>
          <p:nvSpPr>
            <p:cNvPr id="217" name=""/>
            <p:cNvSpPr/>
            <p:nvPr/>
          </p:nvSpPr>
          <p:spPr>
            <a:xfrm>
              <a:off x="4887720" y="838080"/>
              <a:ext cx="23767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roduct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1758960"/>
              <a:ext cx="2376360" cy="64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Análisis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7720" y="2198520"/>
              <a:ext cx="23749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Mejora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re-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399800">
              <a:off x="3808080" y="2350440"/>
              <a:ext cx="863280" cy="433440"/>
            </a:xfrm>
            <a:prstGeom prst="rightArrow">
              <a:avLst>
                <a:gd name="adj1" fmla="val 56046"/>
                <a:gd name="adj2" fmla="val 7242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8614800">
              <a:off x="3734640" y="1271520"/>
              <a:ext cx="863640" cy="433440"/>
            </a:xfrm>
            <a:prstGeom prst="rightArrow">
              <a:avLst>
                <a:gd name="adj1" fmla="val 56046"/>
                <a:gd name="adj2" fmla="val 7245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14200" y="4724280"/>
            <a:ext cx="89298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40458c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65760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¿Es lo mismo que Re-ingeniería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3657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NO!!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26028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0" y="907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uncional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56000" y="9079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sirv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90792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ción de Funcionami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1066680"/>
            <a:ext cx="576000" cy="28908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981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tructiv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4360" y="1916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De qué (o cómo) está hech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1640" y="20588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ección (Destructiva o 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21337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uari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3577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Quiénes lo usan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8720" y="3376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cuesta de opin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5053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44956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Ét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44179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fue diseñad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0000" y="4427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impacto (Ambiental - Social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46483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1840" y="260280"/>
            <a:ext cx="14414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260280"/>
            <a:ext cx="1511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s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4864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Económ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05080" y="5497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studio de Cos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43640" y="54864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Merc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55627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02T15:42:03Z</dcterms:modified>
  <cp:revision>293</cp:revision>
  <dc:subject/>
  <dc:title>Reactor Agitado</dc:title>
</cp:coreProperties>
</file>