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7B8-D875-4C06-B8EF-6CCD3273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EA1-6A72-42D0-96EB-864D04F7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D29-3B70-46F0-A996-8E12825C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022-49F0-41B3-ADD3-D965F4ED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F520-9652-45CA-9C4B-E485C0ED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FAB3-17EC-4C2C-8239-76FE759F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BE48-008E-4CB7-8D28-836A45E9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3FCA-ACC6-42D4-985D-CA5AA3EB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584F-50BF-4D94-A40D-5F129761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FF12-816D-418F-9F9C-1B73962C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39D5-A562-4E95-A776-0764F85C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DCA-6F4E-4634-8EBD-B3CA85A1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5CF7-F716-4311-8A53-4E222D84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8152-CF66-4891-8ACB-8C63A999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57E1-D22E-4318-9FE3-140F8C8A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2F01-A1D2-4AA8-8A17-6DC9CDC4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FE94-4DEB-4D4B-9349-5675FC18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CDC-F220-47AF-BA1D-2D522F1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A4A-985C-415C-8CB6-B97A7D0D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C6A-1211-4869-8609-A6C7BF8A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134-519A-477B-A27A-F8474543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939-9C78-43A7-93CF-8C89126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F15-4D58-4F07-9171-F55AA7E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09B-BBB0-4E1C-8820-E60B4804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8C24-B677-45EF-8E9A-8F393A62C4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2590-C79D-4EFF-A7A2-93DDE51A0D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4491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3197160"/>
            <a:ext cx="5638680" cy="3660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4648320"/>
            <a:ext cx="335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EI1B2 Introducción a la Ingeniería I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480" y="1828800"/>
            <a:ext cx="882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0458c"/>
                </a:solidFill>
                <a:latin typeface="Times New Roman"/>
              </a:rPr>
              <a:t>El ingeniero aprobó las modificaciones,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0458c"/>
                </a:solidFill>
                <a:latin typeface="Times New Roman"/>
              </a:rPr>
              <a:t>a pesar de que si se hubiesen hechos los cálculos, se habría determinado que las nuevas conexion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0458c"/>
                </a:solidFill>
                <a:latin typeface="Times New Roman"/>
              </a:rPr>
              <a:t>no resistirían. 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663560" y="1995480"/>
            <a:ext cx="55087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2570040" y="2498760"/>
            <a:ext cx="43084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1403280" y="1700280"/>
            <a:ext cx="6192720" cy="4465080"/>
            <a:chOff x="1403280" y="1700280"/>
            <a:chExt cx="6192720" cy="4465080"/>
          </a:xfrm>
        </p:grpSpPr>
        <p:sp>
          <p:nvSpPr>
            <p:cNvPr id="266" name=""/>
            <p:cNvSpPr/>
            <p:nvPr/>
          </p:nvSpPr>
          <p:spPr>
            <a:xfrm>
              <a:off x="1403280" y="1700280"/>
              <a:ext cx="6192720" cy="446040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67" name="" descr="Rectangle: Click to edit Master text styles&#13;&#10;Second level&#13;&#10;Third level&#13;&#10;Fourth level&#13;&#10;Fifth level"/>
            <p:cNvPicPr/>
            <p:nvPr/>
          </p:nvPicPr>
          <p:blipFill>
            <a:blip r:embed="rId3"/>
            <a:stretch/>
          </p:blipFill>
          <p:spPr>
            <a:xfrm>
              <a:off x="1403280" y="1700280"/>
              <a:ext cx="6192720" cy="446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04880" y="1676520"/>
            <a:ext cx="8439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Luego de la investigación, los principales Ingenieros involucrados en el caso, fueron encontrados culpables por negligencia y conductas inapropiadas. Perdieron sus licencias para ejercer como ingenieros en Missouri.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659448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0" y="457200"/>
          <a:ext cx="9144000" cy="579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-109800" y="0"/>
            <a:ext cx="419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El Mercurio Martes 30 de Octubre de 200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990720"/>
            <a:ext cx="1981080" cy="3276360"/>
          </a:xfrm>
          <a:prstGeom prst="rect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90720" y="1600200"/>
            <a:ext cx="71625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l problema a resolver, es saber porqué una señora de una comunidad de Lolol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cuando va a comprar un tarro de café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una parte del valor es para financiar 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un joven de Providencia que va estudiar ingeniería a la Universidad de Chile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¡Plop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ahoma"/>
              </a:rPr>
              <a:t>Nicolás Eyzaguirre, 29 de Octubre de 2007, ante la comisión Investigadora del Transantiago de la Cámara de Diput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nalizar Caso por Grup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87280" y="2276640"/>
            <a:ext cx="68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0458c"/>
                </a:solidFill>
                <a:latin typeface="Times New Roman"/>
              </a:rPr>
              <a:t>El 17 de julio de 1981, dos pasarelas colgantes en el Hotel Hyatt Rengency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0458c"/>
                </a:solidFill>
                <a:latin typeface="Times New Roman"/>
              </a:rPr>
              <a:t>en Kansas City, Missouri, colapsaron, matando a 114 personas y causand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0458c"/>
                </a:solidFill>
                <a:latin typeface="Times New Roman"/>
              </a:rPr>
              <a:t>lesiones en otras 200 personas.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73280" y="1371600"/>
            <a:ext cx="42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2240a"/>
                </a:solidFill>
                <a:latin typeface="Tahoma"/>
              </a:rPr>
              <a:t>Capítulo 5, Etica en la Ingenierí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838080" y="2135160"/>
            <a:ext cx="77724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85800" y="1600200"/>
            <a:ext cx="88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Para simplificar el proceso de construcción de la pasarela, el fabricante de la estructura, instaló conexiones distintas a las especificadas por el ingeniero estructural.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077840" y="1905120"/>
            <a:ext cx="3335400" cy="4226760"/>
            <a:chOff x="1077840" y="1905120"/>
            <a:chExt cx="3335400" cy="4226760"/>
          </a:xfrm>
        </p:grpSpPr>
        <p:pic>
          <p:nvPicPr>
            <p:cNvPr id="241" name="" descr="Rectangle: Click to edit Master text styles&#13;&#10;Second level&#13;&#10;Third level&#13;&#10;Fourth level&#13;&#10;Fifth level"/>
            <p:cNvPicPr/>
            <p:nvPr/>
          </p:nvPicPr>
          <p:blipFill>
            <a:blip r:embed="rId3"/>
            <a:stretch/>
          </p:blipFill>
          <p:spPr>
            <a:xfrm>
              <a:off x="1077840" y="1905120"/>
              <a:ext cx="3335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342440" y="5611320"/>
              <a:ext cx="278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iseño Original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19640" y="1628640"/>
            <a:ext cx="3652920" cy="4770360"/>
            <a:chOff x="5219640" y="1628640"/>
            <a:chExt cx="3652920" cy="4770360"/>
          </a:xfrm>
        </p:grpSpPr>
        <p:pic>
          <p:nvPicPr>
            <p:cNvPr id="244" name="" descr="Rectangle: Click to edit Master text styles&#13;&#10;Second level&#13;&#10;Third level&#13;&#10;Fourth level&#13;&#10;Fifth level"/>
            <p:cNvPicPr/>
            <p:nvPr/>
          </p:nvPicPr>
          <p:blipFill>
            <a:blip r:embed="rId4"/>
            <a:stretch/>
          </p:blipFill>
          <p:spPr>
            <a:xfrm>
              <a:off x="5219640" y="1628640"/>
              <a:ext cx="365292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506920" y="5878440"/>
              <a:ext cx="302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Modificación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La pasarela del Hyatt Regency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392120" y="2259000"/>
            <a:ext cx="64929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11-08T13:04:52Z</dcterms:modified>
  <cp:revision>301</cp:revision>
  <dc:subject/>
  <dc:title>Reactor Agitado</dc:title>
</cp:coreProperties>
</file>