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2CC-75A1-4A0F-B2BF-17EF1F00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F7E-1739-41A7-9AE8-EB5053DC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9C3-FCC2-4951-A184-B28CD638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D87-F9E0-4838-A68D-D3096C21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A1E-AA55-4D40-A229-2969FDE3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6C7-75DD-470B-9C31-709FEBF5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51A-4FB1-42F1-88CA-16CD7541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4DF-40AC-4C76-9B2E-71D3A1DF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CD6-52FA-4F09-8DB2-B0D4945A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55F-91AA-474F-B64E-FD5F86B8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FD5-5F74-446B-ABC5-9C9B03C9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39E-14AC-4FE4-A8DB-2A916D35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9734-7340-4FB0-B613-1A1FAE377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y Sim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4360" y="2637000"/>
            <a:ext cx="7632720" cy="2772720"/>
            <a:chOff x="684360" y="2637000"/>
            <a:chExt cx="7632720" cy="2772720"/>
          </a:xfrm>
        </p:grpSpPr>
        <p:sp>
          <p:nvSpPr>
            <p:cNvPr id="91" name=""/>
            <p:cNvSpPr/>
            <p:nvPr/>
          </p:nvSpPr>
          <p:spPr>
            <a:xfrm>
              <a:off x="684360" y="4800600"/>
              <a:ext cx="68212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4360" y="263700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Modelo: represent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4360" y="335916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Simulador: Implementación de un 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3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1300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Espec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63844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“Ciencias de la Ingeniería”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  basa en “Ciencias básic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581360"/>
            <a:ext cx="84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ases: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icio  8:15 Hrs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    10:00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1197000"/>
          <a:ext cx="8785440" cy="39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97000"/>
                    <a:ext cx="87854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es Tem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8496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1. Modelación de Sistemas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2. Teoría de Sistemas 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3. Sistemas Lineales de Tiempo Continu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4. Sistemas Lineales de Tiempo Discret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Modelos en el Dominio de la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280" y="620640"/>
          <a:ext cx="89647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20640"/>
                    <a:ext cx="8964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Sistemas Dinámic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95640" y="4221000"/>
          <a:ext cx="3133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4221000"/>
                    <a:ext cx="3133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7600" y="4221000"/>
          <a:ext cx="151452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7600" y="4221000"/>
                    <a:ext cx="15145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211640" y="1989000"/>
            <a:ext cx="280836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9640" y="1773360"/>
            <a:ext cx="203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analiz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77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Control de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Diseño de nuevos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360" y="292428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Optimización de procesos   existent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un model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a representación de la Rea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model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4T11:55:53Z</dcterms:modified>
  <cp:revision>19</cp:revision>
  <dc:subject/>
  <dc:title>EL63A-Taller de Proyecto en Control II</dc:title>
</cp:coreProperties>
</file>