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067-E950-448D-B2BA-CE9C8784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861-BB44-4ECD-8BA9-D14A8B1C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C23-A3F5-4752-BA46-56CD5551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D04-ACDB-4067-8EAF-C24FAB6C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C30-120C-4A2B-A9C1-B51C60D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3D2-B578-407D-A074-55365E5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FD0-4DC6-43EA-9BD4-815F1F0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D6E-27BB-46D8-99EF-6788513B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6A8-9FE2-4089-9176-280577F8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239-B9E3-422D-93D0-6D0D347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B2D-BDA8-480A-8220-106A860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4D-5215-4E1B-B7CB-34610B8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DC61-143B-416E-949F-896246F307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6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7.wmf"/><Relationship Id="rId14" Type="http://schemas.openxmlformats.org/officeDocument/2006/relationships/package" Target="../embeddings/oleObject7.xlsx"/><Relationship Id="rId15" Type="http://schemas.openxmlformats.org/officeDocument/2006/relationships/image" Target="../media/image8.wmf"/><Relationship Id="rId16" Type="http://schemas.openxmlformats.org/officeDocument/2006/relationships/package" Target="../embeddings/oleObject8.xlsx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ementos del sistema Termóme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700280"/>
            <a:ext cx="316872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adas (u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alidas (y):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ados (x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16286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emperatura Externa (re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4908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ectura de temp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2972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lor en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4292640"/>
            <a:ext cx="6048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pacidad Cal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eficiente de Dila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ometría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¿Cómo Analizamos estos Sistem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7201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im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ular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imación de Paráme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64000" y="2060640"/>
            <a:ext cx="4952520" cy="2743200"/>
            <a:chOff x="3564000" y="2060640"/>
            <a:chExt cx="4952520" cy="2743200"/>
          </a:xfrm>
        </p:grpSpPr>
        <p:sp>
          <p:nvSpPr>
            <p:cNvPr id="162" name=""/>
            <p:cNvSpPr/>
            <p:nvPr/>
          </p:nvSpPr>
          <p:spPr>
            <a:xfrm>
              <a:off x="3564000" y="206064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249800" y="2551320"/>
              <a:ext cx="4266720" cy="1161360"/>
              <a:chOff x="4249800" y="2551320"/>
              <a:chExt cx="4266720" cy="1161360"/>
            </a:xfrm>
          </p:grpSpPr>
          <p:sp>
            <p:nvSpPr>
              <p:cNvPr id="164" name=""/>
              <p:cNvSpPr/>
              <p:nvPr/>
            </p:nvSpPr>
            <p:spPr>
              <a:xfrm>
                <a:off x="7678440" y="2551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99"/>
                    </a:solidFill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249800" y="2779920"/>
                <a:ext cx="3979800" cy="932760"/>
                <a:chOff x="4249800" y="2779920"/>
                <a:chExt cx="3979800" cy="932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697360" y="277992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PROCES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697360" y="331380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MODEL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297560" y="300852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297560" y="354276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0" name=""/>
                    <p:cNvSpPr txBox="1"/>
                    <p:nvPr/>
                  </p:nvSpPr>
                  <p:spPr>
                    <a:xfrm>
                      <a:off x="7754760" y="3161160"/>
                      <a:ext cx="21924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71" name=""/>
                <p:cNvSpPr/>
                <p:nvPr/>
              </p:nvSpPr>
              <p:spPr>
                <a:xfrm>
                  <a:off x="5087880" y="3008520"/>
                  <a:ext cx="0" cy="543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87880" y="300852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87880" y="354276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402080" y="3237480"/>
                  <a:ext cx="69840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49800" y="2779920"/>
                  <a:ext cx="2962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333399"/>
                      </a:solidFill>
                      <a:latin typeface="Verdan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64200" y="3978360"/>
                  <a:ext cx="22604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y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 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276360" cy="1903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500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42920" y="436572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4508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4360" y="2276640"/>
            <a:ext cx="7343280" cy="480960"/>
            <a:chOff x="684360" y="2276640"/>
            <a:chExt cx="7343280" cy="480960"/>
          </a:xfrm>
        </p:grpSpPr>
        <p:sp>
          <p:nvSpPr>
            <p:cNvPr id="185" name=""/>
            <p:cNvSpPr/>
            <p:nvPr/>
          </p:nvSpPr>
          <p:spPr>
            <a:xfrm>
              <a:off x="3383280" y="2276640"/>
              <a:ext cx="46443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enomenológico - Empír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4360" y="2276640"/>
              <a:ext cx="269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4360" y="2917800"/>
            <a:ext cx="7416360" cy="582480"/>
            <a:chOff x="684360" y="2917800"/>
            <a:chExt cx="7416360" cy="582480"/>
          </a:xfrm>
        </p:grpSpPr>
        <p:sp>
          <p:nvSpPr>
            <p:cNvPr id="188" name=""/>
            <p:cNvSpPr/>
            <p:nvPr/>
          </p:nvSpPr>
          <p:spPr>
            <a:xfrm>
              <a:off x="3410280" y="2930400"/>
              <a:ext cx="4690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terminísticos – Aleato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360" y="2917800"/>
              <a:ext cx="2725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aturale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4360" y="3605040"/>
            <a:ext cx="7200360" cy="831960"/>
            <a:chOff x="684360" y="3605040"/>
            <a:chExt cx="7200360" cy="831960"/>
          </a:xfrm>
        </p:grpSpPr>
        <p:sp>
          <p:nvSpPr>
            <p:cNvPr id="191" name=""/>
            <p:cNvSpPr/>
            <p:nvPr/>
          </p:nvSpPr>
          <p:spPr>
            <a:xfrm>
              <a:off x="3330720" y="3605040"/>
              <a:ext cx="45540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onovariables – Multi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360" y="3605040"/>
              <a:ext cx="26463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úmero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84360" y="4670280"/>
            <a:ext cx="7200360" cy="1495440"/>
            <a:chOff x="684360" y="4670280"/>
            <a:chExt cx="7200360" cy="1495440"/>
          </a:xfrm>
        </p:grpSpPr>
        <p:sp>
          <p:nvSpPr>
            <p:cNvPr id="194" name=""/>
            <p:cNvSpPr/>
            <p:nvPr/>
          </p:nvSpPr>
          <p:spPr>
            <a:xfrm>
              <a:off x="3330720" y="4670280"/>
              <a:ext cx="45540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4670280"/>
              <a:ext cx="264636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ntinuidad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360" y="6165720"/>
              <a:ext cx="720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451720" y="1601640"/>
            <a:ext cx="9720" cy="478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132000" y="1557000"/>
            <a:ext cx="0" cy="48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601640"/>
            <a:ext cx="0" cy="478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01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33360" y="638172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5180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51648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8782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14776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1720" y="1601640"/>
            <a:ext cx="7920" cy="434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3200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601640"/>
            <a:ext cx="0" cy="434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19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3360" y="59500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2293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2195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139920"/>
            <a:ext cx="8127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147760"/>
            <a:ext cx="8127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5280" y="3213000"/>
            <a:ext cx="8064000" cy="914400"/>
            <a:chOff x="395280" y="3213000"/>
            <a:chExt cx="8064000" cy="914400"/>
          </a:xfrm>
        </p:grpSpPr>
        <p:sp>
          <p:nvSpPr>
            <p:cNvPr id="232" name=""/>
            <p:cNvSpPr/>
            <p:nvPr/>
          </p:nvSpPr>
          <p:spPr>
            <a:xfrm>
              <a:off x="3359160" y="3213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 - In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5280" y="3213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8360" y="4221000"/>
            <a:ext cx="7990920" cy="914400"/>
            <a:chOff x="468360" y="4221000"/>
            <a:chExt cx="7990920" cy="914400"/>
          </a:xfrm>
        </p:grpSpPr>
        <p:sp>
          <p:nvSpPr>
            <p:cNvPr id="235" name=""/>
            <p:cNvSpPr/>
            <p:nvPr/>
          </p:nvSpPr>
          <p:spPr>
            <a:xfrm>
              <a:off x="3405240" y="4221000"/>
              <a:ext cx="505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ineales – No line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360" y="4221000"/>
              <a:ext cx="2936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Linealidad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5280" y="2205000"/>
            <a:ext cx="8064000" cy="914400"/>
            <a:chOff x="395280" y="2205000"/>
            <a:chExt cx="8064000" cy="914400"/>
          </a:xfrm>
        </p:grpSpPr>
        <p:sp>
          <p:nvSpPr>
            <p:cNvPr id="238" name=""/>
            <p:cNvSpPr/>
            <p:nvPr/>
          </p:nvSpPr>
          <p:spPr>
            <a:xfrm>
              <a:off x="3359160" y="2205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. concentradas – V. distribu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5280" y="2205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espa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5280" y="3119400"/>
              <a:ext cx="3011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68360" y="5211720"/>
            <a:ext cx="7990920" cy="665280"/>
            <a:chOff x="468360" y="5211720"/>
            <a:chExt cx="7990920" cy="665280"/>
          </a:xfrm>
        </p:grpSpPr>
        <p:sp>
          <p:nvSpPr>
            <p:cNvPr id="242" name=""/>
            <p:cNvSpPr/>
            <p:nvPr/>
          </p:nvSpPr>
          <p:spPr>
            <a:xfrm>
              <a:off x="3405240" y="5211720"/>
              <a:ext cx="50540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ausales - Anticip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360" y="5211720"/>
              <a:ext cx="29368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lizabi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360" y="5877000"/>
              <a:ext cx="79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1773360"/>
            <a:ext cx="7200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sados en la Fenomenología del sistema, es decir fenómen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3141720"/>
            <a:ext cx="56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ecánic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Hidráu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léc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e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916280"/>
            <a:ext cx="7848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Leyes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Principio de Mínima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91628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servación 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70828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a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er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rga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1916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- Plantear ecuaciones de balance diná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2997360"/>
            <a:ext cx="7921800" cy="1800000"/>
            <a:chOff x="539640" y="2997360"/>
            <a:chExt cx="7921800" cy="1800000"/>
          </a:xfrm>
        </p:grpSpPr>
        <p:sp>
          <p:nvSpPr>
            <p:cNvPr id="264" name=""/>
            <p:cNvSpPr/>
            <p:nvPr/>
          </p:nvSpPr>
          <p:spPr>
            <a:xfrm>
              <a:off x="61128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Variación de X en e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1964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Entrada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56360" y="3068640"/>
              <a:ext cx="2305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Generación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500280"/>
              <a:ext cx="6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3500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1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636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276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- Expresar ecuaciones de balance, en función de variables de entrada y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005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- Determinar pará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7336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mensionamiento de equip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ción de 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ptimización de Proceso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seño de Estrategias de Operación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77336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jemplo 1: 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78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lance de calor: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4005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+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88000" y="4005360"/>
            <a:ext cx="576000" cy="79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k*A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/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581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8136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k:  Conductividad térmica vidrio (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: Área de 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:   Espesor vid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263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:  Capacidad calórica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50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4437000"/>
            <a:ext cx="49690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5373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puesto: Ajustar parámetros obtener curv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s en sistemas d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2637000"/>
            <a:ext cx="5400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Exp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trol Predi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700280"/>
            <a:ext cx="4465440" cy="1582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0560" y="4365720"/>
            <a:ext cx="2881440" cy="122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06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33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i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48360" y="3197160"/>
            <a:ext cx="2663640" cy="954000"/>
            <a:chOff x="5148360" y="3197160"/>
            <a:chExt cx="2663640" cy="954000"/>
          </a:xfrm>
        </p:grpSpPr>
        <p:sp>
          <p:nvSpPr>
            <p:cNvPr id="62" name=""/>
            <p:cNvSpPr/>
            <p:nvPr/>
          </p:nvSpPr>
          <p:spPr>
            <a:xfrm>
              <a:off x="5219640" y="36306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j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1640" y="31971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8360" y="32130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87280" y="1773360"/>
            <a:ext cx="6697800" cy="4537080"/>
            <a:chOff x="1187280" y="1773360"/>
            <a:chExt cx="6697800" cy="4537080"/>
          </a:xfrm>
        </p:grpSpPr>
        <p:sp>
          <p:nvSpPr>
            <p:cNvPr id="69" name=""/>
            <p:cNvSpPr/>
            <p:nvPr/>
          </p:nvSpPr>
          <p:spPr>
            <a:xfrm>
              <a:off x="4427640" y="1990800"/>
              <a:ext cx="215640" cy="4032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6000" y="1773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08360" y="5734080"/>
              <a:ext cx="1655640" cy="576360"/>
            </a:xfrm>
            <a:prstGeom prst="blockArc">
              <a:avLst>
                <a:gd name="adj1" fmla="val 10737810"/>
                <a:gd name="adj2" fmla="val 62190"/>
                <a:gd name="adj3" fmla="val 47185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1280" y="2492280"/>
              <a:ext cx="4248360" cy="144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033640" y="3303360"/>
              <a:ext cx="900000" cy="259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IMPLE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138720" y="3303360"/>
              <a:ext cx="900000" cy="259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REC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18728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2484000" y="2637000"/>
              <a:ext cx="129564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29272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6589800" y="2637000"/>
              <a:ext cx="12952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4360" y="2203560"/>
              <a:ext cx="1222200" cy="28872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84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Ejemplo: Termómetr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2924280"/>
              <a:ext cx="7632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20000" y="1773360"/>
            <a:ext cx="288720" cy="4319280"/>
            <a:chOff x="7020000" y="1773360"/>
            <a:chExt cx="288720" cy="4319280"/>
          </a:xfrm>
        </p:grpSpPr>
        <p:sp>
          <p:nvSpPr>
            <p:cNvPr id="88" name=""/>
            <p:cNvSpPr/>
            <p:nvPr/>
          </p:nvSpPr>
          <p:spPr>
            <a:xfrm>
              <a:off x="7078320" y="1773360"/>
              <a:ext cx="172800" cy="4079880"/>
            </a:xfrm>
            <a:custGeom>
              <a:avLst/>
              <a:gdLst>
                <a:gd name="textAreaLeft" fmla="*/ 8280 w 172800"/>
                <a:gd name="textAreaRight" fmla="*/ 164520 w 172800"/>
                <a:gd name="textAreaTop" fmla="*/ 8280 h 4079880"/>
                <a:gd name="textAreaBottom" fmla="*/ 4071600 h 4079880"/>
              </a:gdLst>
              <a:ahLst/>
              <a:rect l="textAreaLeft" t="textAreaTop" r="textAreaRight" b="textAreaBottom"/>
              <a:pathLst>
                <a:path w="21600" h="508970">
                  <a:moveTo>
                    <a:pt x="3600" y="0"/>
                  </a:moveTo>
                  <a:arcTo wR="3600" hR="3600" stAng="16200000" swAng="-5400000"/>
                  <a:lnTo>
                    <a:pt x="0" y="505370"/>
                  </a:lnTo>
                  <a:arcTo wR="3600" hR="3600" stAng="10800000" swAng="-5400000"/>
                  <a:lnTo>
                    <a:pt x="18000" y="5089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36640" y="1895040"/>
              <a:ext cx="57240" cy="401904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4019040"/>
                <a:gd name="textAreaBottom" fmla="*/ 4016520 h 4019040"/>
              </a:gdLst>
              <a:ahLst/>
              <a:rect l="textAreaLeft" t="textAreaTop" r="textAreaRight" b="textAreaBottom"/>
              <a:pathLst>
                <a:path w="21600" h="1507275">
                  <a:moveTo>
                    <a:pt x="3600" y="0"/>
                  </a:moveTo>
                  <a:arcTo wR="3600" hR="3600" stAng="16200000" swAng="-5400000"/>
                  <a:lnTo>
                    <a:pt x="0" y="1503675"/>
                  </a:lnTo>
                  <a:arcTo wR="3600" hR="3600" stAng="10800000" swAng="-5400000"/>
                  <a:lnTo>
                    <a:pt x="18000" y="1507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35560" y="4474080"/>
              <a:ext cx="57240" cy="144000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1440000"/>
                <a:gd name="textAreaBottom" fmla="*/ 1437480 h 1440000"/>
              </a:gdLst>
              <a:ahLst/>
              <a:rect l="textAreaLeft" t="textAreaTop" r="textAreaRight" b="textAreaBottom"/>
              <a:pathLst>
                <a:path w="21600" h="540135">
                  <a:moveTo>
                    <a:pt x="3600" y="0"/>
                  </a:moveTo>
                  <a:arcTo wR="3600" hR="3600" stAng="16200000" swAng="-5400000"/>
                  <a:lnTo>
                    <a:pt x="0" y="536535"/>
                  </a:lnTo>
                  <a:arcTo wR="3600" hR="3600" stAng="10800000" swAng="-5400000"/>
                  <a:lnTo>
                    <a:pt x="18000" y="540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5793840"/>
              <a:ext cx="288720" cy="29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135200" y="2013840"/>
              <a:ext cx="115560" cy="3299040"/>
              <a:chOff x="7135200" y="2013840"/>
              <a:chExt cx="115560" cy="32990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7135200" y="20138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7135200" y="23133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135200" y="26154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135200" y="29152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135200" y="32144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135200" y="35143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135200" y="38116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135200" y="41115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135200" y="44132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135200" y="47131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7135200" y="50130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7135200" y="53128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39640" y="620640"/>
          <a:ext cx="747576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747576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619200"/>
          <a:ext cx="7493040" cy="5473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61920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34960" y="620640"/>
          <a:ext cx="7493040" cy="547380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96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627280" y="4076640"/>
            <a:ext cx="4826160" cy="820080"/>
            <a:chOff x="2627280" y="4076640"/>
            <a:chExt cx="4826160" cy="820080"/>
          </a:xfrm>
        </p:grpSpPr>
        <p:sp>
          <p:nvSpPr>
            <p:cNvPr id="124" name=""/>
            <p:cNvSpPr/>
            <p:nvPr/>
          </p:nvSpPr>
          <p:spPr>
            <a:xfrm rot="16200000">
              <a:off x="3816360" y="2889360"/>
              <a:ext cx="287280" cy="2665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156360" y="3284280"/>
              <a:ext cx="287280" cy="1872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2000"/>
                <a:gd name="textAreaBottom" fmla="*/ 182340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9280" y="4437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Transci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64000" y="4437000"/>
              <a:ext cx="20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erma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el termómetro un Sistema Dinámic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14172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relevante su Dinámic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lementos de un Sist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78440" y="2828880"/>
            <a:ext cx="2087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608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080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6600" y="47721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“extern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0960" y="31161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8080" y="31161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idas 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5520" y="2324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riable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22800" y="3043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do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24600" y="3691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205000"/>
            <a:ext cx="360360" cy="2303640"/>
          </a:xfrm>
          <a:custGeom>
            <a:avLst/>
            <a:gdLst>
              <a:gd name="textAreaLeft" fmla="*/ 0 w 360360"/>
              <a:gd name="textAreaRight" fmla="*/ 129960 w 360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2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ipuladas (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turbaciones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1T03:13:32Z</dcterms:modified>
  <cp:revision>22</cp:revision>
  <dc:subject/>
  <dc:title>EL63A-Taller de Proyecto en Control II</dc:title>
</cp:coreProperties>
</file>