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F8E-F636-4B55-AC94-81DED92E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4F8-1AA5-48DF-B515-FD1E55ED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701-A7D9-4B15-AD6E-20E5AE80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AA7-5B2F-49E2-834D-1A895C18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E02-0295-423A-B2BE-4A0EF6D4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CF2-EE76-4BAE-962E-3B89CD3B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CF5-5F5A-4365-8EB0-728F436E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288-1767-4988-AA9B-247690C2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41E-6B0F-4322-B205-EAD41A68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D9E-3009-4463-95B7-A14AC1D6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E4F-83F3-42CB-BFB4-F9ECAEF6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98E-7DD5-4626-85E7-A02DDCDC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2017-064E-42BC-993F-9776D111E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581280" cy="208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bajo en Cl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450864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1156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1280" y="5877000"/>
            <a:ext cx="1441440" cy="287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601992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44640"/>
            <a:ext cx="7848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Obtener el modelo fenomenológico del siguiente sistema en tiempo disc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4003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9800" y="5516640"/>
            <a:ext cx="17272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3280" y="3284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= 0, T, 2T, …nT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060640"/>
            <a:ext cx="741672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iendo los mismos supuestos que en el caso de tiemp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: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9178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do:     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ida:   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n)= 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206064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yes de Conservación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-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(n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37162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ordenando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= h(n)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-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)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544500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en hoja de cál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ación Empír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773360"/>
            <a:ext cx="85690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enomenología desconocidas (Caja Neg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esconocida en parte (modelos gri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stemas no lin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mplificar fenóme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268280"/>
            <a:ext cx="856908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paramétricos E/S (entrada/salida) de tiempo discreto Lineales en los pará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orma gene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637160"/>
            <a:ext cx="91440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3:49Z</dcterms:modified>
  <cp:revision>29</cp:revision>
  <dc:subject/>
  <dc:title>EL63A-Taller de Proyecto en Control II</dc:title>
</cp:coreProperties>
</file>