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5.png" ContentType="image/png"/>
  <Override PartName="/ppt/media/image9.png" ContentType="image/png"/>
  <Override PartName="/ppt/media/image12.wmf" ContentType="image/x-wmf"/>
  <Override PartName="/ppt/media/image4.png" ContentType="image/png"/>
  <Override PartName="/ppt/media/image8.png" ContentType="image/png"/>
  <Override PartName="/ppt/media/image11.wmf" ContentType="image/x-wmf"/>
  <Override PartName="/ppt/media/image3.png" ContentType="image/png"/>
  <Override PartName="/ppt/media/image7.png" ContentType="image/png"/>
  <Override PartName="/ppt/media/image15.wmf" ContentType="image/x-wmf"/>
  <Override PartName="/ppt/media/image10.wmf" ContentType="image/x-wmf"/>
  <Override PartName="/ppt/media/image2.png" ContentType="image/png"/>
  <Override PartName="/ppt/media/image26.wmf" ContentType="image/x-wmf"/>
  <Override PartName="/ppt/media/image6.png" ContentType="image/png"/>
  <Override PartName="/ppt/media/image14.wmf" ContentType="image/x-wmf"/>
  <Override PartName="/ppt/media/image25.wmf" ContentType="image/x-wmf"/>
  <Override PartName="/ppt/media/image24.wmf" ContentType="image/x-wmf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D72D8-7E9F-4C53-A4EA-63D5535FC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76BCC-DFA0-42AE-8685-05B76D5BF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B97A9-9D4E-414B-AD55-F887650D3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8E778-4289-49FF-AE7D-901E004D3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5A5C7-60CC-4EDA-8B8A-56152F304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281B7-5210-4F98-920E-5B94DCDA4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2666B-F1DD-4435-AAF4-432E1987A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FC5F0-ACCC-4B6E-8720-3391D3546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4921C-4095-4C53-B5DA-818CC8CD0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B1D86-A955-40BD-8436-AE6651654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0E963-AB0E-4132-AC89-239038BBF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4A797-1000-4E5E-B1FF-7B9BFBD64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C2812-F09D-417F-8BF0-CCB72AD39617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7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png"/><Relationship Id="rId3" Type="http://schemas.openxmlformats.org/officeDocument/2006/relationships/image" Target="../media/image24.wmf"/><Relationship Id="rId4" Type="http://schemas.openxmlformats.org/officeDocument/2006/relationships/image" Target="../media/image25.wmf"/><Relationship Id="rId5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wmf"/><Relationship Id="rId3" Type="http://schemas.openxmlformats.org/officeDocument/2006/relationships/image" Target="../media/image26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000" y="1413000"/>
            <a:ext cx="791532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EL32D- Análisis y Modelación de Sistemas Dinámico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634920" y="5516280"/>
            <a:ext cx="4568760" cy="62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rof: Héctor Agusto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EL32D- Análisis y Modelación de Sistemas Dinám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760320" y="299736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odelos Empíricos ARX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EL32D- Análisis y Modelación de Sistemas Dinám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1268280"/>
            <a:ext cx="856944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1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Datos Validación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1908000" y="1916280"/>
            <a:ext cx="6086520" cy="45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odelos Empíricos ARX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EL32D- Análisis y Modelación de Sistemas Dinám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1268280"/>
            <a:ext cx="856944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1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Resultado Validación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1692360" y="1916280"/>
            <a:ext cx="6095880" cy="45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odelos Empíricos ARX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EL32D- Análisis y Modelación de Sistemas Dinám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1268280"/>
            <a:ext cx="856944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1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Ejemplo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348000" y="1846440"/>
            <a:ext cx="1655640" cy="577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851280" y="242424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635280" y="2711520"/>
            <a:ext cx="21600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 flipV="1">
            <a:off x="3635280" y="2855520"/>
            <a:ext cx="21600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3635280" y="2998800"/>
            <a:ext cx="21600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 flipV="1">
            <a:off x="3635280" y="3143160"/>
            <a:ext cx="21600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3635280" y="3286080"/>
            <a:ext cx="21600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3635280" y="3430440"/>
            <a:ext cx="21600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851280" y="35751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356000" y="242424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211640" y="32162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140360" y="343224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572000" y="292752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140360" y="292752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356000" y="343224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113280" y="265284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716720" y="2711520"/>
            <a:ext cx="45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419640" y="3863880"/>
            <a:ext cx="158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3419280" y="3863880"/>
            <a:ext cx="21564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3635280" y="3863880"/>
            <a:ext cx="21600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3851280" y="3863880"/>
            <a:ext cx="21600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4066920" y="3863880"/>
            <a:ext cx="21564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4284720" y="3863880"/>
            <a:ext cx="21600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4500360" y="3863880"/>
            <a:ext cx="21564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4716360" y="3863880"/>
            <a:ext cx="21600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140360" y="1198440"/>
            <a:ext cx="0" cy="648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140360" y="1125360"/>
            <a:ext cx="158400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700360" y="2349360"/>
            <a:ext cx="0" cy="792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2626920" y="2349360"/>
            <a:ext cx="14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97080" y="206208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971640" y="4581360"/>
            <a:ext cx="7561080" cy="86688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0" y="3933720"/>
            <a:ext cx="856944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1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Modelo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3"/>
          <a:stretch/>
        </p:blipFill>
        <p:spPr>
          <a:xfrm>
            <a:off x="1619280" y="5516640"/>
            <a:ext cx="5832360" cy="88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odelos Empíric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EL32D- Análisis y Modelación de Sistemas Dinám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95280" y="2349360"/>
            <a:ext cx="8569440" cy="17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1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el caso general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11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¿</a:t>
            </a: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Cómo elijo la estructura del model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74560" y="4653000"/>
            <a:ext cx="85694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1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licar Regresión por Pas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egresión por pasos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EL32D- Análisis y Modelación de Sistemas Dinám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39640" y="2060640"/>
            <a:ext cx="7772400" cy="21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legir, de un conjunto de variables candidatas, las que serán parte del modelo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EL32D- Análisis y Modelación de Sistemas Dinám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08000" y="1409760"/>
            <a:ext cx="889308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1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Sea:                                 variables candidat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2340000" y="5157720"/>
            <a:ext cx="3743280" cy="97488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900000" y="33336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egresión por pasos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1332000" y="1413000"/>
          <a:ext cx="3166920" cy="936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32000" y="1413000"/>
                    <a:ext cx="3166920" cy="93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6" name=""/>
          <p:cNvGraphicFramePr/>
          <p:nvPr/>
        </p:nvGraphicFramePr>
        <p:xfrm>
          <a:off x="611280" y="3357720"/>
          <a:ext cx="6840360" cy="933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11280" y="3357720"/>
                    <a:ext cx="6840360" cy="93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8" name=""/>
          <p:cNvSpPr/>
          <p:nvPr/>
        </p:nvSpPr>
        <p:spPr>
          <a:xfrm>
            <a:off x="250920" y="2421000"/>
            <a:ext cx="738036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1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Debo “elegir” </a:t>
            </a:r>
            <a:r>
              <a:rPr b="1" i="1" lang="es-ES_tradnl" sz="3600" spc="-1" strike="noStrike">
                <a:solidFill>
                  <a:srgbClr val="000000"/>
                </a:solidFill>
                <a:latin typeface="Times New Roman"/>
              </a:rPr>
              <a:t>m &lt; M, </a:t>
            </a: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tal que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4365720"/>
            <a:ext cx="889308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1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Conforme el “mejor” modelo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EL32D- Análisis y Modelación de Sistemas Dinám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0" y="1773360"/>
            <a:ext cx="889308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1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0.- Normalizar vari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82692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egresión por pasos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1116000" y="2781360"/>
            <a:ext cx="6985080" cy="14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EL32D- Análisis y Modelación de Sistemas Dinám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1773360"/>
            <a:ext cx="8893080" cy="158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1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1.- Primera integrante 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11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con mejor correlación c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82692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egresión por pasos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324000" y="2637000"/>
          <a:ext cx="1223640" cy="803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4000" y="2637000"/>
                    <a:ext cx="1223640" cy="80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1" name="" descr=""/>
          <p:cNvPicPr/>
          <p:nvPr/>
        </p:nvPicPr>
        <p:blipFill>
          <a:blip r:embed="rId4"/>
          <a:stretch/>
        </p:blipFill>
        <p:spPr>
          <a:xfrm>
            <a:off x="6804000" y="2771640"/>
            <a:ext cx="1008000" cy="72864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5"/>
          <a:stretch/>
        </p:blipFill>
        <p:spPr>
          <a:xfrm>
            <a:off x="2556000" y="4076640"/>
            <a:ext cx="3425760" cy="105732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250920" y="5300640"/>
            <a:ext cx="511308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1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Ajusto parámetro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EL32D- Análisis y Modelación de Sistemas Dinám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1773360"/>
            <a:ext cx="8893080" cy="158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1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2.- Segunda integrante 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11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con mejor correlación c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82692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egresión por pasos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2"/>
          <a:stretch/>
        </p:blipFill>
        <p:spPr>
          <a:xfrm>
            <a:off x="6408720" y="2637000"/>
            <a:ext cx="2771640" cy="88236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0" y="3086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3"/>
          <a:stretch/>
        </p:blipFill>
        <p:spPr>
          <a:xfrm>
            <a:off x="1763640" y="3933720"/>
            <a:ext cx="5477040" cy="96228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4"/>
          <a:stretch/>
        </p:blipFill>
        <p:spPr>
          <a:xfrm>
            <a:off x="142920" y="2705040"/>
            <a:ext cx="1116000" cy="79524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250920" y="5300640"/>
            <a:ext cx="511308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1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Ajusto parámetro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EL32D- Análisis y Modelación de Sistemas Dinám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0" y="1773360"/>
            <a:ext cx="8893080" cy="158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1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n.- Siguiente integrante 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11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con mejor correlación c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82692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egresión por pasos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3086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>
            <a:off x="142920" y="2705040"/>
            <a:ext cx="1116000" cy="79524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3"/>
          <a:stretch/>
        </p:blipFill>
        <p:spPr>
          <a:xfrm>
            <a:off x="6516720" y="2565360"/>
            <a:ext cx="2347920" cy="87480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395280" y="3860640"/>
            <a:ext cx="835344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1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Obtengo estructura, ajusto parámetro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39640" y="4941720"/>
            <a:ext cx="705672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1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Aplico Criterio de descar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structura de los Modelos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EL32D- Análisis y Modelación de Sistemas Dinám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79280" y="1484280"/>
            <a:ext cx="856944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1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ff"/>
                </a:solidFill>
                <a:latin typeface="Times New Roman"/>
              </a:rPr>
              <a:t>Usando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971640" y="2133720"/>
            <a:ext cx="7704000" cy="22111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79280" y="4437000"/>
            <a:ext cx="856944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1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ff"/>
                </a:solidFill>
                <a:latin typeface="Times New Roman"/>
              </a:rPr>
              <a:t>Se obtien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700360" y="5054760"/>
            <a:ext cx="3743280" cy="97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EL32D- Análisis y Modelación de Sistemas Dinám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82692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egresión por pasos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3086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826920" y="1628640"/>
            <a:ext cx="705672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1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Criterio de descarte: varianza asociada al parámetro previo &lt; </a:t>
            </a:r>
            <a:r>
              <a:rPr b="1" lang="es-ES_tradnl" sz="3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55640" y="3645000"/>
            <a:ext cx="705636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1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Criterio de detención: varianza asociada al parámetro nuevo &lt; </a:t>
            </a:r>
            <a:r>
              <a:rPr b="1" lang="es-ES_tradnl" sz="3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structura de los Modelos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EL32D- Análisis y Modelación de Sistemas Dinám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-36360" y="1422360"/>
            <a:ext cx="6443640" cy="274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1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ff"/>
                </a:solidFill>
                <a:latin typeface="Times New Roman"/>
              </a:rPr>
              <a:t>Caso particular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11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ff"/>
                </a:solidFill>
                <a:latin typeface="Times New Roman"/>
              </a:rPr>
              <a:t>Modelos AR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115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Times New Roman"/>
              </a:rPr>
              <a:t>(AutoRegresive with eXogenous input, auto-regresivo con entrada exógen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2268360" y="5084640"/>
            <a:ext cx="4105440" cy="10717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3708360" y="1911240"/>
            <a:ext cx="5435640" cy="10670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-181080" y="4221000"/>
            <a:ext cx="4465800" cy="7527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5"/>
          <a:stretch/>
        </p:blipFill>
        <p:spPr>
          <a:xfrm>
            <a:off x="4788000" y="4437000"/>
            <a:ext cx="4356000" cy="57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structura de los Modelos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EL32D- Análisis y Modelación de Sistemas Dinám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0" y="1268280"/>
            <a:ext cx="8569440" cy="29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1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ff"/>
                </a:solidFill>
                <a:latin typeface="Times New Roman"/>
              </a:rPr>
              <a:t>Generaliza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11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ff"/>
                </a:solidFill>
                <a:latin typeface="Times New Roman"/>
              </a:rPr>
              <a:t>Modelos ARMA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115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(AutoRegressive with Moving Average and Exogenous input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1979640" y="4352760"/>
            <a:ext cx="4680000" cy="13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odelos Empíricos ARX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EL32D- Análisis y Modelación de Sistemas Dinám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0" y="1268280"/>
            <a:ext cx="856944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1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Ejemplo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348000" y="2133720"/>
            <a:ext cx="1655640" cy="577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851280" y="271152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3635280" y="2998800"/>
            <a:ext cx="21600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H="1" flipV="1">
            <a:off x="3635280" y="3143160"/>
            <a:ext cx="21600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3635280" y="3286080"/>
            <a:ext cx="21600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 flipV="1">
            <a:off x="3635280" y="3430440"/>
            <a:ext cx="21600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3635280" y="3573360"/>
            <a:ext cx="21600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635280" y="3717720"/>
            <a:ext cx="21600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51280" y="386244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356000" y="271152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211640" y="350352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40360" y="371952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572000" y="32148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40360" y="32148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56000" y="37195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113280" y="294012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720" y="2998800"/>
            <a:ext cx="45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419640" y="4151160"/>
            <a:ext cx="158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419280" y="4151160"/>
            <a:ext cx="21564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635280" y="4151160"/>
            <a:ext cx="21600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3851280" y="4151160"/>
            <a:ext cx="21600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4066920" y="4151160"/>
            <a:ext cx="21564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4284720" y="4151160"/>
            <a:ext cx="21600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4500360" y="4151160"/>
            <a:ext cx="21564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4716360" y="4151160"/>
            <a:ext cx="21600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140360" y="1486080"/>
            <a:ext cx="0" cy="647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140360" y="1413000"/>
            <a:ext cx="158400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00360" y="2637000"/>
            <a:ext cx="0" cy="792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2626920" y="2637000"/>
            <a:ext cx="14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197080" y="234936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324000" y="5300640"/>
            <a:ext cx="7993080" cy="91584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0" y="4365720"/>
            <a:ext cx="856944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1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Modelo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odelos Empíricos ARX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EL32D- Análisis y Modelación de Sistemas Dinám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1268280"/>
            <a:ext cx="856944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1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Datos real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2050920" y="1844640"/>
            <a:ext cx="6029280" cy="44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odelos Empíricos ARX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EL32D- Análisis y Modelación de Sistemas Dinám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1268280"/>
            <a:ext cx="856944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1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Datos muestreo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2085840" y="1916280"/>
            <a:ext cx="6086520" cy="45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odelos Empíricos ARX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EL32D- Análisis y Modelación de Sistemas Dinám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1268280"/>
            <a:ext cx="856944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1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Resultado Ajust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468360" y="4653000"/>
            <a:ext cx="7993080" cy="91584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1835280" y="2565360"/>
            <a:ext cx="5735520" cy="94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odelos Empíricos ARX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EL32D- Análisis y Modelación de Sistemas Dinám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1268280"/>
            <a:ext cx="856944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1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Resultado Ajust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2268360" y="1916280"/>
            <a:ext cx="6096240" cy="45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4T16:52:24Z</dcterms:created>
  <dc:creator>Héctor Agusto A.</dc:creator>
  <dc:description/>
  <dc:language>en-US</dc:language>
  <cp:lastModifiedBy>Uchile</cp:lastModifiedBy>
  <dcterms:modified xsi:type="dcterms:W3CDTF">2007-08-07T01:34:59Z</dcterms:modified>
  <cp:revision>29</cp:revision>
  <dc:subject/>
  <dc:title>EL63A-Taller de Proyecto en Control II</dc:title>
</cp:coreProperties>
</file>