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44D-DC1E-4CF3-8270-B52CEB80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2BD-292B-46DF-8929-B608E2DA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138D-7218-462D-97C9-0785F21C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898-091F-4974-9CAA-8D1A773A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6A60-E371-4371-8107-38750ED7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CF5C-4B4B-4FA4-89F7-964EBBDF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2456-6433-4209-ABEA-B5AC466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C6C3-BEBB-442A-A530-569B240E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0C51-CDF1-4C26-A90E-47D89269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4639-3B37-48FC-AD66-E8318B10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018B-CB41-400C-9B4E-EF6ACD13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6A8-919C-461E-A843-CEC2E8A6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6005-D549-4112-B190-16DABB4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C432-4227-4E2E-9E81-F4FCE6A1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14AB-EA86-4862-BA73-8E4328E4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5A26-9157-4CE0-B690-CE79FE5F2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5776-E440-4D3E-B894-E48AD3EE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439F-0272-4246-9A72-955E9A13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E1E-0A6F-4ACC-A647-14187CAA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CAA9-0C34-43C5-9D00-FE186BA3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F86-5AF7-42E0-8B9D-227B653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958-F100-4341-9218-6C904B4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BC8-AF17-4691-89AF-7FAAD4A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D7C-50F2-466C-B24C-EB62D6E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F5A-B2FF-4B2F-85B3-93FE78E96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B3E3-C995-4FEB-9CA5-20889C9CD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2060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EL42D Control de Sistema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Clase Auxiliar: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Lugar Geométrico de las Raíces</a:t>
            </a:r>
            <a:br>
              <a:rPr sz="3000"/>
            </a:br>
            <a:r>
              <a:rPr b="1" lang="es-ES" sz="3000" spc="-1" strike="noStrike">
                <a:solidFill>
                  <a:srgbClr val="feec94"/>
                </a:solidFill>
                <a:latin typeface="Times New Roman"/>
              </a:rPr>
              <a:t>(LGR) </a:t>
            </a:r>
            <a:br>
              <a:rPr sz="3000"/>
            </a:br>
            <a:r>
              <a:rPr b="1" i="1" lang="es-ES" sz="1200" spc="-1" strike="noStrike">
                <a:solidFill>
                  <a:srgbClr val="feec94"/>
                </a:solidFill>
                <a:latin typeface="Times New Roman"/>
              </a:rPr>
              <a:t>(Last Greatest Runaway)</a:t>
            </a:r>
            <a:endParaRPr b="1" lang="en-US" sz="1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4365720"/>
            <a:ext cx="3744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Ayudant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Gonzalo Kaempfe 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Profes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Dra. Doris Sáez 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333360"/>
          <a:ext cx="3673440" cy="13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67344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971640" y="5013360"/>
          <a:ext cx="2431800" cy="8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5013360"/>
                    <a:ext cx="24318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Lugar geométrico de las raíc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500" spc="-1" strike="noStrike">
                <a:solidFill>
                  <a:srgbClr val="ffffff"/>
                </a:solidFill>
                <a:latin typeface="Tahoma"/>
              </a:rPr>
              <a:t>¿Qué es?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500" spc="-1" strike="noStrike">
                <a:solidFill>
                  <a:srgbClr val="ffffff"/>
                </a:solidFill>
                <a:latin typeface="Tahoma"/>
              </a:rPr>
              <a:t>Corresponde a los puntos del plano complejo, en donde se mueven los polos de un sistema en lazo cerrado con un controlador proporcional (o “sin compensar”), al variar la ganancia del controlado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43700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0" i="1" lang="es-ES_tradnl" sz="2600" spc="-1" strike="noStrike">
                <a:solidFill>
                  <a:srgbClr val="ffffff"/>
                </a:solidFill>
                <a:latin typeface="Tahoma"/>
              </a:rPr>
              <a:t>Cómo se determina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44500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NEX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Analógic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Dibujar polos y ceros del sistem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existe siempre que a la derecha se vea un número impar de polos y ceros en el eje real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LGR se inicia en los polos y, termina en los ceros o,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Si #Polos-#Ceros = N &gt; 0, entonces, el LGR de N polos debe terminar en el infinit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síntotas: 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Punto de Partida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3" marL="1879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Angulo de asíntotas c/r al eje real =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en el cual el LGR cruza el eje imaginario (K crítico que garantice estabilidad) se calcula utilizando el criterio de Routh-Hurwitz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punto de salida de los polos del LGR del eje real se calcula así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El ángulo de salida de un polo (o el ángulo de llegada de un cero) c/r al LGR se puede determinar con la condición de ángulo, solo si la planta en lazo abierto posee polos conjugad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995640" y="2708280"/>
          <a:ext cx="13082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708280"/>
                    <a:ext cx="13082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5435640" y="3645000"/>
          <a:ext cx="3284640" cy="49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645000"/>
                    <a:ext cx="3284640" cy="49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659640" y="4797360"/>
          <a:ext cx="1333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59640" y="4797360"/>
                    <a:ext cx="1333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eec94"/>
                </a:solidFill>
                <a:latin typeface="Tahoma"/>
              </a:rPr>
              <a:t>Diseño de LGR discreto</a:t>
            </a:r>
            <a:endParaRPr b="1" lang="en-US" sz="3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s casi la misma historia. A continuación se muestran las principales diferencia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punto de partida del eje real se calcula con la siguiente relació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El K crítico se calcula con el criterio de Jury o con el criterio de Routh Hurwitz, aplicando la transformación bilineal y utilizando la sigueinte aproximación, para encontrar el w ficticio crí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(W es un número complejo: W=a+j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580000" y="2060640"/>
          <a:ext cx="180036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2060640"/>
                    <a:ext cx="180036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580000" y="3429000"/>
          <a:ext cx="183528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429000"/>
                    <a:ext cx="183528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ahoma"/>
              </a:rPr>
              <a:t>Diseño de controladores en base a LGR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2:18:07Z</dcterms:created>
  <dc:creator>Gonzalo Kaempfe</dc:creator>
  <dc:description/>
  <dc:language>en-US</dc:language>
  <cp:lastModifiedBy>Sala</cp:lastModifiedBy>
  <dcterms:modified xsi:type="dcterms:W3CDTF">2007-09-27T13:37:09Z</dcterms:modified>
  <cp:revision>18</cp:revision>
  <dc:subject/>
  <dc:title>EL41B Laboratorio de Redes  Experiencia Electiva I: Resistencias y Condensadores en Potencia.</dc:title>
</cp:coreProperties>
</file>