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2A1F1-5FE2-4888-9444-FBA8A548A2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FE112-BA9E-423C-9778-FC02A20B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7FE9-E5B2-4B23-B030-2CACD7F0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372D0-9D51-4937-B966-EF1A96B8F7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0E756-7401-4ED5-9DE9-4451DE60D7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14EF1-146F-48F7-A57C-1B11C165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3F04C-FEA5-4E2C-A888-41C5066C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62205-1C63-4410-91D5-1C981963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CC8DD-14E1-4F66-970B-E761D161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89338-5E61-4AE2-981C-43B5F1C9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3F4BF-8FDD-40DC-BCDD-E7A48BDA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3F17A-44E4-4EF5-8519-8165137A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54119-94AB-415D-8152-CF01094F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FF0DB-FDA1-4775-B889-7B6E0CE6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2B776-6FE5-46BD-BE5E-1004A8A6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10EEB-D75C-4043-944F-10383E85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D8B67-6999-445D-9E34-D9500CE197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9700-03F8-4634-8E64-402F7A6369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1754-9EB6-48E4-8A75-D93B6A15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3FFD-76CB-42D8-BF9D-FACD5395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170B-9D59-469B-A284-5E2C2A8C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E18F-C155-4594-841F-26C786BF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FAEA-34C5-40AB-B76B-D2768AB3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238F-57C5-4893-8DA2-2211CCA1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32BD-B00B-41F9-A651-DF16EA90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1E62-7D5B-4739-8B8F-55FAD562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3414-53C4-48F2-94AD-F089FF10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7D14-4B92-4BF9-A42B-9553CE1F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2090-7580-47FF-BCEA-954576B6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11A0-7385-482B-8370-E6379C61DE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F6EB4-D300-4880-9382-F6B5DFC4C8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ECD81-E28B-4BF5-B595-9CAA70A8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E5A89-3E18-4798-B62C-9BA83048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8EC3-30D1-47A9-B462-77DD3C62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911DB-EC7B-4624-91FA-F1849531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EF97B-B7E5-489F-9C2F-B3747F5B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73507-6BAF-459A-8183-735C4AD3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49692-2AB0-4325-A1D3-80B298FA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1A61C-D7A4-453C-AA8B-4AA67F23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B1158-41C3-4412-A64B-D77A348C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5CEC5-3E46-4227-A41C-EC69975D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BB17E-A61F-4B98-8B96-D53A9051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D46CC-6C3C-4C56-8B33-12C8008B5D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1CA12-7143-481D-9635-19ED840543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8BC2-26C2-4CEA-88CE-D11CA6CD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124B43-B71D-4751-B8A3-5655D897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D3F98D-42C9-4CF1-A09E-551C9D55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72C826-20AC-46C6-A89C-7D71BADE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D5AD59-1412-4963-A352-30F5578E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7847AE-ACFD-4E04-9E93-D46AB341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D02EF2-1420-4288-8157-136DB459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ABC814-8D2A-4885-8266-184FFAC6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7A6F24-695F-4B46-B7FC-54FD5786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630F47-A681-4C7C-99DB-7257FFE1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9F1200-17D9-432D-B7F8-DD18B9F1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7DE5-E5B6-4B51-9682-2DA07A6D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E196BE-DB4B-444E-B5F3-E61EAF2856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E455F-1BB6-4C72-9828-3DC12E7261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53E66-0DAB-49F3-A631-1098AA15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E8BD-917A-4589-A431-9E4769B1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AE902-4858-4C8A-919F-9EE685A2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DCDC9-6F16-4215-8D5F-A6BE4116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CF43-DD04-47EC-9D6A-5186B28E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14DB9-55A8-4151-BDF9-84A27225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EE83D-95AF-48CD-8233-CF6516F3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F19BC-234C-4342-BD8B-E3882732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E6A25-DA21-4085-9740-B3B27760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F9CEF-19A9-4F00-B566-2996FFF7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FDA2D-7EBE-496E-9B33-54859AFF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D2C88-E63D-4AB2-A357-0A4B3C1B89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CEA7B-302A-4B97-AB6D-E87435B4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15FC-9819-4EC6-81CD-E69EC621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116724" dir="20262383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119333" dir="691041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08EB90-B353-493D-89A4-2B1AFC66AEBC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7373"/>
            </a:gs>
            <a:gs pos="100000">
              <a:srgbClr val="000000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116724" dir="20262383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119333" dir="691041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3A8FE23-511C-428A-B6A1-60ADFBBEC3FD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7373"/>
            </a:gs>
            <a:gs pos="100000">
              <a:srgbClr val="000000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116724" dir="20262383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119333" dir="691041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96FCA67-E6B8-4755-9D0B-D9BCD4AF47C0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8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E99A255-D3CD-4897-8141-C9BC68EC9C4E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116724" dir="20262383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119333" dir="691041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0"/>
          </p:nvPr>
        </p:nvSpPr>
        <p:spPr>
          <a:xfrm>
            <a:off x="8156520" y="6419880"/>
            <a:ext cx="7603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40A66B4-6724-437B-982C-40EEE07A6C98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1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869F1A1-187C-441A-BDB1-38763F0971DB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-6480" y="3157560"/>
            <a:ext cx="9155160" cy="2436840"/>
            <a:chOff x="-6480" y="3157560"/>
            <a:chExt cx="9155160" cy="2436840"/>
          </a:xfrm>
        </p:grpSpPr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-6480" y="3157560"/>
              <a:ext cx="915516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-6480" y="3157560"/>
              <a:ext cx="9155160" cy="24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071960" y="5572080"/>
            <a:ext cx="46292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grantes:     Javier Urb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rián Guzm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32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lad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el proceso donde se retira el liquido exced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cabad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ieza toma su forma final y se afinan detalles como pulir superfici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ad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ípicamente se utilizan hornos de tun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izcocho: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el proceso de aplicación del barniz por roce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19120" y="4500720"/>
            <a:ext cx="2181240" cy="2133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559320" y="4506840"/>
            <a:ext cx="2199960" cy="2152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6480000" y="4500720"/>
            <a:ext cx="216252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04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ció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el proceso mediante el cual la ceramica es consolidada térmicamente, la cocción se realiza aproz a 2/3 de la temperatura de fu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rminad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finan los detalles finales a veces se agregan pig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9640" y="4319640"/>
            <a:ext cx="2124360" cy="21430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419640" y="4336920"/>
            <a:ext cx="2152440" cy="2143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486480" y="433692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Catálog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19280" y="1052280"/>
            <a:ext cx="3251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pos de aisl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484360" y="1746360"/>
          <a:ext cx="4894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746360"/>
                    <a:ext cx="4894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álog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519280" y="1197000"/>
            <a:ext cx="469908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álog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7920000" cy="47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Franklin Gothic Book"/>
              </a:rPr>
              <a:t>Contact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Industria de Aisladores Casa Blanca ICB: Carlos Ignacio López. Jefe de venta Nacional.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ax: 2 7753081 email: </a:t>
            </a:r>
            <a:r>
              <a:rPr b="0" lang="es-ES" sz="2600" spc="-1" strike="noStrike" u="sng">
                <a:solidFill>
                  <a:srgbClr val="ccccff"/>
                </a:solidFill>
                <a:uFillTx/>
                <a:latin typeface="Arial"/>
              </a:rPr>
              <a:t>icb@icbsa.c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omercial Libra: Aldo Pascali Binfa. Gerente. Fono 2 5110417. email: </a:t>
            </a:r>
            <a:r>
              <a:rPr b="0" lang="es-ES_tradnl" sz="2600" spc="-1" strike="noStrike" u="sng">
                <a:solidFill>
                  <a:srgbClr val="ccccff"/>
                </a:solidFill>
                <a:uFillTx/>
                <a:latin typeface="Arial"/>
              </a:rPr>
              <a:t>gerencia@comerciallibra.c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erelec: Maria Teresa Hidalgo, </a:t>
            </a:r>
            <a:r>
              <a:rPr b="0" lang="es-ES_tradnl" sz="2600" spc="-1" strike="noStrike" u="sng">
                <a:solidFill>
                  <a:srgbClr val="ccccff"/>
                </a:solidFill>
                <a:uFillTx/>
                <a:latin typeface="Arial"/>
              </a:rPr>
              <a:t>cerelechidalgo@hotmail.com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, Fono 2 7759442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93080" y="530064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10800" y="536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734">
                <a:moveTo>
                  <a:pt x="10800" y="573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734">
                <a:moveTo>
                  <a:pt x="8224" y="9791"/>
                </a:moveTo>
                <a:lnTo>
                  <a:pt x="12088" y="9791"/>
                </a:lnTo>
                <a:lnTo>
                  <a:pt x="12088" y="16789"/>
                </a:lnTo>
                <a:lnTo>
                  <a:pt x="13376" y="16789"/>
                </a:lnTo>
                <a:lnTo>
                  <a:pt x="13376" y="17711"/>
                </a:lnTo>
                <a:lnTo>
                  <a:pt x="8224" y="17711"/>
                </a:lnTo>
                <a:lnTo>
                  <a:pt x="8224" y="16789"/>
                </a:lnTo>
                <a:lnTo>
                  <a:pt x="9512" y="16789"/>
                </a:lnTo>
                <a:lnTo>
                  <a:pt x="9512" y="10696"/>
                </a:lnTo>
                <a:lnTo>
                  <a:pt x="8224" y="1069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5958000" cy="6165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956720" y="5734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Franklin Gothic Book"/>
              </a:rPr>
              <a:t>Inform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571680">
              <a:lnSpc>
                <a:spcPct val="8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ntroductions to Ceramics. Kingery, Bowen, Uhlmann. Editorial John Wiley &amp; Sons.1976. ISBN 0-471-47860-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nsulators for High Voltages. J.S.T Looms. British Library Cataloguing. ISBN 0-86341-116-9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En internet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944640" indent="-49536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Global soluciones. Aisladores de Porcelana: 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http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:/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www.globalsoluciones.cl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aisladores%20porcelana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.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ph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44640" indent="-49536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puntes de Cursos de Ciencias de los Materiales. Universidad de Málaga.</a:t>
            </a:r>
            <a:br>
              <a:rPr sz="1700"/>
            </a:b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http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:/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webdeptos.uma.es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qicm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Doc_docencia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Tema6_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CM.pdf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44640" indent="-49536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Curso de Fisica Angel Franco Garcia</a:t>
            </a:r>
            <a:br>
              <a:rPr sz="1700"/>
            </a:b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http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:/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www.sc.ehu.es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sbweb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fisica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solido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din_rotacion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alargamiento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alargamiento.ht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44640" indent="-49536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ICB Aisladores Casa Blanca </a:t>
            </a:r>
            <a:br>
              <a:rPr sz="1700"/>
            </a:b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www.porcelain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-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insulators.c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7373"/>
            </a:gs>
            <a:gs pos="100000">
              <a:srgbClr val="000000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structura de present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piedades del Mater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oceso de Produc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ceso de Ven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tal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teria Prim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600200"/>
            <a:ext cx="746748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760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olí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ldespa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143680" y="1571760"/>
            <a:ext cx="2431800" cy="1871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143680" y="4572000"/>
            <a:ext cx="25174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terias utilizada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1600200"/>
            <a:ext cx="459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7600" indent="-382680"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porciones Utilizadas en la industria Chilen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300"/>
              </a:spcBef>
              <a:buClr>
                <a:srgbClr val="dddddd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nte Catastro SISS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28608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Franklin Gothic Book"/>
              </a:rPr>
              <a:t>Propiedades del Material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1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aterial Cerámic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structura Vidri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piedades caracterís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érmicas: Bajo Coef. Expansión térm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cánicas: Alto Módulo de elastic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opiedades Dieléctr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805360" y="1600200"/>
            <a:ext cx="21178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Franklin Gothic Book"/>
              </a:rPr>
              <a:t>Propiedades del Material I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0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piedades Dieléctr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actor de pérdidas =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’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κ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’&lt;0.03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g pérdidas Tg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’/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&lt;0.00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Resistividad Eléctrica Volumétrica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2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hm metr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182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Franklin Gothic Book"/>
              </a:rPr>
              <a:t>Propiedades de Porcelana Eléctrica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352520" y="1771560"/>
            <a:ext cx="56754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00040" y="1571760"/>
            <a:ext cx="7856640" cy="3713040"/>
            <a:chOff x="500040" y="1571760"/>
            <a:chExt cx="7856640" cy="371304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500040" y="1571760"/>
              <a:ext cx="7856640" cy="37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00040" y="1571760"/>
              <a:ext cx="7856640" cy="37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29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epció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ateria prima es almacenada en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nefici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ateria prima se procesa para su utilización (pulverización, purificación et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zcla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s elementos son mezclados en agua y se agregan elementos específicos para el requer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800360" y="4140360"/>
            <a:ext cx="2152440" cy="2133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046840" y="4146480"/>
            <a:ext cx="2152440" cy="215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n Guzman</dc:creator>
  <dc:description/>
  <dc:language>en-US</dc:language>
  <cp:lastModifiedBy>ABOTTESELLE</cp:lastModifiedBy>
  <dcterms:modified xsi:type="dcterms:W3CDTF">2007-09-11T13:18:18Z</dcterms:modified>
  <cp:revision>2</cp:revision>
  <dc:subject/>
  <dc:title>Aislantes de Porcelana</dc:title>
</cp:coreProperties>
</file>