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84E4-5A5F-40D3-A174-0B048846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7653-2344-4AFB-BE9E-20CBA7D6F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5434-4C9B-46C0-9BCC-645E1B29DE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FEC3-C7B9-4264-B21F-46FA24CF2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6F740-8B14-4F91-A759-B175B953B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FB1F-7A40-4851-8291-7092E5DD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9A8F7-0428-420F-81CF-7575370C8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E594-F688-4A81-BC2D-A22FD2184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E1DA-30AF-4E00-AB87-0F3D62B1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9FEB-9B85-4D33-A397-167ED4CD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48308-C60F-43CA-B9B7-9C03EB6F5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2833-D7D9-47D7-B4AD-C287BCF89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CC4A2-2C16-41AF-9D67-5B0C7D7FD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FCE7-9410-4891-9DF9-13800E01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6EDED-EC60-4F93-A51A-0A006A459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7645-E78E-4841-8CBD-34A875274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7573F-FA21-46C3-AD8C-FCE001025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8663-8B3D-479D-810F-F20E3DDB7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DFA8-89FB-4D48-99A4-C038FB68C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83E-B787-479B-9F42-E364414F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02A7-C8C7-4360-9598-89EE0106D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0F6C-64B8-47EE-BEF9-51AC54B4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815B-5F38-4D76-B6A5-2A2393D8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27C3-78A9-4172-BA8C-A34459C52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45D0-697F-4CA6-9CDA-4F26BD50A581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7C8A-EB47-4751-91B3-814707B5E16C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5ffff"/>
                </a:solidFill>
                <a:latin typeface="Tahoma"/>
              </a:rPr>
              <a:t>Hexafloruro de Azufre</a:t>
            </a: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140000" y="4581000"/>
            <a:ext cx="4640040" cy="177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gnacio Vargas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los Mendoz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24000" y="404640"/>
            <a:ext cx="273672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971640" y="1628640"/>
            <a:ext cx="676908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Introducción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y Propieda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plicacion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entaj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rmas de Compr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Definicion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¿Qué es el </a:t>
            </a: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Hexafloruro de Azufr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ig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rma Molecul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1619280" y="3860640"/>
            <a:ext cx="5761080" cy="19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Características y Propiedade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95280" y="3068640"/>
            <a:ext cx="8362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acterísticas fundamenta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piedades Físicas, Químicas y Eléctric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Rigidez dieléctrica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3944880" cy="45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Aplicacion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Interruptores de Media y Alta Tens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Subestaciones encapsuladas GIS</a:t>
            </a: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Transformadores de po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395928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Ventajas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islación Eléct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istencia a Arco Eléctri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frige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ducción de espacio y pe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gunas Empres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du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G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F6 Chil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3995640" y="1773360"/>
            <a:ext cx="4969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Formas de Compr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6978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15:04:04Z</dcterms:created>
  <dc:creator>cmendoza</dc:creator>
  <dc:description/>
  <dc:language>en-US</dc:language>
  <cp:lastModifiedBy>ABOTTESELLE</cp:lastModifiedBy>
  <dcterms:modified xsi:type="dcterms:W3CDTF">2007-11-05T17:22:25Z</dcterms:modified>
  <cp:revision>10</cp:revision>
  <dc:subject/>
  <dc:title>Hexafloruro de Azufre </dc:title>
</cp:coreProperties>
</file>