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5.wmf" ContentType="image/x-wmf"/>
  <Override PartName="/ppt/media/image13.jpeg" ContentType="image/jpeg"/>
  <Override PartName="/ppt/media/image8.jpeg" ContentType="image/jpeg"/>
  <Override PartName="/ppt/media/image28.png" ContentType="image/png"/>
  <Override PartName="/ppt/media/image7.png" ContentType="image/png"/>
  <Override PartName="/ppt/media/image11.jpeg" ContentType="image/jpeg"/>
  <Override PartName="/ppt/media/image9.jpeg" ContentType="image/jpeg"/>
  <Override PartName="/ppt/media/image23.wmf" ContentType="image/x-wmf"/>
  <Override PartName="/ppt/media/image12.jpeg" ContentType="image/jpeg"/>
  <Override PartName="/ppt/media/image4.jpeg" ContentType="image/jpeg"/>
  <Override PartName="/ppt/media/image2.png" ContentType="image/png"/>
  <Override PartName="/ppt/media/image3.jpeg" ContentType="image/jpeg"/>
  <Override PartName="/ppt/media/image15.png" ContentType="image/png"/>
  <Override PartName="/ppt/media/image29.wmf" ContentType="image/x-wmf"/>
  <Override PartName="/ppt/media/image27.wmf" ContentType="image/x-wmf"/>
  <Override PartName="/ppt/media/image16.png" ContentType="image/png"/>
  <Override PartName="/ppt/media/image26.wmf" ContentType="image/x-wmf"/>
  <Override PartName="/ppt/media/image25.wmf" ContentType="image/x-wmf"/>
  <Override PartName="/ppt/media/image22.png" ContentType="image/png"/>
  <Override PartName="/ppt/media/image21.png" ContentType="image/png"/>
  <Override PartName="/ppt/media/image19.wmf" ContentType="image/x-wmf"/>
  <Override PartName="/ppt/media/image14.jpeg" ContentType="image/jpeg"/>
  <Override PartName="/ppt/media/image18.png" ContentType="image/png"/>
  <Override PartName="/ppt/media/image20.png" ContentType="image/png"/>
  <Override PartName="/ppt/media/image17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A747-F2AC-45FD-87C5-2B0C2785E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30B4-5D3E-4AC8-BD4A-939E7E9BC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E222-A99A-4FF5-A9BC-B9F9C95A9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0824-76DA-44E2-965F-78CD41876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2754D-D902-49EE-967D-21338FCE4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E9246-2B3E-498A-A1B0-CA83F8BA3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E9434-691E-4122-965C-B69A94673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D07D6-AF61-4D38-BBE8-FE0614F3E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93A7D-1D41-4273-A7AA-DEF42083A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D8712-75D1-4509-9A8B-33D251513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5C858-7172-4377-B850-7BE11DB8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3459-19C9-486A-B8DA-E9CD05440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E678F-85CF-4D35-AD53-5C53BECA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A0774-0700-4B7C-BD64-E49C38B5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D2242-E653-4DC3-A499-E8953CC2B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CC397-226F-4B52-9448-F00A31B87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C8405-BD0B-42A9-8381-592C57747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0ABD-2F50-4F6E-BB5F-7A8C6D2FB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9788-D751-4204-A90B-BACBC94C1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C901-30D0-425E-AD24-143A5C8F9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22A4-23ED-49F3-8BF9-FD9B0485C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624A-5DD8-45A8-91B1-B2FE44B4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6A64-3251-4D9A-8AC8-3B7A6557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6F5F-15B4-4CD5-81C3-C292238B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7C3F-A7AD-4CAD-9BAA-B8A27170F6B5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8C2D8-44EC-4C5E-87C4-83C6D5D4983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hyperlink" Target="http://www.europintura.com/pinturas/86-Hidrofugante-Fachadas?user=c6ab1f02f26522ca07a7527d8a2fa24b" TargetMode="External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silpak.cl/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s.wikipedia.org/wiki/Imagen:Silicon_granular_640x480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1267920"/>
            <a:ext cx="72392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0" spc="-1" strike="noStrike">
                <a:solidFill>
                  <a:srgbClr val="006666"/>
                </a:solidFill>
                <a:latin typeface="Arial"/>
              </a:rPr>
              <a:t>Silicona</a:t>
            </a:r>
            <a:endParaRPr b="0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Taller de Diseño en Potenci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Integrantes: Lucila Ballestero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Javiera Kettere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Samuel Rodríguez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83024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666"/>
                </a:solidFill>
                <a:latin typeface="Arial"/>
              </a:rPr>
              <a:t>Silicona</a:t>
            </a:r>
            <a:br>
              <a:rPr sz="4400"/>
            </a:br>
            <a:r>
              <a:rPr b="0" lang="es-CL" sz="3200" spc="-1" strike="noStrike">
                <a:solidFill>
                  <a:srgbClr val="006666"/>
                </a:solidFill>
                <a:latin typeface="Arial"/>
              </a:rPr>
              <a:t>Ventaja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71280" y="177336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ventaja comparativa respecto a los aisladores de porcelana y vidrio templado su peso muy inferior lo que facilita la instalación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son de un solo cuerpo, desarrollados según la necesidad, lo que evita armar cadenas de aislación, facilitando su instalación y resistiendo acciones vandálicas pues por su composición no sufren daños por golpes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666"/>
                </a:solidFill>
                <a:latin typeface="Arial"/>
              </a:rPr>
              <a:t>Silicona</a:t>
            </a:r>
            <a:br>
              <a:rPr sz="4400"/>
            </a:br>
            <a:r>
              <a:rPr b="0" lang="es-CL" sz="3200" spc="-1" strike="noStrike">
                <a:solidFill>
                  <a:srgbClr val="006666"/>
                </a:solidFill>
                <a:latin typeface="Arial"/>
              </a:rPr>
              <a:t>Ventaja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66"/>
                </a:solidFill>
                <a:latin typeface="Verdana"/>
              </a:rPr>
              <a:t>Reduce los costos de construcción e impacto ambienta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cccc"/>
                </a:solidFill>
                <a:latin typeface="Verdana"/>
              </a:rPr>
              <a:t>Baja conductividad térmic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66"/>
                </a:solidFill>
                <a:latin typeface="Verdana"/>
              </a:rPr>
              <a:t>Elevado punto de inflamabilida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cccc"/>
                </a:solidFill>
                <a:latin typeface="Verdana"/>
              </a:rPr>
              <a:t>Resistencia al vandalism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66"/>
                </a:solidFill>
                <a:latin typeface="Verdana"/>
              </a:rPr>
              <a:t>Estétic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0228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33cccc"/>
                </a:solidFill>
                <a:latin typeface="Verdana"/>
              </a:rPr>
              <a:t>Livian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6666"/>
                </a:solidFill>
                <a:latin typeface="Verdana"/>
              </a:rPr>
              <a:t>Resistent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33cccc"/>
                </a:solidFill>
                <a:latin typeface="Verdana"/>
              </a:rPr>
              <a:t>Segur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6666"/>
                </a:solidFill>
                <a:latin typeface="Verdana"/>
              </a:rPr>
              <a:t>Mayor vida úti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33cccc"/>
                </a:solidFill>
                <a:latin typeface="Verdana"/>
              </a:rPr>
              <a:t>Confiabilidad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6666"/>
                </a:solidFill>
                <a:latin typeface="Verdana"/>
              </a:rPr>
              <a:t>Menor tamañ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33cccc"/>
                </a:solidFill>
                <a:latin typeface="Verdana"/>
              </a:rPr>
              <a:t>Autolavabl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6666"/>
                </a:solidFill>
                <a:latin typeface="Verdana"/>
              </a:rPr>
              <a:t>Flexibilida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33cccc"/>
                </a:solidFill>
                <a:latin typeface="Verdana"/>
              </a:rPr>
              <a:t>Alta rigidez dieléctrica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100"/>
            </a:b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4360" y="2492280"/>
            <a:ext cx="8111880" cy="27352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666"/>
                </a:solidFill>
                <a:latin typeface="Arial"/>
              </a:rPr>
              <a:t>Silicona</a:t>
            </a:r>
            <a:br>
              <a:rPr sz="4400"/>
            </a:br>
            <a:r>
              <a:rPr b="0" lang="es-CL" sz="3200" spc="-1" strike="noStrike">
                <a:solidFill>
                  <a:srgbClr val="006666"/>
                </a:solidFill>
                <a:latin typeface="Arial"/>
              </a:rPr>
              <a:t>Comparació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666"/>
                </a:solidFill>
                <a:latin typeface="Arial"/>
              </a:rPr>
              <a:t>Silicona</a:t>
            </a:r>
            <a:br>
              <a:rPr sz="4400"/>
            </a:br>
            <a:r>
              <a:rPr b="0" lang="es-CL" sz="3200" spc="-1" strike="noStrike">
                <a:solidFill>
                  <a:srgbClr val="006666"/>
                </a:solidFill>
                <a:latin typeface="Arial"/>
              </a:rPr>
              <a:t>Uso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1833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63640" y="1827360"/>
            <a:ext cx="5119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ubricant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dhesivo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mpermeabilizant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plicaciones médicas (prótesis valvulares cardíacas e implantes de mamas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" descr="Cinta para motores de tracción"/>
          <p:cNvPicPr/>
          <p:nvPr/>
        </p:nvPicPr>
        <p:blipFill>
          <a:blip r:embed="rId1"/>
          <a:stretch/>
        </p:blipFill>
        <p:spPr>
          <a:xfrm>
            <a:off x="1187280" y="2492280"/>
            <a:ext cx="1758960" cy="20890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39640" y="4508640"/>
            <a:ext cx="530280" cy="1584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Impermeabilizantes Hidrofugante Fachada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79640" y="4724280"/>
            <a:ext cx="1724040" cy="19051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protesis_valvulares_valvula_Hufnagel"/>
          <p:cNvPicPr/>
          <p:nvPr/>
        </p:nvPicPr>
        <p:blipFill>
          <a:blip r:embed="rId5"/>
          <a:stretch/>
        </p:blipFill>
        <p:spPr>
          <a:xfrm>
            <a:off x="6012000" y="4869000"/>
            <a:ext cx="230508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666"/>
                </a:solidFill>
                <a:latin typeface="Arial"/>
              </a:rPr>
              <a:t>Silicona</a:t>
            </a:r>
            <a:br>
              <a:rPr sz="4400"/>
            </a:br>
            <a:r>
              <a:rPr b="0" lang="es-CL" sz="3200" spc="-1" strike="noStrike">
                <a:solidFill>
                  <a:srgbClr val="006666"/>
                </a:solidFill>
                <a:latin typeface="Arial"/>
              </a:rPr>
              <a:t>Aplicación en potencia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827360"/>
            <a:ext cx="63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Verdana"/>
              </a:rPr>
              <a:t>Materiales aisladores para alto voltaj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Caucho de Silicon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Apto para ser usados en todo tipo de clim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Fácil de instala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Bajo costo de mantenimien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Característica de aislamiento a largo plaz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300720" y="3933720"/>
            <a:ext cx="264816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666"/>
                </a:solidFill>
                <a:latin typeface="Arial"/>
              </a:rPr>
              <a:t>Silicona</a:t>
            </a:r>
            <a:br>
              <a:rPr sz="4400"/>
            </a:br>
            <a:r>
              <a:rPr b="0" lang="es-CL" sz="3200" spc="-1" strike="noStrike">
                <a:solidFill>
                  <a:srgbClr val="006666"/>
                </a:solidFill>
                <a:latin typeface="Arial"/>
              </a:rPr>
              <a:t>Aplicación en potencia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99640" y="1844640"/>
            <a:ext cx="6480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Aisladores hueco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guridad de la explosión (el no-hacer fragmentos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uncionamiento de la contaminació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mportamiento sísmico (fuerza, flexibilidad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227640" y="3500280"/>
            <a:ext cx="168588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666"/>
                </a:solidFill>
                <a:latin typeface="Arial"/>
              </a:rPr>
              <a:t>Silicona</a:t>
            </a:r>
            <a:br>
              <a:rPr sz="4400"/>
            </a:br>
            <a:r>
              <a:rPr b="0" lang="es-CL" sz="3200" spc="-1" strike="noStrike">
                <a:solidFill>
                  <a:srgbClr val="006666"/>
                </a:solidFill>
                <a:latin typeface="Arial"/>
              </a:rPr>
              <a:t>Aplicación en potencia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99640" y="1844640"/>
            <a:ext cx="6480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000000"/>
                </a:solidFill>
                <a:latin typeface="Verdana"/>
              </a:rPr>
              <a:t>Capas y grasas para aislador de alto voltaj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reduce corrientes de la salida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Bajo mantenimiento y costo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Protección eficaz contra los contaminantes costeros, industriales, agrícolas, de vehículos y otros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659640" y="4221000"/>
            <a:ext cx="17049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666"/>
                </a:solidFill>
                <a:latin typeface="Arial"/>
              </a:rPr>
              <a:t>Silicona</a:t>
            </a:r>
            <a:br>
              <a:rPr sz="4400"/>
            </a:br>
            <a:r>
              <a:rPr b="0" lang="es-CL" sz="3200" spc="-1" strike="noStrike">
                <a:solidFill>
                  <a:srgbClr val="006666"/>
                </a:solidFill>
                <a:latin typeface="Arial"/>
              </a:rPr>
              <a:t>Aplicación en potencia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99640" y="1844640"/>
            <a:ext cx="6480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000000"/>
                </a:solidFill>
                <a:latin typeface="Verdana"/>
              </a:rPr>
              <a:t>Aisladores y pararrayo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Aislador de poste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Aislador de suspensió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Pararrayo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Se instala fácilment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Reduce costos de mantenimiento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Ofrece características aisladores a largo plazo superiore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948360" y="2349360"/>
            <a:ext cx="1685880" cy="21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666"/>
                </a:solidFill>
                <a:latin typeface="Arial"/>
              </a:rPr>
              <a:t>Silicona</a:t>
            </a:r>
            <a:br>
              <a:rPr sz="4400"/>
            </a:br>
            <a:r>
              <a:rPr b="0" lang="es-CL" sz="3200" spc="-1" strike="noStrike">
                <a:solidFill>
                  <a:srgbClr val="006666"/>
                </a:solidFill>
                <a:latin typeface="Arial"/>
              </a:rPr>
              <a:t>Aplicación en potencia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56272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635280" y="1844640"/>
            <a:ext cx="51847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Verdana"/>
              </a:rPr>
              <a:t>Líquidos para transformador de pod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Elevada estabilidad térmica y resistencia a la oxidació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Punto de combustión más alto y velocidad de disipación térmica más baja que otros aislantes líquid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Sin sediment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Baja toxicida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 rot="5400000">
            <a:off x="627120" y="2260440"/>
            <a:ext cx="316836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666"/>
                </a:solidFill>
                <a:latin typeface="Arial"/>
              </a:rPr>
              <a:t>Silicona</a:t>
            </a:r>
            <a:br>
              <a:rPr sz="4400"/>
            </a:br>
            <a:r>
              <a:rPr b="0" lang="es-CL" sz="3200" spc="-1" strike="noStrike">
                <a:solidFill>
                  <a:srgbClr val="006666"/>
                </a:solidFill>
                <a:latin typeface="Arial"/>
              </a:rPr>
              <a:t>Aplicación en potencia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039760" y="2246400"/>
            <a:ext cx="71042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Barnices  y resin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56000" y="2924280"/>
            <a:ext cx="403884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Bobinas de motores, transformadores, etc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Aislamiento eléctrico y traspaso térmic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Resistencia a la humeda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Alta estabilidad term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Excelente  resistencia eléctric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Flexibilidad a largo plaz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042920" y="2924280"/>
            <a:ext cx="2595600" cy="29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6666"/>
                </a:solidFill>
                <a:latin typeface="Arial"/>
              </a:rPr>
              <a:t>Silicona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16000" y="184464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Elastómero con una buena resistencia térmic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Materias Prima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Goma 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Silicónica 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polímero sintético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137280" y="1827360"/>
            <a:ext cx="1511280" cy="19810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102280" y="3960720"/>
            <a:ext cx="35812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666"/>
                </a:solidFill>
                <a:latin typeface="Arial"/>
              </a:rPr>
              <a:t>Silicona</a:t>
            </a:r>
            <a:br>
              <a:rPr sz="4400"/>
            </a:br>
            <a:r>
              <a:rPr b="0" lang="es-CL" sz="3200" spc="-1" strike="noStrike">
                <a:solidFill>
                  <a:srgbClr val="006666"/>
                </a:solidFill>
                <a:latin typeface="Arial"/>
              </a:rPr>
              <a:t>Aplicación en potencia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039760" y="2246400"/>
            <a:ext cx="71042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Verdana"/>
              </a:rPr>
              <a:t>Recubrimiento de caucho de silicona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4356000" y="2924280"/>
            <a:ext cx="403884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Alambres y cab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Resistencia a la alta temperatur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Buen dieléctric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Resistencia al fueg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Buena resistencia a la abras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042920" y="2708280"/>
            <a:ext cx="2595600" cy="29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830240" y="-360"/>
            <a:ext cx="73137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666"/>
                </a:solidFill>
                <a:latin typeface="Arial"/>
              </a:rPr>
              <a:t>Silicona</a:t>
            </a:r>
            <a:br>
              <a:rPr sz="4400"/>
            </a:br>
            <a:r>
              <a:rPr b="0" lang="es-CL" sz="44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0" lang="es-CL" sz="3200" spc="-1" strike="noStrike">
                <a:solidFill>
                  <a:srgbClr val="006666"/>
                </a:solidFill>
                <a:latin typeface="Arial"/>
              </a:rPr>
              <a:t>Fabricantes y distribuidores en Chil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830240" y="1628640"/>
            <a:ext cx="7313760" cy="43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Verdana"/>
              </a:rPr>
              <a:t>Silpak S.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Produce y distribuye en Chi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Pág.: </a:t>
            </a:r>
            <a:r>
              <a:rPr b="0" lang="es-CL" sz="25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WWW.silpak.c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Verdana"/>
              </a:rPr>
              <a:t>Munelec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Distribuye aisladores de goma de silicon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Pág.: www.munelec.c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Verdana"/>
              </a:rPr>
              <a:t>Dow Corn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Distribuye en Chile, fabrica para Latinoamérica en Brasi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442880" y="2246400"/>
            <a:ext cx="71042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Aisladores eléctricos de silicona para distribución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21656" t="21645" r="55316" b="68898"/>
          <a:stretch/>
        </p:blipFill>
        <p:spPr>
          <a:xfrm>
            <a:off x="2556000" y="333360"/>
            <a:ext cx="4319640" cy="9795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755640" y="3429000"/>
            <a:ext cx="2881440" cy="20145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356000" y="3141720"/>
            <a:ext cx="403884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Capacidades de 15 KV, 28 KV y 35KV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El polímero de silicona es resistente a la erosión y a los rayos UV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Mantiene sus cualidades en sectores de condiciones climáticas y ambientales extremas, de temperatura y contaminación.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442880" y="2246400"/>
            <a:ext cx="71042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Tubos médic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21656" t="21645" r="55316" b="68898"/>
          <a:stretch/>
        </p:blipFill>
        <p:spPr>
          <a:xfrm>
            <a:off x="2700360" y="692280"/>
            <a:ext cx="3816360" cy="979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356000" y="3141720"/>
            <a:ext cx="403884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Esterilizable por cualquier método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Completamente Hidrófugo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No genera rechazo ni reacción en fluidos o tejidos corporales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No permite el alojamiento de coágulos o adherencias ni el desarrollo de colonias de bacteria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1116000" y="3141720"/>
            <a:ext cx="295128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442880" y="2246400"/>
            <a:ext cx="71042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Perfiles y burletes de silicona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21656" t="21645" r="55316" b="68898"/>
          <a:stretch/>
        </p:blipFill>
        <p:spPr>
          <a:xfrm>
            <a:off x="2700360" y="692280"/>
            <a:ext cx="3816360" cy="9792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4427640" y="2997360"/>
            <a:ext cx="403848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Aislamiento eléctrico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Hornos industriales y semi- industriales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Hornos de panadería rotatorio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Vidriado estructural y arquitectónico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Sellos para puertas de cámaras frigoríficas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Planchas de silicona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332000" y="2962440"/>
            <a:ext cx="2622600" cy="18349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87280" y="4941720"/>
            <a:ext cx="29512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442880" y="2508120"/>
            <a:ext cx="71042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Verdana"/>
              </a:rPr>
              <a:t>Product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1258920" y="2997360"/>
            <a:ext cx="712944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Líquidos para transformador de poder y otros equipos eléctrico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Barnices y resina de silicona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Materiales de alto voltaje del aislad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Caucho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Capas y grasa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Accesorios del cabl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Aisladores huecos de la bas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Aisladores y pararrayos de la oleada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Líquidos para la restauración de cable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Recubrimiento de caucho de silicon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843280" y="620640"/>
            <a:ext cx="3600360" cy="16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442880" y="2246400"/>
            <a:ext cx="71042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5951880" cy="46339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2771640" y="404640"/>
            <a:ext cx="3488040" cy="11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666"/>
                </a:solidFill>
                <a:latin typeface="Arial"/>
              </a:rPr>
              <a:t>Silicona</a:t>
            </a:r>
            <a:br>
              <a:rPr sz="4400"/>
            </a:br>
            <a:r>
              <a:rPr b="0" lang="es-CL" sz="3200" spc="-1" strike="noStrike">
                <a:solidFill>
                  <a:srgbClr val="006666"/>
                </a:solidFill>
                <a:latin typeface="Arial"/>
              </a:rPr>
              <a:t>Proceso de elaboració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16256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 deriva de la roca de cuarz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l ser calentado en presencia de carbón produce silicona elemental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pendiendo de posteriores procesos químicos, la silicona puede tomar una variedad de formas físicas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ceite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ólido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Silicona granula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72360" y="4365720"/>
            <a:ext cx="1904760" cy="14284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894720" y="5791320"/>
            <a:ext cx="1093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Silicona Granul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102280" y="1827360"/>
            <a:ext cx="3581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666"/>
                </a:solidFill>
                <a:latin typeface="Arial"/>
              </a:rPr>
              <a:t>Silicona</a:t>
            </a:r>
            <a:br>
              <a:rPr sz="4400"/>
            </a:br>
            <a:r>
              <a:rPr b="0" lang="es-CL" sz="4400" spc="-1" strike="noStrike">
                <a:solidFill>
                  <a:srgbClr val="006666"/>
                </a:solidFill>
                <a:latin typeface="Arial"/>
              </a:rPr>
              <a:t>     </a:t>
            </a:r>
            <a:r>
              <a:rPr b="0" lang="es-CL" sz="3200" spc="-1" strike="noStrike">
                <a:solidFill>
                  <a:srgbClr val="006666"/>
                </a:solidFill>
                <a:latin typeface="Arial"/>
              </a:rPr>
              <a:t>Propiedades </a:t>
            </a:r>
            <a:r>
              <a:rPr b="0" lang="es-ES" sz="3200" spc="-1" strike="noStrike">
                <a:solidFill>
                  <a:srgbClr val="006666"/>
                </a:solidFill>
                <a:latin typeface="Arial"/>
              </a:rPr>
              <a:t>La goma silicónica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02920" y="1844640"/>
            <a:ext cx="72802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uerte estructura química silicio-oxígeno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Hecho principalmente de silicio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rivada del cuarzo, roca o arena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lumna vertebral alternada de silicio y oxígeno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0160" y="1827360"/>
            <a:ext cx="3579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666"/>
                </a:solidFill>
                <a:latin typeface="Arial"/>
              </a:rPr>
              <a:t>Silicona</a:t>
            </a:r>
            <a:br>
              <a:rPr sz="4400"/>
            </a:br>
            <a:r>
              <a:rPr b="0" lang="es-CL" sz="3200" spc="-1" strike="noStrike">
                <a:solidFill>
                  <a:srgbClr val="006666"/>
                </a:solidFill>
                <a:latin typeface="Arial"/>
              </a:rPr>
              <a:t>Propiedade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55640" y="1827360"/>
            <a:ext cx="316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Resistencia a la Temperatur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84360" y="1827360"/>
            <a:ext cx="439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soportan un rango de temperaturas amplio entr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-60°C a 260 °C (-75 °F a 500 °F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258920" y="3068640"/>
            <a:ext cx="1905120" cy="27622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616200" y="5502240"/>
            <a:ext cx="223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Reactor para pruebas de Temperatu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666"/>
                </a:solidFill>
                <a:latin typeface="Arial"/>
              </a:rPr>
              <a:t>Silicona</a:t>
            </a:r>
            <a:br>
              <a:rPr sz="4400"/>
            </a:br>
            <a:r>
              <a:rPr b="0" lang="es-CL" sz="3200" spc="-1" strike="noStrike">
                <a:solidFill>
                  <a:srgbClr val="006666"/>
                </a:solidFill>
                <a:latin typeface="Arial"/>
              </a:rPr>
              <a:t>Propiedade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770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Propiedades Mecánicas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140360" y="1827360"/>
            <a:ext cx="454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Alta resistencia al desgarro y a la tracción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Buena elongació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gran flexibilid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Rango de dureza entre 5 a 80 dureza Shore A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4360" y="2852640"/>
            <a:ext cx="2519280" cy="16509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187280" y="4581360"/>
            <a:ext cx="1800360" cy="1872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225240" y="599436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rueba de Trac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666"/>
                </a:solidFill>
                <a:latin typeface="Arial"/>
              </a:rPr>
              <a:t>Silicona</a:t>
            </a:r>
            <a:br>
              <a:rPr sz="4400"/>
            </a:br>
            <a:r>
              <a:rPr b="0" lang="es-CL" sz="3200" spc="-1" strike="noStrike">
                <a:solidFill>
                  <a:srgbClr val="006666"/>
                </a:solidFill>
                <a:latin typeface="Arial"/>
              </a:rPr>
              <a:t>Propiedade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55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Propiedades Eléctrica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140360" y="1827360"/>
            <a:ext cx="454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Muy Buenas propiedades Aislant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Gran flexibilid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No son conductivas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Mantienen la rigidez dieléctrica en temperaturas extrema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84360" y="2852640"/>
            <a:ext cx="2447640" cy="1871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258920" y="4869000"/>
            <a:ext cx="2521080" cy="15793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941280" y="5994360"/>
            <a:ext cx="113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rueba Eléctr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666"/>
                </a:solidFill>
                <a:latin typeface="Arial"/>
              </a:rPr>
              <a:t>Silicona</a:t>
            </a:r>
            <a:br>
              <a:rPr sz="4400"/>
            </a:br>
            <a:r>
              <a:rPr b="0" lang="es-CL" sz="3200" spc="-1" strike="noStrike">
                <a:solidFill>
                  <a:srgbClr val="006666"/>
                </a:solidFill>
                <a:latin typeface="Arial"/>
              </a:rPr>
              <a:t>Propiedade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00000" y="1827360"/>
            <a:ext cx="244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Resistencia Química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63640" y="1827360"/>
            <a:ext cx="5119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sisten al agua y a muchos productos químicos (algunos ácidos, productos químicos oxidantes, amoníaco y alcohol isopropílico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o se deben utilizar con ácidos concentrados, sustancias alcalinas y solvent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826920" y="3500280"/>
            <a:ext cx="2448000" cy="20815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900000" y="5734080"/>
            <a:ext cx="251964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Prueba de Salinid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6666"/>
                </a:solidFill>
                <a:latin typeface="Arial"/>
              </a:rPr>
              <a:t>Silicona</a:t>
            </a:r>
            <a:br>
              <a:rPr sz="4000"/>
            </a:br>
            <a:r>
              <a:rPr b="0" lang="es-CL" sz="3200" spc="-1" strike="noStrike">
                <a:solidFill>
                  <a:srgbClr val="006666"/>
                </a:solidFill>
                <a:latin typeface="Arial"/>
              </a:rPr>
              <a:t>Estado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Líquidos</a:t>
            </a:r>
            <a:br>
              <a:rPr sz="2500"/>
            </a:b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Emulsiones</a:t>
            </a:r>
            <a:br>
              <a:rPr sz="2500"/>
            </a:b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Compuestos</a:t>
            </a:r>
            <a:br>
              <a:rPr sz="2500"/>
            </a:b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Lubricantes</a:t>
            </a:r>
            <a:br>
              <a:rPr sz="2500"/>
            </a:b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Resinas</a:t>
            </a:r>
            <a:br>
              <a:rPr sz="2500"/>
            </a:b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Caucho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18:44:49Z</dcterms:created>
  <dc:creator>Admin</dc:creator>
  <dc:description/>
  <dc:language>en-US</dc:language>
  <cp:lastModifiedBy>ABOTTESELLE</cp:lastModifiedBy>
  <dcterms:modified xsi:type="dcterms:W3CDTF">2007-11-05T17:30:02Z</dcterms:modified>
  <cp:revision>51</cp:revision>
  <dc:subject/>
  <dc:title>Silicona</dc:title>
</cp:coreProperties>
</file>