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DC1C6C9-C38A-4310-B322-A3A8DBAEBA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24B722D-55A7-4243-ABD0-3D40A53B96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987846C9-BA36-4924-9B3D-A5E66A2DF2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8041571-796D-40FB-9FC3-AAFECCEE1F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D4FC97-AFD5-4E65-872D-90E73337CA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77FD6A-B32E-49E9-B27A-0D9C26EA8D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DB683A-0107-480B-A609-96104641E6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8CFAF3-F58D-4CAF-BC35-B898B7B101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07B03B-ED2E-45E4-84CF-118B42FB65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DA5060-572E-4BC8-AB71-561458F342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466F71-C747-493A-B3B1-45BFBDE5D1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E7EA32F-B0B5-4D2F-8BF0-2D7138D46B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F18CD3-A412-4E2A-99A3-D752E6B972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D71982-169F-45E7-BDE4-1D9E615227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405CD4-9AC0-4CB6-BCB0-64809AF761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B56FDB-D5E5-4DF4-B19E-BBA00B72EC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F6A11D-289F-4CC2-B7D3-9AB2BAC735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12ADE80-9EDF-4BB0-8CEF-0B247D8117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320C057-5A1F-4995-86D4-E521ABDA67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C8B1695-0B2F-4D30-B57E-139D69E35E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F7C4D45-D917-494F-AB54-BF47F52DD6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18FDFE9-C455-48D1-9C8C-24C85606AE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9EF5358-DF07-4C39-9994-C3B56DF24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DFB72E7-E9CE-4E7C-AD24-453295C856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B6C0F-C538-4602-A5C5-1617AF4C5767}"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5CF50-26E1-4B88-8316-7974E632DE89}"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4360" y="2060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5400" spc="-1" strike="noStrike">
                <a:solidFill>
                  <a:srgbClr val="e5e5ff"/>
                </a:solidFill>
                <a:latin typeface="Garamond"/>
              </a:rPr>
              <a:t>Normas de Transformadores de Corriente</a:t>
            </a:r>
            <a:endParaRPr b="1" lang="en-US" sz="54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 name=""/>
          <p:cNvSpPr/>
          <p:nvPr/>
        </p:nvSpPr>
        <p:spPr>
          <a:xfrm>
            <a:off x="4643280" y="5805360"/>
            <a:ext cx="4248360" cy="107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Garamond"/>
                <a:ea typeface="Arial"/>
              </a:rPr>
              <a:t>Leopoldo Benavides – Christian Díaz</a:t>
            </a:r>
            <a:endParaRPr b="0" lang="en-US" sz="20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Garamond"/>
                <a:ea typeface="Arial"/>
              </a:rPr>
              <a:t>EL 57C – Taller de Diseño en Potencia I</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alificaciones de un TC</a:t>
            </a:r>
            <a:endParaRPr b="1" lang="en-US" sz="4400" spc="-1" strike="noStrike">
              <a:solidFill>
                <a:srgbClr val="e5e5ff"/>
              </a:solidFill>
              <a:latin typeface="Garamond"/>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l nivel de aislamiento de impulso básico en términos del voltaje de la prueba de Onda completa. </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l voltaje Nominal de sistema, o el voltaje máximo de sistema.</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a Frecuencia.</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as corrientes medidas en primario y secundario.</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as clases de precisión en cargas uniformes.</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l factor que evalúa la corriente térmica continua en base a 30°C</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a calificación mecánica de tiempo reducido de la corriente y la calificación térmica de tiempo reducido de la corriente.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argas uniformes o Standard</a:t>
            </a:r>
            <a:endParaRPr b="1" lang="en-US" sz="4400" spc="-1" strike="noStrike">
              <a:solidFill>
                <a:srgbClr val="e5e5ff"/>
              </a:solidFill>
              <a:latin typeface="Garamond"/>
            </a:endParaRPr>
          </a:p>
        </p:txBody>
      </p:sp>
      <p:sp>
        <p:nvSpPr>
          <p:cNvPr id="122" name="PlaceHolder 2"/>
          <p:cNvSpPr>
            <a:spLocks noGrp="1"/>
          </p:cNvSpPr>
          <p:nvPr>
            <p:ph/>
          </p:nvPr>
        </p:nvSpPr>
        <p:spPr>
          <a:xfrm>
            <a:off x="456840" y="1600200"/>
            <a:ext cx="8002440" cy="452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l Standard de cargas para transformadores de corriente con 5A corriente secundaria tendrán la resistencia y la inductancia según tabla:</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23" name="" descr=""/>
          <p:cNvPicPr/>
          <p:nvPr/>
        </p:nvPicPr>
        <p:blipFill>
          <a:blip r:embed="rId1"/>
          <a:stretch/>
        </p:blipFill>
        <p:spPr>
          <a:xfrm>
            <a:off x="1547640" y="2997360"/>
            <a:ext cx="5616720" cy="3466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alificaciones de la certeza para medir </a:t>
            </a:r>
            <a:endParaRPr b="1" lang="en-US" sz="40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n transformador de corriente para medición tendrá una certeza de medición para cada carga uniforme para la cual es medido. Por ejemplo, B-0.1. </a:t>
            </a:r>
            <a:endParaRPr b="0" lang="en-US" sz="3200" spc="-1" strike="noStrike">
              <a:solidFill>
                <a:srgbClr val="ffffff"/>
              </a:solidFill>
              <a:latin typeface="Garamond"/>
            </a:endParaRPr>
          </a:p>
          <a:p>
            <a:pPr lvl="1" marL="720720" indent="-2772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ransformador de corriente con secundario con “taps” o múltiple-razón. La calificación de la certeza de la medición aplica al enrollado secundario completo, a menos que se especifique de otra manera.</a:t>
            </a:r>
            <a:endParaRPr b="0" lang="en-US" sz="2800" spc="-1" strike="noStrike">
              <a:solidFill>
                <a:srgbClr val="ffffff"/>
              </a:solidFill>
              <a:latin typeface="Garamond"/>
            </a:endParaRPr>
          </a:p>
          <a:p>
            <a:pPr lvl="1" marL="72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alificación de la certeza para retransmitir </a:t>
            </a:r>
            <a:endParaRPr b="1" lang="en-US" sz="40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ara clasificar la certeza de la retransmisión, la razón de corrección no excederá 10%. </a:t>
            </a:r>
            <a:endParaRPr b="0" lang="en-US" sz="2800" spc="-1" strike="noStrike">
              <a:solidFill>
                <a:srgbClr val="ffffff"/>
              </a:solidFill>
              <a:latin typeface="Garamond"/>
            </a:endParaRPr>
          </a:p>
          <a:p>
            <a:pPr lvl="1" marL="720720" indent="-27720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 Clasificación C, K, o T. La clasificación C o K cubre transformadores de corriente en los que el flujo remanente en el núcleo del transformador no tiene un efecto apreciable en la razón o razones dentro de los límites de la corriente y la carga. La clasificación T cubre los transformadores de corriente en los que el flujo de remanente en el núcleo del transformador tiene un efecto apreciable en la razón dentro de los límites especificados en el artículo B. Un efecto apreciable es definido como un 1% de diferencia entre los valores de la corrección actual de la razón y la corrección de razón calculada.</a:t>
            </a:r>
            <a:endParaRPr b="0" lang="en-US" sz="2400" spc="-1" strike="noStrike">
              <a:solidFill>
                <a:srgbClr val="ffffff"/>
              </a:solidFill>
              <a:latin typeface="Garamond"/>
            </a:endParaRPr>
          </a:p>
          <a:p>
            <a:pPr lvl="1" marL="72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lvl="1" marL="735480" indent="-28296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B) Calificación del voltaje secundario. Este es el voltaje que el transformador entregará a una carga Standard siendo la corriente 20 veces el valor de la corriente secundaria sin exceder 10% de la razón de corrección. Además, la corrección de proporción será limitada a 10% para cualquier corriente desde 1 a 20 veces el valor de la corriente secundaria en la carga Standard o cualquier carga pequeña Standard utilizada para calificaciones de voltaje en secundario. </a:t>
            </a:r>
            <a:endParaRPr b="0" lang="en-US" sz="2000" spc="-1" strike="noStrike">
              <a:solidFill>
                <a:srgbClr val="ffffff"/>
              </a:solidFill>
              <a:latin typeface="Garamond"/>
            </a:endParaRPr>
          </a:p>
          <a:p>
            <a:pPr lvl="1" marL="735480" indent="-28296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Por ejemplo, en un transformador de corriente de 5A  secundario, la certeza de la retransmisión C100 dice que la proporción puede ser calculada y que la corrección de proporción no excederá 10% con ninguna corriente desde 1 a 20 veces la corriente secundaria medida con una carga estándar de 1,0 Ω (1,0Ω x 5A x 20 x corriente secundaria = 100 V)</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1" name="PlaceHolder 2"/>
          <p:cNvSpPr>
            <a:spLocks noGrp="1"/>
          </p:cNvSpPr>
          <p:nvPr>
            <p:ph/>
          </p:nvPr>
        </p:nvSpPr>
        <p:spPr>
          <a:xfrm>
            <a:off x="456840" y="1600200"/>
            <a:ext cx="7715160" cy="452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as calificaciones del voltaje secundarios son basadas en una corriente secundaria de 5A (100A, 20 veces su valor) y cargas estándar. Las calificaciones del voltaje y sus cargas asociados son las siguientes:</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2" name="" descr=""/>
          <p:cNvPicPr/>
          <p:nvPr/>
        </p:nvPicPr>
        <p:blipFill>
          <a:blip r:embed="rId1"/>
          <a:stretch/>
        </p:blipFill>
        <p:spPr>
          <a:xfrm>
            <a:off x="2700360" y="4005360"/>
            <a:ext cx="3267000" cy="2171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 el enrollado secundario de un transformador de corriente es calificado en otro valor distinto de 5A, el voltaje apropiado de la calificación del voltaje será derivado de la multiplicación del voltaje uniforme por 5A /(corriente valorada).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28760" y="999720"/>
            <a:ext cx="8229600" cy="8478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e5e5ff"/>
                </a:solidFill>
                <a:latin typeface="Garamond"/>
              </a:rPr>
              <a:t>Pruebas Tipo</a:t>
            </a:r>
            <a:endParaRPr b="1" lang="en-US" sz="3900" spc="-1" strike="noStrike">
              <a:solidFill>
                <a:srgbClr val="e5e5ff"/>
              </a:solidFill>
              <a:latin typeface="Garamond"/>
            </a:endParaRPr>
          </a:p>
        </p:txBody>
      </p:sp>
      <p:sp>
        <p:nvSpPr>
          <p:cNvPr id="136" name=""/>
          <p:cNvSpPr txBox="1"/>
          <p:nvPr/>
        </p:nvSpPr>
        <p:spPr>
          <a:xfrm>
            <a:off x="500040" y="2071440"/>
            <a:ext cx="8229600" cy="4389480"/>
          </a:xfrm>
          <a:prstGeom prst="rect">
            <a:avLst/>
          </a:prstGeom>
          <a:noFill/>
          <a:ln w="0">
            <a:noFill/>
          </a:ln>
        </p:spPr>
        <p:txBody>
          <a:bodyPr anchor="t">
            <a:normAutofit/>
          </a:bodyPr>
          <a:p>
            <a:pPr marL="272880" indent="-272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 Pruebas Sísmicas</a:t>
            </a:r>
            <a:endParaRPr b="0" lang="en-US" sz="3200" spc="-1" strike="noStrike">
              <a:solidFill>
                <a:srgbClr val="ffffff"/>
              </a:solidFill>
              <a:latin typeface="Garamond"/>
            </a:endParaRPr>
          </a:p>
          <a:p>
            <a:pPr lvl="1" marL="639720" indent="-2458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 realiza en laboratorio aprobado por el dueño.</a:t>
            </a:r>
            <a:endParaRPr b="0" lang="en-US" sz="2800" spc="-1" strike="noStrike">
              <a:solidFill>
                <a:srgbClr val="ffffff"/>
              </a:solidFill>
              <a:latin typeface="Garamond"/>
            </a:endParaRPr>
          </a:p>
          <a:p>
            <a:pPr lvl="1" marL="639720" indent="-2458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spués de la prueba, el TC no debe mostrar daños, deformación ni fugas</a:t>
            </a:r>
            <a:endParaRPr b="0" lang="en-US" sz="2800" spc="-1" strike="noStrike">
              <a:solidFill>
                <a:srgbClr val="ffffff"/>
              </a:solidFill>
              <a:latin typeface="Garamond"/>
            </a:endParaRPr>
          </a:p>
          <a:p>
            <a:pPr lvl="1" marL="639720" indent="-2458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inguna parte interna debe quedar dañada</a:t>
            </a:r>
            <a:endParaRPr b="0" lang="en-US" sz="2800" spc="-1" strike="noStrike">
              <a:solidFill>
                <a:srgbClr val="ffffff"/>
              </a:solidFill>
              <a:latin typeface="Garamond"/>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e5e5ff"/>
                </a:solidFill>
                <a:latin typeface="Garamond"/>
              </a:rPr>
              <a:t>Pruebas Tipo</a:t>
            </a:r>
            <a:endParaRPr b="1" lang="en-US" sz="3900" spc="-1" strike="noStrike">
              <a:solidFill>
                <a:srgbClr val="e5e5ff"/>
              </a:solidFill>
              <a:latin typeface="Garamond"/>
            </a:endParaRPr>
          </a:p>
        </p:txBody>
      </p:sp>
      <p:sp>
        <p:nvSpPr>
          <p:cNvPr id="138" name=""/>
          <p:cNvSpPr txBox="1"/>
          <p:nvPr/>
        </p:nvSpPr>
        <p:spPr>
          <a:xfrm>
            <a:off x="500040" y="2214720"/>
            <a:ext cx="8229600" cy="4389120"/>
          </a:xfrm>
          <a:prstGeom prst="rect">
            <a:avLst/>
          </a:prstGeom>
          <a:noFill/>
          <a:ln w="0">
            <a:noFill/>
          </a:ln>
        </p:spPr>
        <p:txBody>
          <a:bodyPr anchor="t">
            <a:normAutofit fontScale="99000"/>
          </a:bodyPr>
          <a:p>
            <a:pPr marL="270000" indent="-2700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 Pruebas de Cortocircuito</a:t>
            </a:r>
            <a:endParaRPr b="0" lang="en-US" sz="3200" spc="-1" strike="noStrike">
              <a:solidFill>
                <a:srgbClr val="ffffff"/>
              </a:solidFill>
              <a:latin typeface="Garamond"/>
            </a:endParaRPr>
          </a:p>
          <a:p>
            <a:pPr marL="270000" indent="-2700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3.- Pruebas de Descargas Parciales</a:t>
            </a:r>
            <a:endParaRPr b="0" lang="en-US" sz="3200" spc="-1" strike="noStrike">
              <a:solidFill>
                <a:srgbClr val="ffffff"/>
              </a:solidFill>
              <a:latin typeface="Garamond"/>
            </a:endParaRPr>
          </a:p>
          <a:p>
            <a:pPr lvl="1" marL="633240" indent="-2433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terminadas como función de la tensión de prueba</a:t>
            </a:r>
            <a:endParaRPr b="0" lang="en-US" sz="2800" spc="-1" strike="noStrike">
              <a:solidFill>
                <a:srgbClr val="ffffff"/>
              </a:solidFill>
              <a:latin typeface="Garamond"/>
            </a:endParaRPr>
          </a:p>
          <a:p>
            <a:pPr lvl="1" marL="633240" indent="-2433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 realizan antes de las pruebas de impulso, y después deben ser repetidas</a:t>
            </a:r>
            <a:endParaRPr b="0" lang="en-US" sz="2800" spc="-1" strike="noStrike">
              <a:solidFill>
                <a:srgbClr val="ffffff"/>
              </a:solidFill>
              <a:latin typeface="Garamond"/>
            </a:endParaRPr>
          </a:p>
          <a:p>
            <a:pPr lvl="1" marL="633240" indent="-2433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 efectúa para tensiones crecientes entre 0.5 y 1.5 veces la tensión nominal, y luego en forma decreciente </a:t>
            </a:r>
            <a:endParaRPr b="0" lang="en-US" sz="2800" spc="-1" strike="noStrike">
              <a:solidFill>
                <a:srgbClr val="ffffff"/>
              </a:solidFill>
              <a:latin typeface="Garamond"/>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28760" y="928800"/>
            <a:ext cx="8229600" cy="8474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e5e5ff"/>
                </a:solidFill>
                <a:latin typeface="Garamond"/>
              </a:rPr>
              <a:t>Pruebas Tipo</a:t>
            </a:r>
            <a:endParaRPr b="1" lang="en-US" sz="3900" spc="-1" strike="noStrike">
              <a:solidFill>
                <a:srgbClr val="e5e5ff"/>
              </a:solidFill>
              <a:latin typeface="Garamond"/>
            </a:endParaRPr>
          </a:p>
        </p:txBody>
      </p:sp>
      <p:sp>
        <p:nvSpPr>
          <p:cNvPr id="140" name=""/>
          <p:cNvSpPr txBox="1"/>
          <p:nvPr/>
        </p:nvSpPr>
        <p:spPr>
          <a:xfrm>
            <a:off x="428760" y="2214360"/>
            <a:ext cx="8215200" cy="3500280"/>
          </a:xfrm>
          <a:prstGeom prst="rect">
            <a:avLst/>
          </a:prstGeom>
          <a:noFill/>
          <a:ln w="0">
            <a:noFill/>
          </a:ln>
        </p:spPr>
        <p:txBody>
          <a:bodyPr anchor="t">
            <a:normAutofit fontScale="95000"/>
          </a:bodyPr>
          <a:p>
            <a:pPr marL="259200" indent="-259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3.- Prueba de Descargas Parciales</a:t>
            </a:r>
            <a:endParaRPr b="0" lang="en-US" sz="3200" spc="-1" strike="noStrike">
              <a:solidFill>
                <a:srgbClr val="ffffff"/>
              </a:solidFill>
              <a:latin typeface="Garamond"/>
            </a:endParaRPr>
          </a:p>
          <a:p>
            <a:pPr lvl="1" marL="607680" indent="-2332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as DP no deben ser mayores a 10pC a 1.1Vn ni mayores a 2pC a 0.7Vn.</a:t>
            </a:r>
            <a:endParaRPr b="0" lang="en-US" sz="2800" spc="-1" strike="noStrike">
              <a:solidFill>
                <a:srgbClr val="ffffff"/>
              </a:solidFill>
              <a:latin typeface="Garamond"/>
            </a:endParaRPr>
          </a:p>
          <a:p>
            <a:pPr marL="259200" indent="-259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4.- Prueba de Impulso</a:t>
            </a:r>
            <a:endParaRPr b="0" lang="en-US" sz="3200" spc="-1" strike="noStrike">
              <a:solidFill>
                <a:srgbClr val="ffffff"/>
              </a:solidFill>
              <a:latin typeface="Garamond"/>
            </a:endParaRPr>
          </a:p>
          <a:p>
            <a:pPr lvl="1" marL="607680" indent="-2332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 realiza en el enrollado de AT</a:t>
            </a:r>
            <a:endParaRPr b="0" lang="en-US" sz="2800" spc="-1" strike="noStrike">
              <a:solidFill>
                <a:srgbClr val="ffffff"/>
              </a:solidFill>
              <a:latin typeface="Garamond"/>
            </a:endParaRPr>
          </a:p>
          <a:p>
            <a:pPr lvl="1" marL="607680" indent="-2332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in excitación del transformador</a:t>
            </a:r>
            <a:endParaRPr b="0" lang="en-US" sz="2800" spc="-1" strike="noStrike">
              <a:solidFill>
                <a:srgbClr val="ffffff"/>
              </a:solidFill>
              <a:latin typeface="Garamond"/>
            </a:endParaRPr>
          </a:p>
          <a:p>
            <a:pPr lvl="1" marL="607680" indent="-2332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 usan ondas de polaridad negativa</a:t>
            </a:r>
            <a:endParaRPr b="0" lang="en-US" sz="2800" spc="-1" strike="noStrike">
              <a:solidFill>
                <a:srgbClr val="ffffff"/>
              </a:solidFill>
              <a:latin typeface="Garamon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Qué es una norma?</a:t>
            </a:r>
            <a:endParaRPr b="1" lang="en-US" sz="4400" spc="-1" strike="noStrike">
              <a:solidFill>
                <a:srgbClr val="e5e5ff"/>
              </a:solidFill>
              <a:latin typeface="Garamond"/>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s un documento de conocimiento y uso público, aprobado por consenso y por un organismo reconocido.</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ntienen especificaciones técnicas de aplicación voluntaria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stán basados en los resultados de la experiencia y el desarrollo tecnológico</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28760" y="856800"/>
            <a:ext cx="8229600" cy="8478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uebas Tipo</a:t>
            </a:r>
            <a:endParaRPr b="1" lang="en-US" sz="4400" spc="-1" strike="noStrike">
              <a:solidFill>
                <a:srgbClr val="e5e5ff"/>
              </a:solidFill>
              <a:latin typeface="Garamond"/>
            </a:endParaRPr>
          </a:p>
        </p:txBody>
      </p:sp>
      <p:sp>
        <p:nvSpPr>
          <p:cNvPr id="142" name=""/>
          <p:cNvSpPr txBox="1"/>
          <p:nvPr/>
        </p:nvSpPr>
        <p:spPr>
          <a:xfrm>
            <a:off x="428760" y="1999800"/>
            <a:ext cx="8229600" cy="4389480"/>
          </a:xfrm>
          <a:prstGeom prst="rect">
            <a:avLst/>
          </a:prstGeom>
          <a:noFill/>
          <a:ln w="0">
            <a:noFill/>
          </a:ln>
        </p:spPr>
        <p:txBody>
          <a:bodyPr anchor="t">
            <a:normAutofit fontScale="95000"/>
          </a:bodyPr>
          <a:p>
            <a:pPr marL="259200" indent="-259200">
              <a:spcBef>
                <a:spcPts val="82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Garamond"/>
              </a:rPr>
              <a:t>5.- Prueba de Elevación de Temperatura.</a:t>
            </a:r>
            <a:endParaRPr b="0" lang="en-US" sz="3300" spc="-1" strike="noStrike">
              <a:solidFill>
                <a:srgbClr val="ffffff"/>
              </a:solidFill>
              <a:latin typeface="Garamond"/>
            </a:endParaRPr>
          </a:p>
          <a:p>
            <a:pPr lvl="1" marL="607680" indent="-2332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sistencia Aislamiento Enrollados V/S Temperatura aceite.</a:t>
            </a:r>
            <a:endParaRPr b="0" lang="en-US" sz="2800" spc="-1" strike="noStrike">
              <a:solidFill>
                <a:srgbClr val="ffffff"/>
              </a:solidFill>
              <a:latin typeface="Garamond"/>
            </a:endParaRPr>
          </a:p>
          <a:p>
            <a:pPr marL="259200" indent="-259200">
              <a:spcBef>
                <a:spcPts val="82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Garamond"/>
              </a:rPr>
              <a:t>6.- Prueba Curvas de Excitación.</a:t>
            </a:r>
            <a:endParaRPr b="0" lang="en-US" sz="3300" spc="-1" strike="noStrike">
              <a:solidFill>
                <a:srgbClr val="ffffff"/>
              </a:solidFill>
              <a:latin typeface="Garamond"/>
            </a:endParaRPr>
          </a:p>
          <a:p>
            <a:pPr lvl="1" marL="607680" indent="-2332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terminación Curva Excitación.</a:t>
            </a:r>
            <a:endParaRPr b="0" lang="en-US" sz="2800" spc="-1" strike="noStrike">
              <a:solidFill>
                <a:srgbClr val="ffffff"/>
              </a:solidFill>
              <a:latin typeface="Garamond"/>
            </a:endParaRPr>
          </a:p>
          <a:p>
            <a:pPr lvl="1" marL="607680" indent="-2332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edición de Tensión de excitación para distintas corrientes de excitación.</a:t>
            </a:r>
            <a:endParaRPr b="0" lang="en-US" sz="2800" spc="-1" strike="noStrike">
              <a:solidFill>
                <a:srgbClr val="ffffff"/>
              </a:solidFill>
              <a:latin typeface="Garamond"/>
            </a:endParaRPr>
          </a:p>
          <a:p>
            <a:pPr lvl="1" marL="607680" indent="-2332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ango de corrientes tal de determinar zonas bajo y sobre punto de inflexión.</a:t>
            </a:r>
            <a:endParaRPr b="0" lang="en-US" sz="2800" spc="-1" strike="noStrike">
              <a:solidFill>
                <a:srgbClr val="ffffff"/>
              </a:solidFill>
              <a:latin typeface="Garamond"/>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uebas de Rutina</a:t>
            </a:r>
            <a:endParaRPr b="1" lang="en-US" sz="4400" spc="-1" strike="noStrike">
              <a:solidFill>
                <a:srgbClr val="e5e5ff"/>
              </a:solidFill>
              <a:latin typeface="Garamond"/>
            </a:endParaRPr>
          </a:p>
        </p:txBody>
      </p:sp>
      <p:sp>
        <p:nvSpPr>
          <p:cNvPr id="144" name=""/>
          <p:cNvSpPr txBox="1"/>
          <p:nvPr/>
        </p:nvSpPr>
        <p:spPr>
          <a:xfrm>
            <a:off x="428760" y="2285640"/>
            <a:ext cx="8229600" cy="4389480"/>
          </a:xfrm>
          <a:prstGeom prst="rect">
            <a:avLst/>
          </a:prstGeom>
          <a:noFill/>
          <a:ln w="0">
            <a:noFill/>
          </a:ln>
        </p:spPr>
        <p:txBody>
          <a:bodyPr anchor="t">
            <a:normAutofit fontScale="97000"/>
          </a:bodyPr>
          <a:p>
            <a:pPr marL="264600" indent="-264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dicaciones Previas</a:t>
            </a:r>
            <a:endParaRPr b="0" lang="en-US" sz="3200" spc="-1" strike="noStrike">
              <a:solidFill>
                <a:srgbClr val="ffffff"/>
              </a:solidFill>
              <a:latin typeface="Garamond"/>
            </a:endParaRPr>
          </a:p>
          <a:p>
            <a:pPr marL="264600" indent="-264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620280" indent="-23832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uebas a Realizar en Todos los Equipos y se Incluyen en Costo de Suministro.</a:t>
            </a:r>
            <a:endParaRPr b="0" lang="en-US" sz="2800" spc="-1" strike="noStrike">
              <a:solidFill>
                <a:srgbClr val="ffffff"/>
              </a:solidFill>
              <a:latin typeface="Garamond"/>
            </a:endParaRPr>
          </a:p>
          <a:p>
            <a:pPr lvl="1" marL="620280" indent="-23832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sultados Adjuntos con Protocolo de Pruebas.</a:t>
            </a:r>
            <a:endParaRPr b="0" lang="en-US" sz="2800" spc="-1" strike="noStrike">
              <a:solidFill>
                <a:srgbClr val="ffffff"/>
              </a:solidFill>
              <a:latin typeface="Garamond"/>
            </a:endParaRPr>
          </a:p>
          <a:p>
            <a:pPr lvl="1" marL="620280" indent="-23832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inspecciones a Costo y Cargo de Fabricante*.</a:t>
            </a:r>
            <a:endParaRPr b="0" lang="en-US" sz="2800" spc="-1" strike="noStrike">
              <a:solidFill>
                <a:srgbClr val="ffffff"/>
              </a:solidFill>
              <a:latin typeface="Garamond"/>
            </a:endParaRPr>
          </a:p>
          <a:p>
            <a:pPr lvl="1" marL="620280" indent="-23832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esencia de Inspector Licitador.</a:t>
            </a:r>
            <a:endParaRPr b="0" lang="en-US" sz="2800" spc="-1" strike="noStrike">
              <a:solidFill>
                <a:srgbClr val="ffffff"/>
              </a:solidFill>
              <a:latin typeface="Garamond"/>
            </a:endParaRPr>
          </a:p>
          <a:p>
            <a:pPr lvl="2" marL="886680" indent="-23868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ograma de Pruebas.</a:t>
            </a:r>
            <a:endParaRPr b="0" lang="en-US" sz="2400" spc="-1" strike="noStrike">
              <a:solidFill>
                <a:srgbClr val="ffffff"/>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Qué es una norma?</a:t>
            </a:r>
            <a:endParaRPr b="1" lang="en-US" sz="4400" spc="-1" strike="noStrike">
              <a:solidFill>
                <a:srgbClr val="e5e5ff"/>
              </a:solidFill>
              <a:latin typeface="Garamond"/>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Las Normas aseguran que los productos cumplan determinados estándares de calida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Especifican las características constructiva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Norma es una sugerencia (no una obligación) la que puede hacerse obligatoria (Ley).</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395280" y="836640"/>
            <a:ext cx="8229600" cy="4525920"/>
          </a:xfrm>
          <a:prstGeom prst="rect">
            <a:avLst/>
          </a:prstGeom>
          <a:noFill/>
          <a:ln w="0">
            <a:noFill/>
          </a:ln>
        </p:spPr>
        <p:txBody>
          <a:bodyPr lIns="90000" rIns="90000" tIns="46800" bIns="46800"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n elaborados por consenso de las partes interesadas: </a:t>
            </a:r>
            <a:endParaRPr b="0" lang="en-US" sz="3200" spc="-1" strike="noStrike">
              <a:solidFill>
                <a:srgbClr val="ffffff"/>
              </a:solidFill>
              <a:latin typeface="Garamond"/>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abricantes </a:t>
            </a:r>
            <a:endParaRPr b="0" lang="en-US" sz="3200" spc="-1" strike="noStrike">
              <a:solidFill>
                <a:srgbClr val="ffffff"/>
              </a:solidFill>
              <a:latin typeface="Garamond"/>
            </a:endParaRPr>
          </a:p>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dministraciones </a:t>
            </a:r>
            <a:endParaRPr b="0" lang="en-US" sz="3200" spc="-1" strike="noStrike">
              <a:solidFill>
                <a:srgbClr val="ffffff"/>
              </a:solidFill>
              <a:latin typeface="Garamond"/>
            </a:endParaRPr>
          </a:p>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suarios y consumidores </a:t>
            </a:r>
            <a:endParaRPr b="0" lang="en-US" sz="3200" spc="-1" strike="noStrike">
              <a:solidFill>
                <a:srgbClr val="ffffff"/>
              </a:solidFill>
              <a:latin typeface="Garamond"/>
            </a:endParaRPr>
          </a:p>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entros de investigación y laboratorios </a:t>
            </a:r>
            <a:endParaRPr b="0" lang="en-US" sz="3200" spc="-1" strike="noStrike">
              <a:solidFill>
                <a:srgbClr val="ffffff"/>
              </a:solidFill>
              <a:latin typeface="Garamond"/>
            </a:endParaRPr>
          </a:p>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sociaciones y Colegios Profesionales </a:t>
            </a:r>
            <a:endParaRPr b="0" lang="en-US" sz="3200" spc="-1" strike="noStrike">
              <a:solidFill>
                <a:srgbClr val="ffffff"/>
              </a:solidFill>
              <a:latin typeface="Garamond"/>
            </a:endParaRPr>
          </a:p>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gentes Sociales, etc.</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Contenidos de una Norma</a:t>
            </a:r>
            <a:endParaRPr b="1" lang="en-US" sz="44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eámbulo</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Índice de contenidos</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Índice de figuras</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Índice de tablas</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ntenido</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lcances y Campo de Aplicación</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ferencias normativas</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érminos y definiciones</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ntecedentes técnicos y teóricos</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uebas de ensayo</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nexos</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Donde Buscar una Norma</a:t>
            </a:r>
            <a:endParaRPr b="1" lang="en-US" sz="44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Cada </a:t>
            </a:r>
            <a:r>
              <a:rPr b="0" lang="es-ES" sz="3200" spc="-1" strike="noStrike">
                <a:solidFill>
                  <a:srgbClr val="ffffff"/>
                </a:solidFill>
                <a:latin typeface="Garamond"/>
              </a:rPr>
              <a:t>país posee sus organizaciones normativas que trabajan solas o en conjunto con las Normas Internacionales</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Institutos y organizaciones normativas</a:t>
            </a:r>
            <a:endParaRPr b="0" lang="en-US" sz="3200" spc="-1" strike="noStrike">
              <a:solidFill>
                <a:srgbClr val="ffffff"/>
              </a:solidFill>
              <a:latin typeface="Garamond"/>
            </a:endParaRPr>
          </a:p>
          <a:p>
            <a:pPr lvl="1" marL="705600" indent="-2714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Mundo: ISO – IEEE – UE – ANSI-NEMA</a:t>
            </a:r>
            <a:endParaRPr b="0" lang="en-US" sz="2800" spc="-1" strike="noStrike">
              <a:solidFill>
                <a:srgbClr val="ffffff"/>
              </a:solidFill>
              <a:latin typeface="Garamond"/>
            </a:endParaRPr>
          </a:p>
          <a:p>
            <a:pPr lvl="1" marL="705600" indent="-2714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hile: INN (Instituto nacional de Normalización)</a:t>
            </a:r>
            <a:endParaRPr b="0" lang="en-US" sz="28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Internet</a:t>
            </a:r>
            <a:endParaRPr b="0" lang="en-US" sz="3200" spc="-1" strike="noStrike">
              <a:solidFill>
                <a:srgbClr val="ffffff"/>
              </a:solidFill>
              <a:latin typeface="Garamond"/>
            </a:endParaRPr>
          </a:p>
          <a:p>
            <a:pPr lvl="1" marL="705600" indent="-2714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cceso restringido (pagado)</a:t>
            </a:r>
            <a:endParaRPr b="0" lang="en-US" sz="2800" spc="-1" strike="noStrike">
              <a:solidFill>
                <a:srgbClr val="ffffff"/>
              </a:solidFill>
              <a:latin typeface="Garamond"/>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Donde Buscar una Norma</a:t>
            </a: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Universidad:</a:t>
            </a:r>
            <a:endParaRPr b="0" lang="en-US" sz="2800" spc="-1" strike="noStrike">
              <a:solidFill>
                <a:srgbClr val="ffffff"/>
              </a:solidFill>
              <a:latin typeface="Garamond"/>
            </a:endParaRPr>
          </a:p>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Laboratorio de Alta Tensión</a:t>
            </a:r>
            <a:endParaRPr b="0" lang="en-US" sz="2800" spc="-1" strike="noStrike">
              <a:solidFill>
                <a:srgbClr val="ffffff"/>
              </a:solidFill>
              <a:latin typeface="Garamond"/>
            </a:endParaRPr>
          </a:p>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A través del convenio de la U con IEEE</a:t>
            </a:r>
            <a:endParaRPr b="0" lang="en-US" sz="2800" spc="-1" strike="noStrike">
              <a:solidFill>
                <a:srgbClr val="ffffff"/>
              </a:solidFill>
              <a:latin typeface="Garamond"/>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Normas pagadas:</a:t>
            </a:r>
            <a:endParaRPr b="0" lang="en-US" sz="2800" spc="-1" strike="noStrike">
              <a:solidFill>
                <a:srgbClr val="ffffff"/>
              </a:solidFill>
              <a:latin typeface="Garamond"/>
            </a:endParaRPr>
          </a:p>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Instituto Nacional de Normalización</a:t>
            </a:r>
            <a:endParaRPr b="0" lang="en-US" sz="2800" spc="-1" strike="noStrike">
              <a:solidFill>
                <a:srgbClr val="ffffff"/>
              </a:solidFill>
              <a:latin typeface="Garamond"/>
            </a:endParaRPr>
          </a:p>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IHS </a:t>
            </a:r>
            <a:r>
              <a:rPr b="0" lang="es-ES" sz="2800" spc="-1" strike="noStrike">
                <a:solidFill>
                  <a:srgbClr val="ffffff"/>
                </a:solidFill>
                <a:latin typeface="Garamond"/>
              </a:rPr>
              <a:t>Standard Store (http://store.ihs.com)</a:t>
            </a:r>
            <a:endParaRPr b="0" lang="en-US" sz="2800" spc="-1" strike="noStrike">
              <a:solidFill>
                <a:srgbClr val="ffffff"/>
              </a:solidFill>
              <a:latin typeface="Garamond"/>
            </a:endParaRPr>
          </a:p>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NSI Standards Store (http://webstore.ansi.org/)</a:t>
            </a:r>
            <a:endParaRPr b="0" lang="en-US" sz="2800" spc="-1" strike="noStrike">
              <a:solidFill>
                <a:srgbClr val="ffffff"/>
              </a:solidFill>
              <a:latin typeface="Garamond"/>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Normas para TC</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International Electrotechnical Commission</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IEC 60044-1 </a:t>
            </a:r>
            <a:r>
              <a:rPr b="0" lang="es-ES" sz="2400" spc="-1" strike="noStrike">
                <a:solidFill>
                  <a:srgbClr val="ffffff"/>
                </a:solidFill>
                <a:latin typeface="Garamond"/>
              </a:rPr>
              <a:t>Instrument Transformers</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Institute of Electrical and Electronics Engineers</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IEEE C57.13 Standard Requirements for Instrument Transformers 1993-JUN-17</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Ingendesa</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ETGI-1020</a:t>
            </a:r>
            <a:endParaRPr b="0" lang="en-US" sz="2400" spc="-1" strike="noStrike">
              <a:solidFill>
                <a:srgbClr val="ffffff"/>
              </a:solidFill>
              <a:latin typeface="Garamon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16" name="" descr=""/>
          <p:cNvPicPr/>
          <p:nvPr/>
        </p:nvPicPr>
        <p:blipFill>
          <a:blip r:embed="rId1"/>
          <a:srcRect l="42076" t="15755" r="21747" b="25895"/>
          <a:stretch/>
        </p:blipFill>
        <p:spPr>
          <a:xfrm>
            <a:off x="5796000" y="3860640"/>
            <a:ext cx="2143080" cy="2592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Referencias </a:t>
            </a:r>
            <a:r>
              <a:rPr b="0" lang="es-ES" sz="4400" spc="-1" strike="noStrike">
                <a:solidFill>
                  <a:srgbClr val="e5e5ff"/>
                </a:solidFill>
                <a:latin typeface="Garamond"/>
              </a:rPr>
              <a:t>IEEE C57.13 </a:t>
            </a:r>
            <a:endParaRPr b="1" lang="en-US" sz="4400" spc="-1" strike="noStrike">
              <a:solidFill>
                <a:srgbClr val="e5e5ff"/>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NSI C37.06-1987, Preferred Ratings and Related Required Capabilities for AC High-Voltage Circui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EEE Std 4-1978, IEEE Standard Techniques for High Voltage Testing (ANSI).</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EMA SG 4-1975 (R 1980), Alternating-Current High-Voltage Circuit Breakers</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2T15:44:24Z</dcterms:created>
  <dc:creator>Laboratorio de Telecomunicaciones</dc:creator>
  <dc:description/>
  <dc:language>en-US</dc:language>
  <cp:lastModifiedBy>ABOTTESELLE</cp:lastModifiedBy>
  <dcterms:modified xsi:type="dcterms:W3CDTF">2007-11-26T15:20:05Z</dcterms:modified>
  <cp:revision>8</cp:revision>
  <dc:subject/>
  <dc:title>Diapositiva 1</dc:title>
</cp:coreProperties>
</file>