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95066-3107-4E45-97CE-EC633809E5C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E8B71-AE38-4CB0-B132-570383A2625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B674D-8CA2-4397-A975-13E5E78D8D0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22513-9A48-46F9-8FC0-DD47080C109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37D4A-F112-4477-B9CC-3B1FC5A0D5E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44FB1-CF4D-4626-8911-11883A3C233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6867B-E601-448C-A86F-D39E67AC7BE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F5170-4CEC-4E73-B786-CB35C589B89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A05B5-9FF5-428C-A3AA-F55651214CD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DF27F-C632-42CE-AEDF-22AAEDDC02D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A8120-50A9-43F3-BD4C-12C59452FD4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2FFA9-6064-4E66-8D1E-73B6178A5E7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1FE40-72D9-4A0F-AF9D-3B68A66A9DB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6539C-C47F-44AA-A47E-CB3452DEE51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04F84-A058-4F42-B329-726004224B3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3D403-4325-4B67-A5F4-4FE1C5C1A10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E78E0-CE5E-4B97-8C20-EB64E24C5E4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0609B-FD54-469E-B8E3-D40D75E560F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91222-44D5-4044-899A-C92E3AA8EEE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A90EA-0B53-401F-AE8F-0A8029E5710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F9A9-A6D8-455C-8DF8-D5B2F5297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5FED-3BD9-4B38-A845-9C2BC65A6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C7FE-0E3C-4919-ADB4-7688AB7D1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5283-5A19-468F-9CFB-96ED2DEE0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6541A-725B-4BDF-B9E0-DA115FDEB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6388B-C6B5-4F05-9C75-D534D168B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C8261-04DB-4938-8224-835C4D6B8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D2998-BCC4-4CEF-8458-87E52D43C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68589-8634-4494-B44C-792A3FF8A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1B4CA-6356-4A39-8091-BCFAD9190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ADA21-9271-40E3-B61F-2692DEC61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C27C-6FC5-48BB-8A95-00BDF07C6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F458F-927E-43D7-971F-BC4E049BA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D00E9-222E-4B84-B354-89C16E508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2EEFE-0F85-42BB-814E-76030C15F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AB8BC-36D9-4499-9D8E-9E790B2F6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CC988-CBBB-4FE1-925F-9907FCFA2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3E4993-BF63-4852-BBC3-E307BAC7F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69C6E0-8216-43AB-88DE-0583B8EBD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90120A-3B99-4022-B19D-C88830AFD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19E35C-311D-4866-A7C2-38E961F03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1DAFCB-A2A1-4DAD-A921-E15D9EF33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894E-2167-4A30-B44B-9CAD7A9CC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48695B-77BC-4B52-B472-C362B903A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470A0A-0B16-4491-993C-E48CE740A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AF6714-DA8C-4FDF-979E-77C5FD033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EA24E1-2411-4D25-9EF8-384B30DB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6239C6-609D-4621-8BE8-7AEC43E6F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9AD9FB-665B-4D33-903C-18101EED7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9D8344-85A8-4979-BF0F-F19B388EF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97C67-B426-402B-9C5C-AE7C14C8D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524CF-2040-42BA-8775-980F00EDD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B82FF-8BCA-4518-9C4A-066EEDB16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2064-4E07-43E3-98EA-CBB91A170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2D7ED-A6BF-478B-8FAD-790CD5708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3CD35-A48D-41EE-9843-AB2963845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E76C4-E0B1-4D80-A700-6FF851FE0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694A3-F286-49FC-9C66-B85775788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E1C06-F5EC-4C99-82CD-A6AE16EB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48D93-BD58-49F1-BA2B-726A5C167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4D6CA-DB46-4DF7-8714-4722F18BA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BA504-75E5-4151-A5B6-0637F50C7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F3A09-124C-4C88-AE5B-6D972F6C6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932D06-B14B-416F-94BF-F78EF80A3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A81B-B959-405C-88AB-33956BA1D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DC37D9-A296-4001-B779-E6D000888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1A4669-F583-4991-9CAE-3783E24C4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F0516C-D928-46E7-8A24-928C7D0FA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A6B9A5-DA24-4165-857C-073037CD8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406A0C-8328-4D35-9F32-CB47A42F4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006F83-E84E-4271-A1B5-7D05624BA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18571A-3E8A-45A9-A95A-5B468EC22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C45EF8-4EB0-4728-972A-4B4EF301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567C97-C0C5-4CF5-97A8-4DD126314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2FCAE6-E7A5-40BE-A208-57D070315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4341-F695-432B-9612-FF5A99E38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B7880B-D022-45F4-A629-70F262A7C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083721-8D35-4E3A-837F-96C134070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7F75B0-50CF-404E-B778-9FA4A7E2D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A31A36-F590-49AD-BCF5-BB5123407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7BD6B5-F3A6-47CC-B1C8-083EC03FD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7AC157-5AA4-4B45-BE0F-92E4A7498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6CE457-28B5-4DC3-B11F-D33F96C0E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1BCF2A-10F5-4972-9206-E5F9E91F7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F3B1E6-F8DF-42CE-81E1-4CFD8BD7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B6F3C6-C644-48BE-8123-150117C0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886C-B7CC-47BA-B0DE-C62B61E61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407A66-064F-4C80-B54F-7E8438BD2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AC0FF9-B586-4F05-BEAF-929B65F1B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1FDBA2-4293-4610-9A72-EE0E3714A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2396E4-8A5A-44B0-9724-4620772FF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D67403-7AA0-4878-880A-175ABF77B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B3F21E-737B-486C-B924-FFEBB5F75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2CEE55-40BD-47D0-BB98-6D5B9CA65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D0B272-003D-4279-ADA8-6EC3C304D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E8A3E2-7049-4B91-A971-F1C10E782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1652D5-FA71-4365-B20C-B0F05DB5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B8A0-E079-43B5-BBF1-744938F10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B39A28-6EF1-495D-BF4B-1655F0FC4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FF55B9-BA0D-4E14-8E37-4D57DEE4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E3D00D-8348-42B2-AF9F-2E512A0EB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6DB5C5-1A0E-4385-AF56-E2E1A698B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56CCA0-5A3B-4C5E-8198-E4AF95168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2A45-1BB8-4734-8C5F-8ED563A3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B7A63-5B57-4180-BF0C-38E0174597A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25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26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27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28 Elipse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29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30 Elipse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31 Elipse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CE64F-FF1D-4E5A-9679-436B8F25E1C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A0483-6D43-4B6D-BE84-6C7772BAE5B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25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26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27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28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29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30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31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9198B-F35D-4707-9F22-C7F176588D9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13DE7-F7CC-4255-A1CF-0A8A3FC2D220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14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16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17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18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19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20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266EB-1E94-4B78-A1BA-F5A8DC82C20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14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16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17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8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19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20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ECFC6-4778-4DA0-80E3-333E822072A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BUSQUEDAS EN INTERNE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s-ES" sz="1800" spc="-1" strike="noStrike">
                <a:solidFill>
                  <a:srgbClr val="575f6d"/>
                </a:solidFill>
                <a:latin typeface="Century Schoolbook"/>
              </a:rPr>
              <a:t>Alvaro Jesam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s-ES" sz="1800" spc="-1" strike="noStrike">
                <a:solidFill>
                  <a:srgbClr val="575f6d"/>
                </a:solidFill>
                <a:latin typeface="Century Schoolbook"/>
              </a:rPr>
              <a:t>Nicolás Montecino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tilizar Mayusculas en nombres propios o marcas comercia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astercard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astercard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tilizar comillas  cuando se desea encontrar una frase exacta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El perro de Claudi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El perro de Claudia”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7" name="Picture 2" descr="C:\Documents and Settings\Moe\Desktop\inter2\sin comilla.JPG"/>
          <p:cNvPicPr/>
          <p:nvPr/>
        </p:nvPicPr>
        <p:blipFill>
          <a:blip r:embed="rId1"/>
          <a:stretch/>
        </p:blipFill>
        <p:spPr>
          <a:xfrm>
            <a:off x="0" y="0"/>
            <a:ext cx="871524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0" name="Picture 2" descr="C:\Documents and Settings\Moe\Desktop\inter2\con comilla.JPG"/>
          <p:cNvPicPr/>
          <p:nvPr/>
        </p:nvPicPr>
        <p:blipFill>
          <a:blip r:embed="rId1"/>
          <a:stretch/>
        </p:blipFill>
        <p:spPr>
          <a:xfrm>
            <a:off x="0" y="0"/>
            <a:ext cx="811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so de Comas para separar nombres propi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Para buscar los autores del Libro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dvanced Programing with C++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e busca de la Siguiente maner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ichi Henning,Steve Vinoski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so de los simbolos + o – para agregar  o quitar importancia a las palabr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7" name="Picture 2" descr="F:\inter2\merme manza.JPG"/>
          <p:cNvPicPr/>
          <p:nvPr/>
        </p:nvPicPr>
        <p:blipFill>
          <a:blip r:embed="rId1"/>
          <a:stretch/>
        </p:blipFill>
        <p:spPr>
          <a:xfrm>
            <a:off x="214200" y="101520"/>
            <a:ext cx="8572680" cy="654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9" name="Picture 2" descr="F:\inter2\merme sin manza.JPG"/>
          <p:cNvPicPr/>
          <p:nvPr/>
        </p:nvPicPr>
        <p:blipFill>
          <a:blip r:embed="rId1"/>
          <a:stretch/>
        </p:blipFill>
        <p:spPr>
          <a:xfrm>
            <a:off x="214200" y="0"/>
            <a:ext cx="8572680" cy="68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so de los simbolos + o – dependiendo del peso que se le quiera dar en la busqued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2" name="Picture 2" descr="F:\inter2\tabla1a.JPG"/>
          <p:cNvPicPr/>
          <p:nvPr/>
        </p:nvPicPr>
        <p:blipFill>
          <a:blip r:embed="rId1"/>
          <a:stretch/>
        </p:blipFill>
        <p:spPr>
          <a:xfrm>
            <a:off x="0" y="500040"/>
            <a:ext cx="9144000" cy="61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5" name="Picture 2" descr="F:\inter2\tabla1b.JPG"/>
          <p:cNvPicPr/>
          <p:nvPr/>
        </p:nvPicPr>
        <p:blipFill>
          <a:blip r:embed="rId1"/>
          <a:stretch/>
        </p:blipFill>
        <p:spPr>
          <a:xfrm>
            <a:off x="-3240" y="142920"/>
            <a:ext cx="914724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TIPOS DE BUSCADORES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ematic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o Tematic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etabuscador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5" descr="C:\Documents and Settings\Moe\Desktop\Internet\image009.gif"/>
          <p:cNvPicPr/>
          <p:nvPr/>
        </p:nvPicPr>
        <p:blipFill>
          <a:blip r:embed="rId1"/>
          <a:stretch/>
        </p:blipFill>
        <p:spPr>
          <a:xfrm>
            <a:off x="428760" y="928800"/>
            <a:ext cx="3384360" cy="8571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3" descr="C:\Documents and Settings\Moe\Desktop\Internet\Hotelbook.gif"/>
          <p:cNvPicPr/>
          <p:nvPr/>
        </p:nvPicPr>
        <p:blipFill>
          <a:blip r:embed="rId2"/>
          <a:stretch/>
        </p:blipFill>
        <p:spPr>
          <a:xfrm rot="1209000">
            <a:off x="850680" y="3649680"/>
            <a:ext cx="5675040" cy="13874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2" descr="C:\Documents and Settings\Moe\Desktop\Internet\Buscacine.gif"/>
          <p:cNvPicPr/>
          <p:nvPr/>
        </p:nvPicPr>
        <p:blipFill>
          <a:blip r:embed="rId3"/>
          <a:stretch/>
        </p:blipFill>
        <p:spPr>
          <a:xfrm rot="20380200">
            <a:off x="3395160" y="892080"/>
            <a:ext cx="5535720" cy="221472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TIPOS DE BUSCADORES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5712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ematic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Informacion Limitad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Informacion Precis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jempl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ww.Buscacine.com (cine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ww.InfoAgro.com  (Agricultura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ww.GunHoo.com (armas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ww.Amazon.com (comprar discos , libros, peliculas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ww.Andinia.com (deportes de monta</a:t>
            </a: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ña=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www.HotelBook.com 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(Hoteles en todo el Mundo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7" name="Picture 4" descr="C:\Documents and Settings\Moe\Desktop\Internet\amazon.jpg"/>
          <p:cNvPicPr/>
          <p:nvPr/>
        </p:nvPicPr>
        <p:blipFill>
          <a:blip r:embed="rId4"/>
          <a:stretch/>
        </p:blipFill>
        <p:spPr>
          <a:xfrm>
            <a:off x="6215040" y="2928960"/>
            <a:ext cx="209232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4" descr="C:\Documents and Settings\Moe\Desktop\Internet\scitopia.org-what-is-scitopia.jpg"/>
          <p:cNvPicPr/>
          <p:nvPr/>
        </p:nvPicPr>
        <p:blipFill>
          <a:blip r:embed="rId1"/>
          <a:stretch/>
        </p:blipFill>
        <p:spPr>
          <a:xfrm>
            <a:off x="3933720" y="2000160"/>
            <a:ext cx="3832200" cy="10209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" descr="C:\Documents and Settings\Moe\Desktop\Internet\scholar_logo.gif"/>
          <p:cNvPicPr/>
          <p:nvPr/>
        </p:nvPicPr>
        <p:blipFill>
          <a:blip r:embed="rId2"/>
          <a:stretch/>
        </p:blipFill>
        <p:spPr>
          <a:xfrm>
            <a:off x="4857840" y="5072040"/>
            <a:ext cx="2628720" cy="104760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2" descr="C:\Documents and Settings\Moe\Desktop\Internet\ieee_logo.gif"/>
          <p:cNvPicPr/>
          <p:nvPr/>
        </p:nvPicPr>
        <p:blipFill>
          <a:blip r:embed="rId3"/>
          <a:stretch/>
        </p:blipFill>
        <p:spPr>
          <a:xfrm>
            <a:off x="4929120" y="3714840"/>
            <a:ext cx="2428920" cy="125244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BUSCADORES TEMATICOS CIENTIFICOS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ww.Scitopia.or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Bibliotecas digitales de sociedades cientificas y tecnologica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demas busca patentes y documentos gubernamental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ww.IEEE.org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Buscador de las mas recientes publicaciones tecnologica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ttp://scholar.google.co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3" descr="C:\Documents and Settings\Moe\Desktop\Internet\5857713.jpg"/>
          <p:cNvPicPr/>
          <p:nvPr/>
        </p:nvPicPr>
        <p:blipFill>
          <a:blip r:embed="rId1"/>
          <a:stretch/>
        </p:blipFill>
        <p:spPr>
          <a:xfrm rot="1936800">
            <a:off x="4128840" y="3346560"/>
            <a:ext cx="3360600" cy="25207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4" descr="C:\Documents and Settings\Moe\Desktop\Internet\infoseekw_.jpg"/>
          <p:cNvPicPr/>
          <p:nvPr/>
        </p:nvPicPr>
        <p:blipFill>
          <a:blip r:embed="rId2"/>
          <a:stretch/>
        </p:blipFill>
        <p:spPr>
          <a:xfrm rot="18942000">
            <a:off x="4763880" y="776160"/>
            <a:ext cx="2253960" cy="208296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2" descr="C:\Documents and Settings\Moe\Desktop\Internet\google_logo1.jpg"/>
          <p:cNvPicPr/>
          <p:nvPr/>
        </p:nvPicPr>
        <p:blipFill>
          <a:blip r:embed="rId3"/>
          <a:stretch/>
        </p:blipFill>
        <p:spPr>
          <a:xfrm rot="1708800">
            <a:off x="367920" y="1271160"/>
            <a:ext cx="3956040" cy="164952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6" descr="C:\Documents and Settings\Moe\Desktop\Internet\yahoo.jpg"/>
          <p:cNvPicPr/>
          <p:nvPr/>
        </p:nvPicPr>
        <p:blipFill>
          <a:blip r:embed="rId4"/>
          <a:stretch/>
        </p:blipFill>
        <p:spPr>
          <a:xfrm rot="19287600">
            <a:off x="934560" y="3927240"/>
            <a:ext cx="3333960" cy="233352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TIPOS DE BUSCADORES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o Tematic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ucha Informacio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Respuestas mas general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Existe Redundancia de informacio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jempl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ww.Google.co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ww.Lycos.co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ww.Yahoo.co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ww.Altavista.co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ww.Infoseek.co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TIPOS DE BUSCADORES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2876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etabuscador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Facilitan aun mas la busqued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Busqueda en multiples sitios y Buscador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Entrega resumen de los articulos relevant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Obtiene el m</a:t>
            </a: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á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ximo recurso disponible de la red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jempl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ww.Metacrawler.co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ww.Dogpile.co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ww.Mamma.co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ww.Search.co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1" name="Picture 2" descr="C:\Documents and Settings\Moe\Desktop\Internet\METACRAWLER2.gif"/>
          <p:cNvPicPr/>
          <p:nvPr/>
        </p:nvPicPr>
        <p:blipFill>
          <a:blip r:embed="rId1"/>
          <a:stretch/>
        </p:blipFill>
        <p:spPr>
          <a:xfrm>
            <a:off x="4929120" y="3857760"/>
            <a:ext cx="2467080" cy="8571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3" descr="C:\Documents and Settings\Moe\Desktop\Internet\dogpile_logo.gif"/>
          <p:cNvPicPr/>
          <p:nvPr/>
        </p:nvPicPr>
        <p:blipFill>
          <a:blip r:embed="rId2"/>
          <a:stretch/>
        </p:blipFill>
        <p:spPr>
          <a:xfrm>
            <a:off x="5286240" y="4714920"/>
            <a:ext cx="2424240" cy="9874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4" descr="C:\Documents and Settings\Moe\Desktop\Internet\mamma_logo_v2.gif"/>
          <p:cNvPicPr/>
          <p:nvPr/>
        </p:nvPicPr>
        <p:blipFill>
          <a:blip r:embed="rId3"/>
          <a:stretch/>
        </p:blipFill>
        <p:spPr>
          <a:xfrm>
            <a:off x="5143680" y="5643720"/>
            <a:ext cx="2695320" cy="95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BUSQUEDAS MAS EFICIENTES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tilizar palabras multip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Cin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Cine Santiago La Rein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8" name="Picture 2" descr="F:\inter2\cine.JPG"/>
          <p:cNvPicPr/>
          <p:nvPr/>
        </p:nvPicPr>
        <p:blipFill>
          <a:blip r:embed="rId1"/>
          <a:stretch/>
        </p:blipFill>
        <p:spPr>
          <a:xfrm>
            <a:off x="0" y="357120"/>
            <a:ext cx="8767800" cy="59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1" name="Picture 2" descr="F:\inter2\cine exacto.JPG"/>
          <p:cNvPicPr/>
          <p:nvPr/>
        </p:nvPicPr>
        <p:blipFill>
          <a:blip r:embed="rId1"/>
          <a:stretch/>
        </p:blipFill>
        <p:spPr>
          <a:xfrm>
            <a:off x="0" y="285840"/>
            <a:ext cx="87915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5T14:53:38Z</dcterms:created>
  <dc:creator>Alvaro Jesam</dc:creator>
  <dc:description/>
  <dc:language>en-US</dc:language>
  <cp:lastModifiedBy>ABOTTESELLE</cp:lastModifiedBy>
  <dcterms:modified xsi:type="dcterms:W3CDTF">2007-11-26T15:59:57Z</dcterms:modified>
  <cp:revision>6</cp:revision>
  <dc:subject/>
  <dc:title>Busquedas en Internet</dc:title>
</cp:coreProperties>
</file>