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978-0E1C-4613-BCA3-F3908042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E12-549A-46CF-BB0F-79AEE6C1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053-1587-4EA6-807E-BC0B8680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E36-4A6C-472B-AD59-864E0DE3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D56F-9852-474C-B9DE-98F4BFEB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2BA6-AF91-4E71-9C4C-718EC121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4024-924F-4AB9-BB0E-3C47884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6241-5846-48AC-B0D6-6A09A349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8520-326E-434C-9514-748BE5F3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578D-FDA4-4018-AC3A-62F5B97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6B4A-45C5-4C6E-A49D-EC9544AD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3C0-68E3-4CB3-B6F4-B24B0923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ABAA-D77A-4089-A98D-42E75394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1375-9826-45E7-A702-A542F945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A3CC-FF67-49A9-A76D-3013BC5E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F1DA-63D7-484A-A867-61E6B220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8E4B-1DAE-4988-B5F6-264C72CD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5DB-7777-4599-B3A4-9D8C883A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277-F6CD-4DE8-985C-A2B8E5F2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67C-093E-4109-A5EF-AEBB3F32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306-8403-436A-89E5-51DD4469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4C2-8180-4BC1-8E6B-F48D9F8D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F25-DC8C-49DE-9045-3609E5EF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EA0-36C4-485F-B0C3-1B19FF9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F0B9-8302-44F0-86A0-7F810C0B72B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A902-0BAD-4D25-9E8B-C52F30E521B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live.com/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96840" y="749160"/>
            <a:ext cx="6959880" cy="5216760"/>
            <a:chOff x="996840" y="749160"/>
            <a:chExt cx="6959880" cy="5216760"/>
          </a:xfrm>
        </p:grpSpPr>
        <p:pic>
          <p:nvPicPr>
            <p:cNvPr id="163" name="" descr=""/>
            <p:cNvPicPr/>
            <p:nvPr/>
          </p:nvPicPr>
          <p:blipFill>
            <a:blip r:embed="rId1">
              <a:lum bright="-42000"/>
            </a:blip>
            <a:stretch/>
          </p:blipFill>
          <p:spPr>
            <a:xfrm>
              <a:off x="996840" y="749160"/>
              <a:ext cx="6959880" cy="521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ternet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ublicaciones Transformadores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57C. Taller de Diseño Potenci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ilko Padilla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rman Concha 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s normalizadas según 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xactitud depende de la carga y por ello, las normas (ASA, VDE) especifican éstas. Ellas se han elegido para incluir el rango normal de servici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4280" y="4221000"/>
            <a:ext cx="88297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normas ASA (C 57.13), clasifican a los TT/PP en 3 clases designadas como 0,3; 0,6 y 1,2. Estas cifras indican el porcentaje de error máximo que puede tener la razón del transformador al tener conectada una carga secundaria normalizada para cualquier voltaje comprendido entre el 90 y el 110% de la tensión nominal, a la frecuencia nominal y desde funcionamiento en vacío hasta el correspondiente a plena carg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muy elevadas tensiones, el tamaño de un T/P tiende a crecer enormemente, como también su cos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alternativa más económica son los “transformadores de potencial” de tipo capaci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dispositivo es básicamente un divisor de voltaje capaci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8708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895400"/>
            <a:ext cx="82296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Guía para el comprador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ocumento guía para el comprador obtenido de Internet, contiene Productos disponibles en ABB, Datos técnicos de los equipos, materiales usados en diferentes productos, control de calidad y prueb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general (soportar cargas dieléctric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ueba de impulso de descarga (forma de onda estándar, 1.2/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cuencia industrial seco/humedo (sobretensiones a frecuencia industrial, aislamiento interno, aislamiento extern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mperatura ambiente, influye en el diseño térm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itud de instalación, rigidez di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stancia de fuga 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tancia más corta a lo largo de la superficie de un aislador entre dos piezas conductoras. Mm, mm/K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ivel de Contaminación (norma IEC60815, influye en la distancia de fug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 del viento (basados en una velocidad de 34m/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transformador de tensió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actor de Tensión (Vf): Norma IE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nex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tencia límite de calent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ída de tensión en el secundario, influye en la relación de med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atos con que el cliente especifica el equipo que necesita. La empresa como datos mínimos pide lo sigu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formación míni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ándar/Especificaciones del cli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ón más elevada de l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úsqueda e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de Docu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nsiones de prueba (impulso 1.2/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ción de tensiones primaria/secunda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úmero de devanados secundarios y conexion de es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sitos especi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islador de caucho de silicona (gri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or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quisitos adici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mperatura amb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ura con respecto al nivel del m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el documento también se hace un completo y detallado análisis sobre las ventajas y desventajas de distintos tipos de diseñ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jemplo Tipos de diseñ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3456000" cy="522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643280" y="1268280"/>
            <a:ext cx="360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ueb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EC 60044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Verificación de la polaridad y de la designación de bor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Prueba de soporte de frecuencia industrial sobre el devanado primario (Prueba aplicada, 75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Medición de descarga pa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 Prueba de soporte de frecuencia industrial en devanados secundarios (Prueba aplicada: 4 kV, 50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) Determinación de err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específicas de AB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Prueba de sell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Medición de intensidad en vací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nor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uebas descritas más arriba cumplen íntegramente otras normas, entre ellas la IE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encontrar información en Internet sobre transformadores de potencial es necesario recurrir a un buscad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buscadores de Internet más populares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Google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googl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Yahoo!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www.yahoo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Live search de Microsoft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liv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3809880" y="5638680"/>
            <a:ext cx="228600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914400" y="5715000"/>
            <a:ext cx="2212920" cy="519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705720" y="5867280"/>
            <a:ext cx="18288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úsqueda Avan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781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 especi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EEE XP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ttp://ieeexplore.ieee.org/Xplore/guesthome.j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72280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cumentos An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nalizaron dos documentos encontrados con GOO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mero se titula como “COMPONENTES DE UN SISTEMA DE PROTECCIONES “, de allí se estudia la información sobre el transformador de po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egundo documento se titula “Transformadores de medida exteriores, guía para el comprador”, el cual es un documento de ABB, en donde se muestran los tipos de productos ofrecidos, materiales, normas y prueb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mponentes de un sistema de protección </a:t>
            </a: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incluye información sob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un T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/P capac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un transformador de medida utilizado para reducir las tensiones primarias del SEP (normalmente del orden de los kV) a tensiones secundarias de rangos normalizados (115-120 volt), en forma directamente proporcio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es muy similar a un transformador de poder ya que ambos tienen la finalidad de cambiar el nivel de la ten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se define, en cambio, en términos de la máxima carga (o burden) que es capaz de entregar sin exceder los límites de error de razón y de ángulo especifica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279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7310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08:18Z</dcterms:created>
  <dc:creator>Laboratorio de Telecomunicaciones</dc:creator>
  <dc:description/>
  <dc:language>en-US</dc:language>
  <cp:lastModifiedBy>ABOTTESELLE</cp:lastModifiedBy>
  <dcterms:modified xsi:type="dcterms:W3CDTF">2007-11-26T18:37:14Z</dcterms:modified>
  <cp:revision>10</cp:revision>
  <dc:subject/>
  <dc:title>Internet Publicaciones Transformadores de Potencial</dc:title>
</cp:coreProperties>
</file>