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CA197-43FD-4251-A67A-350F868FB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C371B-8FE3-453F-ABDC-A5CAA3B3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47E5E-1EAA-4876-9732-C6588686B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02687-7114-452D-B8E5-E935B8BA4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8C908-3796-40E4-8951-3AAAE3F4E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0669B-8BF8-4337-BEAC-438BAC109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8FA4B-0315-4D75-8367-6165C3665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AC4F2-28A1-4681-97C0-01C8BB638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04D2F-9436-4833-AE97-510AA8F60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D6B3F-8A80-47F0-B614-D39E09685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2EBD2-15CA-41FC-8B64-3041FD95A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BF29-61C3-4BC5-B9ED-47E03753F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10CCE-B85D-4541-9D87-4F3E8EFBE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094B7-70F8-4506-B1F2-5B2618DB3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41455-C3F8-415A-A830-EB87F9902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83C0E-3551-49A2-BD6F-EA8ACECA1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192A4-BC7A-414E-A29E-88B2FB22C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A8DF4-17FA-43FA-A62D-9E286EC72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A4E4-AE42-4D0A-A3F4-E218BE9E0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A6341-3004-40A1-A914-ECE16FC70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CF3D5-6190-4251-8416-4FCF7ECBD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B13A-DF41-48AC-BEB9-17CA30837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52F86-8002-49FA-8C7C-491208203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97009-1EBE-4117-9FCC-370533BA4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7486-8547-4A5A-9231-72BD6520C276}"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2157-7DCD-4C09-8A5C-40075E29CC2E}"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Norma Técnica Transformadores Potencial</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57C – Taller de Diseño en Sistemas de Potenci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colás Carrasc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ntonio Moren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atricio Sot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6"/>
          </p:nvPr>
        </p:nvSpPr>
        <p:spPr/>
        <p:txBody>
          <a:bodyPr/>
          <a:p>
            <a:fld id="{4C2A8E2B-ECD2-4C79-B72B-6074D1D72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BIL (Basic Insulation Level)</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ieléctrico</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ruebas varias de transformador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trucción</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olaridad </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ipo de terminales</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imbologia</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5C1C4E6-A8AA-4B9F-97A4-3AE6B7C9CC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1" name="" descr=""/>
          <p:cNvPicPr/>
          <p:nvPr/>
        </p:nvPicPr>
        <p:blipFill>
          <a:blip r:embed="rId1"/>
          <a:stretch/>
        </p:blipFill>
        <p:spPr>
          <a:xfrm>
            <a:off x="912960" y="1905120"/>
            <a:ext cx="6707160" cy="4805280"/>
          </a:xfrm>
          <a:prstGeom prst="rect">
            <a:avLst/>
          </a:prstGeom>
          <a:ln w="0">
            <a:noFill/>
          </a:ln>
        </p:spPr>
      </p:pic>
      <p:sp>
        <p:nvSpPr>
          <p:cNvPr id="3" name="PlaceHolder 2"/>
          <p:cNvSpPr>
            <a:spLocks noGrp="1"/>
          </p:cNvSpPr>
          <p:nvPr>
            <p:ph type="sldNum" idx="3"/>
          </p:nvPr>
        </p:nvSpPr>
        <p:spPr/>
        <p:txBody>
          <a:bodyPr/>
          <a:p>
            <a:fld id="{5226FBBE-D608-40C1-8C18-600612330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3" name="" descr=""/>
          <p:cNvPicPr/>
          <p:nvPr/>
        </p:nvPicPr>
        <p:blipFill>
          <a:blip r:embed="rId1"/>
          <a:stretch/>
        </p:blipFill>
        <p:spPr>
          <a:xfrm>
            <a:off x="457200" y="1905120"/>
            <a:ext cx="8110440" cy="4190760"/>
          </a:xfrm>
          <a:prstGeom prst="rect">
            <a:avLst/>
          </a:prstGeom>
          <a:ln w="0">
            <a:noFill/>
          </a:ln>
        </p:spPr>
      </p:pic>
      <p:sp>
        <p:nvSpPr>
          <p:cNvPr id="3" name="PlaceHolder 2"/>
          <p:cNvSpPr>
            <a:spLocks noGrp="1"/>
          </p:cNvSpPr>
          <p:nvPr>
            <p:ph type="sldNum" idx="3"/>
          </p:nvPr>
        </p:nvSpPr>
        <p:spPr/>
        <p:txBody>
          <a:bodyPr/>
          <a:p>
            <a:fld id="{45806627-26FE-43AD-8FDF-53176421A0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5" name="" descr=""/>
          <p:cNvPicPr/>
          <p:nvPr/>
        </p:nvPicPr>
        <p:blipFill>
          <a:blip r:embed="rId1"/>
          <a:stretch/>
        </p:blipFill>
        <p:spPr>
          <a:xfrm>
            <a:off x="1676520" y="2057400"/>
            <a:ext cx="6248160" cy="4191120"/>
          </a:xfrm>
          <a:prstGeom prst="rect">
            <a:avLst/>
          </a:prstGeom>
          <a:ln w="0">
            <a:noFill/>
          </a:ln>
        </p:spPr>
      </p:pic>
      <p:sp>
        <p:nvSpPr>
          <p:cNvPr id="3" name="PlaceHolder 2"/>
          <p:cNvSpPr>
            <a:spLocks noGrp="1"/>
          </p:cNvSpPr>
          <p:nvPr>
            <p:ph type="sldNum" idx="3"/>
          </p:nvPr>
        </p:nvSpPr>
        <p:spPr/>
        <p:txBody>
          <a:bodyPr/>
          <a:p>
            <a:fld id="{F41B766C-3DA0-48FF-BAE2-33D356C535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7" name="" descr=""/>
          <p:cNvPicPr/>
          <p:nvPr/>
        </p:nvPicPr>
        <p:blipFill>
          <a:blip r:embed="rId1"/>
          <a:stretch/>
        </p:blipFill>
        <p:spPr>
          <a:xfrm>
            <a:off x="457200" y="2057400"/>
            <a:ext cx="8110440" cy="4191120"/>
          </a:xfrm>
          <a:prstGeom prst="rect">
            <a:avLst/>
          </a:prstGeom>
          <a:ln w="0">
            <a:noFill/>
          </a:ln>
        </p:spPr>
      </p:pic>
      <p:sp>
        <p:nvSpPr>
          <p:cNvPr id="3" name="PlaceHolder 2"/>
          <p:cNvSpPr>
            <a:spLocks noGrp="1"/>
          </p:cNvSpPr>
          <p:nvPr>
            <p:ph type="sldNum" idx="3"/>
          </p:nvPr>
        </p:nvSpPr>
        <p:spPr/>
        <p:txBody>
          <a:bodyPr/>
          <a:p>
            <a:fld id="{4685BBE6-2751-4036-BB3A-505948E9D7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919424B1-C33A-49FE-9F9B-F8B71E45A4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1"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ED5436CE-4096-4480-A1E2-C997174D9C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3"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3B9CD4CB-5F44-4F5C-9070-F8F4A660B7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5"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CB33AF44-8ACE-44CE-A8D3-530330B2AC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7" name="" descr=""/>
          <p:cNvPicPr/>
          <p:nvPr/>
        </p:nvPicPr>
        <p:blipFill>
          <a:blip r:embed="rId1"/>
          <a:stretch/>
        </p:blipFill>
        <p:spPr>
          <a:xfrm>
            <a:off x="609480" y="2133720"/>
            <a:ext cx="8110800" cy="4190760"/>
          </a:xfrm>
          <a:prstGeom prst="rect">
            <a:avLst/>
          </a:prstGeom>
          <a:ln w="0">
            <a:noFill/>
          </a:ln>
        </p:spPr>
      </p:pic>
      <p:sp>
        <p:nvSpPr>
          <p:cNvPr id="3" name="PlaceHolder 2"/>
          <p:cNvSpPr>
            <a:spLocks noGrp="1"/>
          </p:cNvSpPr>
          <p:nvPr>
            <p:ph type="sldNum" idx="3"/>
          </p:nvPr>
        </p:nvSpPr>
        <p:spPr/>
        <p:txBody>
          <a:bodyPr/>
          <a:p>
            <a:fld id="{FB5E692F-EA39-4AD0-807F-533A9C29C3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umario</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lcance de norma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ferenci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efinicion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xigencias general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ransformadores de Potencial</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rgas estándar</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tras característic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Norma de seguridad y calidad de servicio</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jemplo de norma en INN</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A417A97-5D37-4020-A23C-01E1E2C51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9588949A-E8AE-4701-8F00-1133066EE7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Cargas Estándar</a:t>
            </a:r>
            <a:endParaRPr b="0" lang="en-US" sz="4400" spc="-1" strike="noStrike">
              <a:solidFill>
                <a:srgbClr val="003366"/>
              </a:solidFill>
              <a:latin typeface="Verdana"/>
            </a:endParaRPr>
          </a:p>
        </p:txBody>
      </p:sp>
      <p:pic>
        <p:nvPicPr>
          <p:cNvPr id="251" name="" descr=""/>
          <p:cNvPicPr/>
          <p:nvPr/>
        </p:nvPicPr>
        <p:blipFill>
          <a:blip r:embed="rId1"/>
          <a:stretch/>
        </p:blipFill>
        <p:spPr>
          <a:xfrm>
            <a:off x="1219320" y="2133720"/>
            <a:ext cx="7086600" cy="4190760"/>
          </a:xfrm>
          <a:prstGeom prst="rect">
            <a:avLst/>
          </a:prstGeom>
          <a:ln w="0">
            <a:noFill/>
          </a:ln>
        </p:spPr>
      </p:pic>
      <p:sp>
        <p:nvSpPr>
          <p:cNvPr id="3" name="PlaceHolder 2"/>
          <p:cNvSpPr>
            <a:spLocks noGrp="1"/>
          </p:cNvSpPr>
          <p:nvPr>
            <p:ph type="sldNum" idx="3"/>
          </p:nvPr>
        </p:nvSpPr>
        <p:spPr/>
        <p:txBody>
          <a:bodyPr/>
          <a:p>
            <a:fld id="{A8ECA13B-F185-47EA-AF12-4AB35903D7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Otras Características</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precisió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racterística térmica de carg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Datos de plac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rminal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pacidad de Cortocircuit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Información de us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e voltaje inducido</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31D23FB-D0BB-41AD-A02E-7BDA59A4E3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Verdana"/>
              </a:rPr>
              <a:t>Norma técnica de </a:t>
            </a:r>
            <a:br>
              <a:rPr sz="3600"/>
            </a:br>
            <a:r>
              <a:rPr b="0" lang="es-ES" sz="3600" spc="-1" strike="noStrike">
                <a:solidFill>
                  <a:srgbClr val="003366"/>
                </a:solidFill>
                <a:latin typeface="Verdana"/>
              </a:rPr>
              <a:t>seguridad y calidad de servicio</a:t>
            </a:r>
            <a:endParaRPr b="0" lang="en-US" sz="36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os Coordinados que posean u operen equipos de transformación pertenecientes al Sistema de Transmisión, deberán entregar a la DP (Dirección de Peajes del CDEC.) mediante informe escrito y en medio electrónico los datos que a continuación se especifican:</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a) Capacidad nominal en [M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b) Impedancia de secuencia positi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c) Impedancia de secuencia cer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 Relación de Transformación y tensiones nominal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 Grupo de conex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f) Pérdidas en vací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g) Pérdidas a plena carg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h) Método de conexión a tierra del neutro (sólidamente conectado a tierra, vía impedancia u otro métod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i) Tipo de cambiador de tap (en vacío o en carga), cantidad de pasos y rango de regulac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j) Máxima sobrecarga admisible, curva de dañ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k) Protecciones y calibracion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 Tasa de indisponibilidad forzad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m) Tasa de indisponibilidad programada.</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E5608F29-447E-4EBB-9BA9-ABA2D9C66E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Normas en una especificación</a:t>
            </a:r>
            <a:endParaRPr b="0" lang="en-US" sz="40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t>
            </a:r>
            <a:r>
              <a:rPr b="0" lang="es-ES" sz="2400" spc="-1" strike="noStrike">
                <a:solidFill>
                  <a:srgbClr val="000000"/>
                </a:solidFill>
                <a:latin typeface="Verdan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addenda o revisiones vigentes de cada norma en dicha fecha”.</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34C0EF2-8BEA-4A15-9CC6-1AC0EC183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Ejemplo de normas del INN</a:t>
            </a:r>
            <a:endParaRPr b="0" lang="en-US" sz="4400" spc="-1" strike="noStrike">
              <a:solidFill>
                <a:srgbClr val="003366"/>
              </a:solidFill>
              <a:latin typeface="Verdana"/>
            </a:endParaRPr>
          </a:p>
        </p:txBody>
      </p:sp>
      <p:graphicFrame>
        <p:nvGraphicFramePr>
          <p:cNvPr id="259" name=""/>
          <p:cNvGraphicFramePr/>
          <p:nvPr/>
        </p:nvGraphicFramePr>
        <p:xfrm>
          <a:off x="611280" y="1844640"/>
          <a:ext cx="8064360" cy="4365720"/>
        </p:xfrm>
        <a:graphic>
          <a:graphicData uri="http://schemas.openxmlformats.org/presentationml/2006/ole">
            <p:oleObj r:id="rId1" spid="">
              <p:embed/>
              <p:pic>
                <p:nvPicPr>
                  <p:cNvPr id="260" name="" descr=""/>
                  <p:cNvPicPr/>
                  <p:nvPr/>
                </p:nvPicPr>
                <p:blipFill>
                  <a:blip r:embed="rId2"/>
                  <a:stretch/>
                </p:blipFill>
                <p:spPr>
                  <a:xfrm>
                    <a:off x="611280" y="1844640"/>
                    <a:ext cx="8064360" cy="4365720"/>
                  </a:xfrm>
                  <a:prstGeom prst="rect">
                    <a:avLst/>
                  </a:prstGeom>
                  <a:ln w="0">
                    <a:noFill/>
                  </a:ln>
                </p:spPr>
              </p:pic>
            </p:oleObj>
          </a:graphicData>
        </a:graphic>
      </p:graphicFrame>
      <p:sp>
        <p:nvSpPr>
          <p:cNvPr id="3" name="PlaceHolder 2"/>
          <p:cNvSpPr>
            <a:spLocks noGrp="1"/>
          </p:cNvSpPr>
          <p:nvPr>
            <p:ph type="sldNum" idx="3"/>
          </p:nvPr>
        </p:nvSpPr>
        <p:spPr/>
        <p:txBody>
          <a:bodyPr/>
          <a:p>
            <a:fld id="{67B2734C-4351-4C51-B75C-249872E57718}"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orma Técnica IEEE Std C57.13-1993 (Revisión de norma IEEE Std C57.13-1978)</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t>
            </a:r>
            <a:r>
              <a:rPr b="0" lang="es-CL" sz="3200" spc="-1" strike="noStrike">
                <a:solidFill>
                  <a:srgbClr val="000000"/>
                </a:solidFill>
                <a:latin typeface="Verdana"/>
              </a:rPr>
              <a:t>IEEE Standard Requirements for Instrument Transforme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313D0E8-BCFB-49F8-BF37-9C3C29FF5D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Redactada para ser usada como base de estudios de desempeño, intercambio y seguridad de transformadores eléctricos, y para asistir en la correcta selección de dichos equipo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C1037EB-33A4-4C5D-8E72-607E007B1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Se refiere también a características eléctricas, mecánicas y dimension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idera características de seguridad de transformadores de corriente y de voltaje usados en la medición de electricidad y el control del equipamiento asociado con la generación, distribución y transmisión de corriente altern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E199BA7-56BE-4F05-8985-77482BBAF3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Referencias</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SI C37.06-1987</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4-197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0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9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4-1978</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21-1976</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100-1992</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NEMA SG 4-1975 (R 1980)</a:t>
            </a: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22F3C8F-F0F2-4EED-ACC2-019E6F243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Definiciones</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Glosario de términos técnicos y definiciones usados en el desarrollo de la norm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BB60131-B144-435F-8A60-AE57CA4D3C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diciones de servici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emperatura</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titud</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ibracion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apor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tc</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ABAF7FA-13E1-4B36-B1B9-5414611F9C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densidad del aire en voltaje de ruptur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Frecuenci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altitud en aumento de temperatura del equipo y efecto de temperatura ambiente en carga permisibl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F954176-A964-45D2-8337-FD457C58E4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7:03:35Z</dcterms:created>
  <dc:creator>Lorena Mella</dc:creator>
  <dc:description/>
  <dc:language>en-US</dc:language>
  <cp:lastModifiedBy>ABOTTESELLE</cp:lastModifiedBy>
  <dcterms:modified xsi:type="dcterms:W3CDTF">2007-11-27T17:35:54Z</dcterms:modified>
  <cp:revision>5</cp:revision>
  <dc:subject/>
  <dc:title>Norma Técnica Transformadores Potencial</dc:title>
</cp:coreProperties>
</file>