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6A4F1-98F7-4232-A1B6-A757BF17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6437-B0B3-4ECB-8D61-C2B16020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C6660-9CB5-4CA3-B55A-8303BCAD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63688-4478-4839-9800-A4A627E0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AB44-BF04-4AE3-9F46-D5AAF435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52B3-1DED-4103-812B-C1F645EF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33EC-0457-4984-848F-194873FA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9433-13B7-4043-ACB3-F5B5FEF8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D17D-246D-4303-A380-5B12F21D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A69C-7516-4A88-9B74-D5D9F16A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EF00-6289-483A-970A-C4135B43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A3DE7-DF52-4E96-8E84-BB238803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EFF2-5F10-4216-BBC7-014F2397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3ED1-042A-4754-A7E7-06713F7A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74FF-5F6E-4A66-B01D-780778E8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EF86-BEBD-41F8-9B0A-EBAA0642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B8F7-4D1C-4F1D-906B-C010B4E1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43218-2D05-4AD7-A59C-996F83CA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94888-2890-43AF-B95C-22F1773E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30B0F-9AE8-4FC4-A76E-23EDE23B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3864A-D2C0-4ABA-9688-FA703CA1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FB687-2A57-4BAA-B9B9-01F8150A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922A3-33B5-4C83-A9A9-52BF1B70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66569-E146-47E3-95F6-B047591A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66FD-2A75-4300-914C-9D02BE527DE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8E49-4E9A-47A1-BC44-30E1274FD18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ccampill@ing.uchile.c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blicaciones Biblioteca Departamento Ingeniería Eléctrica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66720"/>
            <a:ext cx="823608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ublicaciones con Contenido de Diseño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vistas - Memor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5445000"/>
            <a:ext cx="823608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umnos: Javiera Kett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amuel Rodríg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cila Ballest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51280" y="58770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04000" y="580536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971640" y="5805360"/>
            <a:ext cx="2238120" cy="654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435640" y="5084640"/>
            <a:ext cx="2376360" cy="501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971640" y="4941720"/>
            <a:ext cx="1584360" cy="8398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cursos de información acadé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92000" y="2349000"/>
            <a:ext cx="583236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2852640"/>
            <a:ext cx="936720" cy="1152720"/>
          </a:xfrm>
          <a:custGeom>
            <a:avLst/>
            <a:gdLst>
              <a:gd name="textAreaLeft" fmla="*/ 60480 w 936720"/>
              <a:gd name="textAreaRight" fmla="*/ 876240 w 936720"/>
              <a:gd name="textAreaTop" fmla="*/ 60480 h 1152720"/>
              <a:gd name="textAreaBottom" fmla="*/ 1092240 h 1152720"/>
            </a:gdLst>
            <a:ahLst/>
            <a:rect l="textAreaLeft" t="textAreaTop" r="textAreaRight" b="textAreaBottom"/>
            <a:pathLst>
              <a:path w="21600" h="26579">
                <a:moveTo>
                  <a:pt x="0" y="0"/>
                </a:moveTo>
                <a:lnTo>
                  <a:pt x="21600" y="0"/>
                </a:lnTo>
                <a:lnTo>
                  <a:pt x="21600" y="26579"/>
                </a:lnTo>
                <a:lnTo>
                  <a:pt x="0" y="26579"/>
                </a:lnTo>
                <a:close/>
              </a:path>
              <a:path fill="lightenLess" w="21600" h="265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9">
                <a:moveTo>
                  <a:pt x="21600" y="0"/>
                </a:moveTo>
                <a:lnTo>
                  <a:pt x="21600" y="26579"/>
                </a:lnTo>
                <a:lnTo>
                  <a:pt x="20200" y="25179"/>
                </a:lnTo>
                <a:lnTo>
                  <a:pt x="20200" y="1400"/>
                </a:lnTo>
                <a:close/>
              </a:path>
              <a:path fill="darkenLess" w="21600" h="26579">
                <a:moveTo>
                  <a:pt x="21600" y="26579"/>
                </a:moveTo>
                <a:lnTo>
                  <a:pt x="0" y="26579"/>
                </a:lnTo>
                <a:lnTo>
                  <a:pt x="1400" y="25179"/>
                </a:lnTo>
                <a:lnTo>
                  <a:pt x="20200" y="25179"/>
                </a:lnTo>
                <a:close/>
              </a:path>
              <a:path fill="lighten" w="21600" h="26579">
                <a:moveTo>
                  <a:pt x="0" y="265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9"/>
                </a:lnTo>
                <a:close/>
              </a:path>
              <a:path fill="darkenLess" w="21600" h="26579">
                <a:moveTo>
                  <a:pt x="5273" y="6474"/>
                </a:moveTo>
                <a:lnTo>
                  <a:pt x="12271" y="6474"/>
                </a:lnTo>
                <a:lnTo>
                  <a:pt x="16327" y="9973"/>
                </a:lnTo>
                <a:lnTo>
                  <a:pt x="16327" y="20104"/>
                </a:lnTo>
                <a:lnTo>
                  <a:pt x="5273" y="20104"/>
                </a:lnTo>
                <a:close/>
              </a:path>
              <a:path fill="darken" w="21600" h="26579">
                <a:moveTo>
                  <a:pt x="12271" y="6474"/>
                </a:moveTo>
                <a:lnTo>
                  <a:pt x="16327" y="9973"/>
                </a:lnTo>
                <a:lnTo>
                  <a:pt x="12271" y="9973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51640" y="1413000"/>
            <a:ext cx="936720" cy="1152360"/>
          </a:xfrm>
          <a:custGeom>
            <a:avLst/>
            <a:gdLst>
              <a:gd name="textAreaLeft" fmla="*/ 60480 w 936720"/>
              <a:gd name="textAreaRight" fmla="*/ 876240 w 936720"/>
              <a:gd name="textAreaTop" fmla="*/ 60480 h 1152360"/>
              <a:gd name="textAreaBottom" fmla="*/ 1091880 h 1152360"/>
            </a:gdLst>
            <a:ahLst/>
            <a:rect l="textAreaLeft" t="textAreaTop" r="textAreaRight" b="textAreaBottom"/>
            <a:pathLst>
              <a:path w="21600" h="26571">
                <a:moveTo>
                  <a:pt x="0" y="0"/>
                </a:moveTo>
                <a:lnTo>
                  <a:pt x="21600" y="0"/>
                </a:lnTo>
                <a:lnTo>
                  <a:pt x="21600" y="26571"/>
                </a:lnTo>
                <a:lnTo>
                  <a:pt x="0" y="26571"/>
                </a:lnTo>
                <a:close/>
              </a:path>
              <a:path fill="lightenLess" w="21600" h="265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1">
                <a:moveTo>
                  <a:pt x="21600" y="0"/>
                </a:moveTo>
                <a:lnTo>
                  <a:pt x="21600" y="26571"/>
                </a:lnTo>
                <a:lnTo>
                  <a:pt x="20200" y="25171"/>
                </a:lnTo>
                <a:lnTo>
                  <a:pt x="20200" y="1400"/>
                </a:lnTo>
                <a:close/>
              </a:path>
              <a:path fill="darkenLess" w="21600" h="26571">
                <a:moveTo>
                  <a:pt x="21600" y="26571"/>
                </a:moveTo>
                <a:lnTo>
                  <a:pt x="0" y="26571"/>
                </a:lnTo>
                <a:lnTo>
                  <a:pt x="1400" y="25171"/>
                </a:lnTo>
                <a:lnTo>
                  <a:pt x="20200" y="25171"/>
                </a:lnTo>
                <a:close/>
              </a:path>
              <a:path fill="lighten" w="21600" h="26571">
                <a:moveTo>
                  <a:pt x="0" y="265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1"/>
                </a:lnTo>
                <a:close/>
              </a:path>
              <a:path fill="darkenLess" w="21600" h="26571">
                <a:moveTo>
                  <a:pt x="5273" y="6470"/>
                </a:moveTo>
                <a:lnTo>
                  <a:pt x="12271" y="6470"/>
                </a:lnTo>
                <a:lnTo>
                  <a:pt x="16327" y="9969"/>
                </a:lnTo>
                <a:lnTo>
                  <a:pt x="16327" y="20100"/>
                </a:lnTo>
                <a:lnTo>
                  <a:pt x="5273" y="20100"/>
                </a:lnTo>
                <a:close/>
              </a:path>
              <a:path fill="darken" w="21600" h="26571">
                <a:moveTo>
                  <a:pt x="12271" y="6470"/>
                </a:moveTo>
                <a:lnTo>
                  <a:pt x="16327" y="9969"/>
                </a:lnTo>
                <a:lnTo>
                  <a:pt x="12271" y="996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bliote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a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Carolina   Campillay   F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ibliotecaria de Referencia – Btca. Central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ac.  de  Cs.  Físicas y  Matemáticas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iversidad    de   Chile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v. Beauchef 850       F.2-97845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ntiago   -   Chile </a:t>
            </a:r>
            <a:br>
              <a:rPr sz="3200"/>
            </a:br>
            <a:r>
              <a:rPr b="0" lang="es-E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campill@ing.uchile.c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Fin de la present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987640" y="47239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¿Dud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83240" y="155736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4360" y="2354400"/>
            <a:ext cx="7775280" cy="4068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042920" y="98100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Cómo ingres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6297 L 0.00017 0.3963 E">
                                      <p:cBhvr>
                                        <p:cTn id="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58400" y="555480"/>
            <a:ext cx="762012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ÁLOGO BE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2421000"/>
            <a:ext cx="2016000" cy="720720"/>
          </a:xfrm>
          <a:prstGeom prst="wedgeRoundRectCallout">
            <a:avLst>
              <a:gd name="adj1" fmla="val -65199"/>
              <a:gd name="adj2" fmla="val 11211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úsqueda avan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17319" r="0" b="6638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0" y="692280"/>
            <a:ext cx="2016000" cy="504720"/>
          </a:xfrm>
          <a:prstGeom prst="wedgeRoundRectCallout">
            <a:avLst>
              <a:gd name="adj1" fmla="val -72361"/>
              <a:gd name="adj2" fmla="val 1257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b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2492280"/>
            <a:ext cx="1800360" cy="1008000"/>
          </a:xfrm>
          <a:prstGeom prst="wedgeRoundRectCallout">
            <a:avLst>
              <a:gd name="adj1" fmla="val -97087"/>
              <a:gd name="adj2" fmla="val -10070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artamento Ingeniería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907920"/>
            <a:ext cx="1440000" cy="360360"/>
          </a:xfrm>
          <a:prstGeom prst="wedgeRoundRectCallout">
            <a:avLst>
              <a:gd name="adj1" fmla="val 95754"/>
              <a:gd name="adj2" fmla="val 11740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989000"/>
            <a:ext cx="1440000" cy="360360"/>
          </a:xfrm>
          <a:prstGeom prst="wedgeRoundRectCallout">
            <a:avLst>
              <a:gd name="adj1" fmla="val 81421"/>
              <a:gd name="adj2" fmla="val -464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1557360"/>
            <a:ext cx="936720" cy="360360"/>
          </a:xfrm>
          <a:prstGeom prst="wedgeRoundRectCallout">
            <a:avLst>
              <a:gd name="adj1" fmla="val -131523"/>
              <a:gd name="adj2" fmla="val -3634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32000" y="3573360"/>
            <a:ext cx="1297080" cy="432000"/>
          </a:xfrm>
          <a:prstGeom prst="wedgeRectCallout">
            <a:avLst>
              <a:gd name="adj1" fmla="val 39351"/>
              <a:gd name="adj2" fmla="val -10110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US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16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16982" r="1004" b="9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tems bus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blicaciones del Depar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contradas: 8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contradas: 7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v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contradas: Ning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24720" y="2205000"/>
            <a:ext cx="647640" cy="719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9280"/>
              <a:gd name="textAreaBottom" fmla="*/ 677520 h 719280"/>
            </a:gdLst>
            <a:ahLst/>
            <a:rect l="textAreaLeft" t="textAreaTop" r="textAreaRight" b="textAreaBottom"/>
            <a:pathLst>
              <a:path w="21600" h="23988">
                <a:moveTo>
                  <a:pt x="0" y="0"/>
                </a:moveTo>
                <a:lnTo>
                  <a:pt x="21600" y="0"/>
                </a:lnTo>
                <a:lnTo>
                  <a:pt x="21600" y="23988"/>
                </a:lnTo>
                <a:lnTo>
                  <a:pt x="0" y="23988"/>
                </a:lnTo>
                <a:close/>
              </a:path>
              <a:path fill="lightenLess" w="21600" h="239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88">
                <a:moveTo>
                  <a:pt x="21600" y="0"/>
                </a:moveTo>
                <a:lnTo>
                  <a:pt x="21600" y="23988"/>
                </a:lnTo>
                <a:lnTo>
                  <a:pt x="20200" y="22588"/>
                </a:lnTo>
                <a:lnTo>
                  <a:pt x="20200" y="1400"/>
                </a:lnTo>
                <a:close/>
              </a:path>
              <a:path fill="darkenLess" w="21600" h="23988">
                <a:moveTo>
                  <a:pt x="21600" y="23988"/>
                </a:moveTo>
                <a:lnTo>
                  <a:pt x="0" y="23988"/>
                </a:lnTo>
                <a:lnTo>
                  <a:pt x="1400" y="22588"/>
                </a:lnTo>
                <a:lnTo>
                  <a:pt x="20200" y="22588"/>
                </a:lnTo>
                <a:close/>
              </a:path>
              <a:path fill="lighten" w="21600" h="23988">
                <a:moveTo>
                  <a:pt x="0" y="239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88"/>
                </a:lnTo>
                <a:close/>
              </a:path>
              <a:path fill="darkenLess" w="21600" h="23988">
                <a:moveTo>
                  <a:pt x="5273" y="5179"/>
                </a:moveTo>
                <a:lnTo>
                  <a:pt x="12271" y="5179"/>
                </a:lnTo>
                <a:lnTo>
                  <a:pt x="16327" y="8678"/>
                </a:lnTo>
                <a:lnTo>
                  <a:pt x="16327" y="18809"/>
                </a:lnTo>
                <a:lnTo>
                  <a:pt x="5273" y="18809"/>
                </a:lnTo>
                <a:close/>
              </a:path>
              <a:path fill="darken" w="21600" h="23988">
                <a:moveTo>
                  <a:pt x="12271" y="5179"/>
                </a:moveTo>
                <a:lnTo>
                  <a:pt x="16327" y="8678"/>
                </a:lnTo>
                <a:lnTo>
                  <a:pt x="12271" y="8678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24720" y="364500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Less" w="21600" h="23976">
                <a:moveTo>
                  <a:pt x="5273" y="5173"/>
                </a:moveTo>
                <a:lnTo>
                  <a:pt x="12271" y="5173"/>
                </a:lnTo>
                <a:lnTo>
                  <a:pt x="16327" y="8672"/>
                </a:lnTo>
                <a:lnTo>
                  <a:pt x="16327" y="18803"/>
                </a:lnTo>
                <a:lnTo>
                  <a:pt x="5273" y="18803"/>
                </a:lnTo>
                <a:close/>
              </a:path>
              <a:path fill="darken" w="21600" h="23976">
                <a:moveTo>
                  <a:pt x="12271" y="5173"/>
                </a:moveTo>
                <a:lnTo>
                  <a:pt x="16327" y="8672"/>
                </a:lnTo>
                <a:lnTo>
                  <a:pt x="12271" y="8672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18241" r="41338" b="8664"/>
          <a:stretch/>
        </p:blipFill>
        <p:spPr>
          <a:xfrm>
            <a:off x="1619280" y="692280"/>
            <a:ext cx="6840360" cy="616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2492280"/>
            <a:ext cx="5472360" cy="1584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27675" r="30626" b="637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ublicación C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utores :Nelson M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odolfo Pa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Jorge R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iel Valdeneg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teni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quinas Eléct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7:58:41Z</dcterms:created>
  <dc:creator>Lucila</dc:creator>
  <dc:description/>
  <dc:language>en-US</dc:language>
  <cp:lastModifiedBy>ABOTTESELLE</cp:lastModifiedBy>
  <dcterms:modified xsi:type="dcterms:W3CDTF">2007-12-05T19:57:05Z</dcterms:modified>
  <cp:revision>8</cp:revision>
  <dc:subject/>
  <dc:title>Diapositiva 1</dc:title>
</cp:coreProperties>
</file>