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040C3-C902-46D0-B16F-CDFE489D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97E66-FC49-4EE1-978A-FC948771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13F79-C364-40A0-961B-13B3E638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4B50D-829B-4064-9E3A-52A55654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1477-3550-4320-AEEA-19C50149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DC93-8EA4-4203-88E5-6CA385D5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280E-5B87-49DB-9A45-F253AFD6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B65D-3C30-4E47-AFF1-C277D1C7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F097-3334-4DC5-92B3-6865D4CC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D231-8ED8-4BB4-BF1E-4C954F41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F907-FFC0-45A2-91D3-BE1CFEC5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D7B46-0DA6-415E-9966-3D98227A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0A73-237B-4663-8234-1CAAEDDF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CF8E-598B-4943-BBDC-8E59CF37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1E81-8F43-44CD-A823-812DAF7B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8AF3-6A13-4842-BAFE-F5C0CDBC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A119-4F00-4332-A589-5A56ABD9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446EF-4DB0-4C1C-80D5-BDD9D2F9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B2F9-282B-4460-894B-C351CBC6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D1CF5-00AE-4CE8-A3E4-0C3B65E4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B7A02-B9C2-4A4C-AFEF-19199405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C771F-6410-4F92-A33C-3CAB1805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4D414-BE8C-40F2-A679-0BF14B78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95654-AEDA-4B05-B753-87A95263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1914-1345-4613-B526-6BFB20D17B3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86024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42E9-9224-4ABB-887B-C5637704E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D560-3E65-4B7B-9899-4E2A6E7C366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6024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5E0B-E644-4266-AAD1-62E945673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981080"/>
          <a:ext cx="8229600" cy="3830760"/>
        </p:xfrm>
        <a:graphic>
          <a:graphicData uri="http://schemas.openxmlformats.org/drawingml/2006/table">
            <a:tbl>
              <a:tblPr/>
              <a:tblGrid>
                <a:gridCol w="3106800"/>
                <a:gridCol w="2808360"/>
                <a:gridCol w="1439640"/>
                <a:gridCol w="8748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gital Integrated Circuits (2nd Edi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n M. Rabaey, Anantha Chandrakasan, Borivoje Niko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tice H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is and Design of Digital Integrated Circuits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A. Hodges,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race G. Jackson, Resve Saleh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Graw-Hi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Synthe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inivas Devadas, et a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cGraw-Hill Professiona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Student's Guide to VHD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ter J. Ashenden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gan Kaufmann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gital System Design with VHD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 Zwolinski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tice Hal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anced Digital Design with the Verilog(TM) HD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chael D. Ciletti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tice H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Design with SystemC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orsten Grötker, et al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ringer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mentari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lases interac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cusión de temas de actu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ctura de artículos atin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cusión de temas de 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8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ir los conceptos básicos asociados a los circuitos integ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alizar los conceptos asociados al diseño de circuitos integrados digita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ocer los algoritmos utilizados en las herramientas de diseño de circuitos integrados digita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ocer las distintas herramientas utilizadas para el diseño de circuitos integrados digitale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jetivo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alizar diseños pequeños en forma manual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alizar un proyecto de diseño utilizando herramientas líderes d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fe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ictor Grimblatt 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geniero Civil en Microelectrónica, INP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geniero Civil Electrónico, UTF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anaging Director, Synopsys Chile R&amp;D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mail: vgrimbla@ing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el of: 714 68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ircuitos Inte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os y 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istoria de los circuitos integ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itos integrados digitales y ana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ologías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de lógica combin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de máquinas de estado finitos (F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top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botto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de circuitos integrados dig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nido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erramientas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y optimización de lógica combin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y optimización de máquinas de estados fin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y optimización de 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nguajes de descripción de circuitos integrados (Verilog, VHDL, System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eñar un circuito integrado dig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tilización de las herramientas Synops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etodología de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evaluará avance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n parte del 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n consideradas parte de la ma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ueden ser parte de pruebas y/o ex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523880" y="2057400"/>
          <a:ext cx="6400800" cy="3043080"/>
        </p:xfrm>
        <a:graphic>
          <a:graphicData uri="http://schemas.openxmlformats.org/drawingml/2006/table">
            <a:tbl>
              <a:tblPr/>
              <a:tblGrid>
                <a:gridCol w="4724640"/>
                <a:gridCol w="167616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es (2 en el semestr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en f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 (*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7-26T13:58:51Z</dcterms:modified>
  <cp:revision>32</cp:revision>
  <dc:subject/>
  <dc:title>EL 6XX</dc:title>
</cp:coreProperties>
</file>