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3.png" ContentType="image/png"/>
  <Override PartName="/ppt/media/image24.png" ContentType="image/png"/>
  <Override PartName="/ppt/media/image23.wmf" ContentType="image/x-wmf"/>
  <Override PartName="/ppt/media/image18.jpeg" ContentType="image/jpeg"/>
  <Override PartName="/ppt/media/image11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0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5.png" ContentType="image/png"/>
  <Override PartName="/ppt/media/image1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2291-9973-4A8E-B411-8197F422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285840" y="230040"/>
            <a:ext cx="6354720" cy="476568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03240" y="4373280"/>
            <a:ext cx="50450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us, IC Workbench, Progen - Optical Proximit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SiVL-LRC™ - Silicon vs. Layout Verification System - reads in the layout and simulates lithographic process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In-Phase - Phase Shift Mask and OP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 arial"/>
              </a:rPr>
              <a:t>CATS - data prepa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6785-A4E0-4C0B-9C83-F0F9E0F9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9295-4D64-4AAA-8C38-BDD87DC3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D9121-187C-4A2C-B557-F2E83618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E75C-19A1-4A36-BBCA-B172FFF7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EE7C-15F9-427D-AEEB-68AD6A5C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DBC-4ADE-4F20-90A9-075B8F1A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D6E3-2349-4D7B-BBF1-303C096B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7F6-6038-472F-8022-5ACE56C1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A0B6-8198-4186-B0A4-75DD9A8C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7C5-A49A-4505-9AF4-0EC2F9FB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DFF6-210E-460F-9A0F-C3769D6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B03F-9165-4D23-8BAA-911CEA94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A6F3-F68B-46B0-A460-AE74162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5C49-A550-434E-9ED6-C1FC1C70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CA33-7787-4617-AC3F-03078307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5A9C-74C2-4D6D-BFF7-ACE329F47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8030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1144-1868-4AE3-80E8-BFB6009C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2EA8-6A97-4F65-B72E-EB69E51C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A823-0A94-4B7B-98A8-E9645CF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EF19-84B7-40B3-87D8-4005E892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529920"/>
            <a:ext cx="8229600" cy="47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1FDC-129E-4E76-B062-EA5DB1E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78EC-D434-4EDF-8852-ADE953A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8030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7E78-D685-4061-B0A1-FDB3EF34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030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10A42-6E45-4A35-8917-F833913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F32B-7301-4212-B6DF-04EB408194A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9F28-2D91-4DDB-B4ED-FAA40932E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252F-B0AF-4BB4-9B21-1CFC65D5E4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D26E-0A75-4AD7-B986-1D13EFDE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 Circuit Design 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39960" y="382104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39960" y="252576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6560" y="20080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4560" y="29019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36880" y="341316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21040" y="2136600"/>
            <a:ext cx="358920" cy="508320"/>
          </a:xfrm>
          <a:prstGeom prst="downArrow">
            <a:avLst>
              <a:gd name="adj1" fmla="val 50000"/>
              <a:gd name="adj2" fmla="val 35406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6880" y="475308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4560" y="417816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1320" y="1407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86400" y="27147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1320" y="2720880"/>
            <a:ext cx="2190960" cy="719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1320" y="39909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86400" y="39909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800280" y="1479600"/>
            <a:ext cx="1660320" cy="4178160"/>
            <a:chOff x="800280" y="1479600"/>
            <a:chExt cx="1660320" cy="417816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06396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800280" y="2927520"/>
              <a:ext cx="1660320" cy="1282680"/>
              <a:chOff x="800280" y="2927520"/>
              <a:chExt cx="1660320" cy="1282680"/>
            </a:xfrm>
          </p:grpSpPr>
          <p:sp>
            <p:nvSpPr>
              <p:cNvPr id="181" name=""/>
              <p:cNvSpPr/>
              <p:nvPr/>
            </p:nvSpPr>
            <p:spPr>
              <a:xfrm>
                <a:off x="800280" y="292752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56440" y="298656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800280" y="1479600"/>
              <a:ext cx="1660320" cy="1282680"/>
              <a:chOff x="800280" y="1479600"/>
              <a:chExt cx="1660320" cy="1282680"/>
            </a:xfrm>
          </p:grpSpPr>
          <p:sp>
            <p:nvSpPr>
              <p:cNvPr id="184" name=""/>
              <p:cNvSpPr/>
              <p:nvPr/>
            </p:nvSpPr>
            <p:spPr>
              <a:xfrm>
                <a:off x="800280" y="147960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6440" y="153864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944640" y="1568520"/>
              <a:ext cx="1377720" cy="1054080"/>
              <a:chOff x="944640" y="1568520"/>
              <a:chExt cx="1377720" cy="1054080"/>
            </a:xfrm>
          </p:grpSpPr>
          <p:sp>
            <p:nvSpPr>
              <p:cNvPr id="187" name=""/>
              <p:cNvSpPr/>
              <p:nvPr/>
            </p:nvSpPr>
            <p:spPr>
              <a:xfrm>
                <a:off x="1492200" y="156852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63980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947880" y="177624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85920" y="179712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08960" y="181620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310400" y="189216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08960" y="197496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08240" y="205740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09680" y="214488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08600" y="222552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09320" y="230184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08960" y="238284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08960" y="245736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44640" y="3076560"/>
              <a:ext cx="1374840" cy="988920"/>
              <a:chOff x="944640" y="3076560"/>
              <a:chExt cx="1374840" cy="988920"/>
            </a:xfrm>
          </p:grpSpPr>
          <p:sp>
            <p:nvSpPr>
              <p:cNvPr id="201" name=""/>
              <p:cNvSpPr/>
              <p:nvPr/>
            </p:nvSpPr>
            <p:spPr>
              <a:xfrm>
                <a:off x="944640" y="307656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38280" y="346392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39680" y="34671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39680" y="339264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65360" y="346716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39680" y="365292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278000" y="3844800"/>
                <a:ext cx="94680" cy="104400"/>
                <a:chOff x="1278000" y="3844800"/>
                <a:chExt cx="94680" cy="1044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326240" y="384480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278000" y="384480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084320" y="365292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84320" y="386856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30320" y="389556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382760" y="392580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84320" y="374328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24080" y="33242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07960" y="359100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373040" y="368928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125360" y="3581280"/>
                <a:ext cx="91800" cy="98280"/>
                <a:chOff x="1125360" y="3581280"/>
                <a:chExt cx="91800" cy="98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167480" y="358128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125360" y="358128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111320" y="3376440"/>
                <a:ext cx="101160" cy="107640"/>
                <a:chOff x="1111320" y="3376440"/>
                <a:chExt cx="101160" cy="1076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163880" y="337644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111320" y="337644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265400" y="3648240"/>
                <a:ext cx="101160" cy="101160"/>
                <a:chOff x="1265400" y="3648240"/>
                <a:chExt cx="101160" cy="101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316880" y="364824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265400" y="364824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1465200" y="3713040"/>
                <a:ext cx="98280" cy="107640"/>
                <a:chOff x="1465200" y="3713040"/>
                <a:chExt cx="98280" cy="1076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10200" y="371304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465200" y="371304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1576440" y="376560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28880" y="358452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22200" y="343692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432080" y="3406680"/>
                <a:ext cx="96480" cy="106200"/>
                <a:chOff x="1432080" y="3406680"/>
                <a:chExt cx="96480" cy="106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477080" y="340668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32080" y="340668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789200" y="375588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690560" y="3668760"/>
                <a:ext cx="97920" cy="117000"/>
                <a:chOff x="1690560" y="3668760"/>
                <a:chExt cx="97920" cy="1170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34480" y="366876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90560" y="366876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109960" y="3600360"/>
                <a:ext cx="92880" cy="107640"/>
                <a:chOff x="2109960" y="3600360"/>
                <a:chExt cx="92880" cy="1076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156400" y="360036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109960" y="360036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54360" y="3838680"/>
                <a:ext cx="99000" cy="107640"/>
                <a:chOff x="1854360" y="3838680"/>
                <a:chExt cx="99000" cy="10764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898280" y="383868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54360" y="383868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854360" y="3532320"/>
                <a:ext cx="101160" cy="112320"/>
                <a:chOff x="1854360" y="3532320"/>
                <a:chExt cx="101160" cy="1123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899720" y="353232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54360" y="353232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1407960" y="376380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62200" y="3297240"/>
                <a:ext cx="91800" cy="97920"/>
                <a:chOff x="1762200" y="3297240"/>
                <a:chExt cx="91800" cy="979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806120" y="329724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62200" y="329724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095560" y="3389400"/>
                <a:ext cx="97920" cy="107640"/>
                <a:chOff x="2095560" y="3389400"/>
                <a:chExt cx="97920" cy="1076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139120" y="338940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095560" y="338940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1957320" y="3192480"/>
                <a:ext cx="99720" cy="101160"/>
                <a:chOff x="1957320" y="3192480"/>
                <a:chExt cx="99720" cy="1011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2005920" y="319248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957320" y="319248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1881360" y="334656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544760" y="335124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862280" y="324648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00280" y="4375080"/>
              <a:ext cx="1660320" cy="1282680"/>
              <a:chOff x="800280" y="4375080"/>
              <a:chExt cx="1660320" cy="128268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800280" y="4375080"/>
                <a:ext cx="1660320" cy="1282680"/>
                <a:chOff x="800280" y="4375080"/>
                <a:chExt cx="1660320" cy="12826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800280" y="437508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56440" y="443412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51152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 Design . . . A Simplified Expla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86560" y="48783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41560" y="53085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lgorithms (filtering, for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on-chip Memories, s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Integer Proc Unit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: Register Transfe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1988), VHDL, SystemVerilog: an executable spec for the chip, amounting to over a million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simulations  to verify the spec (literally billions of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constraints, clock definition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ront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: convert the RTL to logic gates (NAND-NORs, NOTs, Regi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 process in the past, still mostly manual for Ana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Synthesis (1989): automate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screte optimization techniques used here: boolean minimization, static timing analysis, state equivalence, etc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point is a “netlist”, meaning a set of logic gates and their connections. A large netlist is in the 10s of millions of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imulated or “formally verified” versus the RT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echnique: how do you prove that two logic equations are equival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o we place the large blocks? Where do we place the “random” logic and “structured blocks”? A combination of manual and automated approaches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keep connections short to meet timing, but also cannot “congest” the design too much or we cannot complete the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connections do have R and C (to substrate and coupling between wires) so they introduce delay! Meeting timing can be very difficul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wer and Ground lines usually get decid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we need to complete the exact details of where each block and gate will 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has been a key for many years (1980). A block may contain hundreds of thousands of cells, so it is very hard problem: minimize area, be routable and meet 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may have to add logic: repeaters to restore signals a key 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ack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ll the connec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need to meet timing and keep signal integrity. This also involve separating some wires, for example, to avoid bad coup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on is the norm here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ing and sizing rules are checked for all polygons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ics are extracted, netlists back annotated and time analyzed using static techniques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requires complicated rules, such as wire density been “unifor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5492880" y="1830240"/>
            <a:ext cx="3127320" cy="2694240"/>
            <a:chOff x="5492880" y="1830240"/>
            <a:chExt cx="3127320" cy="2694240"/>
          </a:xfrm>
        </p:grpSpPr>
        <p:grpSp>
          <p:nvGrpSpPr>
            <p:cNvPr id="279" name=""/>
            <p:cNvGrpSpPr/>
            <p:nvPr/>
          </p:nvGrpSpPr>
          <p:grpSpPr>
            <a:xfrm>
              <a:off x="5492880" y="1830240"/>
              <a:ext cx="3127320" cy="2694240"/>
              <a:chOff x="5492880" y="1830240"/>
              <a:chExt cx="3127320" cy="2694240"/>
            </a:xfrm>
          </p:grpSpPr>
          <p:sp>
            <p:nvSpPr>
              <p:cNvPr id="280" name=""/>
              <p:cNvSpPr/>
              <p:nvPr/>
            </p:nvSpPr>
            <p:spPr>
              <a:xfrm rot="16200000">
                <a:off x="5709240" y="1613520"/>
                <a:ext cx="2694240" cy="312732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6200000">
                <a:off x="5772600" y="1659600"/>
                <a:ext cx="2567160" cy="303552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2" name="" descr=""/>
            <p:cNvPicPr/>
            <p:nvPr/>
          </p:nvPicPr>
          <p:blipFill>
            <a:blip r:embed="rId1"/>
            <a:srcRect l="675" t="397" r="0" b="397"/>
            <a:stretch/>
          </p:blipFill>
          <p:spPr>
            <a:xfrm>
              <a:off x="5623920" y="1972440"/>
              <a:ext cx="2864520" cy="24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Goes to Fabric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51160" y="2705040"/>
            <a:ext cx="1206720" cy="841320"/>
          </a:xfrm>
          <a:prstGeom prst="rightArrow">
            <a:avLst>
              <a:gd name="adj1" fmla="val 50000"/>
              <a:gd name="adj2" fmla="val 35858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84160" y="4956120"/>
            <a:ext cx="60451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s simple, but have a ho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problems to solv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50400" y="1618920"/>
            <a:ext cx="3040560" cy="3040560"/>
            <a:chOff x="950400" y="1618920"/>
            <a:chExt cx="3040560" cy="3040560"/>
          </a:xfrm>
        </p:grpSpPr>
        <p:grpSp>
          <p:nvGrpSpPr>
            <p:cNvPr id="287" name=""/>
            <p:cNvGrpSpPr/>
            <p:nvPr/>
          </p:nvGrpSpPr>
          <p:grpSpPr>
            <a:xfrm>
              <a:off x="1154880" y="1618920"/>
              <a:ext cx="2647440" cy="3040560"/>
              <a:chOff x="1154880" y="1618920"/>
              <a:chExt cx="2647440" cy="30405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1154880" y="1618920"/>
                <a:ext cx="2647440" cy="289080"/>
                <a:chOff x="1154880" y="1618920"/>
                <a:chExt cx="2647440" cy="28908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16704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190512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23688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259920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2827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35078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0574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144036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6200000">
                  <a:off x="134928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6200000">
                  <a:off x="1592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6200000">
                  <a:off x="182664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6200000">
                  <a:off x="2049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6200000">
                  <a:off x="2283120" y="163800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6200000">
                  <a:off x="25228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16200000">
                  <a:off x="275148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6200000">
                  <a:off x="298332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200000">
                  <a:off x="32018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16200000">
                  <a:off x="3428640" y="1637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1154880" y="1618920"/>
                  <a:ext cx="170280" cy="289080"/>
                  <a:chOff x="1154880" y="1618920"/>
                  <a:chExt cx="170280" cy="28908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206360" y="1756080"/>
                    <a:ext cx="118800" cy="151920"/>
                    <a:chOff x="1206360" y="1756080"/>
                    <a:chExt cx="118800" cy="1519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21356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32516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20636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 rot="16200000">
                    <a:off x="113580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 flipV="1">
                  <a:off x="212544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3277080" y="175392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632040" y="1618920"/>
                  <a:ext cx="170280" cy="289080"/>
                  <a:chOff x="3632040" y="1618920"/>
                  <a:chExt cx="170280" cy="2890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32040" y="1756080"/>
                    <a:ext cx="118800" cy="151920"/>
                    <a:chOff x="3632040" y="1756080"/>
                    <a:chExt cx="118800" cy="151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632040" y="183204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632040" y="183204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750840" y="175608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0" name=""/>
                  <p:cNvSpPr/>
                  <p:nvPr/>
                </p:nvSpPr>
                <p:spPr>
                  <a:xfrm flipH="1" rot="5400000">
                    <a:off x="3667320" y="163764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1154880" y="4370400"/>
                <a:ext cx="2647440" cy="289080"/>
                <a:chOff x="1154880" y="4370400"/>
                <a:chExt cx="2647440" cy="289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6704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0512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3688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9920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827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5078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0574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44036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 rot="5400000">
                  <a:off x="134928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 rot="5400000">
                  <a:off x="1592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 rot="5400000">
                  <a:off x="182664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 rot="5400000">
                  <a:off x="2049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 rot="5400000">
                  <a:off x="2283120" y="4524480"/>
                  <a:ext cx="153720" cy="11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 rot="5400000">
                  <a:off x="25228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 rot="5400000">
                  <a:off x="275148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 rot="5400000">
                  <a:off x="298332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 rot="5400000">
                  <a:off x="32018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 rot="5400000">
                  <a:off x="3428640" y="4524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7"/>
                    </a:gs>
                    <a:gs pos="50000">
                      <a:srgbClr val="00007d"/>
                    </a:gs>
                    <a:gs pos="100000">
                      <a:srgbClr val="000007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154880" y="4370400"/>
                  <a:ext cx="170280" cy="289080"/>
                  <a:chOff x="1154880" y="4370400"/>
                  <a:chExt cx="170280" cy="28908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206360" y="4370400"/>
                    <a:ext cx="118800" cy="151920"/>
                    <a:chOff x="1206360" y="4370400"/>
                    <a:chExt cx="118800" cy="151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21356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132516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V="1">
                      <a:off x="120636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5" name=""/>
                  <p:cNvSpPr/>
                  <p:nvPr/>
                </p:nvSpPr>
                <p:spPr>
                  <a:xfrm flipV="1" rot="5400000">
                    <a:off x="113580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12544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77080" y="4370760"/>
                  <a:ext cx="0" cy="153720"/>
                </a:xfrm>
                <a:prstGeom prst="line">
                  <a:avLst/>
                </a:prstGeom>
                <a:ln w="12600">
                  <a:solidFill>
                    <a:srgbClr val="f0d61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3632040" y="4370400"/>
                  <a:ext cx="170280" cy="289080"/>
                  <a:chOff x="3632040" y="4370400"/>
                  <a:chExt cx="170280" cy="2890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632040" y="4370400"/>
                    <a:ext cx="118800" cy="151920"/>
                    <a:chOff x="3632040" y="4370400"/>
                    <a:chExt cx="118800" cy="1519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>
                      <a:off x="3632040" y="4446360"/>
                      <a:ext cx="111600" cy="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V="1">
                      <a:off x="3632040" y="437040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3750840" y="4446360"/>
                      <a:ext cx="0" cy="75960"/>
                    </a:xfrm>
                    <a:prstGeom prst="line">
                      <a:avLst/>
                    </a:prstGeom>
                    <a:ln w="12600">
                      <a:solidFill>
                        <a:srgbClr val="f0d61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3" name=""/>
                  <p:cNvSpPr/>
                  <p:nvPr/>
                </p:nvSpPr>
                <p:spPr>
                  <a:xfrm flipH="1" flipV="1" rot="16200000">
                    <a:off x="3667320" y="4524120"/>
                    <a:ext cx="153720" cy="115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7"/>
                      </a:gs>
                      <a:gs pos="50000">
                        <a:srgbClr val="00007d"/>
                      </a:gs>
                      <a:gs pos="100000">
                        <a:srgbClr val="00000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"/>
            <p:cNvGrpSpPr/>
            <p:nvPr/>
          </p:nvGrpSpPr>
          <p:grpSpPr>
            <a:xfrm>
              <a:off x="3701880" y="1833120"/>
              <a:ext cx="289080" cy="2647800"/>
              <a:chOff x="3701880" y="1833120"/>
              <a:chExt cx="289080" cy="2647800"/>
            </a:xfrm>
          </p:grpSpPr>
          <p:sp>
            <p:nvSpPr>
              <p:cNvPr id="355" name=""/>
              <p:cNvSpPr/>
              <p:nvPr/>
            </p:nvSpPr>
            <p:spPr>
              <a:xfrm>
                <a:off x="370224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70224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70224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0224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0224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0224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0224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0224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37240" y="204696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7240" y="229068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37240" y="2524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37240" y="2746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37240" y="29811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837240" y="32202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37240" y="344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37240" y="36806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37240" y="38991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37240" y="412596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701880" y="1833120"/>
                <a:ext cx="289080" cy="170640"/>
                <a:chOff x="3701880" y="1833120"/>
                <a:chExt cx="289080" cy="17064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3701880" y="1884600"/>
                  <a:ext cx="151920" cy="119160"/>
                  <a:chOff x="3701880" y="1884600"/>
                  <a:chExt cx="151920" cy="11916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3777840" y="189180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3701880" y="20037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>
                    <a:off x="3777840" y="188460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383724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70224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224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3701880" y="4310280"/>
                <a:ext cx="289080" cy="170640"/>
                <a:chOff x="3701880" y="4310280"/>
                <a:chExt cx="289080" cy="170640"/>
              </a:xfrm>
            </p:grpSpPr>
            <p:grpSp>
              <p:nvGrpSpPr>
                <p:cNvPr id="382" name=""/>
                <p:cNvGrpSpPr/>
                <p:nvPr/>
              </p:nvGrpSpPr>
              <p:grpSpPr>
                <a:xfrm>
                  <a:off x="3701880" y="4310280"/>
                  <a:ext cx="151920" cy="119160"/>
                  <a:chOff x="3701880" y="4310280"/>
                  <a:chExt cx="151920" cy="1191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V="1">
                    <a:off x="377784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370188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377784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6" name=""/>
                <p:cNvSpPr/>
                <p:nvPr/>
              </p:nvSpPr>
              <p:spPr>
                <a:xfrm flipH="1" rot="10800000">
                  <a:off x="3836880" y="436464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"/>
            <p:cNvGrpSpPr/>
            <p:nvPr/>
          </p:nvGrpSpPr>
          <p:grpSpPr>
            <a:xfrm>
              <a:off x="950400" y="1833480"/>
              <a:ext cx="289080" cy="2647440"/>
              <a:chOff x="950400" y="1833480"/>
              <a:chExt cx="289080" cy="2647440"/>
            </a:xfrm>
          </p:grpSpPr>
          <p:sp>
            <p:nvSpPr>
              <p:cNvPr id="388" name=""/>
              <p:cNvSpPr/>
              <p:nvPr/>
            </p:nvSpPr>
            <p:spPr>
              <a:xfrm flipH="1">
                <a:off x="1085400" y="23490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085400" y="258336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085400" y="30474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085400" y="32778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1085400" y="35060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085400" y="418644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1085400" y="37360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085400" y="211860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 rot="10800000">
                <a:off x="950400" y="2047320"/>
                <a:ext cx="153720" cy="1152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 rot="10800000">
                <a:off x="950400" y="229032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0800000">
                <a:off x="950400" y="252396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0800000">
                <a:off x="950400" y="27460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0800000">
                <a:off x="950400" y="2980800"/>
                <a:ext cx="153720" cy="11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 rot="10800000">
                <a:off x="950400" y="32198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 rot="10800000">
                <a:off x="950400" y="344844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 rot="10800000">
                <a:off x="950400" y="368028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 rot="10800000">
                <a:off x="950400" y="38988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 rot="10800000">
                <a:off x="950400" y="4125600"/>
                <a:ext cx="153720" cy="116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00007d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950760" y="1833480"/>
                <a:ext cx="288720" cy="171000"/>
                <a:chOff x="950760" y="1833480"/>
                <a:chExt cx="288720" cy="17100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1087560" y="1884960"/>
                  <a:ext cx="151920" cy="119520"/>
                  <a:chOff x="1087560" y="1884960"/>
                  <a:chExt cx="151920" cy="11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1163520" y="189252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163520" y="20044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087560" y="188496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 flipV="1" rot="10800000">
                  <a:off x="950760" y="183312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2" name=""/>
              <p:cNvSpPr/>
              <p:nvPr/>
            </p:nvSpPr>
            <p:spPr>
              <a:xfrm flipH="1">
                <a:off x="1085400" y="2803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1085400" y="3955680"/>
                <a:ext cx="153720" cy="0"/>
              </a:xfrm>
              <a:prstGeom prst="line">
                <a:avLst/>
              </a:prstGeom>
              <a:ln w="12600">
                <a:solidFill>
                  <a:srgbClr val="f0d6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950400" y="4310280"/>
                <a:ext cx="289080" cy="170640"/>
                <a:chOff x="950400" y="4310280"/>
                <a:chExt cx="289080" cy="17064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1087560" y="4310280"/>
                  <a:ext cx="151920" cy="119160"/>
                  <a:chOff x="1087560" y="4310280"/>
                  <a:chExt cx="151920" cy="11916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 flipV="1">
                    <a:off x="1163520" y="4310280"/>
                    <a:ext cx="0" cy="11196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163520" y="431028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087560" y="4429440"/>
                    <a:ext cx="75960" cy="0"/>
                  </a:xfrm>
                  <a:prstGeom prst="line">
                    <a:avLst/>
                  </a:prstGeom>
                  <a:ln w="12600">
                    <a:solidFill>
                      <a:srgbClr val="f0d61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 flipH="1" flipV="1">
                  <a:off x="950040" y="4364280"/>
                  <a:ext cx="153720" cy="11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7d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1207800" y="1887120"/>
              <a:ext cx="2564280" cy="2537280"/>
              <a:chOff x="1207800" y="1887120"/>
              <a:chExt cx="2564280" cy="2537280"/>
            </a:xfrm>
          </p:grpSpPr>
          <p:sp>
            <p:nvSpPr>
              <p:cNvPr id="421" name=""/>
              <p:cNvSpPr/>
              <p:nvPr/>
            </p:nvSpPr>
            <p:spPr>
              <a:xfrm>
                <a:off x="1207800" y="1887120"/>
                <a:ext cx="2564280" cy="25372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00001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72240" y="1944000"/>
                <a:ext cx="2433240" cy="2423160"/>
              </a:xfrm>
              <a:prstGeom prst="rect">
                <a:avLst/>
              </a:prstGeom>
              <a:gradFill rotWithShape="0">
                <a:gsLst>
                  <a:gs pos="0">
                    <a:srgbClr val="000001"/>
                  </a:gs>
                  <a:gs pos="50000">
                    <a:srgbClr val="100051"/>
                  </a:gs>
                  <a:gs pos="100000">
                    <a:srgbClr val="00000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1359000" y="2011320"/>
            <a:ext cx="2247840" cy="2257560"/>
          </a:xfrm>
          <a:prstGeom prst="rect">
            <a:avLst/>
          </a:prstGeom>
          <a:ln w="25560">
            <a:solidFill>
              <a:srgbClr val="cc99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and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806400" y="1077480"/>
            <a:ext cx="78328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steps you take to design a chip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a design f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429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431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437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442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486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02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519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358920" y="1459080"/>
            <a:ext cx="8596080" cy="5241960"/>
            <a:chOff x="358920" y="1459080"/>
            <a:chExt cx="8596080" cy="5241960"/>
          </a:xfrm>
        </p:grpSpPr>
        <p:sp>
          <p:nvSpPr>
            <p:cNvPr id="526" name=""/>
            <p:cNvSpPr/>
            <p:nvPr/>
          </p:nvSpPr>
          <p:spPr>
            <a:xfrm>
              <a:off x="6073920" y="182880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598760" y="2633760"/>
              <a:ext cx="531360" cy="496440"/>
              <a:chOff x="1598760" y="2633760"/>
              <a:chExt cx="531360" cy="496440"/>
            </a:xfrm>
          </p:grpSpPr>
          <p:sp>
            <p:nvSpPr>
              <p:cNvPr id="528" name=""/>
              <p:cNvSpPr/>
              <p:nvPr/>
            </p:nvSpPr>
            <p:spPr>
              <a:xfrm>
                <a:off x="175068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7472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9876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3835440" y="4581360"/>
              <a:ext cx="1214280" cy="433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0160" y="238608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stben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2811600" y="1459080"/>
              <a:ext cx="531360" cy="493200"/>
              <a:chOff x="2811600" y="1459080"/>
              <a:chExt cx="531360" cy="493200"/>
            </a:xfrm>
          </p:grpSpPr>
          <p:sp>
            <p:nvSpPr>
              <p:cNvPr id="534" name=""/>
              <p:cNvSpPr/>
              <p:nvPr/>
            </p:nvSpPr>
            <p:spPr>
              <a:xfrm>
                <a:off x="2963520" y="158220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887560" y="1520280"/>
                <a:ext cx="37944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811600" y="1459080"/>
                <a:ext cx="379800" cy="3700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3419640" y="1582560"/>
              <a:ext cx="113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5315040" y="2633760"/>
              <a:ext cx="531360" cy="496440"/>
              <a:chOff x="5315040" y="2633760"/>
              <a:chExt cx="531360" cy="496440"/>
            </a:xfrm>
          </p:grpSpPr>
          <p:sp>
            <p:nvSpPr>
              <p:cNvPr id="539" name=""/>
              <p:cNvSpPr/>
              <p:nvPr/>
            </p:nvSpPr>
            <p:spPr>
              <a:xfrm>
                <a:off x="5466960" y="275760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391000" y="2695680"/>
                <a:ext cx="37944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315040" y="2633760"/>
                <a:ext cx="379800" cy="3726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5087880" y="2262240"/>
              <a:ext cx="1594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i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itial 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205000" y="1643040"/>
              <a:ext cx="60660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63880" y="195264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2130480" y="2076480"/>
              <a:ext cx="30168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0200" y="244800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0200" y="2633760"/>
              <a:ext cx="1441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81640" y="26337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1960" y="2138400"/>
              <a:ext cx="0" cy="68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0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0080" y="3117960"/>
              <a:ext cx="0" cy="12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78200" y="3130560"/>
              <a:ext cx="0" cy="24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1143000" y="3252960"/>
              <a:ext cx="83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3252960"/>
              <a:ext cx="648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6240" y="5384880"/>
              <a:ext cx="7873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05320" y="380988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3076560" y="4829040"/>
              <a:ext cx="75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438440" y="5014800"/>
              <a:ext cx="468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1640" y="5448240"/>
              <a:ext cx="307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6110280" y="4916160"/>
              <a:ext cx="1440" cy="53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4040" y="3809520"/>
              <a:ext cx="3240" cy="6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7377120" y="3809880"/>
              <a:ext cx="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4935240" y="3809880"/>
              <a:ext cx="24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26040" y="5943600"/>
              <a:ext cx="2274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81800" y="4253040"/>
              <a:ext cx="6480" cy="168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44920" y="5580000"/>
              <a:ext cx="0" cy="18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1960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81960" y="3130560"/>
              <a:ext cx="0" cy="12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4760" y="3252960"/>
              <a:ext cx="0" cy="12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0200" y="3252960"/>
              <a:ext cx="364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8480" y="1768320"/>
              <a:ext cx="1136520" cy="30816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8920" y="2125800"/>
              <a:ext cx="17539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ystem 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ogic Mode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2160" y="213840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46440" y="199404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odule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73920" y="282096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s / 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232760" y="2751120"/>
              <a:ext cx="15969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Library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Ware Libr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90720" y="2633760"/>
              <a:ext cx="6080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4720" y="3376440"/>
              <a:ext cx="17449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 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43000" y="3546360"/>
              <a:ext cx="113832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40040" y="4641840"/>
              <a:ext cx="11379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35240" y="5002200"/>
              <a:ext cx="113832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TetraMA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3798720" y="3376440"/>
              <a:ext cx="1441080" cy="433080"/>
              <a:chOff x="3798720" y="3376440"/>
              <a:chExt cx="1441080" cy="433080"/>
            </a:xfrm>
          </p:grpSpPr>
          <p:sp>
            <p:nvSpPr>
              <p:cNvPr id="583" name=""/>
              <p:cNvSpPr/>
              <p:nvPr/>
            </p:nvSpPr>
            <p:spPr>
              <a:xfrm>
                <a:off x="4102200" y="3376440"/>
                <a:ext cx="1137600" cy="30960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50640" y="343836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98720" y="3500280"/>
                <a:ext cx="1137600" cy="3092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he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"/>
            <p:cNvSpPr/>
            <p:nvPr/>
          </p:nvSpPr>
          <p:spPr>
            <a:xfrm>
              <a:off x="5227560" y="331776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esign Compiler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ower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DFT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24200" y="5273640"/>
              <a:ext cx="11397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06640" y="4308480"/>
              <a:ext cx="1439640" cy="8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CS-M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Magel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orma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5440" y="574524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ce &amp; Ro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60960" y="545004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As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56480" y="3954600"/>
              <a:ext cx="113832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ks-t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55880" y="4027320"/>
              <a:ext cx="128916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Pla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4200" y="6175440"/>
              <a:ext cx="144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ime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NanoSi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SP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23880" y="5756400"/>
              <a:ext cx="1289160" cy="34128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-Rou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54520" y="6265800"/>
              <a:ext cx="1289160" cy="3510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03880" y="4332240"/>
              <a:ext cx="0" cy="24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30720" y="6434280"/>
              <a:ext cx="52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315200" y="6116760"/>
              <a:ext cx="531360" cy="494640"/>
              <a:chOff x="7315200" y="6116760"/>
              <a:chExt cx="531360" cy="494640"/>
            </a:xfrm>
          </p:grpSpPr>
          <p:sp>
            <p:nvSpPr>
              <p:cNvPr id="599" name=""/>
              <p:cNvSpPr/>
              <p:nvPr/>
            </p:nvSpPr>
            <p:spPr>
              <a:xfrm>
                <a:off x="7467120" y="624024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91160" y="6178320"/>
                <a:ext cx="37944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15200" y="6116760"/>
                <a:ext cx="379800" cy="37116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da yad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Blah blah bla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idie yadi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So on and so forth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on and 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ibber jabber jibb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just jawing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ckety y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</a:rPr>
                  <a:t>Ya'll com bac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910560" y="6410160"/>
              <a:ext cx="382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00840" y="6270480"/>
              <a:ext cx="113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406600" y="3951360"/>
              <a:ext cx="1441440" cy="58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hysical 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Jupiter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70600" y="6089760"/>
              <a:ext cx="14414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Prote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2120" y="5985000"/>
              <a:ext cx="1917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6800" y="5832360"/>
              <a:ext cx="1886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5720" y="6278400"/>
              <a:ext cx="1289160" cy="3416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al Des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05200" y="6326280"/>
              <a:ext cx="946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TAR-RCX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Hercu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25960" y="607068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581360" y="6070320"/>
              <a:ext cx="0" cy="18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43040" y="280044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95640" y="2819520"/>
              <a:ext cx="992160" cy="312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54800" y="4457880"/>
              <a:ext cx="1166760" cy="466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trai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057480" y="5338800"/>
              <a:ext cx="1396800" cy="247680"/>
              <a:chOff x="3057480" y="5338800"/>
              <a:chExt cx="1396800" cy="24768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3057480" y="5338800"/>
                <a:ext cx="139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066840" y="5586480"/>
                <a:ext cx="1378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V="1">
              <a:off x="7786800" y="6160680"/>
              <a:ext cx="5428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8307360" y="5846760"/>
              <a:ext cx="144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45320" y="5524560"/>
              <a:ext cx="1290600" cy="30960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sk Wr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346960" y="5904000"/>
              <a:ext cx="60804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A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rot="1605600">
            <a:off x="1261800" y="738000"/>
            <a:ext cx="7881840" cy="353844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79640" y="696960"/>
            <a:ext cx="43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4257600">
            <a:off x="-1136160" y="2769840"/>
            <a:ext cx="5163840" cy="2401920"/>
          </a:xfrm>
          <a:prstGeom prst="ellipse">
            <a:avLst/>
          </a:prstGeom>
          <a:solidFill>
            <a:srgbClr val="ff33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20863200">
            <a:off x="2701440" y="4848120"/>
            <a:ext cx="5531040" cy="1731960"/>
          </a:xfrm>
          <a:prstGeom prst="ellipse">
            <a:avLst/>
          </a:prstGeom>
          <a:solidFill>
            <a:srgbClr val="9999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371840" y="4973760"/>
            <a:ext cx="45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for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2200" y="36766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imple design flow – step by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” you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gates wil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print” your ch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heck your bluepr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your design into 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5367240" y="1590840"/>
            <a:ext cx="2884680" cy="1473120"/>
            <a:chOff x="5367240" y="1590840"/>
            <a:chExt cx="2884680" cy="1473120"/>
          </a:xfrm>
        </p:grpSpPr>
        <p:sp>
          <p:nvSpPr>
            <p:cNvPr id="631" name=""/>
            <p:cNvSpPr/>
            <p:nvPr/>
          </p:nvSpPr>
          <p:spPr>
            <a:xfrm>
              <a:off x="5367240" y="159084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89600" y="1924200"/>
              <a:ext cx="236232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350040" y="3905280"/>
            <a:ext cx="2793960" cy="1473120"/>
            <a:chOff x="6350040" y="3905280"/>
            <a:chExt cx="2793960" cy="1473120"/>
          </a:xfrm>
        </p:grpSpPr>
        <p:sp>
          <p:nvSpPr>
            <p:cNvPr id="634" name=""/>
            <p:cNvSpPr/>
            <p:nvPr/>
          </p:nvSpPr>
          <p:spPr>
            <a:xfrm>
              <a:off x="6350040" y="3905280"/>
              <a:ext cx="569880" cy="1473120"/>
            </a:xfrm>
            <a:custGeom>
              <a:avLst/>
              <a:gdLst>
                <a:gd name="textAreaLeft" fmla="*/ 0 w 569880"/>
                <a:gd name="textAreaRight" fmla="*/ 205920 w 569880"/>
                <a:gd name="textAreaTop" fmla="*/ 38160 h 1473120"/>
                <a:gd name="textAreaBottom" fmla="*/ 1434960 h 147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ee7af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781680" y="4165560"/>
              <a:ext cx="236232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sign for Manufactu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13720" y="3265560"/>
            <a:ext cx="2646360" cy="459720"/>
            <a:chOff x="6813720" y="3265560"/>
            <a:chExt cx="2646360" cy="459720"/>
          </a:xfrm>
        </p:grpSpPr>
        <p:sp>
          <p:nvSpPr>
            <p:cNvPr id="637" name=""/>
            <p:cNvSpPr/>
            <p:nvPr/>
          </p:nvSpPr>
          <p:spPr>
            <a:xfrm>
              <a:off x="6813720" y="3292560"/>
              <a:ext cx="255600" cy="392040"/>
            </a:xfrm>
            <a:custGeom>
              <a:avLst/>
              <a:gdLst>
                <a:gd name="textAreaLeft" fmla="*/ 0 w 255600"/>
                <a:gd name="textAreaRight" fmla="*/ 92160 w 255600"/>
                <a:gd name="textAreaTop" fmla="*/ 10080 h 392040"/>
                <a:gd name="textAreaBottom" fmla="*/ 38196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97760" y="3265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78040" y="1395360"/>
            <a:ext cx="6248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ity + te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s in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brid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1125360"/>
            <a:ext cx="12956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040" y="5815080"/>
            <a:ext cx="2590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87320" y="1484280"/>
            <a:ext cx="4680" cy="430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-236880" y="3320280"/>
            <a:ext cx="3200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“Spec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you want your chip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“spec” - use a language like Verilog or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 for a cell phone ringer might look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coming_call AND line_is_available then 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omplex chip desig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a million lines of specifi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a team of 100 peop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for 6 mon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buy a ready-made s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the spec to the computer to begin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(V)HD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Generate the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out the detaile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chip designs have hundre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ousands of gates in each 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’t figure out all these logic gat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puter program!  An EDA t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 Compiler, Physical Compiler, IC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logic gates to use in a future desig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esignWare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61200" y="1076400"/>
            <a:ext cx="2363760" cy="2359080"/>
            <a:chOff x="6361200" y="1076400"/>
            <a:chExt cx="2363760" cy="235908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tretch/>
          </p:blipFill>
          <p:spPr>
            <a:xfrm>
              <a:off x="6375240" y="1085760"/>
              <a:ext cx="2349720" cy="23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361200" y="1076400"/>
              <a:ext cx="2354040" cy="2354040"/>
            </a:xfrm>
            <a:prstGeom prst="ellipse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reate a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ufacturer to throw out defective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illions of combinations of electrical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zy to attempt this with a pencil and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DA tools!  Test Synthesis &amp; Automatic Test Program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DFT Compiler, Tetra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70040" y="4184640"/>
            <a:ext cx="7758000" cy="1836720"/>
            <a:chOff x="770040" y="4184640"/>
            <a:chExt cx="7758000" cy="1836720"/>
          </a:xfrm>
        </p:grpSpPr>
        <p:sp>
          <p:nvSpPr>
            <p:cNvPr id="649" name=""/>
            <p:cNvSpPr/>
            <p:nvPr/>
          </p:nvSpPr>
          <p:spPr>
            <a:xfrm>
              <a:off x="770040" y="4184640"/>
              <a:ext cx="2176200" cy="18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ly electri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pected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452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85000" y="5068800"/>
              <a:ext cx="6523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51480" y="4413240"/>
              <a:ext cx="217656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asur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heck against expec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5154120" y="5283360"/>
              <a:ext cx="584280" cy="281160"/>
              <a:chOff x="5154120" y="5283360"/>
              <a:chExt cx="584280" cy="281160"/>
            </a:xfrm>
          </p:grpSpPr>
          <p:sp>
            <p:nvSpPr>
              <p:cNvPr id="654" name=""/>
              <p:cNvSpPr/>
              <p:nvPr/>
            </p:nvSpPr>
            <p:spPr>
              <a:xfrm>
                <a:off x="5154120" y="528444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154120" y="5283720"/>
                <a:ext cx="43200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369040" y="528336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72200" y="5367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72200" y="5493960"/>
                <a:ext cx="9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585400" y="5423760"/>
                <a:ext cx="153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3605400" y="5335200"/>
              <a:ext cx="586800" cy="282600"/>
              <a:chOff x="3605400" y="5335200"/>
              <a:chExt cx="586800" cy="282600"/>
            </a:xfrm>
          </p:grpSpPr>
          <p:sp>
            <p:nvSpPr>
              <p:cNvPr id="661" name=""/>
              <p:cNvSpPr/>
              <p:nvPr/>
            </p:nvSpPr>
            <p:spPr>
              <a:xfrm>
                <a:off x="3605400" y="533664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605400" y="5335200"/>
                <a:ext cx="43416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21400" y="5335560"/>
                <a:ext cx="0" cy="28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24200" y="542052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724200" y="554616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38480" y="547596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3430800" y="4492800"/>
              <a:ext cx="586800" cy="281160"/>
              <a:chOff x="3430800" y="4492800"/>
              <a:chExt cx="586800" cy="281160"/>
            </a:xfrm>
          </p:grpSpPr>
          <p:sp>
            <p:nvSpPr>
              <p:cNvPr id="668" name=""/>
              <p:cNvSpPr/>
              <p:nvPr/>
            </p:nvSpPr>
            <p:spPr>
              <a:xfrm>
                <a:off x="3430800" y="449388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0800" y="4492800"/>
                <a:ext cx="4341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646800" y="4492800"/>
                <a:ext cx="0" cy="28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549600" y="457740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49600" y="4703040"/>
                <a:ext cx="9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63880" y="4632840"/>
                <a:ext cx="153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3664800" y="4775040"/>
              <a:ext cx="1953360" cy="419040"/>
              <a:chOff x="3664800" y="4775040"/>
              <a:chExt cx="1953360" cy="41904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3664800" y="4915080"/>
                <a:ext cx="433440" cy="279000"/>
                <a:chOff x="3664800" y="4915080"/>
                <a:chExt cx="433440" cy="2790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664800" y="491688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664800" y="4917240"/>
                  <a:ext cx="433440" cy="27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880440" y="4915080"/>
                  <a:ext cx="0" cy="279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3782880" y="499932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782880" y="5124960"/>
                  <a:ext cx="9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100400" y="4842720"/>
                <a:ext cx="459720" cy="283320"/>
                <a:chOff x="4100400" y="4842720"/>
                <a:chExt cx="459720" cy="2833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154040" y="484488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154040" y="4842720"/>
                  <a:ext cx="40608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357800" y="48434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265640" y="4929120"/>
                  <a:ext cx="91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00400" y="5055120"/>
                  <a:ext cx="25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568760" y="4775040"/>
                <a:ext cx="434160" cy="284040"/>
                <a:chOff x="4568760" y="4775040"/>
                <a:chExt cx="434160" cy="284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595400" y="4776480"/>
                  <a:ext cx="407520" cy="28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595400" y="4775760"/>
                  <a:ext cx="407520" cy="281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799880" y="4775040"/>
                  <a:ext cx="0" cy="28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707720" y="486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568760" y="4987800"/>
                  <a:ext cx="23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5003640" y="49150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5068080" y="4830840"/>
                <a:ext cx="550080" cy="280800"/>
                <a:chOff x="5068080" y="4830840"/>
                <a:chExt cx="550080" cy="28080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068080" y="4832280"/>
                  <a:ext cx="406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272200" y="4830840"/>
                  <a:ext cx="0" cy="280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180040" y="5041800"/>
                  <a:ext cx="92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475240" y="4971960"/>
                  <a:ext cx="142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00" name=""/>
          <p:cNvGrpSpPr/>
          <p:nvPr/>
        </p:nvGrpSpPr>
        <p:grpSpPr>
          <a:xfrm>
            <a:off x="3674520" y="4761000"/>
            <a:ext cx="1952280" cy="418320"/>
            <a:chOff x="3674520" y="4761000"/>
            <a:chExt cx="1952280" cy="418320"/>
          </a:xfrm>
        </p:grpSpPr>
        <p:grpSp>
          <p:nvGrpSpPr>
            <p:cNvPr id="701" name=""/>
            <p:cNvGrpSpPr/>
            <p:nvPr/>
          </p:nvGrpSpPr>
          <p:grpSpPr>
            <a:xfrm>
              <a:off x="3674520" y="4900680"/>
              <a:ext cx="432720" cy="278640"/>
              <a:chOff x="3674520" y="4900680"/>
              <a:chExt cx="432720" cy="278640"/>
            </a:xfrm>
          </p:grpSpPr>
          <p:sp>
            <p:nvSpPr>
              <p:cNvPr id="702" name=""/>
              <p:cNvSpPr/>
              <p:nvPr/>
            </p:nvSpPr>
            <p:spPr>
              <a:xfrm>
                <a:off x="3674520" y="490248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74520" y="4902840"/>
                <a:ext cx="432720" cy="276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89800" y="4900680"/>
                <a:ext cx="0" cy="2786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2600" y="498492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2600" y="5110200"/>
                <a:ext cx="972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09760" y="4829040"/>
              <a:ext cx="459000" cy="281520"/>
              <a:chOff x="4109760" y="4829040"/>
              <a:chExt cx="459000" cy="281520"/>
            </a:xfrm>
          </p:grpSpPr>
          <p:sp>
            <p:nvSpPr>
              <p:cNvPr id="708" name=""/>
              <p:cNvSpPr/>
              <p:nvPr/>
            </p:nvSpPr>
            <p:spPr>
              <a:xfrm>
                <a:off x="4163400" y="483048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63400" y="4829040"/>
                <a:ext cx="405360" cy="28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66800" y="48290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5000" y="491472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09760" y="5040360"/>
                <a:ext cx="25704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578120" y="4761000"/>
              <a:ext cx="433800" cy="283320"/>
              <a:chOff x="4578120" y="4761000"/>
              <a:chExt cx="433800" cy="283320"/>
            </a:xfrm>
          </p:grpSpPr>
          <p:sp>
            <p:nvSpPr>
              <p:cNvPr id="714" name=""/>
              <p:cNvSpPr/>
              <p:nvPr/>
            </p:nvSpPr>
            <p:spPr>
              <a:xfrm>
                <a:off x="4605120" y="4762440"/>
                <a:ext cx="406800" cy="28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05120" y="4761360"/>
                <a:ext cx="406800" cy="28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808880" y="4761000"/>
                <a:ext cx="0" cy="28188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17080" y="484740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78120" y="4973400"/>
                <a:ext cx="2307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013000" y="4900680"/>
              <a:ext cx="266400" cy="0"/>
            </a:xfrm>
            <a:prstGeom prst="line">
              <a:avLst/>
            </a:prstGeom>
            <a:ln w="31680">
              <a:solidFill>
                <a:srgbClr val="ff0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5077440" y="4816440"/>
              <a:ext cx="549360" cy="280440"/>
              <a:chOff x="5077440" y="4816440"/>
              <a:chExt cx="549360" cy="280440"/>
            </a:xfrm>
          </p:grpSpPr>
          <p:sp>
            <p:nvSpPr>
              <p:cNvPr id="721" name=""/>
              <p:cNvSpPr/>
              <p:nvPr/>
            </p:nvSpPr>
            <p:spPr>
              <a:xfrm>
                <a:off x="5077440" y="481752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77440" y="4817880"/>
                <a:ext cx="406080" cy="27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281200" y="4816440"/>
                <a:ext cx="0" cy="28044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189400" y="5027040"/>
                <a:ext cx="9180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484240" y="4957200"/>
                <a:ext cx="142560" cy="0"/>
              </a:xfrm>
              <a:prstGeom prst="line">
                <a:avLst/>
              </a:prstGeom>
              <a:ln w="31680">
                <a:solidFill>
                  <a:srgbClr val="ff0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the logic gates will do what you want, when you want them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, Timing Analysis, Testbench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VCS-MX, PrimeTime, 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64360" y="3516120"/>
            <a:ext cx="7243200" cy="896760"/>
            <a:chOff x="864360" y="3516120"/>
            <a:chExt cx="7243200" cy="896760"/>
          </a:xfrm>
        </p:grpSpPr>
        <p:grpSp>
          <p:nvGrpSpPr>
            <p:cNvPr id="729" name=""/>
            <p:cNvGrpSpPr/>
            <p:nvPr/>
          </p:nvGrpSpPr>
          <p:grpSpPr>
            <a:xfrm>
              <a:off x="864360" y="3516120"/>
              <a:ext cx="3490200" cy="896760"/>
              <a:chOff x="864360" y="3516120"/>
              <a:chExt cx="3490200" cy="8967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864360" y="3551760"/>
                <a:ext cx="2089800" cy="788040"/>
                <a:chOff x="864360" y="3551760"/>
                <a:chExt cx="2089800" cy="78804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2425320" y="4105800"/>
                  <a:ext cx="528840" cy="196200"/>
                  <a:chOff x="2425320" y="4105800"/>
                  <a:chExt cx="528840" cy="19620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2425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2425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2619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2531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2531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2815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076040" y="3847320"/>
                  <a:ext cx="392400" cy="196200"/>
                  <a:chOff x="1076040" y="3847320"/>
                  <a:chExt cx="392400" cy="1962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076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271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182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182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022760" y="4142520"/>
                  <a:ext cx="531000" cy="197280"/>
                  <a:chOff x="1022760" y="4142520"/>
                  <a:chExt cx="531000" cy="197280"/>
                </a:xfrm>
              </p:grpSpPr>
              <p:sp>
                <p:nvSpPr>
                  <p:cNvPr id="745" name=""/>
                  <p:cNvSpPr/>
                  <p:nvPr/>
                </p:nvSpPr>
                <p:spPr>
                  <a:xfrm>
                    <a:off x="1022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022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217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30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30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414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864360" y="3551760"/>
                  <a:ext cx="531000" cy="197280"/>
                  <a:chOff x="864360" y="3551760"/>
                  <a:chExt cx="531000" cy="1972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>
                    <a:off x="864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864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059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971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971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256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1470600" y="3796920"/>
                  <a:ext cx="416520" cy="199080"/>
                  <a:chOff x="1470600" y="3796920"/>
                  <a:chExt cx="416520" cy="1990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519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519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703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620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470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4" name=""/>
                <p:cNvGrpSpPr/>
                <p:nvPr/>
              </p:nvGrpSpPr>
              <p:grpSpPr>
                <a:xfrm>
                  <a:off x="1895040" y="3749760"/>
                  <a:ext cx="392760" cy="198720"/>
                  <a:chOff x="1895040" y="3749760"/>
                  <a:chExt cx="392760" cy="19872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1919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919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2104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2020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895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2288520" y="3789360"/>
                  <a:ext cx="556560" cy="196200"/>
                  <a:chOff x="2288520" y="3789360"/>
                  <a:chExt cx="556560" cy="1962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>
                    <a:off x="2288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2347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2531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2448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2715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7" name=""/>
              <p:cNvGrpSpPr/>
              <p:nvPr/>
            </p:nvGrpSpPr>
            <p:grpSpPr>
              <a:xfrm>
                <a:off x="2958840" y="3516120"/>
                <a:ext cx="1395720" cy="896760"/>
                <a:chOff x="2958840" y="3516120"/>
                <a:chExt cx="1395720" cy="896760"/>
              </a:xfrm>
            </p:grpSpPr>
            <p:grpSp>
              <p:nvGrpSpPr>
                <p:cNvPr id="778" name=""/>
                <p:cNvGrpSpPr/>
                <p:nvPr/>
              </p:nvGrpSpPr>
              <p:grpSpPr>
                <a:xfrm>
                  <a:off x="2958840" y="3741840"/>
                  <a:ext cx="391680" cy="196200"/>
                  <a:chOff x="2958840" y="3741840"/>
                  <a:chExt cx="391680" cy="1962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2958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2958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3153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3065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3065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4" name=""/>
                <p:cNvGrpSpPr/>
                <p:nvPr/>
              </p:nvGrpSpPr>
              <p:grpSpPr>
                <a:xfrm>
                  <a:off x="3349800" y="3779640"/>
                  <a:ext cx="669240" cy="199080"/>
                  <a:chOff x="3349800" y="3779640"/>
                  <a:chExt cx="669240" cy="19908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3349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393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393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86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3498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782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3821760" y="3516120"/>
                  <a:ext cx="531000" cy="197280"/>
                  <a:chOff x="3821760" y="3516120"/>
                  <a:chExt cx="531000" cy="19728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821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821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4016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928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928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4213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3823920" y="3819600"/>
                  <a:ext cx="530640" cy="196200"/>
                  <a:chOff x="3823920" y="3819600"/>
                  <a:chExt cx="530640" cy="1962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3823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3823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4019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930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4214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3369240" y="4216680"/>
                  <a:ext cx="391680" cy="196200"/>
                  <a:chOff x="3369240" y="4216680"/>
                  <a:chExt cx="391680" cy="19620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3369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564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475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3475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3763800" y="4167720"/>
                  <a:ext cx="558360" cy="196200"/>
                  <a:chOff x="3763800" y="4167720"/>
                  <a:chExt cx="558360" cy="1962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3795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3988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899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3763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4184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7" name=""/>
            <p:cNvGrpSpPr/>
            <p:nvPr/>
          </p:nvGrpSpPr>
          <p:grpSpPr>
            <a:xfrm>
              <a:off x="4617360" y="3516120"/>
              <a:ext cx="3490200" cy="896760"/>
              <a:chOff x="4617360" y="3516120"/>
              <a:chExt cx="3490200" cy="89676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4617360" y="3551760"/>
                <a:ext cx="2089800" cy="788040"/>
                <a:chOff x="4617360" y="3551760"/>
                <a:chExt cx="2089800" cy="78804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6178320" y="4105800"/>
                  <a:ext cx="528840" cy="196200"/>
                  <a:chOff x="6178320" y="4105800"/>
                  <a:chExt cx="528840" cy="19620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>
                    <a:off x="6178320" y="410652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6178320" y="4105800"/>
                    <a:ext cx="390960" cy="19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6372720" y="41058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6284880" y="41648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6284880" y="425304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6568560" y="4203720"/>
                    <a:ext cx="138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4829040" y="3847320"/>
                  <a:ext cx="392400" cy="196200"/>
                  <a:chOff x="4829040" y="3847320"/>
                  <a:chExt cx="392400" cy="1962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829040" y="384876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5024160" y="38473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935960" y="39067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935960" y="39945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4775760" y="4142520"/>
                  <a:ext cx="531000" cy="197280"/>
                  <a:chOff x="4775760" y="4142520"/>
                  <a:chExt cx="531000" cy="19728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4775760" y="41436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775760" y="41425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4970880" y="41428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883040" y="420192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4883040" y="42897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5167800" y="42408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4617360" y="3551760"/>
                  <a:ext cx="531000" cy="197280"/>
                  <a:chOff x="4617360" y="3551760"/>
                  <a:chExt cx="531000" cy="19728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4617360" y="355284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4617360" y="355176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4812480" y="35521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4724640" y="361116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4724640" y="3699000"/>
                    <a:ext cx="8784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5009400" y="365004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5223600" y="3796920"/>
                  <a:ext cx="416520" cy="199080"/>
                  <a:chOff x="5223600" y="3796920"/>
                  <a:chExt cx="416520" cy="19908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5272200" y="379836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272200" y="379692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5456880" y="379728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373360" y="38574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5223600" y="3945960"/>
                    <a:ext cx="23328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648040" y="3749760"/>
                  <a:ext cx="392760" cy="198720"/>
                  <a:chOff x="5648040" y="3749760"/>
                  <a:chExt cx="392760" cy="198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5672880" y="3750840"/>
                    <a:ext cx="36792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5672880" y="3750120"/>
                    <a:ext cx="36792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5857200" y="374976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5773680" y="381024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5648040" y="3898440"/>
                    <a:ext cx="209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" name=""/>
                <p:cNvGrpSpPr/>
                <p:nvPr/>
              </p:nvGrpSpPr>
              <p:grpSpPr>
                <a:xfrm>
                  <a:off x="6041520" y="3789360"/>
                  <a:ext cx="556560" cy="196200"/>
                  <a:chOff x="6041520" y="3789360"/>
                  <a:chExt cx="556560" cy="1962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6041520" y="3848760"/>
                    <a:ext cx="2415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6" y="0"/>
                        </a:moveTo>
                        <a:arcTo wR="10800" hR="10800" stAng="-5420523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6" y="0"/>
                        </a:moveTo>
                        <a:arcTo wR="10800" hR="10800" stAng="-5420523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6100560" y="3790800"/>
                    <a:ext cx="3672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052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0523"/>
                      </a:path>
                    </a:pathLst>
                  </a:custGeom>
                  <a:noFill/>
                  <a:ln cap="rnd"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6284520" y="378936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6201360" y="3936600"/>
                    <a:ext cx="8316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6468480" y="3888000"/>
                    <a:ext cx="129600" cy="0"/>
                  </a:xfrm>
                  <a:prstGeom prst="line">
                    <a:avLst/>
                  </a:prstGeom>
                  <a:ln w="25560">
                    <a:solidFill>
                      <a:srgbClr val="00e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5" name=""/>
              <p:cNvGrpSpPr/>
              <p:nvPr/>
            </p:nvGrpSpPr>
            <p:grpSpPr>
              <a:xfrm>
                <a:off x="6711840" y="3516120"/>
                <a:ext cx="1395720" cy="896760"/>
                <a:chOff x="6711840" y="3516120"/>
                <a:chExt cx="1395720" cy="89676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6711840" y="3741840"/>
                  <a:ext cx="391680" cy="196200"/>
                  <a:chOff x="6711840" y="3741840"/>
                  <a:chExt cx="391680" cy="19620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6711840" y="3742920"/>
                    <a:ext cx="39168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6711840" y="374328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6906600" y="374184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6818400" y="38008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818400" y="38890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102800" y="3779640"/>
                  <a:ext cx="669240" cy="199080"/>
                  <a:chOff x="7102800" y="3779640"/>
                  <a:chExt cx="669240" cy="19908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7102800" y="3840480"/>
                    <a:ext cx="21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146000" y="378108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146000" y="3779640"/>
                    <a:ext cx="388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339320" y="3780000"/>
                    <a:ext cx="0" cy="197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251120" y="392868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535520" y="3878640"/>
                    <a:ext cx="2365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9" name=""/>
                <p:cNvGrpSpPr/>
                <p:nvPr/>
              </p:nvGrpSpPr>
              <p:grpSpPr>
                <a:xfrm>
                  <a:off x="7574760" y="3516120"/>
                  <a:ext cx="531000" cy="197280"/>
                  <a:chOff x="7574760" y="3516120"/>
                  <a:chExt cx="531000" cy="197280"/>
                </a:xfrm>
              </p:grpSpPr>
              <p:sp>
                <p:nvSpPr>
                  <p:cNvPr id="880" name=""/>
                  <p:cNvSpPr/>
                  <p:nvPr/>
                </p:nvSpPr>
                <p:spPr>
                  <a:xfrm>
                    <a:off x="7574760" y="351720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574760" y="3516120"/>
                    <a:ext cx="392400" cy="196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769880" y="35164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681680" y="357552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681680" y="366336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7966800" y="3614400"/>
                    <a:ext cx="1389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576920" y="3819600"/>
                  <a:ext cx="530640" cy="196200"/>
                  <a:chOff x="7576920" y="3819600"/>
                  <a:chExt cx="530640" cy="19620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7576920" y="3820680"/>
                    <a:ext cx="392400" cy="194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7576920" y="3821040"/>
                    <a:ext cx="3924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7772040" y="381960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7683840" y="3966840"/>
                    <a:ext cx="88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7967880" y="3918240"/>
                    <a:ext cx="139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7122240" y="4216680"/>
                  <a:ext cx="391680" cy="196200"/>
                  <a:chOff x="7122240" y="4216680"/>
                  <a:chExt cx="391680" cy="19620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7122240" y="4218120"/>
                    <a:ext cx="39168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7317000" y="421668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7228440" y="427608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7228440" y="43639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516800" y="4167720"/>
                  <a:ext cx="558360" cy="196200"/>
                  <a:chOff x="7516800" y="4167720"/>
                  <a:chExt cx="55836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39" y="0"/>
                        </a:moveTo>
                        <a:arcTo wR="10800" hR="10800" stAng="-5419259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39" y="0"/>
                        </a:moveTo>
                        <a:arcTo wR="10800" hR="10800" stAng="-5419259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7548120" y="4169160"/>
                    <a:ext cx="38880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192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19259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7741440" y="4167720"/>
                    <a:ext cx="0" cy="196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7652520" y="4227120"/>
                    <a:ext cx="88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516800" y="4314960"/>
                    <a:ext cx="224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7937280" y="4266360"/>
                    <a:ext cx="1378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905" name=""/>
          <p:cNvGrpSpPr/>
          <p:nvPr/>
        </p:nvGrpSpPr>
        <p:grpSpPr>
          <a:xfrm>
            <a:off x="1471680" y="3645000"/>
            <a:ext cx="6143400" cy="2763720"/>
            <a:chOff x="1471680" y="3645000"/>
            <a:chExt cx="6143400" cy="2763720"/>
          </a:xfrm>
        </p:grpSpPr>
        <p:pic>
          <p:nvPicPr>
            <p:cNvPr id="906" name="" descr=""/>
            <p:cNvPicPr/>
            <p:nvPr/>
          </p:nvPicPr>
          <p:blipFill>
            <a:blip r:embed="rId1"/>
            <a:stretch/>
          </p:blipFill>
          <p:spPr>
            <a:xfrm>
              <a:off x="2575080" y="3645000"/>
              <a:ext cx="3778200" cy="276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2"/>
            <a:stretch/>
          </p:blipFill>
          <p:spPr>
            <a:xfrm>
              <a:off x="3097080" y="5213160"/>
              <a:ext cx="1992600" cy="8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3"/>
            <a:stretch/>
          </p:blipFill>
          <p:spPr>
            <a:xfrm>
              <a:off x="2492280" y="4491000"/>
              <a:ext cx="1746360" cy="13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4"/>
            <a:stretch/>
          </p:blipFill>
          <p:spPr>
            <a:xfrm>
              <a:off x="6006960" y="3867120"/>
              <a:ext cx="160812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5"/>
            <a:stretch/>
          </p:blipFill>
          <p:spPr>
            <a:xfrm>
              <a:off x="5213520" y="5106960"/>
              <a:ext cx="166356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6"/>
            <a:stretch/>
          </p:blipFill>
          <p:spPr>
            <a:xfrm>
              <a:off x="1471680" y="4290840"/>
              <a:ext cx="1409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"/>
          <p:cNvSpPr/>
          <p:nvPr/>
        </p:nvSpPr>
        <p:spPr>
          <a:xfrm>
            <a:off x="8410680" y="3041640"/>
            <a:ext cx="2156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gate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ements in the design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rtion-based verification = “Smart Verific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944640" y="2793960"/>
            <a:ext cx="7310160" cy="1077480"/>
            <a:chOff x="944640" y="2793960"/>
            <a:chExt cx="7310160" cy="1077480"/>
          </a:xfrm>
        </p:grpSpPr>
        <p:sp>
          <p:nvSpPr>
            <p:cNvPr id="916" name=""/>
            <p:cNvSpPr/>
            <p:nvPr/>
          </p:nvSpPr>
          <p:spPr>
            <a:xfrm>
              <a:off x="3073680" y="2793960"/>
              <a:ext cx="5181120" cy="72432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18360" tIns="13716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  <a:ea typeface="MS PGothic"/>
                </a:rPr>
                <a:t>assert property (@(posedge clk) $rose(req)|-&gt; ##[1:3] $rose(ack)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44640" y="2800800"/>
              <a:ext cx="1673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66"/>
                  </a:solidFill>
                  <a:latin typeface="Arial"/>
                </a:rPr>
                <a:t>Asse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18" name=""/>
            <p:cNvCxnSpPr>
              <a:stCxn id="919" idx="0"/>
              <a:endCxn id="916" idx="1"/>
            </p:cNvCxnSpPr>
            <p:nvPr/>
          </p:nvCxnSpPr>
          <p:spPr>
            <a:xfrm flipH="1" flipV="1" rot="5400000">
              <a:off x="2076480" y="2874600"/>
              <a:ext cx="716400" cy="127800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20" name=""/>
          <p:cNvGrpSpPr/>
          <p:nvPr/>
        </p:nvGrpSpPr>
        <p:grpSpPr>
          <a:xfrm>
            <a:off x="644400" y="3673440"/>
            <a:ext cx="7610760" cy="3184560"/>
            <a:chOff x="644400" y="3673440"/>
            <a:chExt cx="7610760" cy="3184560"/>
          </a:xfrm>
        </p:grpSpPr>
        <p:sp>
          <p:nvSpPr>
            <p:cNvPr id="921" name=""/>
            <p:cNvSpPr/>
            <p:nvPr/>
          </p:nvSpPr>
          <p:spPr>
            <a:xfrm>
              <a:off x="3075120" y="3673440"/>
              <a:ext cx="5180040" cy="3184560"/>
            </a:xfrm>
            <a:prstGeom prst="foldedCorner">
              <a:avLst>
                <a:gd name="adj" fmla="val 125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lways @(posedge re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1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fork: pos_p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@(posedge ac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Success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be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repeat (2) @(posedge clk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$display("Assertion Failure",$time)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isable pos_pos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jo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nd // alw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4400" y="5827680"/>
              <a:ext cx="14493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ld w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3" name=""/>
            <p:cNvCxnSpPr/>
            <p:nvPr/>
          </p:nvCxnSpPr>
          <p:spPr>
            <a:xfrm flipH="1" rot="16200000">
              <a:off x="1987560" y="5432040"/>
              <a:ext cx="891360" cy="1285200"/>
            </a:xfrm>
            <a:prstGeom prst="bentConnector2">
              <a:avLst/>
            </a:prstGeom>
            <a:ln w="76320">
              <a:solidFill>
                <a:srgbClr val="cccce6"/>
              </a:solidFill>
              <a:miter/>
              <a:tailEnd len="med" type="triangle" w="med"/>
            </a:ln>
          </p:spPr>
        </p:cxnSp>
      </p:grpSp>
      <p:grpSp>
        <p:nvGrpSpPr>
          <p:cNvPr id="924" name=""/>
          <p:cNvGrpSpPr/>
          <p:nvPr/>
        </p:nvGrpSpPr>
        <p:grpSpPr>
          <a:xfrm>
            <a:off x="582840" y="3871800"/>
            <a:ext cx="2439360" cy="1793880"/>
            <a:chOff x="582840" y="3871800"/>
            <a:chExt cx="2439360" cy="1793880"/>
          </a:xfrm>
        </p:grpSpPr>
        <p:sp>
          <p:nvSpPr>
            <p:cNvPr id="919" name=""/>
            <p:cNvSpPr/>
            <p:nvPr/>
          </p:nvSpPr>
          <p:spPr>
            <a:xfrm>
              <a:off x="590040" y="3871800"/>
              <a:ext cx="2412720" cy="1757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2840" y="4399560"/>
              <a:ext cx="4258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110240" y="4007160"/>
              <a:ext cx="191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6720"/>
                  <a:tab algn="l" pos="1238400"/>
                  <a:tab algn="l" pos="1905120"/>
                  <a:tab algn="l" pos="2476440"/>
                  <a:tab algn="l" pos="3143160"/>
                  <a:tab algn="l" pos="3714840"/>
                  <a:tab algn="l" pos="4381560"/>
                  <a:tab algn="l" pos="4952880"/>
                  <a:tab algn="l" pos="5524560"/>
                  <a:tab algn="l" pos="6095880"/>
                  <a:tab algn="l" pos="6191280"/>
                  <a:tab algn="l" pos="66675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   1    2    3   4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38680" y="5214960"/>
              <a:ext cx="47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53120" y="4944600"/>
              <a:ext cx="124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9" name=""/>
            <p:cNvGrpSpPr/>
            <p:nvPr/>
          </p:nvGrpSpPr>
          <p:grpSpPr>
            <a:xfrm>
              <a:off x="1138680" y="4336560"/>
              <a:ext cx="1763640" cy="1081080"/>
              <a:chOff x="1138680" y="4336560"/>
              <a:chExt cx="1763640" cy="1081080"/>
            </a:xfrm>
          </p:grpSpPr>
          <p:sp>
            <p:nvSpPr>
              <p:cNvPr id="930" name=""/>
              <p:cNvSpPr/>
              <p:nvPr/>
            </p:nvSpPr>
            <p:spPr>
              <a:xfrm>
                <a:off x="113868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432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26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020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31444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60856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02320" y="4336560"/>
                <a:ext cx="0" cy="10810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1152000" y="474192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360080" y="4471560"/>
              <a:ext cx="154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1360080" y="4471200"/>
              <a:ext cx="0" cy="27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161604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V="1">
              <a:off x="1910520" y="4944600"/>
              <a:ext cx="3672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2204280" y="4944600"/>
              <a:ext cx="37080" cy="27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616040" y="5214960"/>
              <a:ext cx="58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360080" y="4657320"/>
              <a:ext cx="539640" cy="388440"/>
            </a:xfrm>
            <a:custGeom>
              <a:avLst/>
              <a:gdLst/>
              <a:ahLst/>
              <a:rect l="l" t="t" r="r" b="b"/>
              <a:pathLst>
                <a:path w="184" h="276">
                  <a:moveTo>
                    <a:pt x="0" y="0"/>
                  </a:moveTo>
                  <a:cubicBezTo>
                    <a:pt x="24" y="13"/>
                    <a:pt x="49" y="26"/>
                    <a:pt x="80" y="72"/>
                  </a:cubicBezTo>
                  <a:cubicBezTo>
                    <a:pt x="111" y="118"/>
                    <a:pt x="147" y="197"/>
                    <a:pt x="184" y="2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0920" y="5358600"/>
              <a:ext cx="23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ntended behav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"/>
          <p:cNvGrpSpPr/>
          <p:nvPr/>
        </p:nvGrpSpPr>
        <p:grpSpPr>
          <a:xfrm>
            <a:off x="6830280" y="3083040"/>
            <a:ext cx="1441440" cy="1196280"/>
            <a:chOff x="6830280" y="3083040"/>
            <a:chExt cx="1441440" cy="1196280"/>
          </a:xfrm>
        </p:grpSpPr>
        <p:grpSp>
          <p:nvGrpSpPr>
            <p:cNvPr id="947" name=""/>
            <p:cNvGrpSpPr/>
            <p:nvPr/>
          </p:nvGrpSpPr>
          <p:grpSpPr>
            <a:xfrm>
              <a:off x="6830280" y="3384000"/>
              <a:ext cx="404640" cy="261720"/>
              <a:chOff x="6830280" y="3384000"/>
              <a:chExt cx="404640" cy="261720"/>
            </a:xfrm>
          </p:grpSpPr>
          <p:sp>
            <p:nvSpPr>
              <p:cNvPr id="948" name=""/>
              <p:cNvSpPr/>
              <p:nvPr/>
            </p:nvSpPr>
            <p:spPr>
              <a:xfrm>
                <a:off x="6830280" y="338544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0280" y="33858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31520" y="33840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40440" y="3462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40440" y="35809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7233840" y="3434400"/>
              <a:ext cx="690840" cy="266040"/>
              <a:chOff x="7233840" y="3434400"/>
              <a:chExt cx="690840" cy="266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233840" y="351612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78840" y="343656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78840" y="3434400"/>
                <a:ext cx="4010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78280" y="3435120"/>
                <a:ext cx="0" cy="26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386840" y="36338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80240" y="356652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7721640" y="3083040"/>
              <a:ext cx="548640" cy="262440"/>
              <a:chOff x="7721640" y="3083040"/>
              <a:chExt cx="548640" cy="262440"/>
            </a:xfrm>
          </p:grpSpPr>
          <p:sp>
            <p:nvSpPr>
              <p:cNvPr id="961" name=""/>
              <p:cNvSpPr/>
              <p:nvPr/>
            </p:nvSpPr>
            <p:spPr>
              <a:xfrm>
                <a:off x="7721640" y="30841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721640" y="30830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923240" y="308304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832160" y="3162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832160" y="32792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26640" y="321372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7723440" y="3487680"/>
              <a:ext cx="548280" cy="261720"/>
              <a:chOff x="7723440" y="3487680"/>
              <a:chExt cx="548280" cy="261720"/>
            </a:xfrm>
          </p:grpSpPr>
          <p:sp>
            <p:nvSpPr>
              <p:cNvPr id="968" name=""/>
              <p:cNvSpPr/>
              <p:nvPr/>
            </p:nvSpPr>
            <p:spPr>
              <a:xfrm>
                <a:off x="7723440" y="348912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23440" y="348948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925040" y="34876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833960" y="36846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127360" y="361944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7254360" y="4017600"/>
              <a:ext cx="404640" cy="261720"/>
              <a:chOff x="7254360" y="4017600"/>
              <a:chExt cx="404640" cy="261720"/>
            </a:xfrm>
          </p:grpSpPr>
          <p:sp>
            <p:nvSpPr>
              <p:cNvPr id="974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254360" y="401940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455600" y="401760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364160" y="40968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64160" y="42145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661880" y="3952440"/>
              <a:ext cx="576360" cy="261720"/>
              <a:chOff x="7661880" y="3952440"/>
              <a:chExt cx="576360" cy="261720"/>
            </a:xfrm>
          </p:grpSpPr>
          <p:sp>
            <p:nvSpPr>
              <p:cNvPr id="980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694280" y="395424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93720" y="395244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01920" y="403164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661880" y="414936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096040" y="408420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Ensure the modifications will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ak the whole thing to make it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(speed), smaller (area), less battery (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ay to figure it out with pencil and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EDA tools! 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esign Compiler, Power Compiler, Physical Compi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678240" y="3182760"/>
            <a:ext cx="2158200" cy="1051200"/>
            <a:chOff x="678240" y="3182760"/>
            <a:chExt cx="2158200" cy="1051200"/>
          </a:xfrm>
        </p:grpSpPr>
        <p:grpSp>
          <p:nvGrpSpPr>
            <p:cNvPr id="989" name=""/>
            <p:cNvGrpSpPr/>
            <p:nvPr/>
          </p:nvGrpSpPr>
          <p:grpSpPr>
            <a:xfrm>
              <a:off x="2289960" y="3921840"/>
              <a:ext cx="546480" cy="262440"/>
              <a:chOff x="2289960" y="3921840"/>
              <a:chExt cx="546480" cy="262440"/>
            </a:xfrm>
          </p:grpSpPr>
          <p:sp>
            <p:nvSpPr>
              <p:cNvPr id="990" name=""/>
              <p:cNvSpPr/>
              <p:nvPr/>
            </p:nvSpPr>
            <p:spPr>
              <a:xfrm>
                <a:off x="228996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28996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49084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40012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40012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69316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896760" y="3576960"/>
              <a:ext cx="405360" cy="261720"/>
              <a:chOff x="896760" y="3576960"/>
              <a:chExt cx="405360" cy="261720"/>
            </a:xfrm>
          </p:grpSpPr>
          <p:sp>
            <p:nvSpPr>
              <p:cNvPr id="997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9676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9836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00728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00728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841680" y="3971520"/>
              <a:ext cx="548280" cy="262440"/>
              <a:chOff x="841680" y="3971520"/>
              <a:chExt cx="548280" cy="262440"/>
            </a:xfrm>
          </p:grpSpPr>
          <p:sp>
            <p:nvSpPr>
              <p:cNvPr id="1003" name=""/>
              <p:cNvSpPr/>
              <p:nvPr/>
            </p:nvSpPr>
            <p:spPr>
              <a:xfrm>
                <a:off x="84168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4168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04328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5256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5256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24632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678240" y="3182760"/>
              <a:ext cx="548280" cy="262440"/>
              <a:chOff x="678240" y="3182760"/>
              <a:chExt cx="548280" cy="262440"/>
            </a:xfrm>
          </p:grpSpPr>
          <p:sp>
            <p:nvSpPr>
              <p:cNvPr id="1010" name=""/>
              <p:cNvSpPr/>
              <p:nvPr/>
            </p:nvSpPr>
            <p:spPr>
              <a:xfrm>
                <a:off x="67824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7824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7984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8912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8912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8288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1304280" y="3509640"/>
              <a:ext cx="429840" cy="266040"/>
              <a:chOff x="1304280" y="3509640"/>
              <a:chExt cx="429840" cy="266040"/>
            </a:xfrm>
          </p:grpSpPr>
          <p:sp>
            <p:nvSpPr>
              <p:cNvPr id="1017" name=""/>
              <p:cNvSpPr/>
              <p:nvPr/>
            </p:nvSpPr>
            <p:spPr>
              <a:xfrm>
                <a:off x="135468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35468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4476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45872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30428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1742400" y="3447000"/>
              <a:ext cx="405720" cy="265320"/>
              <a:chOff x="1742400" y="3447000"/>
              <a:chExt cx="405720" cy="265320"/>
            </a:xfrm>
          </p:grpSpPr>
          <p:sp>
            <p:nvSpPr>
              <p:cNvPr id="1023" name=""/>
              <p:cNvSpPr/>
              <p:nvPr/>
            </p:nvSpPr>
            <p:spPr>
              <a:xfrm>
                <a:off x="176796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6796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95840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87236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74240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2148840" y="3499560"/>
              <a:ext cx="574560" cy="261720"/>
              <a:chOff x="2148840" y="3499560"/>
              <a:chExt cx="574560" cy="261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214884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20968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39976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31372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58948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4553280" y="3182760"/>
            <a:ext cx="2158200" cy="1051200"/>
            <a:chOff x="4553280" y="3182760"/>
            <a:chExt cx="2158200" cy="1051200"/>
          </a:xfrm>
        </p:grpSpPr>
        <p:grpSp>
          <p:nvGrpSpPr>
            <p:cNvPr id="1036" name=""/>
            <p:cNvGrpSpPr/>
            <p:nvPr/>
          </p:nvGrpSpPr>
          <p:grpSpPr>
            <a:xfrm>
              <a:off x="6165000" y="3921840"/>
              <a:ext cx="546480" cy="262440"/>
              <a:chOff x="6165000" y="3921840"/>
              <a:chExt cx="546480" cy="262440"/>
            </a:xfrm>
          </p:grpSpPr>
          <p:sp>
            <p:nvSpPr>
              <p:cNvPr id="1037" name=""/>
              <p:cNvSpPr/>
              <p:nvPr/>
            </p:nvSpPr>
            <p:spPr>
              <a:xfrm>
                <a:off x="6165000" y="392292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165000" y="3922200"/>
                <a:ext cx="40392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65880" y="392184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75160" y="400068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275160" y="411840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68200" y="4052880"/>
                <a:ext cx="1432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4771800" y="3576960"/>
              <a:ext cx="405360" cy="261720"/>
              <a:chOff x="4771800" y="3576960"/>
              <a:chExt cx="405360" cy="2617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71800" y="357876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3400" y="35769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882320" y="365616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882320" y="3773880"/>
                <a:ext cx="910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4716720" y="3971520"/>
              <a:ext cx="548280" cy="262440"/>
              <a:chOff x="4716720" y="3971520"/>
              <a:chExt cx="548280" cy="262440"/>
            </a:xfrm>
          </p:grpSpPr>
          <p:sp>
            <p:nvSpPr>
              <p:cNvPr id="1050" name=""/>
              <p:cNvSpPr/>
              <p:nvPr/>
            </p:nvSpPr>
            <p:spPr>
              <a:xfrm>
                <a:off x="4716720" y="397260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16720" y="397152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918320" y="397152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827600" y="4050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827600" y="416772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121360" y="410220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553280" y="3182760"/>
              <a:ext cx="548280" cy="262440"/>
              <a:chOff x="4553280" y="3182760"/>
              <a:chExt cx="548280" cy="2624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553280" y="318384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53280" y="31827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754880" y="3182760"/>
                <a:ext cx="0" cy="26208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64160" y="3261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664160" y="3378960"/>
                <a:ext cx="907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957920" y="3313440"/>
                <a:ext cx="1436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5179320" y="3509640"/>
              <a:ext cx="429840" cy="266040"/>
              <a:chOff x="5179320" y="3509640"/>
              <a:chExt cx="429840" cy="266040"/>
            </a:xfrm>
          </p:grpSpPr>
          <p:sp>
            <p:nvSpPr>
              <p:cNvPr id="1064" name=""/>
              <p:cNvSpPr/>
              <p:nvPr/>
            </p:nvSpPr>
            <p:spPr>
              <a:xfrm>
                <a:off x="5229720" y="351180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229720" y="3509640"/>
                <a:ext cx="37944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19800" y="351036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33760" y="359064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179320" y="3709080"/>
                <a:ext cx="240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5617440" y="3447000"/>
              <a:ext cx="405720" cy="265320"/>
              <a:chOff x="5617440" y="3447000"/>
              <a:chExt cx="405720" cy="265320"/>
            </a:xfrm>
          </p:grpSpPr>
          <p:sp>
            <p:nvSpPr>
              <p:cNvPr id="1070" name=""/>
              <p:cNvSpPr/>
              <p:nvPr/>
            </p:nvSpPr>
            <p:spPr>
              <a:xfrm>
                <a:off x="5643000" y="3448440"/>
                <a:ext cx="380160" cy="263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643000" y="3447720"/>
                <a:ext cx="380160" cy="26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33440" y="3447000"/>
                <a:ext cx="0" cy="2635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747400" y="352800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617440" y="3645720"/>
                <a:ext cx="21600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6023880" y="3499560"/>
              <a:ext cx="574560" cy="261720"/>
              <a:chOff x="6023880" y="3499560"/>
              <a:chExt cx="574560" cy="261720"/>
            </a:xfrm>
          </p:grpSpPr>
          <p:sp>
            <p:nvSpPr>
              <p:cNvPr id="1076" name=""/>
              <p:cNvSpPr/>
              <p:nvPr/>
            </p:nvSpPr>
            <p:spPr>
              <a:xfrm>
                <a:off x="6023880" y="3578760"/>
                <a:ext cx="24948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6" y="0"/>
                    </a:moveTo>
                    <a:arcTo wR="10800" hR="10800" stAng="-5420523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6" y="0"/>
                    </a:moveTo>
                    <a:arcTo wR="10800" hR="10800" stAng="-5420523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84720" y="3501360"/>
                <a:ext cx="3794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20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20523"/>
                  </a:path>
                </a:pathLst>
              </a:custGeom>
              <a:noFill/>
              <a:ln cap="rnd"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74800" y="3499560"/>
                <a:ext cx="0" cy="26172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88760" y="3696480"/>
                <a:ext cx="8604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64520" y="3631320"/>
                <a:ext cx="133920" cy="0"/>
              </a:xfrm>
              <a:prstGeom prst="line">
                <a:avLst/>
              </a:prstGeom>
              <a:ln w="25560">
                <a:solidFill>
                  <a:srgbClr val="00e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676440" y="4294080"/>
            <a:ext cx="57052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it’s still the same design 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mal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Torino Outline"/>
              </a:rPr>
              <a:t>example: Form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6477120" y="4648320"/>
            <a:ext cx="2209680" cy="1523880"/>
            <a:chOff x="6477120" y="4648320"/>
            <a:chExt cx="2209680" cy="1523880"/>
          </a:xfrm>
        </p:grpSpPr>
        <p:pic>
          <p:nvPicPr>
            <p:cNvPr id="1084" name="" descr=""/>
            <p:cNvPicPr/>
            <p:nvPr/>
          </p:nvPicPr>
          <p:blipFill>
            <a:blip r:embed="rId1"/>
            <a:stretch/>
          </p:blipFill>
          <p:spPr>
            <a:xfrm>
              <a:off x="797256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722484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6" name="" descr=""/>
            <p:cNvPicPr/>
            <p:nvPr/>
          </p:nvPicPr>
          <p:blipFill>
            <a:blip r:embed="rId3"/>
            <a:stretch/>
          </p:blipFill>
          <p:spPr>
            <a:xfrm>
              <a:off x="6477120" y="571500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7" name="" descr=""/>
            <p:cNvPicPr/>
            <p:nvPr/>
          </p:nvPicPr>
          <p:blipFill>
            <a:blip r:embed="rId4"/>
            <a:stretch/>
          </p:blipFill>
          <p:spPr>
            <a:xfrm>
              <a:off x="797256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" descr=""/>
            <p:cNvPicPr/>
            <p:nvPr/>
          </p:nvPicPr>
          <p:blipFill>
            <a:blip r:embed="rId5"/>
            <a:stretch/>
          </p:blipFill>
          <p:spPr>
            <a:xfrm>
              <a:off x="722484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9" name="" descr=""/>
            <p:cNvPicPr/>
            <p:nvPr/>
          </p:nvPicPr>
          <p:blipFill>
            <a:blip r:embed="rId6"/>
            <a:stretch/>
          </p:blipFill>
          <p:spPr>
            <a:xfrm>
              <a:off x="6477120" y="518148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0" name="" descr=""/>
            <p:cNvPicPr/>
            <p:nvPr/>
          </p:nvPicPr>
          <p:blipFill>
            <a:blip r:embed="rId7"/>
            <a:stretch/>
          </p:blipFill>
          <p:spPr>
            <a:xfrm>
              <a:off x="797256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1" name="" descr=""/>
            <p:cNvPicPr/>
            <p:nvPr/>
          </p:nvPicPr>
          <p:blipFill>
            <a:blip r:embed="rId8"/>
            <a:stretch/>
          </p:blipFill>
          <p:spPr>
            <a:xfrm>
              <a:off x="722484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2" name="" descr=""/>
            <p:cNvPicPr/>
            <p:nvPr/>
          </p:nvPicPr>
          <p:blipFill>
            <a:blip r:embed="rId9"/>
            <a:stretch/>
          </p:blipFill>
          <p:spPr>
            <a:xfrm>
              <a:off x="6477120" y="4648320"/>
              <a:ext cx="7142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3" name=""/>
          <p:cNvGrpSpPr/>
          <p:nvPr/>
        </p:nvGrpSpPr>
        <p:grpSpPr>
          <a:xfrm>
            <a:off x="2993400" y="3287880"/>
            <a:ext cx="1441440" cy="1195920"/>
            <a:chOff x="2993400" y="3287880"/>
            <a:chExt cx="1441440" cy="1195920"/>
          </a:xfrm>
        </p:grpSpPr>
        <p:grpSp>
          <p:nvGrpSpPr>
            <p:cNvPr id="1094" name=""/>
            <p:cNvGrpSpPr/>
            <p:nvPr/>
          </p:nvGrpSpPr>
          <p:grpSpPr>
            <a:xfrm>
              <a:off x="2993400" y="3588480"/>
              <a:ext cx="404640" cy="261720"/>
              <a:chOff x="2993400" y="3588480"/>
              <a:chExt cx="404640" cy="261720"/>
            </a:xfrm>
          </p:grpSpPr>
          <p:sp>
            <p:nvSpPr>
              <p:cNvPr id="1095" name=""/>
              <p:cNvSpPr/>
              <p:nvPr/>
            </p:nvSpPr>
            <p:spPr>
              <a:xfrm>
                <a:off x="2993400" y="3589920"/>
                <a:ext cx="40464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93400" y="35902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194640" y="35884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103560" y="366732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103560" y="378540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396960" y="3639240"/>
              <a:ext cx="690840" cy="264960"/>
              <a:chOff x="3396960" y="3639240"/>
              <a:chExt cx="690840" cy="264960"/>
            </a:xfrm>
          </p:grpSpPr>
          <p:sp>
            <p:nvSpPr>
              <p:cNvPr id="1101" name=""/>
              <p:cNvSpPr/>
              <p:nvPr/>
            </p:nvSpPr>
            <p:spPr>
              <a:xfrm>
                <a:off x="3396960" y="3720240"/>
                <a:ext cx="224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441960" y="36410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441960" y="3639240"/>
                <a:ext cx="401040" cy="26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641400" y="3639600"/>
                <a:ext cx="0" cy="26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549960" y="383796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843360" y="3771000"/>
                <a:ext cx="244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3884760" y="3287880"/>
              <a:ext cx="548640" cy="262440"/>
              <a:chOff x="3884760" y="3287880"/>
              <a:chExt cx="548640" cy="262440"/>
            </a:xfrm>
          </p:grpSpPr>
          <p:sp>
            <p:nvSpPr>
              <p:cNvPr id="1108" name=""/>
              <p:cNvSpPr/>
              <p:nvPr/>
            </p:nvSpPr>
            <p:spPr>
              <a:xfrm>
                <a:off x="3884760" y="328896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884760" y="3287880"/>
                <a:ext cx="405360" cy="26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086360" y="3287880"/>
                <a:ext cx="0" cy="262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995280" y="3367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995280" y="348408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289760" y="3418560"/>
                <a:ext cx="14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3886560" y="3692520"/>
              <a:ext cx="548280" cy="261720"/>
              <a:chOff x="3886560" y="3692520"/>
              <a:chExt cx="548280" cy="261720"/>
            </a:xfrm>
          </p:grpSpPr>
          <p:sp>
            <p:nvSpPr>
              <p:cNvPr id="1115" name=""/>
              <p:cNvSpPr/>
              <p:nvPr/>
            </p:nvSpPr>
            <p:spPr>
              <a:xfrm>
                <a:off x="3886560" y="3693960"/>
                <a:ext cx="405360" cy="26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886560" y="3694320"/>
                <a:ext cx="40536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88160" y="36925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97080" y="3889440"/>
                <a:ext cx="91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290480" y="3824280"/>
                <a:ext cx="144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3417480" y="4222080"/>
              <a:ext cx="404640" cy="261720"/>
              <a:chOff x="3417480" y="4222080"/>
              <a:chExt cx="404640" cy="261720"/>
            </a:xfrm>
          </p:grpSpPr>
          <p:sp>
            <p:nvSpPr>
              <p:cNvPr id="1121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417480" y="4223880"/>
                <a:ext cx="4046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618720" y="422208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527280" y="430128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527280" y="441900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825000" y="4156920"/>
              <a:ext cx="576360" cy="261720"/>
              <a:chOff x="3825000" y="4156920"/>
              <a:chExt cx="576360" cy="261720"/>
            </a:xfrm>
          </p:grpSpPr>
          <p:sp>
            <p:nvSpPr>
              <p:cNvPr id="1127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39" y="0"/>
                    </a:moveTo>
                    <a:arcTo wR="10800" hR="10800" stAng="-5419259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39" y="0"/>
                    </a:moveTo>
                    <a:arcTo wR="10800" hR="10800" stAng="-5419259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857400" y="4158720"/>
                <a:ext cx="401040" cy="25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192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19259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056840" y="4156920"/>
                <a:ext cx="0" cy="261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965040" y="4236120"/>
                <a:ext cx="91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25000" y="4353840"/>
                <a:ext cx="231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259160" y="4288680"/>
                <a:ext cx="14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2614680" y="2749680"/>
            <a:ext cx="3178080" cy="3201480"/>
            <a:chOff x="2614680" y="2749680"/>
            <a:chExt cx="3178080" cy="3201480"/>
          </a:xfrm>
        </p:grpSpPr>
        <p:sp>
          <p:nvSpPr>
            <p:cNvPr id="1134" name=""/>
            <p:cNvSpPr/>
            <p:nvPr/>
          </p:nvSpPr>
          <p:spPr>
            <a:xfrm>
              <a:off x="2891880" y="5552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oorp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5" name=""/>
            <p:cNvGraphicFramePr/>
            <p:nvPr/>
          </p:nvGraphicFramePr>
          <p:xfrm>
            <a:off x="2614680" y="2749680"/>
            <a:ext cx="3178080" cy="27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14680" y="2749680"/>
                      <a:ext cx="3178080" cy="278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“Blueprint” your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lanning: create a “floorplan” so the gates will go where you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3"/>
          <a:stretch/>
        </p:blipFill>
        <p:spPr>
          <a:xfrm>
            <a:off x="5845320" y="4002120"/>
            <a:ext cx="241272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40" name=""/>
          <p:cNvGrpSpPr/>
          <p:nvPr/>
        </p:nvGrpSpPr>
        <p:grpSpPr>
          <a:xfrm>
            <a:off x="936720" y="4807080"/>
            <a:ext cx="525240" cy="552240"/>
            <a:chOff x="936720" y="4807080"/>
            <a:chExt cx="525240" cy="552240"/>
          </a:xfrm>
        </p:grpSpPr>
        <p:sp>
          <p:nvSpPr>
            <p:cNvPr id="1141" name=""/>
            <p:cNvSpPr/>
            <p:nvPr/>
          </p:nvSpPr>
          <p:spPr>
            <a:xfrm>
              <a:off x="1041480" y="4807080"/>
              <a:ext cx="328680" cy="5522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1041480" y="5238360"/>
              <a:ext cx="712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41480" y="5154480"/>
              <a:ext cx="7128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936720" y="52387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93672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5720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610360" y="5346360"/>
            <a:ext cx="535680" cy="445680"/>
            <a:chOff x="2610360" y="5346360"/>
            <a:chExt cx="535680" cy="445680"/>
          </a:xfrm>
        </p:grpSpPr>
        <p:sp>
          <p:nvSpPr>
            <p:cNvPr id="1148" name=""/>
            <p:cNvSpPr/>
            <p:nvPr/>
          </p:nvSpPr>
          <p:spPr>
            <a:xfrm>
              <a:off x="2610360" y="5346720"/>
              <a:ext cx="443160" cy="44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42720" y="5539320"/>
              <a:ext cx="45720" cy="468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88440" y="5562720"/>
              <a:ext cx="57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727360" y="545076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610360" y="5348160"/>
              <a:ext cx="443160" cy="44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2"/>
                  </a:moveTo>
                  <a:arcTo wR="10800" hR="10800" stAng="-104538" swAng="550453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2"/>
                  </a:moveTo>
                  <a:arcTo wR="10800" hR="10800" stAng="-104538" swAng="5504538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27360" y="5670720"/>
              <a:ext cx="1047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2832120" y="5346360"/>
              <a:ext cx="1800" cy="43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10000" y="4805280"/>
            <a:ext cx="477720" cy="445680"/>
            <a:chOff x="2610000" y="4805280"/>
            <a:chExt cx="477720" cy="445680"/>
          </a:xfrm>
        </p:grpSpPr>
        <p:sp>
          <p:nvSpPr>
            <p:cNvPr id="1156" name=""/>
            <p:cNvSpPr/>
            <p:nvPr/>
          </p:nvSpPr>
          <p:spPr>
            <a:xfrm>
              <a:off x="2727360" y="491328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741760" y="513252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28800" y="480708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29520" y="480528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10000" y="480708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10000" y="480636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043080" y="499752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3087720" y="5021280"/>
            <a:ext cx="58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4121280" y="5019840"/>
            <a:ext cx="525240" cy="591840"/>
            <a:chOff x="4121280" y="5019840"/>
            <a:chExt cx="525240" cy="591840"/>
          </a:xfrm>
        </p:grpSpPr>
        <p:sp>
          <p:nvSpPr>
            <p:cNvPr id="1165" name=""/>
            <p:cNvSpPr/>
            <p:nvPr/>
          </p:nvSpPr>
          <p:spPr>
            <a:xfrm>
              <a:off x="412128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26040" y="5019840"/>
              <a:ext cx="326880" cy="59184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4226040" y="5449680"/>
              <a:ext cx="69840" cy="7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26040" y="5365800"/>
              <a:ext cx="69840" cy="8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21280" y="5450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41760" y="5126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1766520" y="4806360"/>
            <a:ext cx="654480" cy="444600"/>
            <a:chOff x="1766520" y="4806360"/>
            <a:chExt cx="654480" cy="444600"/>
          </a:xfrm>
        </p:grpSpPr>
        <p:sp>
          <p:nvSpPr>
            <p:cNvPr id="1172" name=""/>
            <p:cNvSpPr/>
            <p:nvPr/>
          </p:nvSpPr>
          <p:spPr>
            <a:xfrm>
              <a:off x="1766520" y="4807080"/>
              <a:ext cx="4446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98520" y="4997520"/>
              <a:ext cx="4932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47840" y="5021280"/>
              <a:ext cx="5724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84240" y="4913280"/>
              <a:ext cx="1047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66520" y="4806360"/>
              <a:ext cx="44460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884240" y="5132520"/>
              <a:ext cx="10476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1989000" y="4806720"/>
              <a:ext cx="1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305080" y="5021280"/>
              <a:ext cx="115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3348000" y="4910040"/>
            <a:ext cx="539640" cy="447480"/>
            <a:chOff x="3348000" y="4910040"/>
            <a:chExt cx="539640" cy="447480"/>
          </a:xfrm>
        </p:grpSpPr>
        <p:sp>
          <p:nvSpPr>
            <p:cNvPr id="1181" name=""/>
            <p:cNvSpPr/>
            <p:nvPr/>
          </p:nvSpPr>
          <p:spPr>
            <a:xfrm>
              <a:off x="3348000" y="4910040"/>
              <a:ext cx="447480" cy="44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4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462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2880" y="5102280"/>
              <a:ext cx="47880" cy="475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30760" y="5126040"/>
              <a:ext cx="5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462480" y="5019480"/>
              <a:ext cx="1047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348360" y="4913280"/>
              <a:ext cx="44712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7160" y="523404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571920" y="4919760"/>
              <a:ext cx="32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83880" y="4365720"/>
            <a:ext cx="3115080" cy="1295280"/>
            <a:chOff x="983880" y="4365720"/>
            <a:chExt cx="3115080" cy="1295280"/>
          </a:xfrm>
        </p:grpSpPr>
        <p:sp>
          <p:nvSpPr>
            <p:cNvPr id="1189" name=""/>
            <p:cNvSpPr/>
            <p:nvPr/>
          </p:nvSpPr>
          <p:spPr>
            <a:xfrm>
              <a:off x="1438200" y="4902120"/>
              <a:ext cx="4222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2393640" y="4576680"/>
              <a:ext cx="3240" cy="8604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97240" y="4902120"/>
              <a:ext cx="31572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122640" y="5010120"/>
              <a:ext cx="316080" cy="3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388960" y="5438880"/>
              <a:ext cx="33156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2395440" y="4578480"/>
              <a:ext cx="309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063800" y="5661000"/>
              <a:ext cx="16603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983880" y="4365720"/>
              <a:ext cx="17226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10040" y="5551560"/>
              <a:ext cx="1429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3259080" y="5219280"/>
              <a:ext cx="0" cy="344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59080" y="5222880"/>
              <a:ext cx="20340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862440" y="5116320"/>
              <a:ext cx="236520" cy="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2584440" y="4268520"/>
            <a:ext cx="477720" cy="445680"/>
            <a:chOff x="2584440" y="4268520"/>
            <a:chExt cx="477720" cy="445680"/>
          </a:xfrm>
        </p:grpSpPr>
        <p:sp>
          <p:nvSpPr>
            <p:cNvPr id="1202" name=""/>
            <p:cNvSpPr/>
            <p:nvPr/>
          </p:nvSpPr>
          <p:spPr>
            <a:xfrm>
              <a:off x="2701800" y="4376520"/>
              <a:ext cx="2095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2716200" y="4595760"/>
              <a:ext cx="19044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03240" y="4270320"/>
              <a:ext cx="2203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25" y="21"/>
                  </a:moveTo>
                  <a:arcTo wR="10800" hR="10800" stAng="-5614938" swAng="54968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25" y="21"/>
                  </a:moveTo>
                  <a:arcTo wR="10800" hR="10800" stAng="-5614938" swAng="5496894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03960" y="4268520"/>
              <a:ext cx="219600" cy="44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4" y="10429"/>
                  </a:moveTo>
                  <a:arcTo wR="10800" hR="10800" stAng="-118044" swAng="57458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4" y="10429"/>
                  </a:moveTo>
                  <a:arcTo wR="10800" hR="10800" stAng="-118044" swAng="5745806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84440" y="4270320"/>
              <a:ext cx="4438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29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295063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84440" y="4269600"/>
              <a:ext cx="443880" cy="44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5" y="10470"/>
                  </a:moveTo>
                  <a:arcTo wR="10800" hR="10800" stAng="-104937" swAng="55049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5" y="10470"/>
                  </a:moveTo>
                  <a:arcTo wR="10800" hR="10800" stAng="-104937" swAng="5504937"/>
                </a:path>
              </a:pathLst>
            </a:cu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7520" y="4460760"/>
              <a:ext cx="44640" cy="4932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471600" y="2368440"/>
            <a:ext cx="804060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Pla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 gates on a “blueprint” a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6699"/>
                </a:solidFill>
                <a:latin typeface="Arial"/>
              </a:rPr>
              <a:t>Rout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hem together (also called “layout 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where the gates will be connected with wi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34080" y="5877000"/>
            <a:ext cx="835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28600" indent="11124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Jupiter-XT, Physical Compiler, IC Compiler, Ast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the connecting wires will change how fast the chip will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it again - Post-route (post-layout)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VCS, VCS-MX, NanoSim, HSP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288720" y="3884400"/>
            <a:ext cx="6819120" cy="2041200"/>
            <a:chOff x="288720" y="3884400"/>
            <a:chExt cx="6819120" cy="2041200"/>
          </a:xfrm>
        </p:grpSpPr>
        <p:grpSp>
          <p:nvGrpSpPr>
            <p:cNvPr id="1214" name=""/>
            <p:cNvGrpSpPr/>
            <p:nvPr/>
          </p:nvGrpSpPr>
          <p:grpSpPr>
            <a:xfrm>
              <a:off x="288720" y="3884400"/>
              <a:ext cx="2008080" cy="864360"/>
              <a:chOff x="288720" y="3884400"/>
              <a:chExt cx="2008080" cy="86436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1788120" y="4492440"/>
                <a:ext cx="508680" cy="215640"/>
                <a:chOff x="1788120" y="4492440"/>
                <a:chExt cx="508680" cy="2156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1788120" y="44931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1788120" y="4492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975320" y="44924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891080" y="45572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891080" y="46540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163600" y="46000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492480" y="4208760"/>
                <a:ext cx="376920" cy="215280"/>
                <a:chOff x="492480" y="4208760"/>
                <a:chExt cx="376920" cy="2152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492480" y="421020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92480" y="42105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80040" y="4208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95080" y="427392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95080" y="43704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440640" y="4532760"/>
                <a:ext cx="510480" cy="216000"/>
                <a:chOff x="440640" y="4532760"/>
                <a:chExt cx="510480" cy="21600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440640" y="45338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40640" y="453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628560" y="45331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43960" y="45979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43960" y="46944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17560" y="46404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288720" y="3884400"/>
                <a:ext cx="510480" cy="216000"/>
                <a:chOff x="288720" y="3884400"/>
                <a:chExt cx="510480" cy="2160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288720" y="38854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88720" y="388440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76640" y="388476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392040" y="39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392040" y="40460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65640" y="399204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871560" y="4153680"/>
                <a:ext cx="399960" cy="217800"/>
                <a:chOff x="871560" y="4153680"/>
                <a:chExt cx="399960" cy="21780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918360" y="415512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918360" y="41536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95480" y="41540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015200" y="421992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71560" y="431712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1279080" y="4101840"/>
                <a:ext cx="377280" cy="217440"/>
                <a:chOff x="1279080" y="4101840"/>
                <a:chExt cx="377280" cy="21744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1302480" y="410292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02480" y="410220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479960" y="410184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399680" y="4168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279080" y="426492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1657440" y="4145040"/>
                <a:ext cx="534600" cy="215280"/>
                <a:chOff x="1657440" y="4145040"/>
                <a:chExt cx="534600" cy="2152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657440" y="421020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713960" y="414648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1713960" y="41468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891080" y="4145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810800" y="43066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2067480" y="425340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1" name=""/>
            <p:cNvGrpSpPr/>
            <p:nvPr/>
          </p:nvGrpSpPr>
          <p:grpSpPr>
            <a:xfrm>
              <a:off x="5767200" y="3933720"/>
              <a:ext cx="1340640" cy="983880"/>
              <a:chOff x="5767200" y="3933720"/>
              <a:chExt cx="1340640" cy="98388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5767200" y="4181400"/>
                <a:ext cx="376200" cy="215280"/>
                <a:chOff x="5767200" y="4181400"/>
                <a:chExt cx="376200" cy="21528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5767200" y="4182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767200" y="4183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954400" y="4181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869440" y="424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869440" y="4343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6142320" y="4223160"/>
                <a:ext cx="642600" cy="217800"/>
                <a:chOff x="6142320" y="4223160"/>
                <a:chExt cx="642600" cy="21780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6142320" y="4289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6183720" y="4224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6183720" y="4223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6369480" y="4223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6284520" y="4386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557760" y="4331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6596280" y="3933720"/>
                <a:ext cx="510120" cy="216000"/>
                <a:chOff x="6596280" y="3933720"/>
                <a:chExt cx="510120" cy="21600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6596280" y="3934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6596280" y="3933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6783840" y="3934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6698880" y="3998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6698880" y="4095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972840" y="4041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6598080" y="4266720"/>
                <a:ext cx="509760" cy="215280"/>
                <a:chOff x="6598080" y="4266720"/>
                <a:chExt cx="509760" cy="2152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598080" y="4267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598080" y="4268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785640" y="4266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700680" y="442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6973560" y="4375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6161760" y="4702320"/>
                <a:ext cx="376200" cy="215280"/>
                <a:chOff x="6161760" y="4702320"/>
                <a:chExt cx="376200" cy="21528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6161760" y="4703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161760" y="4704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348960" y="470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263640" y="4767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6263640" y="4863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6540480" y="4648680"/>
                <a:ext cx="536400" cy="215280"/>
                <a:chOff x="6540480" y="4648680"/>
                <a:chExt cx="536400" cy="21528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6570720" y="4650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6570720" y="4650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6756480" y="4648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6670800" y="4713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6540480" y="4810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6944400" y="4757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1" name=""/>
            <p:cNvGrpSpPr/>
            <p:nvPr/>
          </p:nvGrpSpPr>
          <p:grpSpPr>
            <a:xfrm>
              <a:off x="1803960" y="4891680"/>
              <a:ext cx="2008080" cy="864360"/>
              <a:chOff x="1803960" y="4891680"/>
              <a:chExt cx="2008080" cy="864360"/>
            </a:xfrm>
          </p:grpSpPr>
          <p:grpSp>
            <p:nvGrpSpPr>
              <p:cNvPr id="1302" name=""/>
              <p:cNvGrpSpPr/>
              <p:nvPr/>
            </p:nvGrpSpPr>
            <p:grpSpPr>
              <a:xfrm>
                <a:off x="3303360" y="5499720"/>
                <a:ext cx="508680" cy="215640"/>
                <a:chOff x="3303360" y="5499720"/>
                <a:chExt cx="508680" cy="21564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303360" y="55004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303360" y="549972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490560" y="5499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406320" y="556452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3406320" y="566136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3678840" y="560736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"/>
              <p:cNvGrpSpPr/>
              <p:nvPr/>
            </p:nvGrpSpPr>
            <p:grpSpPr>
              <a:xfrm>
                <a:off x="2007720" y="5216040"/>
                <a:ext cx="376920" cy="215280"/>
                <a:chOff x="2007720" y="5216040"/>
                <a:chExt cx="376920" cy="215280"/>
              </a:xfrm>
            </p:grpSpPr>
            <p:sp>
              <p:nvSpPr>
                <p:cNvPr id="1310" name=""/>
                <p:cNvSpPr/>
                <p:nvPr/>
              </p:nvSpPr>
              <p:spPr>
                <a:xfrm>
                  <a:off x="2007720" y="521748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007720" y="521784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195280" y="5216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110320" y="5281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110320" y="53776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1955880" y="5540040"/>
                <a:ext cx="510480" cy="216000"/>
                <a:chOff x="1955880" y="5540040"/>
                <a:chExt cx="510480" cy="21600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1955880" y="554112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1955880" y="55400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143800" y="5540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059200" y="560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059200" y="57016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332800" y="56476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1803960" y="4891680"/>
                <a:ext cx="510480" cy="216000"/>
                <a:chOff x="1803960" y="4891680"/>
                <a:chExt cx="510480" cy="216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1803960" y="48927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3960" y="489168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91880" y="48920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907280" y="495684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907280" y="50533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80880" y="499932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2386800" y="5160960"/>
                <a:ext cx="399960" cy="217800"/>
                <a:chOff x="2386800" y="5160960"/>
                <a:chExt cx="399960" cy="21780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2433600" y="516240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433600" y="516096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610720" y="51613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30440" y="522720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386800" y="532440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2794320" y="5109120"/>
                <a:ext cx="377280" cy="217440"/>
                <a:chOff x="2794320" y="5109120"/>
                <a:chExt cx="377280" cy="21744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2817720" y="511020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817720" y="510948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995200" y="51091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914920" y="51753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794320" y="527220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3172680" y="5152320"/>
                <a:ext cx="534600" cy="215280"/>
                <a:chOff x="3172680" y="5152320"/>
                <a:chExt cx="534600" cy="21528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3172680" y="521748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3229200" y="515376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3229200" y="515412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406320" y="5152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3326040" y="531396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3582720" y="526068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8" name=""/>
            <p:cNvGrpSpPr/>
            <p:nvPr/>
          </p:nvGrpSpPr>
          <p:grpSpPr>
            <a:xfrm>
              <a:off x="4405320" y="4941720"/>
              <a:ext cx="1340640" cy="983880"/>
              <a:chOff x="4405320" y="4941720"/>
              <a:chExt cx="1340640" cy="98388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4405320" y="5189400"/>
                <a:ext cx="376200" cy="215280"/>
                <a:chOff x="4405320" y="5189400"/>
                <a:chExt cx="376200" cy="2152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4405320" y="519048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405320" y="519120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592520" y="51894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507560" y="5254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507560" y="535104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4780440" y="5231160"/>
                <a:ext cx="642600" cy="217800"/>
                <a:chOff x="4780440" y="5231160"/>
                <a:chExt cx="642600" cy="217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780440" y="529776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821840" y="523260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821840" y="5231160"/>
                  <a:ext cx="37332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5007600" y="523152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922640" y="53946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195880" y="5339520"/>
                  <a:ext cx="227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5234400" y="4941720"/>
                <a:ext cx="510120" cy="216000"/>
                <a:chOff x="5234400" y="4941720"/>
                <a:chExt cx="510120" cy="21600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5234400" y="494280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5234400" y="494172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5421960" y="49420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5337000" y="50068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5337000" y="5103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10960" y="504936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5236200" y="5274720"/>
                <a:ext cx="509760" cy="215280"/>
                <a:chOff x="5236200" y="5274720"/>
                <a:chExt cx="509760" cy="2152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5236200" y="527580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5236200" y="52765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5423760" y="52747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5338800" y="5436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5611680" y="538308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799880" y="5710320"/>
                <a:ext cx="376200" cy="215280"/>
                <a:chOff x="4799880" y="5710320"/>
                <a:chExt cx="376200" cy="21528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799880" y="571176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799880" y="5712120"/>
                  <a:ext cx="37620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987080" y="57103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901760" y="57754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901760" y="5871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5178600" y="5656680"/>
                <a:ext cx="536400" cy="215280"/>
                <a:chOff x="5178600" y="5656680"/>
                <a:chExt cx="536400" cy="21528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5208840" y="565812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5208840" y="5658480"/>
                  <a:ext cx="3733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394600" y="565668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308920" y="57218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5178600" y="581832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582520" y="576504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8" name=""/>
            <p:cNvSpPr/>
            <p:nvPr/>
          </p:nvSpPr>
          <p:spPr>
            <a:xfrm>
              <a:off x="2222280" y="4243320"/>
              <a:ext cx="367812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15560" y="5264280"/>
              <a:ext cx="838800" cy="0"/>
            </a:xfrm>
            <a:prstGeom prst="line">
              <a:avLst/>
            </a:prstGeom>
            <a:ln w="7632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Double-check your blue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"what you see is what you g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hat you designed to what's in your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out versus Schematic (LV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246640" y="4317480"/>
            <a:ext cx="3524040" cy="1992240"/>
            <a:chOff x="5246640" y="4317480"/>
            <a:chExt cx="3524040" cy="1992240"/>
          </a:xfrm>
        </p:grpSpPr>
        <p:grpSp>
          <p:nvGrpSpPr>
            <p:cNvPr id="1393" name=""/>
            <p:cNvGrpSpPr/>
            <p:nvPr/>
          </p:nvGrpSpPr>
          <p:grpSpPr>
            <a:xfrm>
              <a:off x="5246640" y="4363560"/>
              <a:ext cx="2008080" cy="864000"/>
              <a:chOff x="5246640" y="4363560"/>
              <a:chExt cx="2008080" cy="86400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6746040" y="4971240"/>
                <a:ext cx="508680" cy="215640"/>
                <a:chOff x="6746040" y="4971240"/>
                <a:chExt cx="508680" cy="215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746040" y="4971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746040" y="4971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933240" y="4971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849000" y="5036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849000" y="5132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21520" y="5078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449680" y="4687920"/>
                <a:ext cx="376920" cy="215280"/>
                <a:chOff x="5449680" y="4687920"/>
                <a:chExt cx="376920" cy="2152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5449680" y="4689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449680" y="4689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37240" y="4687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552640" y="4753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552640" y="4849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5398560" y="5011560"/>
                <a:ext cx="510480" cy="216000"/>
                <a:chOff x="5398560" y="5011560"/>
                <a:chExt cx="510480" cy="2160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5398560" y="5012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98560" y="5011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586480" y="501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501880" y="507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501880" y="517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775480" y="511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246640" y="4363560"/>
                <a:ext cx="510480" cy="216000"/>
                <a:chOff x="5246640" y="4363560"/>
                <a:chExt cx="510480" cy="2160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246640" y="436464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46640" y="4363560"/>
                  <a:ext cx="37764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434560" y="4363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349960" y="4428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349960" y="4525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5623560" y="4471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5829480" y="4632840"/>
                <a:ext cx="399960" cy="217800"/>
                <a:chOff x="5829480" y="4632840"/>
                <a:chExt cx="399960" cy="2178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5876280" y="4634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5876280" y="4632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6053400" y="4633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973120" y="4699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5829480" y="4796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6237000" y="4581000"/>
                <a:ext cx="377280" cy="217440"/>
                <a:chOff x="6237000" y="4581000"/>
                <a:chExt cx="377280" cy="21744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6260400" y="4582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6260400" y="4581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6437880" y="4581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6357600" y="4647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6237000" y="4744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6615000" y="4624200"/>
                <a:ext cx="534600" cy="215280"/>
                <a:chOff x="6615000" y="4624200"/>
                <a:chExt cx="534600" cy="2152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615000" y="4689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671520" y="4625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671520" y="4626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848640" y="4624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68360" y="4785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025040" y="4732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0" name=""/>
            <p:cNvGrpSpPr/>
            <p:nvPr/>
          </p:nvGrpSpPr>
          <p:grpSpPr>
            <a:xfrm>
              <a:off x="7067160" y="4317480"/>
              <a:ext cx="1341360" cy="984240"/>
              <a:chOff x="7067160" y="4317480"/>
              <a:chExt cx="1341360" cy="984240"/>
            </a:xfrm>
          </p:grpSpPr>
          <p:grpSp>
            <p:nvGrpSpPr>
              <p:cNvPr id="1441" name=""/>
              <p:cNvGrpSpPr/>
              <p:nvPr/>
            </p:nvGrpSpPr>
            <p:grpSpPr>
              <a:xfrm>
                <a:off x="7067160" y="4565160"/>
                <a:ext cx="376200" cy="215640"/>
                <a:chOff x="7067160" y="4565160"/>
                <a:chExt cx="376200" cy="21564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7067160" y="4566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067160" y="4566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254360" y="4565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69400" y="4629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69400" y="4727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7442640" y="4606920"/>
                <a:ext cx="643320" cy="217800"/>
                <a:chOff x="7442640" y="4606920"/>
                <a:chExt cx="643320" cy="21780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7442640" y="4673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484040" y="4608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484040" y="4606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70160" y="4607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585200" y="4770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858440" y="4715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896600" y="4317480"/>
                <a:ext cx="510120" cy="216720"/>
                <a:chOff x="7896600" y="4317480"/>
                <a:chExt cx="510120" cy="21672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896600" y="4318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896600" y="4317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8084160" y="4317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999200" y="4383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999200" y="4479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8273160" y="4425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1" name=""/>
              <p:cNvGrpSpPr/>
              <p:nvPr/>
            </p:nvGrpSpPr>
            <p:grpSpPr>
              <a:xfrm>
                <a:off x="7898760" y="4650480"/>
                <a:ext cx="509760" cy="215640"/>
                <a:chOff x="7898760" y="4650480"/>
                <a:chExt cx="509760" cy="215640"/>
              </a:xfrm>
            </p:grpSpPr>
            <p:sp>
              <p:nvSpPr>
                <p:cNvPr id="1462" name=""/>
                <p:cNvSpPr/>
                <p:nvPr/>
              </p:nvSpPr>
              <p:spPr>
                <a:xfrm>
                  <a:off x="7898760" y="4651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898760" y="4651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8086320" y="4650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8001360" y="4812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274240" y="4758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7" name=""/>
              <p:cNvGrpSpPr/>
              <p:nvPr/>
            </p:nvGrpSpPr>
            <p:grpSpPr>
              <a:xfrm>
                <a:off x="7461720" y="5086080"/>
                <a:ext cx="376200" cy="215640"/>
                <a:chOff x="7461720" y="5086080"/>
                <a:chExt cx="376200" cy="215640"/>
              </a:xfrm>
            </p:grpSpPr>
            <p:sp>
              <p:nvSpPr>
                <p:cNvPr id="1468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461720" y="5087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648920" y="5086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563600" y="5151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563600" y="5248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3" name=""/>
              <p:cNvGrpSpPr/>
              <p:nvPr/>
            </p:nvGrpSpPr>
            <p:grpSpPr>
              <a:xfrm>
                <a:off x="7840800" y="5032800"/>
                <a:ext cx="536400" cy="215640"/>
                <a:chOff x="7840800" y="5032800"/>
                <a:chExt cx="536400" cy="21564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871040" y="5034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056800" y="5032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971120" y="5097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840800" y="5194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8244720" y="5141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0" name=""/>
            <p:cNvGrpSpPr/>
            <p:nvPr/>
          </p:nvGrpSpPr>
          <p:grpSpPr>
            <a:xfrm>
              <a:off x="6763320" y="5371560"/>
              <a:ext cx="2007360" cy="864000"/>
              <a:chOff x="6763320" y="5371560"/>
              <a:chExt cx="2007360" cy="864000"/>
            </a:xfrm>
          </p:grpSpPr>
          <p:grpSp>
            <p:nvGrpSpPr>
              <p:cNvPr id="1481" name=""/>
              <p:cNvGrpSpPr/>
              <p:nvPr/>
            </p:nvGrpSpPr>
            <p:grpSpPr>
              <a:xfrm>
                <a:off x="8262000" y="5979240"/>
                <a:ext cx="508680" cy="215640"/>
                <a:chOff x="8262000" y="5979240"/>
                <a:chExt cx="508680" cy="21564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8262000" y="597996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262000" y="5979240"/>
                  <a:ext cx="37620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449200" y="597924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364960" y="604404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364960" y="6140880"/>
                  <a:ext cx="8424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637480" y="6086880"/>
                  <a:ext cx="133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6966000" y="5695920"/>
                <a:ext cx="376920" cy="215280"/>
                <a:chOff x="6966000" y="5695920"/>
                <a:chExt cx="376920" cy="2152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6966000" y="569736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6966000" y="5697720"/>
                  <a:ext cx="37692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153560" y="5695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68960" y="576108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068960" y="585756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6915240" y="6019560"/>
                <a:ext cx="509760" cy="216000"/>
                <a:chOff x="6915240" y="6019560"/>
                <a:chExt cx="509760" cy="2160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6915240" y="6020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915240" y="6019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102800" y="6019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18200" y="6084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018200" y="6181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291440" y="6127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6763320" y="5371560"/>
                <a:ext cx="509760" cy="216000"/>
                <a:chOff x="6763320" y="5371560"/>
                <a:chExt cx="509760" cy="21600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6763320" y="537264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763320" y="5371560"/>
                  <a:ext cx="376920" cy="21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950880" y="537192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866280" y="543672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866280" y="5533200"/>
                  <a:ext cx="846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139520" y="547920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45440" y="5640840"/>
                <a:ext cx="399960" cy="217800"/>
                <a:chOff x="7345440" y="5640840"/>
                <a:chExt cx="399960" cy="21780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92240" y="564228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2240" y="5640840"/>
                  <a:ext cx="35316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569360" y="56412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489080" y="570708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345440" y="5804280"/>
                  <a:ext cx="223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752960" y="5589000"/>
                <a:ext cx="377280" cy="217440"/>
                <a:chOff x="7752960" y="5589000"/>
                <a:chExt cx="377280" cy="2174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776360" y="5590080"/>
                  <a:ext cx="35388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76360" y="5589360"/>
                  <a:ext cx="35388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53840" y="558900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873560" y="56552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752960" y="5752080"/>
                  <a:ext cx="20088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8130960" y="5632200"/>
                <a:ext cx="534600" cy="215280"/>
                <a:chOff x="8130960" y="5632200"/>
                <a:chExt cx="534600" cy="2152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8130960" y="5697360"/>
                  <a:ext cx="23220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187480" y="563364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6" y="0"/>
                      </a:moveTo>
                      <a:arcTo wR="10800" hR="10800" stAng="-5420523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6" y="0"/>
                      </a:moveTo>
                      <a:arcTo wR="10800" hR="10800" stAng="-5420523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187480" y="5634000"/>
                  <a:ext cx="35316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20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20523"/>
                    </a:path>
                  </a:pathLst>
                </a:custGeom>
                <a:noFill/>
                <a:ln cap="rnd"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364600" y="5632200"/>
                  <a:ext cx="0" cy="21528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284320" y="5793840"/>
                  <a:ext cx="7992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541000" y="5740560"/>
                  <a:ext cx="124560" cy="0"/>
                </a:xfrm>
                <a:prstGeom prst="line">
                  <a:avLst/>
                </a:prstGeom>
                <a:ln w="25560">
                  <a:solidFill>
                    <a:srgbClr val="00e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7" name=""/>
            <p:cNvGrpSpPr/>
            <p:nvPr/>
          </p:nvGrpSpPr>
          <p:grpSpPr>
            <a:xfrm>
              <a:off x="5514480" y="5325480"/>
              <a:ext cx="1341360" cy="984240"/>
              <a:chOff x="5514480" y="5325480"/>
              <a:chExt cx="1341360" cy="984240"/>
            </a:xfrm>
          </p:grpSpPr>
          <p:grpSp>
            <p:nvGrpSpPr>
              <p:cNvPr id="1528" name=""/>
              <p:cNvGrpSpPr/>
              <p:nvPr/>
            </p:nvGrpSpPr>
            <p:grpSpPr>
              <a:xfrm>
                <a:off x="5514480" y="5573160"/>
                <a:ext cx="376200" cy="215640"/>
                <a:chOff x="5514480" y="5573160"/>
                <a:chExt cx="376200" cy="21564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5514480" y="5574240"/>
                  <a:ext cx="37620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514480" y="557460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5701680" y="557316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616720" y="56379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616720" y="57351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5889960" y="5614920"/>
                <a:ext cx="643320" cy="217800"/>
                <a:chOff x="5889960" y="5614920"/>
                <a:chExt cx="643320" cy="217800"/>
              </a:xfrm>
            </p:grpSpPr>
            <p:sp>
              <p:nvSpPr>
                <p:cNvPr id="1535" name=""/>
                <p:cNvSpPr/>
                <p:nvPr/>
              </p:nvSpPr>
              <p:spPr>
                <a:xfrm>
                  <a:off x="5889960" y="5681520"/>
                  <a:ext cx="2091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5931360" y="561636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5931360" y="5614920"/>
                  <a:ext cx="374040" cy="216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117480" y="5615280"/>
                  <a:ext cx="0" cy="216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032520" y="577836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305760" y="5723280"/>
                  <a:ext cx="2275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6343920" y="5325480"/>
                <a:ext cx="510120" cy="216720"/>
                <a:chOff x="6343920" y="5325480"/>
                <a:chExt cx="510120" cy="21672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6343920" y="532656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343920" y="5325480"/>
                  <a:ext cx="37692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531480" y="532584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446520" y="53910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446520" y="5487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720480" y="5433480"/>
                  <a:ext cx="133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6346080" y="5658480"/>
                <a:ext cx="509760" cy="215640"/>
                <a:chOff x="6346080" y="5658480"/>
                <a:chExt cx="509760" cy="21564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6346080" y="5659560"/>
                  <a:ext cx="376920" cy="21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346080" y="5659920"/>
                  <a:ext cx="3769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533640" y="56584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448680" y="582048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721560" y="5766840"/>
                  <a:ext cx="134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4" name=""/>
              <p:cNvGrpSpPr/>
              <p:nvPr/>
            </p:nvGrpSpPr>
            <p:grpSpPr>
              <a:xfrm>
                <a:off x="5909040" y="6094080"/>
                <a:ext cx="376200" cy="215640"/>
                <a:chOff x="5909040" y="6094080"/>
                <a:chExt cx="376200" cy="21564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5909040" y="6095520"/>
                  <a:ext cx="37620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6096240" y="609408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6010920" y="615924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6010920" y="625608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0" name=""/>
              <p:cNvGrpSpPr/>
              <p:nvPr/>
            </p:nvGrpSpPr>
            <p:grpSpPr>
              <a:xfrm>
                <a:off x="6288120" y="6040800"/>
                <a:ext cx="536400" cy="215640"/>
                <a:chOff x="6288120" y="6040800"/>
                <a:chExt cx="536400" cy="21564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39" y="0"/>
                      </a:moveTo>
                      <a:arcTo wR="10800" hR="10800" stAng="-5419259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39" y="0"/>
                      </a:moveTo>
                      <a:arcTo wR="10800" hR="10800" stAng="-5419259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18360" y="6042240"/>
                  <a:ext cx="37332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1925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19259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6504120" y="6040800"/>
                  <a:ext cx="0" cy="215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418440" y="6105960"/>
                  <a:ext cx="85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288120" y="6202800"/>
                  <a:ext cx="216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6692040" y="6149160"/>
                  <a:ext cx="13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567" name="" descr=""/>
          <p:cNvPicPr/>
          <p:nvPr/>
        </p:nvPicPr>
        <p:blipFill>
          <a:blip r:embed="rId1"/>
          <a:srcRect l="22192" t="0" r="0" b="0"/>
          <a:stretch/>
        </p:blipFill>
        <p:spPr>
          <a:xfrm>
            <a:off x="665280" y="4449600"/>
            <a:ext cx="3473280" cy="1795680"/>
          </a:xfrm>
          <a:prstGeom prst="rect">
            <a:avLst/>
          </a:prstGeom>
          <a:ln w="0">
            <a:noFill/>
          </a:ln>
        </p:spPr>
      </p:pic>
      <p:sp>
        <p:nvSpPr>
          <p:cNvPr id="1568" name=""/>
          <p:cNvSpPr/>
          <p:nvPr/>
        </p:nvSpPr>
        <p:spPr>
          <a:xfrm>
            <a:off x="622440" y="2852640"/>
            <a:ext cx="832932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spcAft>
                <a:spcPts val="751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llow the manufacturer’s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sign Rule Checks (DR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88"/>
              </a:spcBef>
              <a:spcAft>
                <a:spcPts val="488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88"/>
              </a:spcBef>
              <a:spcAft>
                <a:spcPts val="649"/>
              </a:spcAft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220760" y="4594320"/>
            <a:ext cx="2019240" cy="12841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48680" y="6215040"/>
            <a:ext cx="516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75"/>
              </a:spcBef>
              <a:spcAft>
                <a:spcPts val="41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 </a:t>
            </a:r>
            <a:r>
              <a:rPr b="1" i="1" lang="en-US" sz="2200" spc="-1" strike="noStrike">
                <a:solidFill>
                  <a:srgbClr val="666699"/>
                </a:solidFill>
                <a:latin typeface="Torino Outline"/>
              </a:rPr>
              <a:t>example: Star-RCXT, Herc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layout data: GDS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rcRect l="4219" t="13299" r="16004" b="13476"/>
          <a:stretch/>
        </p:blipFill>
        <p:spPr>
          <a:xfrm>
            <a:off x="3090960" y="2205000"/>
            <a:ext cx="60181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Device and Context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increase in device complexity—increasing with Moore’s law (or faster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ntext in which devices are deployed (e.g. cellular radio) are increasing in complexity as well exponential increases in design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371600"/>
            <a:ext cx="801720" cy="1536840"/>
          </a:xfrm>
          <a:prstGeom prst="upArrow">
            <a:avLst>
              <a:gd name="adj1" fmla="val 50000"/>
              <a:gd name="adj2" fmla="val 4792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plex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527688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 have exponentially more transisto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DSII - text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990720" y="1278000"/>
            <a:ext cx="224784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NAME EXAMP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TY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S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79840" y="1247760"/>
            <a:ext cx="52196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2000200 60000201 1C000300 02000600 ...........`.... 00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E00 02000200 60002500 01000E00 .....%.`........ 00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2494C45 4C504D41 58450602 12002500 .%....EXAMPLELIB 000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3E0503 14000300 02220600 59524152 RARY..".......&gt;A 0000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C00545A 9BA02FB8 4439EFA7 C64B3789 .7K...9D./..ZT.. 0000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000000 01000E00 02000200 60000205 ...`...........` 0000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8450606 0C001100 01000E00 02000200 ..............EX 000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100020D 06000008 04000045 4C504D41 AMPLE........... 0000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0310 2C000000 020E0600 .......,........ 0000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FFF204E 00001027 0000204E 00001027 '...N ..'...N .. 0000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F0D8 FFFFF0D8 FFFFF0D8 FFFFF0D8 ................ 0000A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4 04000007 04000011 04001027 '............... 0000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000000 00000000 00000000 00000000 ................ 0000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152800" y="3067200"/>
            <a:ext cx="15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697120" y="5200560"/>
            <a:ext cx="5900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are usually 20 to 30 gigabytes in size, but after you correct the image, the size can reach a 150 gigabytes - that’s 150 billion bytes or over a trillion b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roteus, Progen, IC Workbench, SiVL/LRC, iN-Phase, C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5289480" y="3724200"/>
            <a:ext cx="1863720" cy="198756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1658880" y="3629160"/>
            <a:ext cx="2062080" cy="2141280"/>
            <a:chOff x="1658880" y="3629160"/>
            <a:chExt cx="2062080" cy="2141280"/>
          </a:xfrm>
        </p:grpSpPr>
        <p:pic>
          <p:nvPicPr>
            <p:cNvPr id="1583" name="" descr=""/>
            <p:cNvPicPr/>
            <p:nvPr/>
          </p:nvPicPr>
          <p:blipFill>
            <a:blip r:embed="rId2"/>
            <a:stretch/>
          </p:blipFill>
          <p:spPr>
            <a:xfrm>
              <a:off x="1658880" y="3629160"/>
              <a:ext cx="2062080" cy="21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4" name=""/>
            <p:cNvSpPr/>
            <p:nvPr/>
          </p:nvSpPr>
          <p:spPr>
            <a:xfrm>
              <a:off x="2581560" y="4413600"/>
              <a:ext cx="1843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Turn your design into 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648320" y="22791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favorite semiconductor vendor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run your design through th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a huge database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the photolithography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your chip into a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your tes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your finished c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654120" y="2957400"/>
            <a:ext cx="2313000" cy="2313000"/>
            <a:chOff x="654120" y="2957400"/>
            <a:chExt cx="2313000" cy="2313000"/>
          </a:xfrm>
        </p:grpSpPr>
        <p:pic>
          <p:nvPicPr>
            <p:cNvPr id="1588" name="" descr=""/>
            <p:cNvPicPr/>
            <p:nvPr/>
          </p:nvPicPr>
          <p:blipFill>
            <a:blip r:embed="rId1"/>
            <a:stretch/>
          </p:blipFill>
          <p:spPr>
            <a:xfrm>
              <a:off x="654120" y="2957400"/>
              <a:ext cx="231300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9" name=""/>
            <p:cNvSpPr/>
            <p:nvPr/>
          </p:nvSpPr>
          <p:spPr>
            <a:xfrm>
              <a:off x="671400" y="2965320"/>
              <a:ext cx="2289240" cy="2289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821520" y="1419120"/>
            <a:ext cx="70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ke a deep breath and “Sign Off”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ep Submicron Effec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geometries are causing a wide variety of effects that we have largely ignored in the p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coupled capaci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11640" y="3175920"/>
            <a:ext cx="1033560" cy="1692360"/>
          </a:xfrm>
          <a:prstGeom prst="upArrow">
            <a:avLst>
              <a:gd name="adj1" fmla="val 50000"/>
              <a:gd name="adj2" fmla="val 4093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M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1200" y="5276880"/>
            <a:ext cx="74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sign of each transistor is getting more diffic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terogeneity on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diversity of on-chip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5760" y="52768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ore transistors doing different th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3675240"/>
            <a:ext cx="2124000" cy="977760"/>
          </a:xfrm>
          <a:prstGeom prst="rightArrow">
            <a:avLst>
              <a:gd name="adj1" fmla="val 50000"/>
              <a:gd name="adj2" fmla="val 54308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er Market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ing design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olerance for design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41320" y="527688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ponentially more complex, greater design ris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eater variety, and a smaller design window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50560" y="3664080"/>
            <a:ext cx="1763640" cy="988920"/>
          </a:xfrm>
          <a:prstGeom prst="rightArrow">
            <a:avLst>
              <a:gd name="adj1" fmla="val 50000"/>
              <a:gd name="adj2" fmla="val 445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me-to-mo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736800" y="2901960"/>
            <a:ext cx="1687680" cy="1623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732040" y="203364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: specify and enter the design i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46800" y="3319560"/>
            <a:ext cx="37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: refine the design through all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120" y="331956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: verify the correctness of design and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to create small parts that will be re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from complex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es to simple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le for bi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tom – up / Top –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9920" y="160812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9920" y="277668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ule (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39920" y="3944880"/>
            <a:ext cx="3054600" cy="506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39920" y="5113440"/>
            <a:ext cx="3054600" cy="506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8040" y="182880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331720" y="1147320"/>
            <a:ext cx="493560" cy="4281480"/>
          </a:xfrm>
          <a:custGeom>
            <a:avLst/>
            <a:gdLst>
              <a:gd name="textAreaLeft" fmla="*/ 65880 w 493560"/>
              <a:gd name="textAreaRight" fmla="*/ 427680 w 493560"/>
              <a:gd name="textAreaTop" fmla="*/ 749160 h 4281480"/>
              <a:gd name="textAreaBottom" fmla="*/ 31042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40240" y="3487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–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2880" y="32320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–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7-08-01T02:38:26Z</dcterms:modified>
  <cp:revision>88</cp:revision>
  <dc:subject/>
  <dc:title>EL 6XX</dc:title>
</cp:coreProperties>
</file>