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BE00-43A1-4961-9225-77149719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A66B-59D9-4666-BC3E-17413F61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B89F9-4895-4631-A252-28AB8BA0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BFED-E9DC-40A1-A58D-09A89A84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BA98-07F5-4725-BC31-6F0B8FB5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27B1-02AB-4DB2-870D-BD9CC411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7463-D850-4D63-BFE0-E38E948D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0D56-EADE-4195-A34A-E1E61C83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596D-0047-46F6-9F16-DBDB654C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9727-A6BD-4F50-ACC2-BBF640D3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03E3-0DC7-4370-86E2-ADC1318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BA44-9A9A-458A-9D7A-8CF064E6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1279-8FB6-48E1-8253-202C744F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2B1F-5711-4E81-9937-6958A50D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4DD8-EEDF-4AB3-856A-9791B937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8F23-1243-4F0E-98A3-FA54FC1D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BBE2-BD20-4E87-BE98-B26394DB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BE9A7-7B23-4BF3-96D3-67D33229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75AF-CE77-4C4F-882E-5035C0FD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CA82-408E-4DA3-B2BD-2AD843E1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5ED0-7964-44B5-9C01-6F16CD32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B56E-A389-47A6-80BD-A6E23171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B2E7-C22D-492A-9CF4-B3E92DD7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2B2D-8B09-41AC-B0A7-E6A12FC2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28A0-DB05-41B5-ACA4-8EB61B0ECE1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049D-70DA-4FE2-8940-08098E54A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539D-BEDE-48B9-9696-DDE700B68D2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A993-5DCC-44E0-BCE4-F66D79DE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nguajes de Descripción de Siste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1994, el grupo de trabajo IEEE 1364 convierte el OVI LRM en un estándar IEEE (Diciembre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1341360"/>
            <a:ext cx="6480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4 bit up-counter with synchronous active high reset and active high enabl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 (clock, reset, enable, 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[3:0] counter_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Input ports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re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Output port data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[3:0] count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Clock tri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 (posedg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gin: CO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eset == 1'b1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_out &lt;= 4'b00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enable == 1'b1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_out &lt;= #1 counter_out +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272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1484280"/>
            <a:ext cx="4572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`include "counter.v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_tb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re[3:0] counter_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display("time\t clk reset enable count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monitor("%g\t %b %b %b %b"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time, clock, reset, enable, 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 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rese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 rese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enable 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0 enabl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 $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2205000"/>
            <a:ext cx="457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clock = ~clo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U_counter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440" y="966960"/>
            <a:ext cx="81169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rilog – Sintaxis y Semán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ilar 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nguaje case-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labras reservadas en minús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simple: 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s múltiples: /* …..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úmeros en 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números negativos se representan en complemen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loques básicos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jerarquía del diseño se crea instanciando módulos en otros 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es su uso en un módulo de mayor jerarqu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(ports) permiten la comunicación entre el módulo y su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odos los módulos tienen puertos, excepto el de nivel má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uertos pueden ser input, output o i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708280"/>
            <a:ext cx="61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o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3852720"/>
            <a:ext cx="82296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módulos pueden ser conectados implícitamente o explíci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dentificadores Jerárqu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sados en el módulo superior seguido por el identificador separado por un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 para testbe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361152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b.U.u0.sum, tb.U.u2.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t: conexiones estructurales entre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ers: variable usadas para almacenar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981080"/>
          <a:ext cx="8229600" cy="310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e, 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ex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, t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ble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d, tri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cable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0, tri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 up/pull down cuando el net no es dri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0, suppl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1 lógico cons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da el último valor, cuando driven por z (trist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981080"/>
          <a:ext cx="8229600" cy="2038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 sin sig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n signo de 32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sin signo de 6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punto flotante doble 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amiento a Nivel Compu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osee primitivas tales como compuertas y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aramente usados en codificación R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Compuer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981080"/>
          <a:ext cx="8229600" cy="27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AND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NAND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N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X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XN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198900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gates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Port data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re out0,out1,ou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in1,in2,in3,in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U1(out0,in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d U2(out1,in1,in2,in3,in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or U3(out2,in1,in2,in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imitivas de Compuertas de Trans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981080"/>
          <a:ext cx="8229600" cy="359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de transm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3 estados, enable activo en 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3 estados, enable activo en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 3 estados, enable activo en 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 3 estados, enable activo en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981080"/>
          <a:ext cx="8229600" cy="27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N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N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C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981080"/>
          <a:ext cx="8229600" cy="32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bidireccional (al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bidireccional (baj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(al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(baj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de paso b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de p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 pull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 pull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VHSIC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y High Speed Integrated Circuits)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dwar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do a mediados de los 80 por el Departamento de Defensa (DOD) y patrocinado por la IE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objetivo inicial era la creación de circuitos integrados de alta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ha convertido en uno de los estándares de la industria para la descripción de sistemas digi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e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81080"/>
          <a:ext cx="8229600" cy="18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o, bajo, 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o, alto, verd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o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impedancia, flo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nocido, no inicializ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981080"/>
          <a:ext cx="8229600" cy="32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tion key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0, suppl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0, strong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0, pul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0, weak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 impe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z0,highz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en compuertas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realidad las compuertas y switches tienen retar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rovee la capacidad de defini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ise: transición a uno de otro valor (0,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 : transición a cero de otro valor (1,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-off : transición a z de otro valor (0,1,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imal: valor mínim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ypical: valor típic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um: valor máxim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Aritm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inarios: +, -, *, /, % (módu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rios: +,- (usado para especificar el sig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ivisión de enteros trunca la parte f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sultado de una operación módulo toma el signo del primer op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tipos de datos reg son usados para números sin signo (los números negativos son guardados en complemento a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Rel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40035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sultado es un valor esc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si la relación es fa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si la relación es verda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si alguno de los operandos tiene bit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890720"/>
          <a:ext cx="8229600" cy="18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nferior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erior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nferior o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erior o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40035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operandos son comparados bit a bit, en caso de largos diferentes se llena con 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es 0 (falso) o 1 (verdad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s operandos == y !=, el resultado es x si alguno de los operandos contiene un x o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s operandos === y !==, los bits con x y z son incluidos en el análisis de 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90720"/>
          <a:ext cx="8229600" cy="18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gual a b incluyendo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ferente de b incluyendo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ferente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expresiones son evaluadas de izquierda a derecha (&amp;&amp; y ||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valuación para apenas se conoce el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es un valor esca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 si la relación es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 si la relación es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si alguno de los operandos tiene un bit 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890720"/>
          <a:ext cx="8229600" cy="146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ción 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Bit-w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421920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operación es realizada tomando cada bit y comparándolo con el bit correspo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uno de los operandos es más corto, se rellena con 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890720"/>
          <a:ext cx="8229600" cy="219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exclu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~ o ~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exclu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t-wise co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~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&amp; x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&amp; x = x &amp;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| x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| x = x |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^ x = 1 ^ x = x ^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^~ x = 1 ^~ x = x ^~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HDL es descrito en el estándar IEEE 1076 – 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os lenguajes existentes en el mercado son Verilog, System Verilog y ABEL (Advanced Boolean Equation Langu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milar a lenguajes de programación con importantes di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nguaje inherentemente paral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 el comportamiento de un dispositiv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orpora especificaciones tempo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be un sistema como una interconexión de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Re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zan una operación bit-wise en un operando produciendo un bit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bits x son tratados como en los operando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628640"/>
          <a:ext cx="8229600" cy="255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~ o ~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operando a la izquierda es corrido el número de posiciones indicado por el operando a la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bits vacantes se llenan con 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2046240"/>
          <a:ext cx="8229600" cy="1095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a la izquie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a la de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Concate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catenación se expresa utilizando los caracteres { y }, con comas separando las expresiones entre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{a,b[3:0],c,4’b100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nstantes sin signo no pueden ser usadas en concate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Re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para replicar un grupo de bits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n{m}} replica m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3{a}} es equivalente a {a,a,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b,{3{c,d}}} es equivalente a {b,c,d,c,d,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cedencia de Op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890720"/>
          <a:ext cx="8002440" cy="2556000"/>
        </p:xfrm>
        <a:graphic>
          <a:graphicData uri="http://schemas.openxmlformats.org/drawingml/2006/table">
            <a:tbl>
              <a:tblPr/>
              <a:tblGrid>
                <a:gridCol w="4475160"/>
                <a:gridCol w="352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o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, multiplicación, división, mód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,~,*,/,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, 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,-,&lt;&lt;,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ón, igual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,&gt;,&lt;=,&gt;=,==,!=,===,!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,~&amp;,^,^~,|,~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,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1916280"/>
            <a:ext cx="187164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&lt;=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916280"/>
            <a:ext cx="187164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88000" y="2131920"/>
            <a:ext cx="1728720" cy="75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48000" y="249084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1700280"/>
            <a:ext cx="5618160" cy="22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8880" y="3068640"/>
            <a:ext cx="168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ort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lujo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17440" y="308628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er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4724280"/>
            <a:ext cx="1871640" cy="115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92520" y="5014800"/>
            <a:ext cx="750960" cy="571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4500360" y="3860640"/>
            <a:ext cx="64764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3860640"/>
            <a:ext cx="64908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7640" y="48690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tructura Básica de un Archivo VHD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492280"/>
            <a:ext cx="2520720" cy="3457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idad V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declaración entid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005360"/>
            <a:ext cx="172872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arquitect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bina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229360"/>
            <a:ext cx="129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prog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33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8920" y="31640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ce en 1984 como lenguaje propietario de modelamiento de hardware (simul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tenece en sus orígenes a Gateway Design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do a partir de HiLo (lenguaje HDL) y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no estándar en sus orí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imulador Verilog fue usado inicialmente en 19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dence compra Gateway en 1990, convirtiéndose en el propietario de Veri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mismo tiempo, Synopsys vendía la herramienta de síntesis usando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90 cadence organiza el Open Verilog International (OVI), entregando el lengu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VI mejoró el Language Reference Manual (LRM) clarificando 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2T15:27:10Z</dcterms:modified>
  <cp:revision>183</cp:revision>
  <dc:subject/>
  <dc:title>EL 6XX</dc:title>
</cp:coreProperties>
</file>