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027A-70DD-4A38-AEAB-1AD555E87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Los contactos y los wells no aparecen en la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xiste un condensador en los nodos internos, esto se debe a la granularidad de las dos fuentes (source) de los transistores en serie y a la capacidad de puertas sobrepuestas de los dos transistores en ser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86DCA-43DA-4B0B-B023-5C68B3A34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AA6D6-C2FC-437B-8BAB-768B55DA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EF35A-0EE2-434D-B134-CD7CF63CE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AEE64-03DB-44A9-882C-2D275CE8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20FD-D8A6-4063-82EF-FDAA7B47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49B6-1DF2-4DDC-970E-66ADBA63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E924-7856-4ECA-9858-8C77D3A7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A7F4-9DCF-46B6-8E7D-93DAD70A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FAFA-0A5B-4AFF-AEED-9F574186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7CEE-C871-472B-B875-6FC08E22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209A-80D7-4E60-9C03-110A8024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DB9C8-72C4-4E9B-A5A7-CBE22A27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1D83-48E8-4491-A7C4-7C919CA9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8BF4-71BA-45D8-8EF4-827D0B51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76BC-1765-4398-B280-BE1BF259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D148-4EE5-4D5C-BFF2-5D005F68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1F9F-9135-4A46-A6CA-53CA53E4C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57058-431D-4208-9CB6-AA858D6F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D0888-5F27-4D95-BA08-BDF298FF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4BC95-57C7-4937-B1C0-96171CCC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926E2-1615-4DA0-B79F-086F854C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3F03E-21B2-4C1D-8922-CA5E7BDA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B8FBD-F4A9-49AD-8B83-B9818522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18D51-1C92-4A84-B81A-CAEEAE92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2036-619A-47AF-969A-51BC8854241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08CF-EF61-4159-9EB3-1F11D84DE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A23B-A5AE-4BAB-8E9D-893CE9576B4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B61C-99D1-4494-83AC-B80C3E122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9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iseño de Circuitos Lógicos Combinator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eño de Cel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eldas Estándares (Standard Ce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ógica de propósito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n ser sintetiz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sma altura, variación del an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eldas Data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diseños regulares y estructurados (aritmét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cluye algunos cableados en la cel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cho y alto fi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etodología Celdas Estándares – 19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66880" y="3747960"/>
            <a:ext cx="1371600" cy="304920"/>
          </a:xfrm>
          <a:prstGeom prst="rect">
            <a:avLst/>
          </a:prstGeom>
          <a:solidFill>
            <a:srgbClr val="f08f00"/>
          </a:solidFill>
          <a:ln w="12600">
            <a:solidFill>
              <a:srgbClr val="f08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57800" y="3747960"/>
            <a:ext cx="762120" cy="304920"/>
          </a:xfrm>
          <a:prstGeom prst="rect">
            <a:avLst/>
          </a:prstGeom>
          <a:solidFill>
            <a:srgbClr val="f08f00"/>
          </a:solidFill>
          <a:ln w="12600">
            <a:solidFill>
              <a:srgbClr val="f08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66880" y="4662360"/>
            <a:ext cx="1371600" cy="304920"/>
          </a:xfrm>
          <a:prstGeom prst="rect">
            <a:avLst/>
          </a:prstGeom>
          <a:solidFill>
            <a:srgbClr val="00c000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57800" y="4662360"/>
            <a:ext cx="762120" cy="304920"/>
          </a:xfrm>
          <a:prstGeom prst="rect">
            <a:avLst/>
          </a:prstGeom>
          <a:solidFill>
            <a:srgbClr val="00c000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71800" y="2376360"/>
            <a:ext cx="152280" cy="2819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2376360"/>
            <a:ext cx="152640" cy="2819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562720" y="2604960"/>
            <a:ext cx="152280" cy="2590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66880" y="3214800"/>
            <a:ext cx="152640" cy="8380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3214800"/>
            <a:ext cx="152280" cy="8380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6200" y="4662360"/>
            <a:ext cx="152280" cy="83844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3747960"/>
            <a:ext cx="152280" cy="5335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666880" y="4433760"/>
            <a:ext cx="152640" cy="5335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66880" y="4281480"/>
            <a:ext cx="1828800" cy="1522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43400" y="2604960"/>
            <a:ext cx="152280" cy="182880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2604960"/>
            <a:ext cx="1371600" cy="15264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3214800"/>
            <a:ext cx="152280" cy="8380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867280" y="3747960"/>
            <a:ext cx="152640" cy="12193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4662360"/>
            <a:ext cx="152280" cy="83844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67280" y="4281480"/>
            <a:ext cx="685800" cy="1522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00800" y="2604960"/>
            <a:ext cx="152280" cy="182880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28800" y="3900600"/>
            <a:ext cx="228600" cy="838080"/>
          </a:xfrm>
          <a:prstGeom prst="upDownArrow">
            <a:avLst>
              <a:gd name="adj1" fmla="val 50000"/>
              <a:gd name="adj2" fmla="val 72983"/>
            </a:avLst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14400" y="412920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ñ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2300400"/>
            <a:ext cx="92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l rut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481880" y="298620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92240" y="53481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05120" y="2986200"/>
            <a:ext cx="5486400" cy="45720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81080" y="5348160"/>
            <a:ext cx="5410440" cy="45720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etodología Celdas Estándares – 19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666880" y="3581280"/>
            <a:ext cx="1371600" cy="304920"/>
          </a:xfrm>
          <a:prstGeom prst="rect">
            <a:avLst/>
          </a:prstGeom>
          <a:solidFill>
            <a:srgbClr val="f08f00"/>
          </a:solidFill>
          <a:ln w="12600">
            <a:solidFill>
              <a:srgbClr val="f08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3581280"/>
            <a:ext cx="762120" cy="304920"/>
          </a:xfrm>
          <a:prstGeom prst="rect">
            <a:avLst/>
          </a:prstGeom>
          <a:solidFill>
            <a:srgbClr val="f08f00"/>
          </a:solidFill>
          <a:ln w="12600">
            <a:solidFill>
              <a:srgbClr val="f08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66880" y="4495680"/>
            <a:ext cx="1371600" cy="304920"/>
          </a:xfrm>
          <a:prstGeom prst="rect">
            <a:avLst/>
          </a:prstGeom>
          <a:solidFill>
            <a:srgbClr val="00c000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0" y="4495680"/>
            <a:ext cx="762120" cy="304920"/>
          </a:xfrm>
          <a:prstGeom prst="rect">
            <a:avLst/>
          </a:prstGeom>
          <a:solidFill>
            <a:srgbClr val="00c000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71800" y="3352680"/>
            <a:ext cx="152280" cy="167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81280" y="3352680"/>
            <a:ext cx="152640" cy="1676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76920" y="3352680"/>
            <a:ext cx="152280" cy="1676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66880" y="3048120"/>
            <a:ext cx="152640" cy="8380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3048120"/>
            <a:ext cx="152280" cy="8380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6200" y="4495680"/>
            <a:ext cx="152280" cy="83844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76720" y="3581280"/>
            <a:ext cx="152280" cy="5335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66880" y="4267080"/>
            <a:ext cx="152640" cy="5335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66880" y="4114800"/>
            <a:ext cx="2667240" cy="1522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0" y="3048120"/>
            <a:ext cx="152280" cy="8380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81480" y="3581280"/>
            <a:ext cx="152640" cy="12193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4495680"/>
            <a:ext cx="152280" cy="83844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81480" y="4114800"/>
            <a:ext cx="152640" cy="1522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28800" y="3733920"/>
            <a:ext cx="228600" cy="838080"/>
          </a:xfrm>
          <a:prstGeom prst="upDownArrow">
            <a:avLst>
              <a:gd name="adj1" fmla="val 50000"/>
              <a:gd name="adj2" fmla="val 72983"/>
            </a:avLst>
          </a:prstGeom>
          <a:solidFill>
            <a:srgbClr val="000082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44080" y="396252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2362320"/>
            <a:ext cx="145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 canales de rut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481880" y="281952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92240" y="51814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05120" y="2819520"/>
            <a:ext cx="5486400" cy="45720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5181480"/>
            <a:ext cx="5410440" cy="45720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1599840" y="4419360"/>
            <a:ext cx="228600" cy="838440"/>
          </a:xfrm>
          <a:prstGeom prst="upDownArrow">
            <a:avLst>
              <a:gd name="adj1" fmla="val 50000"/>
              <a:gd name="adj2" fmla="val 73014"/>
            </a:avLst>
          </a:prstGeom>
          <a:solidFill>
            <a:srgbClr val="00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67760" y="50292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05120" y="2362320"/>
            <a:ext cx="5486400" cy="45720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481880" y="236232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81080" y="5638680"/>
            <a:ext cx="5410440" cy="45720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392240" y="57150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02720" y="186516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b6"/>
                </a:solidFill>
                <a:latin typeface="Arial"/>
              </a:rPr>
              <a:t>Celda espe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70840" y="57150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b6"/>
                </a:solidFill>
                <a:latin typeface="Arial"/>
              </a:rPr>
              <a:t>Celda espe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tandar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890720" y="6004080"/>
            <a:ext cx="1306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orde de Cel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090960" y="5800680"/>
            <a:ext cx="68256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54280" y="1660680"/>
            <a:ext cx="54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 W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65560" y="1889280"/>
            <a:ext cx="42048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66880" y="446400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3000" y="554688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36960" y="2193840"/>
            <a:ext cx="1066680" cy="1295640"/>
          </a:xfrm>
          <a:prstGeom prst="rect">
            <a:avLst/>
          </a:prstGeom>
          <a:solidFill>
            <a:srgbClr val="a686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36960" y="5089680"/>
            <a:ext cx="1066680" cy="761760"/>
          </a:xfrm>
          <a:prstGeom prst="rect">
            <a:avLst/>
          </a:prstGeom>
          <a:solidFill>
            <a:srgbClr val="00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94160" y="2117880"/>
            <a:ext cx="152280" cy="38098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84680" y="1736640"/>
            <a:ext cx="1447560" cy="7621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84680" y="5546880"/>
            <a:ext cx="1447560" cy="76176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89240" y="4022640"/>
            <a:ext cx="304920" cy="304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94160" y="4022640"/>
            <a:ext cx="76320" cy="304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012920" y="1812960"/>
            <a:ext cx="152640" cy="152280"/>
            <a:chOff x="4012920" y="1812960"/>
            <a:chExt cx="152640" cy="152280"/>
          </a:xfrm>
        </p:grpSpPr>
        <p:sp>
          <p:nvSpPr>
            <p:cNvPr id="294" name=""/>
            <p:cNvSpPr/>
            <p:nvPr/>
          </p:nvSpPr>
          <p:spPr>
            <a:xfrm>
              <a:off x="4013280" y="181296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13280" y="1812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4012920" y="1812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393800" y="1812960"/>
            <a:ext cx="152640" cy="152280"/>
            <a:chOff x="4393800" y="1812960"/>
            <a:chExt cx="152640" cy="152280"/>
          </a:xfrm>
        </p:grpSpPr>
        <p:sp>
          <p:nvSpPr>
            <p:cNvPr id="298" name=""/>
            <p:cNvSpPr/>
            <p:nvPr/>
          </p:nvSpPr>
          <p:spPr>
            <a:xfrm>
              <a:off x="4394160" y="181296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394160" y="1812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4393800" y="1812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774680" y="1812960"/>
            <a:ext cx="152640" cy="152280"/>
            <a:chOff x="4774680" y="1812960"/>
            <a:chExt cx="152640" cy="152280"/>
          </a:xfrm>
        </p:grpSpPr>
        <p:sp>
          <p:nvSpPr>
            <p:cNvPr id="302" name=""/>
            <p:cNvSpPr/>
            <p:nvPr/>
          </p:nvSpPr>
          <p:spPr>
            <a:xfrm>
              <a:off x="4775040" y="181296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5040" y="1812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4774680" y="1812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4088880" y="6080040"/>
            <a:ext cx="152640" cy="152280"/>
            <a:chOff x="4088880" y="6080040"/>
            <a:chExt cx="152640" cy="152280"/>
          </a:xfrm>
        </p:grpSpPr>
        <p:sp>
          <p:nvSpPr>
            <p:cNvPr id="306" name=""/>
            <p:cNvSpPr/>
            <p:nvPr/>
          </p:nvSpPr>
          <p:spPr>
            <a:xfrm>
              <a:off x="4089240" y="6080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089240" y="6080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4088880" y="6080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427280" y="6080040"/>
            <a:ext cx="152640" cy="152280"/>
            <a:chOff x="4427280" y="6080040"/>
            <a:chExt cx="152640" cy="152280"/>
          </a:xfrm>
        </p:grpSpPr>
        <p:sp>
          <p:nvSpPr>
            <p:cNvPr id="310" name=""/>
            <p:cNvSpPr/>
            <p:nvPr/>
          </p:nvSpPr>
          <p:spPr>
            <a:xfrm>
              <a:off x="4427640" y="6080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427640" y="6080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4427280" y="6080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4774680" y="6080040"/>
            <a:ext cx="152640" cy="152280"/>
            <a:chOff x="4774680" y="6080040"/>
            <a:chExt cx="152640" cy="152280"/>
          </a:xfrm>
        </p:grpSpPr>
        <p:sp>
          <p:nvSpPr>
            <p:cNvPr id="314" name=""/>
            <p:cNvSpPr/>
            <p:nvPr/>
          </p:nvSpPr>
          <p:spPr>
            <a:xfrm>
              <a:off x="4775040" y="6080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775040" y="6080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4774680" y="6080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4088880" y="2270160"/>
            <a:ext cx="152640" cy="152280"/>
            <a:chOff x="4088880" y="2270160"/>
            <a:chExt cx="152640" cy="152280"/>
          </a:xfrm>
        </p:grpSpPr>
        <p:sp>
          <p:nvSpPr>
            <p:cNvPr id="318" name=""/>
            <p:cNvSpPr/>
            <p:nvPr/>
          </p:nvSpPr>
          <p:spPr>
            <a:xfrm>
              <a:off x="4089240" y="22701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89240" y="22701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4088880" y="22701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936240" y="440388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850280" y="425124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5308200" y="1965240"/>
            <a:ext cx="364680" cy="294480"/>
            <a:chOff x="5308200" y="1965240"/>
            <a:chExt cx="364680" cy="294480"/>
          </a:xfrm>
        </p:grpSpPr>
        <p:sp>
          <p:nvSpPr>
            <p:cNvPr id="324" name=""/>
            <p:cNvSpPr/>
            <p:nvPr/>
          </p:nvSpPr>
          <p:spPr>
            <a:xfrm>
              <a:off x="5308200" y="19652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416200" y="204624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5308560" y="5851440"/>
            <a:ext cx="39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13280" y="2498760"/>
            <a:ext cx="304560" cy="91440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013280" y="5241960"/>
            <a:ext cx="304560" cy="60948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99080" y="2803680"/>
            <a:ext cx="304560" cy="68580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13280" y="4022640"/>
            <a:ext cx="380880" cy="3049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51360" y="3260880"/>
            <a:ext cx="228600" cy="152388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699080" y="4556160"/>
            <a:ext cx="304560" cy="83808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84680" y="1889280"/>
            <a:ext cx="1447560" cy="426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08360" y="1584360"/>
            <a:ext cx="1600200" cy="2590920"/>
          </a:xfrm>
          <a:prstGeom prst="rect">
            <a:avLst/>
          </a:prstGeom>
          <a:noFill/>
          <a:ln w="12600">
            <a:solidFill>
              <a:srgbClr val="a68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4088880" y="5622840"/>
            <a:ext cx="152640" cy="152280"/>
            <a:chOff x="4088880" y="5622840"/>
            <a:chExt cx="152640" cy="152280"/>
          </a:xfrm>
        </p:grpSpPr>
        <p:sp>
          <p:nvSpPr>
            <p:cNvPr id="336" name=""/>
            <p:cNvSpPr/>
            <p:nvPr/>
          </p:nvSpPr>
          <p:spPr>
            <a:xfrm>
              <a:off x="4089240" y="56228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089240" y="56228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088880" y="56228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4088880" y="5318280"/>
            <a:ext cx="152640" cy="152280"/>
            <a:chOff x="4088880" y="5318280"/>
            <a:chExt cx="152640" cy="152280"/>
          </a:xfrm>
        </p:grpSpPr>
        <p:sp>
          <p:nvSpPr>
            <p:cNvPr id="340" name=""/>
            <p:cNvSpPr/>
            <p:nvPr/>
          </p:nvSpPr>
          <p:spPr>
            <a:xfrm>
              <a:off x="4089240" y="531828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089240" y="531828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4088880" y="531828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774680" y="5165640"/>
            <a:ext cx="152640" cy="152280"/>
            <a:chOff x="4774680" y="5165640"/>
            <a:chExt cx="152640" cy="152280"/>
          </a:xfrm>
        </p:grpSpPr>
        <p:sp>
          <p:nvSpPr>
            <p:cNvPr id="344" name=""/>
            <p:cNvSpPr/>
            <p:nvPr/>
          </p:nvSpPr>
          <p:spPr>
            <a:xfrm>
              <a:off x="4775040" y="51656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775040" y="5165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4774680" y="5165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165200" y="4098960"/>
            <a:ext cx="152640" cy="152280"/>
            <a:chOff x="4165200" y="4098960"/>
            <a:chExt cx="152640" cy="152280"/>
          </a:xfrm>
        </p:grpSpPr>
        <p:sp>
          <p:nvSpPr>
            <p:cNvPr id="348" name=""/>
            <p:cNvSpPr/>
            <p:nvPr/>
          </p:nvSpPr>
          <p:spPr>
            <a:xfrm>
              <a:off x="4165560" y="40989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165560" y="409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4165200" y="409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4088880" y="2575080"/>
            <a:ext cx="152640" cy="152280"/>
            <a:chOff x="4088880" y="2575080"/>
            <a:chExt cx="152640" cy="152280"/>
          </a:xfrm>
        </p:grpSpPr>
        <p:sp>
          <p:nvSpPr>
            <p:cNvPr id="352" name=""/>
            <p:cNvSpPr/>
            <p:nvPr/>
          </p:nvSpPr>
          <p:spPr>
            <a:xfrm>
              <a:off x="4089240" y="257508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089240" y="257508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4088880" y="257508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088880" y="2879640"/>
            <a:ext cx="152640" cy="152280"/>
            <a:chOff x="4088880" y="2879640"/>
            <a:chExt cx="152640" cy="152280"/>
          </a:xfrm>
        </p:grpSpPr>
        <p:sp>
          <p:nvSpPr>
            <p:cNvPr id="356" name=""/>
            <p:cNvSpPr/>
            <p:nvPr/>
          </p:nvSpPr>
          <p:spPr>
            <a:xfrm>
              <a:off x="4089240" y="28796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089240" y="2879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4088880" y="2879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4088880" y="3184560"/>
            <a:ext cx="152640" cy="152280"/>
            <a:chOff x="4088880" y="3184560"/>
            <a:chExt cx="152640" cy="152280"/>
          </a:xfrm>
        </p:grpSpPr>
        <p:sp>
          <p:nvSpPr>
            <p:cNvPr id="360" name=""/>
            <p:cNvSpPr/>
            <p:nvPr/>
          </p:nvSpPr>
          <p:spPr>
            <a:xfrm>
              <a:off x="4089240" y="31845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89240" y="3184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4088880" y="3184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4774680" y="2879640"/>
            <a:ext cx="152640" cy="152280"/>
            <a:chOff x="4774680" y="2879640"/>
            <a:chExt cx="152640" cy="152280"/>
          </a:xfrm>
        </p:grpSpPr>
        <p:sp>
          <p:nvSpPr>
            <p:cNvPr id="364" name=""/>
            <p:cNvSpPr/>
            <p:nvPr/>
          </p:nvSpPr>
          <p:spPr>
            <a:xfrm>
              <a:off x="4775040" y="28796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775040" y="2879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4774680" y="2879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774680" y="3184560"/>
            <a:ext cx="152640" cy="152280"/>
            <a:chOff x="4774680" y="3184560"/>
            <a:chExt cx="152640" cy="152280"/>
          </a:xfrm>
        </p:grpSpPr>
        <p:sp>
          <p:nvSpPr>
            <p:cNvPr id="368" name=""/>
            <p:cNvSpPr/>
            <p:nvPr/>
          </p:nvSpPr>
          <p:spPr>
            <a:xfrm>
              <a:off x="4775040" y="31845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75040" y="3184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4774680" y="3184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771560" y="4510080"/>
            <a:ext cx="0" cy="258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10240" y="566100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ails ~1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tandar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50920" y="2705040"/>
          <a:ext cx="1311120" cy="25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705040"/>
                    <a:ext cx="131112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2784600" y="2266920"/>
            <a:ext cx="1066680" cy="1295280"/>
          </a:xfrm>
          <a:prstGeom prst="rect">
            <a:avLst/>
          </a:prstGeom>
          <a:solidFill>
            <a:srgbClr val="a686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784600" y="5162400"/>
            <a:ext cx="1066680" cy="762120"/>
          </a:xfrm>
          <a:prstGeom prst="rect">
            <a:avLst/>
          </a:prstGeom>
          <a:solidFill>
            <a:srgbClr val="00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41800" y="2190600"/>
            <a:ext cx="152280" cy="38102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631960" y="1809720"/>
            <a:ext cx="1447920" cy="7621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631960" y="5619600"/>
            <a:ext cx="1447920" cy="7621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936880" y="4095720"/>
            <a:ext cx="304920" cy="304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41800" y="4095720"/>
            <a:ext cx="75960" cy="304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2860200" y="1886040"/>
            <a:ext cx="152640" cy="152280"/>
            <a:chOff x="2860200" y="1886040"/>
            <a:chExt cx="152640" cy="152280"/>
          </a:xfrm>
        </p:grpSpPr>
        <p:sp>
          <p:nvSpPr>
            <p:cNvPr id="384" name=""/>
            <p:cNvSpPr/>
            <p:nvPr/>
          </p:nvSpPr>
          <p:spPr>
            <a:xfrm>
              <a:off x="2860560" y="188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6056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286020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3241440" y="1886040"/>
            <a:ext cx="152640" cy="152280"/>
            <a:chOff x="3241440" y="1886040"/>
            <a:chExt cx="152640" cy="152280"/>
          </a:xfrm>
        </p:grpSpPr>
        <p:sp>
          <p:nvSpPr>
            <p:cNvPr id="388" name=""/>
            <p:cNvSpPr/>
            <p:nvPr/>
          </p:nvSpPr>
          <p:spPr>
            <a:xfrm>
              <a:off x="3241800" y="188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4180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324144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3622320" y="1886040"/>
            <a:ext cx="152640" cy="152280"/>
            <a:chOff x="3622320" y="1886040"/>
            <a:chExt cx="152640" cy="152280"/>
          </a:xfrm>
        </p:grpSpPr>
        <p:sp>
          <p:nvSpPr>
            <p:cNvPr id="392" name=""/>
            <p:cNvSpPr/>
            <p:nvPr/>
          </p:nvSpPr>
          <p:spPr>
            <a:xfrm>
              <a:off x="3622680" y="188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2268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362232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2936520" y="6153120"/>
            <a:ext cx="152640" cy="152280"/>
            <a:chOff x="2936520" y="6153120"/>
            <a:chExt cx="152640" cy="152280"/>
          </a:xfrm>
        </p:grpSpPr>
        <p:sp>
          <p:nvSpPr>
            <p:cNvPr id="396" name=""/>
            <p:cNvSpPr/>
            <p:nvPr/>
          </p:nvSpPr>
          <p:spPr>
            <a:xfrm>
              <a:off x="2936880" y="615312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3688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293652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3274560" y="6153120"/>
            <a:ext cx="152640" cy="152280"/>
            <a:chOff x="3274560" y="6153120"/>
            <a:chExt cx="152640" cy="152280"/>
          </a:xfrm>
        </p:grpSpPr>
        <p:sp>
          <p:nvSpPr>
            <p:cNvPr id="400" name=""/>
            <p:cNvSpPr/>
            <p:nvPr/>
          </p:nvSpPr>
          <p:spPr>
            <a:xfrm>
              <a:off x="3274920" y="615312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7492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327456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3622320" y="6153120"/>
            <a:ext cx="152640" cy="152280"/>
            <a:chOff x="3622320" y="6153120"/>
            <a:chExt cx="152640" cy="152280"/>
          </a:xfrm>
        </p:grpSpPr>
        <p:sp>
          <p:nvSpPr>
            <p:cNvPr id="404" name=""/>
            <p:cNvSpPr/>
            <p:nvPr/>
          </p:nvSpPr>
          <p:spPr>
            <a:xfrm>
              <a:off x="3622680" y="615312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2268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362232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2936520" y="2343240"/>
            <a:ext cx="152640" cy="152280"/>
            <a:chOff x="2936520" y="2343240"/>
            <a:chExt cx="152640" cy="152280"/>
          </a:xfrm>
        </p:grpSpPr>
        <p:sp>
          <p:nvSpPr>
            <p:cNvPr id="408" name=""/>
            <p:cNvSpPr/>
            <p:nvPr/>
          </p:nvSpPr>
          <p:spPr>
            <a:xfrm>
              <a:off x="2936880" y="23432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936880" y="23432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2936520" y="23432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2783520" y="447660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697920" y="432432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4155840" y="2038320"/>
            <a:ext cx="364680" cy="294480"/>
            <a:chOff x="4155840" y="2038320"/>
            <a:chExt cx="364680" cy="294480"/>
          </a:xfrm>
        </p:grpSpPr>
        <p:sp>
          <p:nvSpPr>
            <p:cNvPr id="414" name=""/>
            <p:cNvSpPr/>
            <p:nvPr/>
          </p:nvSpPr>
          <p:spPr>
            <a:xfrm>
              <a:off x="4155840" y="20383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263840" y="211932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4156200" y="5924520"/>
            <a:ext cx="39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60560" y="2571840"/>
            <a:ext cx="304920" cy="91440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60560" y="5315040"/>
            <a:ext cx="304920" cy="60948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546360" y="2876400"/>
            <a:ext cx="304920" cy="68580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860560" y="4095720"/>
            <a:ext cx="381240" cy="3049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699000" y="3333600"/>
            <a:ext cx="228600" cy="152424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46360" y="4629240"/>
            <a:ext cx="304920" cy="83808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631960" y="1962000"/>
            <a:ext cx="1447920" cy="426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56000" y="1657440"/>
            <a:ext cx="1600200" cy="2590560"/>
          </a:xfrm>
          <a:prstGeom prst="rect">
            <a:avLst/>
          </a:prstGeom>
          <a:noFill/>
          <a:ln w="12600">
            <a:solidFill>
              <a:srgbClr val="a68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23080" y="2647800"/>
            <a:ext cx="914400" cy="1295640"/>
          </a:xfrm>
          <a:prstGeom prst="rect">
            <a:avLst/>
          </a:prstGeom>
          <a:solidFill>
            <a:srgbClr val="a686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46760" y="4552920"/>
            <a:ext cx="990720" cy="762120"/>
          </a:xfrm>
          <a:prstGeom prst="rect">
            <a:avLst/>
          </a:prstGeom>
          <a:solidFill>
            <a:srgbClr val="00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203960" y="2190600"/>
            <a:ext cx="152640" cy="38102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94480" y="5619600"/>
            <a:ext cx="1447920" cy="7621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99400" y="4095720"/>
            <a:ext cx="304560" cy="304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203960" y="4095720"/>
            <a:ext cx="76320" cy="304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899040" y="6153120"/>
            <a:ext cx="152640" cy="152280"/>
            <a:chOff x="6899040" y="6153120"/>
            <a:chExt cx="152640" cy="152280"/>
          </a:xfrm>
        </p:grpSpPr>
        <p:sp>
          <p:nvSpPr>
            <p:cNvPr id="432" name=""/>
            <p:cNvSpPr/>
            <p:nvPr/>
          </p:nvSpPr>
          <p:spPr>
            <a:xfrm>
              <a:off x="6899400" y="615312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9940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689904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7203600" y="6153120"/>
            <a:ext cx="152640" cy="152280"/>
            <a:chOff x="7203600" y="6153120"/>
            <a:chExt cx="152640" cy="152280"/>
          </a:xfrm>
        </p:grpSpPr>
        <p:sp>
          <p:nvSpPr>
            <p:cNvPr id="436" name=""/>
            <p:cNvSpPr/>
            <p:nvPr/>
          </p:nvSpPr>
          <p:spPr>
            <a:xfrm>
              <a:off x="7203960" y="615312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20396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720360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7508520" y="6153120"/>
            <a:ext cx="152640" cy="152280"/>
            <a:chOff x="7508520" y="6153120"/>
            <a:chExt cx="152640" cy="152280"/>
          </a:xfrm>
        </p:grpSpPr>
        <p:sp>
          <p:nvSpPr>
            <p:cNvPr id="440" name=""/>
            <p:cNvSpPr/>
            <p:nvPr/>
          </p:nvSpPr>
          <p:spPr>
            <a:xfrm>
              <a:off x="7508880" y="615312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0888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508520" y="6153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6669720" y="432432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60080" y="432432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118360" y="2038320"/>
            <a:ext cx="365040" cy="294480"/>
            <a:chOff x="8118360" y="2038320"/>
            <a:chExt cx="365040" cy="294480"/>
          </a:xfrm>
        </p:grpSpPr>
        <p:sp>
          <p:nvSpPr>
            <p:cNvPr id="446" name=""/>
            <p:cNvSpPr/>
            <p:nvPr/>
          </p:nvSpPr>
          <p:spPr>
            <a:xfrm>
              <a:off x="8118360" y="20383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226720" y="211932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8118360" y="5924520"/>
            <a:ext cx="39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23080" y="4095720"/>
            <a:ext cx="380880" cy="3049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508880" y="3638520"/>
            <a:ext cx="228600" cy="12193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746760" y="5315040"/>
            <a:ext cx="381240" cy="609480"/>
          </a:xfrm>
          <a:prstGeom prst="rect">
            <a:avLst/>
          </a:prstGeom>
          <a:solidFill>
            <a:srgbClr val="00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432560" y="4552920"/>
            <a:ext cx="304920" cy="38088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594480" y="1962000"/>
            <a:ext cx="1447920" cy="426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518160" y="1657440"/>
            <a:ext cx="1600200" cy="2590560"/>
          </a:xfrm>
          <a:prstGeom prst="rect">
            <a:avLst/>
          </a:prstGeom>
          <a:noFill/>
          <a:ln w="12600">
            <a:solidFill>
              <a:srgbClr val="a68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746760" y="5315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128000" y="5315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46760" y="59245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6899040" y="5695920"/>
            <a:ext cx="152640" cy="152280"/>
            <a:chOff x="6899040" y="5695920"/>
            <a:chExt cx="152640" cy="152280"/>
          </a:xfrm>
        </p:grpSpPr>
        <p:sp>
          <p:nvSpPr>
            <p:cNvPr id="459" name=""/>
            <p:cNvSpPr/>
            <p:nvPr/>
          </p:nvSpPr>
          <p:spPr>
            <a:xfrm>
              <a:off x="6899400" y="5695920"/>
              <a:ext cx="152280" cy="152280"/>
            </a:xfrm>
            <a:prstGeom prst="rect">
              <a:avLst/>
            </a:prstGeom>
            <a:solidFill>
              <a:srgbClr val="2e8caa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899400" y="56959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6899040" y="56959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 flipV="1">
            <a:off x="7128000" y="2266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23080" y="2266920"/>
            <a:ext cx="304920" cy="457200"/>
          </a:xfrm>
          <a:prstGeom prst="rect">
            <a:avLst/>
          </a:prstGeom>
          <a:solidFill>
            <a:srgbClr val="a686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823080" y="2266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594480" y="1809720"/>
            <a:ext cx="1447920" cy="7621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6899040" y="1886040"/>
            <a:ext cx="152640" cy="152280"/>
            <a:chOff x="6899040" y="1886040"/>
            <a:chExt cx="152640" cy="152280"/>
          </a:xfrm>
        </p:grpSpPr>
        <p:sp>
          <p:nvSpPr>
            <p:cNvPr id="467" name=""/>
            <p:cNvSpPr/>
            <p:nvPr/>
          </p:nvSpPr>
          <p:spPr>
            <a:xfrm>
              <a:off x="6899400" y="188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89940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689904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7203600" y="1886040"/>
            <a:ext cx="152640" cy="152280"/>
            <a:chOff x="7203600" y="1886040"/>
            <a:chExt cx="152640" cy="152280"/>
          </a:xfrm>
        </p:grpSpPr>
        <p:sp>
          <p:nvSpPr>
            <p:cNvPr id="471" name=""/>
            <p:cNvSpPr/>
            <p:nvPr/>
          </p:nvSpPr>
          <p:spPr>
            <a:xfrm>
              <a:off x="7203960" y="188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20396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720360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7508520" y="1886040"/>
            <a:ext cx="152640" cy="152280"/>
            <a:chOff x="7508520" y="1886040"/>
            <a:chExt cx="152640" cy="152280"/>
          </a:xfrm>
        </p:grpSpPr>
        <p:sp>
          <p:nvSpPr>
            <p:cNvPr id="475" name=""/>
            <p:cNvSpPr/>
            <p:nvPr/>
          </p:nvSpPr>
          <p:spPr>
            <a:xfrm>
              <a:off x="7508880" y="188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50888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7508520" y="188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823080" y="2266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6899040" y="2343240"/>
            <a:ext cx="152640" cy="152280"/>
            <a:chOff x="6899040" y="2343240"/>
            <a:chExt cx="152640" cy="152280"/>
          </a:xfrm>
        </p:grpSpPr>
        <p:sp>
          <p:nvSpPr>
            <p:cNvPr id="480" name=""/>
            <p:cNvSpPr/>
            <p:nvPr/>
          </p:nvSpPr>
          <p:spPr>
            <a:xfrm>
              <a:off x="6899400" y="23432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99400" y="23432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6899040" y="23432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7508520" y="4705200"/>
            <a:ext cx="152640" cy="152280"/>
            <a:chOff x="7508520" y="4705200"/>
            <a:chExt cx="152640" cy="152280"/>
          </a:xfrm>
        </p:grpSpPr>
        <p:sp>
          <p:nvSpPr>
            <p:cNvPr id="484" name=""/>
            <p:cNvSpPr/>
            <p:nvPr/>
          </p:nvSpPr>
          <p:spPr>
            <a:xfrm>
              <a:off x="7508880" y="470520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08880" y="470520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508520" y="470520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6975000" y="4172040"/>
            <a:ext cx="152640" cy="152280"/>
            <a:chOff x="6975000" y="4172040"/>
            <a:chExt cx="152640" cy="152280"/>
          </a:xfrm>
        </p:grpSpPr>
        <p:sp>
          <p:nvSpPr>
            <p:cNvPr id="488" name=""/>
            <p:cNvSpPr/>
            <p:nvPr/>
          </p:nvSpPr>
          <p:spPr>
            <a:xfrm>
              <a:off x="6975360" y="41720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975360" y="4172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6975000" y="4172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7432560" y="3562200"/>
            <a:ext cx="304920" cy="38124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7508520" y="3638520"/>
            <a:ext cx="152640" cy="152280"/>
            <a:chOff x="7508520" y="3638520"/>
            <a:chExt cx="152640" cy="152280"/>
          </a:xfrm>
        </p:grpSpPr>
        <p:sp>
          <p:nvSpPr>
            <p:cNvPr id="493" name=""/>
            <p:cNvSpPr/>
            <p:nvPr/>
          </p:nvSpPr>
          <p:spPr>
            <a:xfrm>
              <a:off x="7508880" y="363852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508880" y="36385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7508520" y="36385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2936520" y="5695920"/>
            <a:ext cx="152640" cy="152280"/>
            <a:chOff x="2936520" y="5695920"/>
            <a:chExt cx="152640" cy="152280"/>
          </a:xfrm>
        </p:grpSpPr>
        <p:sp>
          <p:nvSpPr>
            <p:cNvPr id="497" name=""/>
            <p:cNvSpPr/>
            <p:nvPr/>
          </p:nvSpPr>
          <p:spPr>
            <a:xfrm>
              <a:off x="2936880" y="569592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936880" y="56959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936520" y="56959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2936520" y="5391000"/>
            <a:ext cx="152640" cy="152280"/>
            <a:chOff x="2936520" y="5391000"/>
            <a:chExt cx="152640" cy="152280"/>
          </a:xfrm>
        </p:grpSpPr>
        <p:sp>
          <p:nvSpPr>
            <p:cNvPr id="501" name=""/>
            <p:cNvSpPr/>
            <p:nvPr/>
          </p:nvSpPr>
          <p:spPr>
            <a:xfrm>
              <a:off x="2936880" y="539100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936880" y="539100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2936520" y="539100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3622320" y="5238720"/>
            <a:ext cx="152640" cy="152280"/>
            <a:chOff x="3622320" y="5238720"/>
            <a:chExt cx="152640" cy="152280"/>
          </a:xfrm>
        </p:grpSpPr>
        <p:sp>
          <p:nvSpPr>
            <p:cNvPr id="505" name=""/>
            <p:cNvSpPr/>
            <p:nvPr/>
          </p:nvSpPr>
          <p:spPr>
            <a:xfrm>
              <a:off x="3622680" y="523872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622680" y="5238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3622320" y="5238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3012840" y="4172040"/>
            <a:ext cx="152640" cy="152280"/>
            <a:chOff x="3012840" y="4172040"/>
            <a:chExt cx="152640" cy="152280"/>
          </a:xfrm>
        </p:grpSpPr>
        <p:sp>
          <p:nvSpPr>
            <p:cNvPr id="509" name=""/>
            <p:cNvSpPr/>
            <p:nvPr/>
          </p:nvSpPr>
          <p:spPr>
            <a:xfrm>
              <a:off x="3013200" y="41720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013200" y="4172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3012840" y="4172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2936520" y="2647800"/>
            <a:ext cx="152640" cy="152280"/>
            <a:chOff x="2936520" y="2647800"/>
            <a:chExt cx="152640" cy="152280"/>
          </a:xfrm>
        </p:grpSpPr>
        <p:sp>
          <p:nvSpPr>
            <p:cNvPr id="513" name=""/>
            <p:cNvSpPr/>
            <p:nvPr/>
          </p:nvSpPr>
          <p:spPr>
            <a:xfrm>
              <a:off x="2936880" y="264780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36880" y="264780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2936520" y="264780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2936520" y="2952720"/>
            <a:ext cx="152640" cy="152280"/>
            <a:chOff x="2936520" y="2952720"/>
            <a:chExt cx="152640" cy="152280"/>
          </a:xfrm>
        </p:grpSpPr>
        <p:sp>
          <p:nvSpPr>
            <p:cNvPr id="517" name=""/>
            <p:cNvSpPr/>
            <p:nvPr/>
          </p:nvSpPr>
          <p:spPr>
            <a:xfrm>
              <a:off x="2936880" y="295272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936880" y="2952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2936520" y="2952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2936520" y="3257640"/>
            <a:ext cx="152640" cy="152280"/>
            <a:chOff x="2936520" y="3257640"/>
            <a:chExt cx="152640" cy="152280"/>
          </a:xfrm>
        </p:grpSpPr>
        <p:sp>
          <p:nvSpPr>
            <p:cNvPr id="521" name=""/>
            <p:cNvSpPr/>
            <p:nvPr/>
          </p:nvSpPr>
          <p:spPr>
            <a:xfrm>
              <a:off x="2936880" y="32576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936880" y="3257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2936520" y="3257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3622320" y="2952720"/>
            <a:ext cx="152640" cy="152280"/>
            <a:chOff x="3622320" y="2952720"/>
            <a:chExt cx="152640" cy="152280"/>
          </a:xfrm>
        </p:grpSpPr>
        <p:sp>
          <p:nvSpPr>
            <p:cNvPr id="525" name=""/>
            <p:cNvSpPr/>
            <p:nvPr/>
          </p:nvSpPr>
          <p:spPr>
            <a:xfrm>
              <a:off x="3622680" y="295272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622680" y="2952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3622320" y="2952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622320" y="3257640"/>
            <a:ext cx="152640" cy="152280"/>
            <a:chOff x="3622320" y="3257640"/>
            <a:chExt cx="152640" cy="152280"/>
          </a:xfrm>
        </p:grpSpPr>
        <p:sp>
          <p:nvSpPr>
            <p:cNvPr id="529" name=""/>
            <p:cNvSpPr/>
            <p:nvPr/>
          </p:nvSpPr>
          <p:spPr>
            <a:xfrm>
              <a:off x="3622680" y="32576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622680" y="3257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3622320" y="3257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AND de 2 Entra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2290680"/>
            <a:ext cx="2327400" cy="380232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5983200" y="2409840"/>
            <a:ext cx="1600200" cy="1295280"/>
          </a:xfrm>
          <a:prstGeom prst="rect">
            <a:avLst/>
          </a:prstGeom>
          <a:solidFill>
            <a:srgbClr val="a686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983200" y="4772160"/>
            <a:ext cx="1371600" cy="1295280"/>
          </a:xfrm>
          <a:prstGeom prst="rect">
            <a:avLst/>
          </a:prstGeom>
          <a:solidFill>
            <a:srgbClr val="00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40400" y="2333520"/>
            <a:ext cx="152640" cy="38102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830920" y="1952640"/>
            <a:ext cx="1905120" cy="7621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830920" y="5762520"/>
            <a:ext cx="1905120" cy="7621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135840" y="4238640"/>
            <a:ext cx="304560" cy="304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440400" y="4238640"/>
            <a:ext cx="76320" cy="304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059160" y="2028960"/>
            <a:ext cx="152640" cy="152280"/>
            <a:chOff x="6059160" y="2028960"/>
            <a:chExt cx="152640" cy="152280"/>
          </a:xfrm>
        </p:grpSpPr>
        <p:sp>
          <p:nvSpPr>
            <p:cNvPr id="542" name=""/>
            <p:cNvSpPr/>
            <p:nvPr/>
          </p:nvSpPr>
          <p:spPr>
            <a:xfrm>
              <a:off x="6059520" y="202896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59520" y="202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6059160" y="202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6440040" y="2028960"/>
            <a:ext cx="152640" cy="152280"/>
            <a:chOff x="6440040" y="2028960"/>
            <a:chExt cx="152640" cy="152280"/>
          </a:xfrm>
        </p:grpSpPr>
        <p:sp>
          <p:nvSpPr>
            <p:cNvPr id="546" name=""/>
            <p:cNvSpPr/>
            <p:nvPr/>
          </p:nvSpPr>
          <p:spPr>
            <a:xfrm>
              <a:off x="6440400" y="202896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40400" y="202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6440040" y="202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6821280" y="2028960"/>
            <a:ext cx="152640" cy="152280"/>
            <a:chOff x="6821280" y="2028960"/>
            <a:chExt cx="152640" cy="152280"/>
          </a:xfrm>
        </p:grpSpPr>
        <p:sp>
          <p:nvSpPr>
            <p:cNvPr id="550" name=""/>
            <p:cNvSpPr/>
            <p:nvPr/>
          </p:nvSpPr>
          <p:spPr>
            <a:xfrm>
              <a:off x="6821640" y="202896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821640" y="202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6821280" y="202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6135480" y="6296040"/>
            <a:ext cx="152640" cy="152280"/>
            <a:chOff x="6135480" y="6296040"/>
            <a:chExt cx="152640" cy="152280"/>
          </a:xfrm>
        </p:grpSpPr>
        <p:sp>
          <p:nvSpPr>
            <p:cNvPr id="554" name=""/>
            <p:cNvSpPr/>
            <p:nvPr/>
          </p:nvSpPr>
          <p:spPr>
            <a:xfrm>
              <a:off x="6135840" y="629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35840" y="629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6135480" y="629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6473520" y="6296040"/>
            <a:ext cx="152640" cy="152280"/>
            <a:chOff x="6473520" y="6296040"/>
            <a:chExt cx="152640" cy="152280"/>
          </a:xfrm>
        </p:grpSpPr>
        <p:sp>
          <p:nvSpPr>
            <p:cNvPr id="558" name=""/>
            <p:cNvSpPr/>
            <p:nvPr/>
          </p:nvSpPr>
          <p:spPr>
            <a:xfrm>
              <a:off x="6473880" y="629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73880" y="629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6473520" y="629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6821280" y="6296040"/>
            <a:ext cx="152640" cy="152280"/>
            <a:chOff x="6821280" y="6296040"/>
            <a:chExt cx="152640" cy="152280"/>
          </a:xfrm>
        </p:grpSpPr>
        <p:sp>
          <p:nvSpPr>
            <p:cNvPr id="562" name=""/>
            <p:cNvSpPr/>
            <p:nvPr/>
          </p:nvSpPr>
          <p:spPr>
            <a:xfrm>
              <a:off x="6821640" y="629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821640" y="629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6821280" y="629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135480" y="2486160"/>
            <a:ext cx="152640" cy="152280"/>
            <a:chOff x="6135480" y="2486160"/>
            <a:chExt cx="152640" cy="152280"/>
          </a:xfrm>
        </p:grpSpPr>
        <p:sp>
          <p:nvSpPr>
            <p:cNvPr id="566" name=""/>
            <p:cNvSpPr/>
            <p:nvPr/>
          </p:nvSpPr>
          <p:spPr>
            <a:xfrm>
              <a:off x="6135840" y="24861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135840" y="24861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6135480" y="24861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5907240" y="39337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277760" y="484812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7354440" y="2181240"/>
            <a:ext cx="364680" cy="294480"/>
            <a:chOff x="7354440" y="2181240"/>
            <a:chExt cx="364680" cy="294480"/>
          </a:xfrm>
        </p:grpSpPr>
        <p:sp>
          <p:nvSpPr>
            <p:cNvPr id="572" name=""/>
            <p:cNvSpPr/>
            <p:nvPr/>
          </p:nvSpPr>
          <p:spPr>
            <a:xfrm>
              <a:off x="7354440" y="21812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462440" y="226224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7354800" y="6067440"/>
            <a:ext cx="39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059520" y="2714760"/>
            <a:ext cx="304920" cy="91440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059520" y="4848120"/>
            <a:ext cx="304920" cy="12193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059520" y="4238640"/>
            <a:ext cx="380880" cy="3049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973920" y="4772160"/>
            <a:ext cx="304920" cy="60948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830920" y="2104920"/>
            <a:ext cx="1905120" cy="426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754600" y="1800360"/>
            <a:ext cx="2057400" cy="2590560"/>
          </a:xfrm>
          <a:prstGeom prst="rect">
            <a:avLst/>
          </a:prstGeom>
          <a:noFill/>
          <a:ln w="12600">
            <a:solidFill>
              <a:srgbClr val="a68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6135480" y="5838840"/>
            <a:ext cx="152640" cy="152280"/>
            <a:chOff x="6135480" y="5838840"/>
            <a:chExt cx="152640" cy="152280"/>
          </a:xfrm>
        </p:grpSpPr>
        <p:sp>
          <p:nvSpPr>
            <p:cNvPr id="582" name=""/>
            <p:cNvSpPr/>
            <p:nvPr/>
          </p:nvSpPr>
          <p:spPr>
            <a:xfrm>
              <a:off x="6135840" y="58388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135840" y="58388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6135480" y="58388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6135480" y="5533920"/>
            <a:ext cx="152640" cy="152280"/>
            <a:chOff x="6135480" y="5533920"/>
            <a:chExt cx="152640" cy="152280"/>
          </a:xfrm>
        </p:grpSpPr>
        <p:sp>
          <p:nvSpPr>
            <p:cNvPr id="586" name=""/>
            <p:cNvSpPr/>
            <p:nvPr/>
          </p:nvSpPr>
          <p:spPr>
            <a:xfrm>
              <a:off x="6135840" y="553392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135840" y="55339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6135480" y="55339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7049880" y="5153040"/>
            <a:ext cx="152640" cy="152280"/>
            <a:chOff x="7049880" y="5153040"/>
            <a:chExt cx="152640" cy="152280"/>
          </a:xfrm>
        </p:grpSpPr>
        <p:sp>
          <p:nvSpPr>
            <p:cNvPr id="590" name=""/>
            <p:cNvSpPr/>
            <p:nvPr/>
          </p:nvSpPr>
          <p:spPr>
            <a:xfrm>
              <a:off x="7050240" y="51530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50240" y="5153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7049880" y="5153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6211440" y="4314960"/>
            <a:ext cx="152640" cy="152280"/>
            <a:chOff x="6211440" y="4314960"/>
            <a:chExt cx="152640" cy="152280"/>
          </a:xfrm>
        </p:grpSpPr>
        <p:sp>
          <p:nvSpPr>
            <p:cNvPr id="594" name=""/>
            <p:cNvSpPr/>
            <p:nvPr/>
          </p:nvSpPr>
          <p:spPr>
            <a:xfrm>
              <a:off x="6211800" y="43149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211800" y="4314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6211440" y="4314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6135480" y="2790720"/>
            <a:ext cx="152640" cy="152280"/>
            <a:chOff x="6135480" y="2790720"/>
            <a:chExt cx="152640" cy="152280"/>
          </a:xfrm>
        </p:grpSpPr>
        <p:sp>
          <p:nvSpPr>
            <p:cNvPr id="598" name=""/>
            <p:cNvSpPr/>
            <p:nvPr/>
          </p:nvSpPr>
          <p:spPr>
            <a:xfrm>
              <a:off x="6135840" y="279072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35840" y="2790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6135480" y="2790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6135480" y="3095640"/>
            <a:ext cx="152640" cy="152280"/>
            <a:chOff x="6135480" y="3095640"/>
            <a:chExt cx="152640" cy="152280"/>
          </a:xfrm>
        </p:grpSpPr>
        <p:sp>
          <p:nvSpPr>
            <p:cNvPr id="602" name=""/>
            <p:cNvSpPr/>
            <p:nvPr/>
          </p:nvSpPr>
          <p:spPr>
            <a:xfrm>
              <a:off x="6135840" y="30956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135840" y="3095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6135480" y="3095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6135480" y="3400560"/>
            <a:ext cx="152640" cy="152280"/>
            <a:chOff x="6135480" y="3400560"/>
            <a:chExt cx="152640" cy="152280"/>
          </a:xfrm>
        </p:grpSpPr>
        <p:sp>
          <p:nvSpPr>
            <p:cNvPr id="606" name=""/>
            <p:cNvSpPr/>
            <p:nvPr/>
          </p:nvSpPr>
          <p:spPr>
            <a:xfrm>
              <a:off x="6135840" y="34005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135840" y="3400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6135480" y="3400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6745320" y="4238640"/>
            <a:ext cx="152280" cy="19051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669000" y="3019320"/>
            <a:ext cx="304920" cy="198144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6744960" y="3095640"/>
            <a:ext cx="152640" cy="152280"/>
            <a:chOff x="6744960" y="3095640"/>
            <a:chExt cx="152640" cy="152280"/>
          </a:xfrm>
        </p:grpSpPr>
        <p:sp>
          <p:nvSpPr>
            <p:cNvPr id="612" name=""/>
            <p:cNvSpPr/>
            <p:nvPr/>
          </p:nvSpPr>
          <p:spPr>
            <a:xfrm>
              <a:off x="6745320" y="30956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745320" y="3095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6744960" y="3095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6744960" y="3400560"/>
            <a:ext cx="152640" cy="152280"/>
            <a:chOff x="6744960" y="3400560"/>
            <a:chExt cx="152640" cy="152280"/>
          </a:xfrm>
        </p:grpSpPr>
        <p:sp>
          <p:nvSpPr>
            <p:cNvPr id="616" name=""/>
            <p:cNvSpPr/>
            <p:nvPr/>
          </p:nvSpPr>
          <p:spPr>
            <a:xfrm>
              <a:off x="6745320" y="34005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745320" y="3400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6744960" y="3400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6745320" y="4238640"/>
            <a:ext cx="45720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050240" y="2333520"/>
            <a:ext cx="152280" cy="20574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897600" y="4238640"/>
            <a:ext cx="533520" cy="304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126200" y="4238640"/>
            <a:ext cx="381240" cy="30492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202160" y="4314960"/>
            <a:ext cx="152640" cy="152280"/>
            <a:chOff x="7202160" y="4314960"/>
            <a:chExt cx="152640" cy="152280"/>
          </a:xfrm>
        </p:grpSpPr>
        <p:sp>
          <p:nvSpPr>
            <p:cNvPr id="624" name=""/>
            <p:cNvSpPr/>
            <p:nvPr/>
          </p:nvSpPr>
          <p:spPr>
            <a:xfrm>
              <a:off x="7202520" y="43149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202520" y="4314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202160" y="4314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7354440" y="2486160"/>
            <a:ext cx="152640" cy="152280"/>
            <a:chOff x="7354440" y="2486160"/>
            <a:chExt cx="152640" cy="152280"/>
          </a:xfrm>
        </p:grpSpPr>
        <p:sp>
          <p:nvSpPr>
            <p:cNvPr id="628" name=""/>
            <p:cNvSpPr/>
            <p:nvPr/>
          </p:nvSpPr>
          <p:spPr>
            <a:xfrm>
              <a:off x="7354800" y="24861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354800" y="24861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7354440" y="24861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7278840" y="2714760"/>
            <a:ext cx="304560" cy="914400"/>
          </a:xfrm>
          <a:prstGeom prst="rect">
            <a:avLst/>
          </a:prstGeom>
          <a:solidFill>
            <a:srgbClr val="2e8c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7354440" y="2790720"/>
            <a:ext cx="152640" cy="152280"/>
            <a:chOff x="7354440" y="2790720"/>
            <a:chExt cx="152640" cy="152280"/>
          </a:xfrm>
        </p:grpSpPr>
        <p:sp>
          <p:nvSpPr>
            <p:cNvPr id="633" name=""/>
            <p:cNvSpPr/>
            <p:nvPr/>
          </p:nvSpPr>
          <p:spPr>
            <a:xfrm>
              <a:off x="7354800" y="279072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54800" y="2790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7354440" y="27907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7354440" y="3095640"/>
            <a:ext cx="152640" cy="152280"/>
            <a:chOff x="7354440" y="3095640"/>
            <a:chExt cx="152640" cy="152280"/>
          </a:xfrm>
        </p:grpSpPr>
        <p:sp>
          <p:nvSpPr>
            <p:cNvPr id="637" name=""/>
            <p:cNvSpPr/>
            <p:nvPr/>
          </p:nvSpPr>
          <p:spPr>
            <a:xfrm>
              <a:off x="7354800" y="30956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354800" y="3095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354440" y="30956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7354440" y="3400560"/>
            <a:ext cx="152640" cy="152280"/>
            <a:chOff x="7354440" y="3400560"/>
            <a:chExt cx="152640" cy="152280"/>
          </a:xfrm>
        </p:grpSpPr>
        <p:sp>
          <p:nvSpPr>
            <p:cNvPr id="641" name=""/>
            <p:cNvSpPr/>
            <p:nvPr/>
          </p:nvSpPr>
          <p:spPr>
            <a:xfrm>
              <a:off x="7354800" y="34005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354800" y="3400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7354440" y="34005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7431120" y="39337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7202160" y="6296040"/>
            <a:ext cx="152640" cy="152280"/>
            <a:chOff x="7202160" y="6296040"/>
            <a:chExt cx="152640" cy="152280"/>
          </a:xfrm>
        </p:grpSpPr>
        <p:sp>
          <p:nvSpPr>
            <p:cNvPr id="646" name=""/>
            <p:cNvSpPr/>
            <p:nvPr/>
          </p:nvSpPr>
          <p:spPr>
            <a:xfrm>
              <a:off x="7202520" y="629604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202520" y="629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7202160" y="62960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7202160" y="2028960"/>
            <a:ext cx="152640" cy="152280"/>
            <a:chOff x="7202160" y="2028960"/>
            <a:chExt cx="152640" cy="152280"/>
          </a:xfrm>
        </p:grpSpPr>
        <p:sp>
          <p:nvSpPr>
            <p:cNvPr id="650" name=""/>
            <p:cNvSpPr/>
            <p:nvPr/>
          </p:nvSpPr>
          <p:spPr>
            <a:xfrm>
              <a:off x="7202520" y="2028960"/>
              <a:ext cx="152280" cy="152280"/>
            </a:xfrm>
            <a:prstGeom prst="rect">
              <a:avLst/>
            </a:prstGeom>
            <a:solidFill>
              <a:srgbClr val="2562b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202520" y="202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7202160" y="20289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7049880" y="4848120"/>
            <a:ext cx="152640" cy="152280"/>
            <a:chOff x="7049880" y="4848120"/>
            <a:chExt cx="152640" cy="152280"/>
          </a:xfrm>
        </p:grpSpPr>
        <p:sp>
          <p:nvSpPr>
            <p:cNvPr id="654" name=""/>
            <p:cNvSpPr/>
            <p:nvPr/>
          </p:nvSpPr>
          <p:spPr>
            <a:xfrm>
              <a:off x="7050240" y="484812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050240" y="4848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049880" y="484812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6135480" y="5229360"/>
            <a:ext cx="152640" cy="152280"/>
            <a:chOff x="6135480" y="5229360"/>
            <a:chExt cx="152640" cy="152280"/>
          </a:xfrm>
        </p:grpSpPr>
        <p:sp>
          <p:nvSpPr>
            <p:cNvPr id="658" name=""/>
            <p:cNvSpPr/>
            <p:nvPr/>
          </p:nvSpPr>
          <p:spPr>
            <a:xfrm>
              <a:off x="6135840" y="522936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135840" y="52293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135480" y="522936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6135480" y="4924440"/>
            <a:ext cx="152640" cy="152280"/>
            <a:chOff x="6135480" y="4924440"/>
            <a:chExt cx="152640" cy="152280"/>
          </a:xfrm>
        </p:grpSpPr>
        <p:sp>
          <p:nvSpPr>
            <p:cNvPr id="662" name=""/>
            <p:cNvSpPr/>
            <p:nvPr/>
          </p:nvSpPr>
          <p:spPr>
            <a:xfrm>
              <a:off x="6135840" y="4924440"/>
              <a:ext cx="152280" cy="152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135840" y="49244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6135480" y="4924440"/>
              <a:ext cx="152280" cy="152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agrama St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representa dimen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presenta la posición relativa de los transis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172200" y="5432400"/>
            <a:ext cx="1066680" cy="0"/>
          </a:xfrm>
          <a:prstGeom prst="line">
            <a:avLst/>
          </a:prstGeom>
          <a:ln w="3816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438280" y="4213080"/>
            <a:ext cx="990720" cy="0"/>
          </a:xfrm>
          <a:prstGeom prst="line">
            <a:avLst/>
          </a:prstGeom>
          <a:ln w="38160">
            <a:solidFill>
              <a:srgbClr val="a68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438280" y="5203800"/>
            <a:ext cx="990720" cy="0"/>
          </a:xfrm>
          <a:prstGeom prst="line">
            <a:avLst/>
          </a:prstGeom>
          <a:ln w="3816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133720" y="3527280"/>
            <a:ext cx="144756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133720" y="5813280"/>
            <a:ext cx="152388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895480" y="3984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514600" y="3527280"/>
            <a:ext cx="0" cy="68580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514600" y="5203800"/>
            <a:ext cx="0" cy="60948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438280" y="413712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2438280" y="413712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438280" y="5127480"/>
            <a:ext cx="1526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2438280" y="5127480"/>
            <a:ext cx="1526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276720" y="4213080"/>
            <a:ext cx="0" cy="106704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200400" y="413712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3200040" y="413712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200400" y="51274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3200040" y="51274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18440" y="550872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351600" y="467028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1752480" y="3451320"/>
            <a:ext cx="365040" cy="294480"/>
            <a:chOff x="1752480" y="3451320"/>
            <a:chExt cx="365040" cy="294480"/>
          </a:xfrm>
        </p:grpSpPr>
        <p:sp>
          <p:nvSpPr>
            <p:cNvPr id="687" name=""/>
            <p:cNvSpPr/>
            <p:nvPr/>
          </p:nvSpPr>
          <p:spPr>
            <a:xfrm>
              <a:off x="1752480" y="34513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860840" y="353232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1600200" y="5737320"/>
            <a:ext cx="39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18320" y="372744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 Antiqua"/>
              </a:rPr>
              <a:t>Inver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705720" y="3832200"/>
            <a:ext cx="533160" cy="0"/>
          </a:xfrm>
          <a:prstGeom prst="line">
            <a:avLst/>
          </a:prstGeom>
          <a:ln w="38160">
            <a:solidFill>
              <a:srgbClr val="a68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943600" y="3527280"/>
            <a:ext cx="137160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943600" y="5813280"/>
            <a:ext cx="144792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248520" y="3527280"/>
            <a:ext cx="0" cy="30492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248520" y="5432400"/>
            <a:ext cx="0" cy="38088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72200" y="53560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6171840" y="53560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162920" y="4137120"/>
            <a:ext cx="0" cy="129528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086600" y="53560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7086240" y="53560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477120" y="5584680"/>
            <a:ext cx="15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237800" y="467028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5562360" y="3451320"/>
            <a:ext cx="364680" cy="294480"/>
            <a:chOff x="5562360" y="3451320"/>
            <a:chExt cx="364680" cy="294480"/>
          </a:xfrm>
        </p:grpSpPr>
        <p:sp>
          <p:nvSpPr>
            <p:cNvPr id="704" name=""/>
            <p:cNvSpPr/>
            <p:nvPr/>
          </p:nvSpPr>
          <p:spPr>
            <a:xfrm>
              <a:off x="5562360" y="34513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670360" y="353232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5486400" y="5737320"/>
            <a:ext cx="39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172200" y="3832200"/>
            <a:ext cx="533520" cy="0"/>
          </a:xfrm>
          <a:prstGeom prst="line">
            <a:avLst/>
          </a:prstGeom>
          <a:ln w="38160">
            <a:solidFill>
              <a:srgbClr val="a68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553080" y="3679920"/>
            <a:ext cx="0" cy="190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858000" y="3679920"/>
            <a:ext cx="0" cy="190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172200" y="37558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6171840" y="37558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629400" y="37558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6629040" y="37558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086600" y="37558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7086240" y="37558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705720" y="4137120"/>
            <a:ext cx="45720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705720" y="3832200"/>
            <a:ext cx="0" cy="30492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781680" y="5584680"/>
            <a:ext cx="15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738680" y="38797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NAN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162920" y="3527280"/>
            <a:ext cx="0" cy="30492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unciones Comple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1901880" cy="482760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4827960" y="3205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27960" y="3433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827600" y="3662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892840" y="3433680"/>
            <a:ext cx="457200" cy="533520"/>
          </a:xfrm>
          <a:prstGeom prst="flowChartDelay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5435640" y="3357720"/>
            <a:ext cx="45720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350" y="3068"/>
                  <a:pt x="17100" y="5080"/>
                  <a:pt x="17100" y="10800"/>
                </a:cubicBezTo>
                <a:cubicBezTo>
                  <a:pt x="17100" y="16520"/>
                  <a:pt x="19350" y="1853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207040" y="3433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207040" y="3662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207040" y="3890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502320" y="3738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350040" y="3662280"/>
            <a:ext cx="152280" cy="152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805800" y="3537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os Versiones 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5219640" y="955800"/>
                <a:ext cx="16574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736" name=""/>
          <p:cNvSpPr/>
          <p:nvPr/>
        </p:nvSpPr>
        <p:spPr>
          <a:xfrm>
            <a:off x="3353040" y="38401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055960" y="2773440"/>
            <a:ext cx="75960" cy="2743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970360" y="2773440"/>
            <a:ext cx="75960" cy="2743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884760" y="2773440"/>
            <a:ext cx="75960" cy="2743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674720" y="4373640"/>
            <a:ext cx="1752840" cy="75960"/>
          </a:xfrm>
          <a:prstGeom prst="rect">
            <a:avLst/>
          </a:prstGeom>
          <a:solidFill>
            <a:srgbClr val="00c000">
              <a:alpha val="50000"/>
            </a:srgbClr>
          </a:solidFill>
          <a:ln w="1260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598760" y="3687840"/>
            <a:ext cx="2666880" cy="75960"/>
          </a:xfrm>
          <a:prstGeom prst="rect">
            <a:avLst/>
          </a:prstGeom>
          <a:solidFill>
            <a:srgbClr val="f08f00">
              <a:alpha val="50000"/>
            </a:srgbClr>
          </a:solidFill>
          <a:ln w="12600">
            <a:solidFill>
              <a:srgbClr val="f08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819160" y="2316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905480" y="2316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734280" y="2316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674720" y="4373640"/>
            <a:ext cx="76320" cy="68580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189320" y="4373640"/>
            <a:ext cx="76320" cy="68580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351240" y="3687840"/>
            <a:ext cx="76320" cy="76176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579840" y="4373640"/>
            <a:ext cx="685800" cy="75960"/>
          </a:xfrm>
          <a:prstGeom prst="rect">
            <a:avLst/>
          </a:prstGeom>
          <a:solidFill>
            <a:srgbClr val="00c000">
              <a:alpha val="50000"/>
            </a:srgbClr>
          </a:solidFill>
          <a:ln w="1260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579840" y="4373640"/>
            <a:ext cx="76320" cy="3808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513160" y="4373640"/>
            <a:ext cx="75960" cy="3808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513160" y="4678200"/>
            <a:ext cx="1143000" cy="763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598760" y="3382920"/>
            <a:ext cx="75960" cy="3808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189320" y="3382920"/>
            <a:ext cx="76320" cy="3808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741760" y="3382920"/>
            <a:ext cx="1523880" cy="763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598760" y="3382920"/>
            <a:ext cx="761760" cy="763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284560" y="3382920"/>
            <a:ext cx="533160" cy="76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789520" y="2773440"/>
            <a:ext cx="76320" cy="2743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627960" y="2773440"/>
            <a:ext cx="75960" cy="2743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466040" y="2773440"/>
            <a:ext cx="76320" cy="2743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484960" y="4373640"/>
            <a:ext cx="2438280" cy="75960"/>
          </a:xfrm>
          <a:prstGeom prst="rect">
            <a:avLst/>
          </a:prstGeom>
          <a:solidFill>
            <a:srgbClr val="00c000">
              <a:alpha val="50000"/>
            </a:srgbClr>
          </a:solidFill>
          <a:ln w="1260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484960" y="3687840"/>
            <a:ext cx="2361960" cy="75960"/>
          </a:xfrm>
          <a:prstGeom prst="rect">
            <a:avLst/>
          </a:prstGeom>
          <a:solidFill>
            <a:srgbClr val="f08f00">
              <a:alpha val="50000"/>
            </a:srgbClr>
          </a:solidFill>
          <a:ln w="12600">
            <a:solidFill>
              <a:srgbClr val="f08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639040" y="2316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477480" y="2316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315200" y="2316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170760" y="4373640"/>
            <a:ext cx="75960" cy="68580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484960" y="4068720"/>
            <a:ext cx="75960" cy="3808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484960" y="4068720"/>
            <a:ext cx="1523880" cy="763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932520" y="4068720"/>
            <a:ext cx="76320" cy="3808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770960" y="3992400"/>
            <a:ext cx="75960" cy="45720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161120" y="3992400"/>
            <a:ext cx="685800" cy="7632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161120" y="3687840"/>
            <a:ext cx="76320" cy="38088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484960" y="3078000"/>
            <a:ext cx="75960" cy="68580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770960" y="3078000"/>
            <a:ext cx="75960" cy="68580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772400" y="38401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8089920" y="292572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8000280" y="4830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003320" y="292572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913680" y="4830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98760" y="4983120"/>
            <a:ext cx="2743200" cy="7632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598760" y="3078000"/>
            <a:ext cx="2590560" cy="7632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332320" y="4983120"/>
            <a:ext cx="2590920" cy="7632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408640" y="3078000"/>
            <a:ext cx="2590920" cy="7632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513160" y="3078000"/>
            <a:ext cx="75960" cy="685800"/>
          </a:xfrm>
          <a:prstGeom prst="rect">
            <a:avLst/>
          </a:prstGeom>
          <a:solidFill>
            <a:srgbClr val="3366cc">
              <a:alpha val="50000"/>
            </a:srgbClr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piedades de las Puertas CM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ta protección al ru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usencia de consumo estático (en estado estático no hay camino entre Vdd y GN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mpos de subida y bajada simila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ircuitos Combinatorios – Circuitos Secuenci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2924280"/>
            <a:ext cx="1439640" cy="1009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ircuito Lógico Combina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4280" y="299736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4280" y="3429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4280" y="386064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87560" y="306864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87560" y="378936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0000" y="326880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09000" y="326880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53080" y="2924280"/>
            <a:ext cx="1440000" cy="1225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ircuito Lógico Combina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93080" y="378936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39337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24720" y="378936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80360" y="3933720"/>
            <a:ext cx="0" cy="50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219280" y="4581360"/>
            <a:ext cx="2305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363640" y="443700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64000" y="3933720"/>
            <a:ext cx="0" cy="50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93372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219640" y="378936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19640" y="378936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59280" y="3068640"/>
            <a:ext cx="7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9280" y="3357720"/>
            <a:ext cx="7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59280" y="3645000"/>
            <a:ext cx="7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93080" y="3141720"/>
            <a:ext cx="79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93080" y="3573360"/>
            <a:ext cx="79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885440" y="321300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28360" y="321300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56120" y="5176800"/>
            <a:ext cx="15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ircu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bina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75480" y="5164200"/>
            <a:ext cx="129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ircu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cu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53080" y="4365720"/>
            <a:ext cx="144000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delo con Switc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5387760" y="1668600"/>
            <a:ext cx="177840" cy="453960"/>
            <a:chOff x="5387760" y="1668600"/>
            <a:chExt cx="177840" cy="453960"/>
          </a:xfrm>
        </p:grpSpPr>
        <p:sp>
          <p:nvSpPr>
            <p:cNvPr id="788" name=""/>
            <p:cNvSpPr/>
            <p:nvPr/>
          </p:nvSpPr>
          <p:spPr>
            <a:xfrm>
              <a:off x="5476680" y="1668600"/>
              <a:ext cx="88560" cy="4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5387760" y="1713960"/>
              <a:ext cx="17748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388120" y="1804680"/>
              <a:ext cx="177480" cy="4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5387760" y="1850040"/>
              <a:ext cx="17748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388120" y="1940760"/>
              <a:ext cx="177480" cy="4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5387760" y="1986480"/>
              <a:ext cx="17748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88120" y="2077200"/>
              <a:ext cx="88560" cy="4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5435640" y="2421000"/>
            <a:ext cx="58680" cy="65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295960" y="2187720"/>
            <a:ext cx="177840" cy="25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5473800" y="1474920"/>
            <a:ext cx="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473800" y="2443320"/>
            <a:ext cx="0" cy="25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092560" y="2122560"/>
            <a:ext cx="27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519880" y="1668600"/>
            <a:ext cx="52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416400" y="1855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416400" y="1855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416400" y="2160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340080" y="1855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645000" y="216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111480" y="2008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3645000" y="1626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254480" y="19321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4330800" y="3192120"/>
            <a:ext cx="869040" cy="1295280"/>
            <a:chOff x="4330800" y="3192120"/>
            <a:chExt cx="869040" cy="1295280"/>
          </a:xfrm>
        </p:grpSpPr>
        <p:grpSp>
          <p:nvGrpSpPr>
            <p:cNvPr id="810" name=""/>
            <p:cNvGrpSpPr/>
            <p:nvPr/>
          </p:nvGrpSpPr>
          <p:grpSpPr>
            <a:xfrm>
              <a:off x="4626720" y="3386520"/>
              <a:ext cx="177120" cy="452880"/>
              <a:chOff x="4626720" y="3386520"/>
              <a:chExt cx="177120" cy="452880"/>
            </a:xfrm>
          </p:grpSpPr>
          <p:sp>
            <p:nvSpPr>
              <p:cNvPr id="811" name=""/>
              <p:cNvSpPr/>
              <p:nvPr/>
            </p:nvSpPr>
            <p:spPr>
              <a:xfrm>
                <a:off x="4714920" y="338652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4626720" y="343188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26720" y="3522240"/>
                <a:ext cx="1771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>
                <a:off x="4626720" y="356760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626720" y="3657960"/>
                <a:ext cx="1771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4626720" y="370332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626720" y="3794040"/>
                <a:ext cx="8820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8" name=""/>
            <p:cNvSpPr/>
            <p:nvPr/>
          </p:nvSpPr>
          <p:spPr>
            <a:xfrm>
              <a:off x="4685400" y="4163760"/>
              <a:ext cx="59040" cy="64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507920" y="3904560"/>
              <a:ext cx="17712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4685400" y="3192120"/>
              <a:ext cx="0" cy="19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685400" y="4228560"/>
              <a:ext cx="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330800" y="383976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752360" y="33865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4330800" y="3192120"/>
            <a:ext cx="869040" cy="1295280"/>
            <a:chOff x="4330800" y="3192120"/>
            <a:chExt cx="869040" cy="1295280"/>
          </a:xfrm>
        </p:grpSpPr>
        <p:grpSp>
          <p:nvGrpSpPr>
            <p:cNvPr id="825" name=""/>
            <p:cNvGrpSpPr/>
            <p:nvPr/>
          </p:nvGrpSpPr>
          <p:grpSpPr>
            <a:xfrm>
              <a:off x="4626720" y="3386520"/>
              <a:ext cx="177120" cy="452880"/>
              <a:chOff x="4626720" y="3386520"/>
              <a:chExt cx="177120" cy="452880"/>
            </a:xfrm>
          </p:grpSpPr>
          <p:sp>
            <p:nvSpPr>
              <p:cNvPr id="826" name=""/>
              <p:cNvSpPr/>
              <p:nvPr/>
            </p:nvSpPr>
            <p:spPr>
              <a:xfrm>
                <a:off x="4714920" y="338652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4626720" y="343188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626720" y="3522240"/>
                <a:ext cx="1771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4626720" y="356760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626720" y="3657960"/>
                <a:ext cx="1771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4626720" y="370332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626720" y="3794040"/>
                <a:ext cx="8820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3" name=""/>
            <p:cNvSpPr/>
            <p:nvPr/>
          </p:nvSpPr>
          <p:spPr>
            <a:xfrm>
              <a:off x="4685400" y="4163760"/>
              <a:ext cx="59040" cy="64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507920" y="3904560"/>
              <a:ext cx="17712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4685400" y="3192120"/>
              <a:ext cx="0" cy="19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685400" y="4228560"/>
              <a:ext cx="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330800" y="383976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752360" y="33865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9" name=""/>
          <p:cNvSpPr/>
          <p:nvPr/>
        </p:nvSpPr>
        <p:spPr>
          <a:xfrm>
            <a:off x="4330800" y="38782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711680" y="43354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4260960" y="4335480"/>
            <a:ext cx="603000" cy="1371240"/>
            <a:chOff x="4260960" y="4335480"/>
            <a:chExt cx="603000" cy="1371240"/>
          </a:xfrm>
        </p:grpSpPr>
        <p:grpSp>
          <p:nvGrpSpPr>
            <p:cNvPr id="842" name=""/>
            <p:cNvGrpSpPr/>
            <p:nvPr/>
          </p:nvGrpSpPr>
          <p:grpSpPr>
            <a:xfrm>
              <a:off x="4626000" y="4529160"/>
              <a:ext cx="177840" cy="453960"/>
              <a:chOff x="4626000" y="4529160"/>
              <a:chExt cx="177840" cy="453960"/>
            </a:xfrm>
          </p:grpSpPr>
          <p:sp>
            <p:nvSpPr>
              <p:cNvPr id="843" name=""/>
              <p:cNvSpPr/>
              <p:nvPr/>
            </p:nvSpPr>
            <p:spPr>
              <a:xfrm>
                <a:off x="4714560" y="4529160"/>
                <a:ext cx="889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4626000" y="457452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626000" y="466524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4626000" y="471060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626000" y="480132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4626000" y="484704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626000" y="493776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4686120" y="5307120"/>
              <a:ext cx="59040" cy="65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08640" y="5048280"/>
              <a:ext cx="17748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4686120" y="4335480"/>
              <a:ext cx="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686120" y="5372280"/>
              <a:ext cx="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330800" y="498312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260960" y="44877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6" name=""/>
            <p:cNvGrpSpPr/>
            <p:nvPr/>
          </p:nvGrpSpPr>
          <p:grpSpPr>
            <a:xfrm>
              <a:off x="4559400" y="5630760"/>
              <a:ext cx="304560" cy="75960"/>
              <a:chOff x="4559400" y="5630760"/>
              <a:chExt cx="304560" cy="75960"/>
            </a:xfrm>
          </p:grpSpPr>
          <p:sp>
            <p:nvSpPr>
              <p:cNvPr id="857" name=""/>
              <p:cNvSpPr/>
              <p:nvPr/>
            </p:nvSpPr>
            <p:spPr>
              <a:xfrm>
                <a:off x="4559400" y="563076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635360" y="5706720"/>
                <a:ext cx="15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9" name=""/>
          <p:cNvGrpSpPr/>
          <p:nvPr/>
        </p:nvGrpSpPr>
        <p:grpSpPr>
          <a:xfrm>
            <a:off x="5092560" y="4335480"/>
            <a:ext cx="747720" cy="663480"/>
            <a:chOff x="5092560" y="4335480"/>
            <a:chExt cx="747720" cy="663480"/>
          </a:xfrm>
        </p:grpSpPr>
        <p:grpSp>
          <p:nvGrpSpPr>
            <p:cNvPr id="860" name=""/>
            <p:cNvGrpSpPr/>
            <p:nvPr/>
          </p:nvGrpSpPr>
          <p:grpSpPr>
            <a:xfrm>
              <a:off x="5092560" y="4889880"/>
              <a:ext cx="352440" cy="55080"/>
              <a:chOff x="5092560" y="4889880"/>
              <a:chExt cx="352440" cy="55080"/>
            </a:xfrm>
          </p:grpSpPr>
          <p:sp>
            <p:nvSpPr>
              <p:cNvPr id="861" name=""/>
              <p:cNvSpPr/>
              <p:nvPr/>
            </p:nvSpPr>
            <p:spPr>
              <a:xfrm>
                <a:off x="5092560" y="4889880"/>
                <a:ext cx="352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151240" y="4944960"/>
                <a:ext cx="235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3" name=""/>
            <p:cNvSpPr/>
            <p:nvPr/>
          </p:nvSpPr>
          <p:spPr>
            <a:xfrm>
              <a:off x="5268600" y="4335480"/>
              <a:ext cx="0" cy="27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092560" y="4612320"/>
              <a:ext cx="35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092560" y="4668120"/>
              <a:ext cx="35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268600" y="4668120"/>
              <a:ext cx="0" cy="22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392800" y="45583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4532400" y="319104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330800" y="38782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806560" y="1779480"/>
            <a:ext cx="27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2197080" y="3878280"/>
            <a:ext cx="747720" cy="663480"/>
            <a:chOff x="2197080" y="3878280"/>
            <a:chExt cx="747720" cy="663480"/>
          </a:xfrm>
        </p:grpSpPr>
        <p:grpSp>
          <p:nvGrpSpPr>
            <p:cNvPr id="872" name=""/>
            <p:cNvGrpSpPr/>
            <p:nvPr/>
          </p:nvGrpSpPr>
          <p:grpSpPr>
            <a:xfrm>
              <a:off x="2197080" y="4432680"/>
              <a:ext cx="352440" cy="55080"/>
              <a:chOff x="2197080" y="4432680"/>
              <a:chExt cx="352440" cy="55080"/>
            </a:xfrm>
          </p:grpSpPr>
          <p:sp>
            <p:nvSpPr>
              <p:cNvPr id="873" name=""/>
              <p:cNvSpPr/>
              <p:nvPr/>
            </p:nvSpPr>
            <p:spPr>
              <a:xfrm>
                <a:off x="2197080" y="4432680"/>
                <a:ext cx="352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255760" y="4487760"/>
                <a:ext cx="235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5" name=""/>
            <p:cNvSpPr/>
            <p:nvPr/>
          </p:nvSpPr>
          <p:spPr>
            <a:xfrm>
              <a:off x="2373120" y="3878280"/>
              <a:ext cx="0" cy="27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197080" y="4155120"/>
              <a:ext cx="35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197080" y="4210920"/>
              <a:ext cx="35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373120" y="4210920"/>
              <a:ext cx="0" cy="22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497320" y="41011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1806480" y="4071960"/>
            <a:ext cx="177840" cy="453960"/>
            <a:chOff x="1806480" y="4071960"/>
            <a:chExt cx="177840" cy="453960"/>
          </a:xfrm>
        </p:grpSpPr>
        <p:sp>
          <p:nvSpPr>
            <p:cNvPr id="881" name=""/>
            <p:cNvSpPr/>
            <p:nvPr/>
          </p:nvSpPr>
          <p:spPr>
            <a:xfrm>
              <a:off x="1895040" y="4071960"/>
              <a:ext cx="88920" cy="4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1806480" y="4117320"/>
              <a:ext cx="17784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806480" y="4208040"/>
              <a:ext cx="177840" cy="4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1806480" y="4253400"/>
              <a:ext cx="17784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806480" y="4344120"/>
              <a:ext cx="177840" cy="4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1806480" y="4389840"/>
              <a:ext cx="17784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806480" y="4480560"/>
              <a:ext cx="88560" cy="4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1866960" y="4849920"/>
            <a:ext cx="58680" cy="65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689120" y="4591080"/>
            <a:ext cx="177840" cy="25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866960" y="3878280"/>
            <a:ext cx="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866960" y="4915080"/>
            <a:ext cx="0" cy="25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511280" y="4525920"/>
            <a:ext cx="27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441440" y="403056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977760" y="2658960"/>
            <a:ext cx="869760" cy="1184040"/>
            <a:chOff x="977760" y="2658960"/>
            <a:chExt cx="869760" cy="1184040"/>
          </a:xfrm>
        </p:grpSpPr>
        <p:grpSp>
          <p:nvGrpSpPr>
            <p:cNvPr id="895" name=""/>
            <p:cNvGrpSpPr/>
            <p:nvPr/>
          </p:nvGrpSpPr>
          <p:grpSpPr>
            <a:xfrm>
              <a:off x="1272960" y="2852640"/>
              <a:ext cx="177840" cy="453960"/>
              <a:chOff x="1272960" y="2852640"/>
              <a:chExt cx="177840" cy="453960"/>
            </a:xfrm>
          </p:grpSpPr>
          <p:sp>
            <p:nvSpPr>
              <p:cNvPr id="896" name=""/>
              <p:cNvSpPr/>
              <p:nvPr/>
            </p:nvSpPr>
            <p:spPr>
              <a:xfrm>
                <a:off x="1361520" y="2852640"/>
                <a:ext cx="889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1272960" y="289800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272960" y="298872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H="1">
                <a:off x="1272960" y="303408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272960" y="312480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>
                <a:off x="1272960" y="317052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272960" y="326124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3" name=""/>
            <p:cNvSpPr/>
            <p:nvPr/>
          </p:nvSpPr>
          <p:spPr>
            <a:xfrm>
              <a:off x="1333080" y="3630240"/>
              <a:ext cx="59040" cy="65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155600" y="3371760"/>
              <a:ext cx="17748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1333080" y="2658960"/>
              <a:ext cx="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77760" y="330660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400040" y="285264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977760" y="33447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1358640" y="3649320"/>
              <a:ext cx="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206360" y="2658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1892160" y="2658960"/>
            <a:ext cx="869760" cy="1184040"/>
            <a:chOff x="1892160" y="2658960"/>
            <a:chExt cx="869760" cy="1184040"/>
          </a:xfrm>
        </p:grpSpPr>
        <p:grpSp>
          <p:nvGrpSpPr>
            <p:cNvPr id="912" name=""/>
            <p:cNvGrpSpPr/>
            <p:nvPr/>
          </p:nvGrpSpPr>
          <p:grpSpPr>
            <a:xfrm>
              <a:off x="2187360" y="2852640"/>
              <a:ext cx="177840" cy="453960"/>
              <a:chOff x="2187360" y="2852640"/>
              <a:chExt cx="177840" cy="453960"/>
            </a:xfrm>
          </p:grpSpPr>
          <p:sp>
            <p:nvSpPr>
              <p:cNvPr id="913" name=""/>
              <p:cNvSpPr/>
              <p:nvPr/>
            </p:nvSpPr>
            <p:spPr>
              <a:xfrm>
                <a:off x="2275920" y="2852640"/>
                <a:ext cx="889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H="1">
                <a:off x="2187360" y="289800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187360" y="298872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H="1">
                <a:off x="2187360" y="303408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187360" y="312480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H="1">
                <a:off x="2187360" y="317052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187360" y="326124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0" name=""/>
            <p:cNvSpPr/>
            <p:nvPr/>
          </p:nvSpPr>
          <p:spPr>
            <a:xfrm>
              <a:off x="2247480" y="3630240"/>
              <a:ext cx="59040" cy="65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070000" y="3371760"/>
              <a:ext cx="17748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2247480" y="2658960"/>
              <a:ext cx="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92160" y="330660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314440" y="285264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892160" y="33447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2273040" y="3649320"/>
              <a:ext cx="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20760" y="2658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1359000" y="38782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1441440" y="5021280"/>
            <a:ext cx="603000" cy="1371240"/>
            <a:chOff x="1441440" y="5021280"/>
            <a:chExt cx="603000" cy="1371240"/>
          </a:xfrm>
        </p:grpSpPr>
        <p:grpSp>
          <p:nvGrpSpPr>
            <p:cNvPr id="930" name=""/>
            <p:cNvGrpSpPr/>
            <p:nvPr/>
          </p:nvGrpSpPr>
          <p:grpSpPr>
            <a:xfrm>
              <a:off x="1806480" y="5214960"/>
              <a:ext cx="177840" cy="453960"/>
              <a:chOff x="1806480" y="5214960"/>
              <a:chExt cx="177840" cy="453960"/>
            </a:xfrm>
          </p:grpSpPr>
          <p:sp>
            <p:nvSpPr>
              <p:cNvPr id="931" name=""/>
              <p:cNvSpPr/>
              <p:nvPr/>
            </p:nvSpPr>
            <p:spPr>
              <a:xfrm>
                <a:off x="1895040" y="5214960"/>
                <a:ext cx="889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H="1">
                <a:off x="1806480" y="526032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806480" y="535104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H="1">
                <a:off x="1806480" y="539640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806480" y="548712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>
                <a:off x="1806480" y="553284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806480" y="562356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8" name=""/>
            <p:cNvSpPr/>
            <p:nvPr/>
          </p:nvSpPr>
          <p:spPr>
            <a:xfrm>
              <a:off x="1866600" y="5992920"/>
              <a:ext cx="59040" cy="65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689120" y="5734080"/>
              <a:ext cx="17748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1866600" y="5021280"/>
              <a:ext cx="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866600" y="6058080"/>
              <a:ext cx="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511280" y="566892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441440" y="51735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4" name=""/>
            <p:cNvGrpSpPr/>
            <p:nvPr/>
          </p:nvGrpSpPr>
          <p:grpSpPr>
            <a:xfrm>
              <a:off x="1739880" y="6316560"/>
              <a:ext cx="304560" cy="75960"/>
              <a:chOff x="1739880" y="6316560"/>
              <a:chExt cx="304560" cy="75960"/>
            </a:xfrm>
          </p:grpSpPr>
          <p:sp>
            <p:nvSpPr>
              <p:cNvPr id="945" name=""/>
              <p:cNvSpPr/>
              <p:nvPr/>
            </p:nvSpPr>
            <p:spPr>
              <a:xfrm>
                <a:off x="1739880" y="631656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815840" y="6392520"/>
                <a:ext cx="15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7" name=""/>
          <p:cNvGrpSpPr/>
          <p:nvPr/>
        </p:nvGrpSpPr>
        <p:grpSpPr>
          <a:xfrm>
            <a:off x="2197080" y="5651640"/>
            <a:ext cx="352440" cy="55440"/>
            <a:chOff x="2197080" y="5651640"/>
            <a:chExt cx="352440" cy="55440"/>
          </a:xfrm>
        </p:grpSpPr>
        <p:sp>
          <p:nvSpPr>
            <p:cNvPr id="948" name=""/>
            <p:cNvSpPr/>
            <p:nvPr/>
          </p:nvSpPr>
          <p:spPr>
            <a:xfrm>
              <a:off x="2197080" y="5651640"/>
              <a:ext cx="352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255760" y="5707080"/>
              <a:ext cx="23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"/>
          <p:cNvSpPr/>
          <p:nvPr/>
        </p:nvSpPr>
        <p:spPr>
          <a:xfrm>
            <a:off x="2373480" y="5097600"/>
            <a:ext cx="0" cy="27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197080" y="537516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197080" y="543096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373480" y="5430960"/>
            <a:ext cx="0" cy="22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501280" y="531972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892160" y="5097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7074000" y="2506320"/>
            <a:ext cx="869040" cy="1295280"/>
            <a:chOff x="7074000" y="2506320"/>
            <a:chExt cx="869040" cy="1295280"/>
          </a:xfrm>
        </p:grpSpPr>
        <p:grpSp>
          <p:nvGrpSpPr>
            <p:cNvPr id="957" name=""/>
            <p:cNvGrpSpPr/>
            <p:nvPr/>
          </p:nvGrpSpPr>
          <p:grpSpPr>
            <a:xfrm>
              <a:off x="7369920" y="2700720"/>
              <a:ext cx="177120" cy="452880"/>
              <a:chOff x="7369920" y="2700720"/>
              <a:chExt cx="177120" cy="452880"/>
            </a:xfrm>
          </p:grpSpPr>
          <p:sp>
            <p:nvSpPr>
              <p:cNvPr id="958" name=""/>
              <p:cNvSpPr/>
              <p:nvPr/>
            </p:nvSpPr>
            <p:spPr>
              <a:xfrm>
                <a:off x="7458120" y="270072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H="1">
                <a:off x="7369920" y="274608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369920" y="2836440"/>
                <a:ext cx="1771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>
                <a:off x="7369920" y="288180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7369920" y="2972160"/>
                <a:ext cx="1771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H="1">
                <a:off x="7369920" y="301752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369920" y="3108240"/>
                <a:ext cx="8820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5" name=""/>
            <p:cNvSpPr/>
            <p:nvPr/>
          </p:nvSpPr>
          <p:spPr>
            <a:xfrm>
              <a:off x="7428600" y="3477960"/>
              <a:ext cx="59040" cy="64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251120" y="3218760"/>
              <a:ext cx="17712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7428600" y="2506320"/>
              <a:ext cx="0" cy="19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428600" y="3542760"/>
              <a:ext cx="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074000" y="315396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495560" y="27007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7074000" y="3573000"/>
            <a:ext cx="869040" cy="1295640"/>
            <a:chOff x="7074000" y="3573000"/>
            <a:chExt cx="869040" cy="1295640"/>
          </a:xfrm>
        </p:grpSpPr>
        <p:grpSp>
          <p:nvGrpSpPr>
            <p:cNvPr id="972" name=""/>
            <p:cNvGrpSpPr/>
            <p:nvPr/>
          </p:nvGrpSpPr>
          <p:grpSpPr>
            <a:xfrm>
              <a:off x="7369920" y="3767400"/>
              <a:ext cx="177120" cy="453240"/>
              <a:chOff x="7369920" y="3767400"/>
              <a:chExt cx="177120" cy="453240"/>
            </a:xfrm>
          </p:grpSpPr>
          <p:sp>
            <p:nvSpPr>
              <p:cNvPr id="973" name=""/>
              <p:cNvSpPr/>
              <p:nvPr/>
            </p:nvSpPr>
            <p:spPr>
              <a:xfrm>
                <a:off x="7458120" y="376740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H="1">
                <a:off x="7369920" y="381276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369920" y="3903120"/>
                <a:ext cx="1771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H="1">
                <a:off x="7369920" y="394848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369920" y="4039200"/>
                <a:ext cx="1771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flipH="1">
                <a:off x="7369920" y="4084560"/>
                <a:ext cx="17712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369920" y="4175280"/>
                <a:ext cx="8820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0" name=""/>
            <p:cNvSpPr/>
            <p:nvPr/>
          </p:nvSpPr>
          <p:spPr>
            <a:xfrm>
              <a:off x="7428600" y="4545000"/>
              <a:ext cx="59040" cy="64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251120" y="4285800"/>
              <a:ext cx="177120" cy="25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V="1">
              <a:off x="7428600" y="3573000"/>
              <a:ext cx="0" cy="19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428600" y="4609440"/>
              <a:ext cx="0" cy="25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074000" y="422100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495560" y="376740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7302600" y="25066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6546960" y="4869000"/>
            <a:ext cx="603000" cy="1371240"/>
            <a:chOff x="6546960" y="4869000"/>
            <a:chExt cx="603000" cy="1371240"/>
          </a:xfrm>
        </p:grpSpPr>
        <p:grpSp>
          <p:nvGrpSpPr>
            <p:cNvPr id="988" name=""/>
            <p:cNvGrpSpPr/>
            <p:nvPr/>
          </p:nvGrpSpPr>
          <p:grpSpPr>
            <a:xfrm>
              <a:off x="6912000" y="5062680"/>
              <a:ext cx="177840" cy="453960"/>
              <a:chOff x="6912000" y="5062680"/>
              <a:chExt cx="177840" cy="453960"/>
            </a:xfrm>
          </p:grpSpPr>
          <p:sp>
            <p:nvSpPr>
              <p:cNvPr id="989" name=""/>
              <p:cNvSpPr/>
              <p:nvPr/>
            </p:nvSpPr>
            <p:spPr>
              <a:xfrm>
                <a:off x="7000560" y="5062680"/>
                <a:ext cx="889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H="1">
                <a:off x="6912000" y="510804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912000" y="519876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H="1">
                <a:off x="6912000" y="524412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912000" y="533484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H="1">
                <a:off x="6912000" y="538056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912000" y="547128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6" name=""/>
            <p:cNvSpPr/>
            <p:nvPr/>
          </p:nvSpPr>
          <p:spPr>
            <a:xfrm>
              <a:off x="6972120" y="5840640"/>
              <a:ext cx="59040" cy="65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794640" y="5581800"/>
              <a:ext cx="17748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V="1">
              <a:off x="6972120" y="4869000"/>
              <a:ext cx="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972120" y="5905800"/>
              <a:ext cx="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616800" y="551664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546960" y="50212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2" name=""/>
            <p:cNvGrpSpPr/>
            <p:nvPr/>
          </p:nvGrpSpPr>
          <p:grpSpPr>
            <a:xfrm>
              <a:off x="6845400" y="6164280"/>
              <a:ext cx="304560" cy="75960"/>
              <a:chOff x="6845400" y="6164280"/>
              <a:chExt cx="304560" cy="75960"/>
            </a:xfrm>
          </p:grpSpPr>
          <p:sp>
            <p:nvSpPr>
              <p:cNvPr id="1003" name=""/>
              <p:cNvSpPr/>
              <p:nvPr/>
            </p:nvSpPr>
            <p:spPr>
              <a:xfrm>
                <a:off x="6845400" y="616428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921360" y="6240240"/>
                <a:ext cx="15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5" name=""/>
          <p:cNvGrpSpPr/>
          <p:nvPr/>
        </p:nvGrpSpPr>
        <p:grpSpPr>
          <a:xfrm>
            <a:off x="7537680" y="4869000"/>
            <a:ext cx="603000" cy="1371240"/>
            <a:chOff x="7537680" y="4869000"/>
            <a:chExt cx="603000" cy="1371240"/>
          </a:xfrm>
        </p:grpSpPr>
        <p:grpSp>
          <p:nvGrpSpPr>
            <p:cNvPr id="1006" name=""/>
            <p:cNvGrpSpPr/>
            <p:nvPr/>
          </p:nvGrpSpPr>
          <p:grpSpPr>
            <a:xfrm>
              <a:off x="7902720" y="5062680"/>
              <a:ext cx="177840" cy="453960"/>
              <a:chOff x="7902720" y="5062680"/>
              <a:chExt cx="177840" cy="453960"/>
            </a:xfrm>
          </p:grpSpPr>
          <p:sp>
            <p:nvSpPr>
              <p:cNvPr id="1007" name=""/>
              <p:cNvSpPr/>
              <p:nvPr/>
            </p:nvSpPr>
            <p:spPr>
              <a:xfrm>
                <a:off x="7991280" y="5062680"/>
                <a:ext cx="889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flipH="1">
                <a:off x="7902720" y="510804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902720" y="519876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H="1">
                <a:off x="7902720" y="524412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902720" y="5334840"/>
                <a:ext cx="17784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>
                <a:off x="7902720" y="5380560"/>
                <a:ext cx="17784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902720" y="5471280"/>
                <a:ext cx="8856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4" name=""/>
            <p:cNvSpPr/>
            <p:nvPr/>
          </p:nvSpPr>
          <p:spPr>
            <a:xfrm>
              <a:off x="7962840" y="5840640"/>
              <a:ext cx="59040" cy="65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785360" y="5581800"/>
              <a:ext cx="17748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7962840" y="4869000"/>
              <a:ext cx="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962840" y="5905800"/>
              <a:ext cx="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607520" y="5516640"/>
              <a:ext cx="2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537680" y="50212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7836120" y="6164280"/>
              <a:ext cx="304560" cy="75960"/>
              <a:chOff x="7836120" y="6164280"/>
              <a:chExt cx="304560" cy="75960"/>
            </a:xfrm>
          </p:grpSpPr>
          <p:sp>
            <p:nvSpPr>
              <p:cNvPr id="1021" name=""/>
              <p:cNvSpPr/>
              <p:nvPr/>
            </p:nvSpPr>
            <p:spPr>
              <a:xfrm>
                <a:off x="7836120" y="616428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912080" y="6240240"/>
                <a:ext cx="15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3" name=""/>
          <p:cNvSpPr/>
          <p:nvPr/>
        </p:nvSpPr>
        <p:spPr>
          <a:xfrm>
            <a:off x="6997680" y="48690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8217000" y="4869000"/>
            <a:ext cx="747000" cy="663120"/>
            <a:chOff x="8217000" y="4869000"/>
            <a:chExt cx="747000" cy="663120"/>
          </a:xfrm>
        </p:grpSpPr>
        <p:grpSp>
          <p:nvGrpSpPr>
            <p:cNvPr id="1025" name=""/>
            <p:cNvGrpSpPr/>
            <p:nvPr/>
          </p:nvGrpSpPr>
          <p:grpSpPr>
            <a:xfrm>
              <a:off x="8217000" y="5423040"/>
              <a:ext cx="352440" cy="55080"/>
              <a:chOff x="8217000" y="5423040"/>
              <a:chExt cx="352440" cy="55080"/>
            </a:xfrm>
          </p:grpSpPr>
          <p:sp>
            <p:nvSpPr>
              <p:cNvPr id="1026" name=""/>
              <p:cNvSpPr/>
              <p:nvPr/>
            </p:nvSpPr>
            <p:spPr>
              <a:xfrm>
                <a:off x="8217000" y="5423040"/>
                <a:ext cx="352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8275680" y="5478120"/>
                <a:ext cx="235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8" name=""/>
            <p:cNvSpPr/>
            <p:nvPr/>
          </p:nvSpPr>
          <p:spPr>
            <a:xfrm>
              <a:off x="8393040" y="4869000"/>
              <a:ext cx="0" cy="27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217000" y="5145840"/>
              <a:ext cx="35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217000" y="5201280"/>
              <a:ext cx="35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393040" y="5201280"/>
              <a:ext cx="0" cy="22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16520" y="50914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7074000" y="31924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074000" y="425916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7912080" y="4203720"/>
            <a:ext cx="352440" cy="55440"/>
            <a:chOff x="7912080" y="4203720"/>
            <a:chExt cx="352440" cy="55440"/>
          </a:xfrm>
        </p:grpSpPr>
        <p:sp>
          <p:nvSpPr>
            <p:cNvPr id="1036" name=""/>
            <p:cNvSpPr/>
            <p:nvPr/>
          </p:nvSpPr>
          <p:spPr>
            <a:xfrm>
              <a:off x="7912080" y="4203720"/>
              <a:ext cx="352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970760" y="4259160"/>
              <a:ext cx="23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8" name=""/>
          <p:cNvSpPr/>
          <p:nvPr/>
        </p:nvSpPr>
        <p:spPr>
          <a:xfrm>
            <a:off x="8088480" y="3649680"/>
            <a:ext cx="0" cy="27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912080" y="392760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912080" y="398304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8088480" y="3983040"/>
            <a:ext cx="0" cy="22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8216280" y="387180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454880" y="3649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12640" y="605628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46"/>
                </a:solidFill>
                <a:latin typeface="Arial"/>
              </a:rPr>
              <a:t>NAND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156200" y="595296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46"/>
                </a:solidFill>
                <a:latin typeface="Arial"/>
              </a:rPr>
              <a:t>IN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8249040" y="58086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46"/>
                </a:solidFill>
                <a:latin typeface="Arial"/>
              </a:rPr>
              <a:t>NO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tar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nsición bajo a a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mbas entradas cambian a bajo: retardo = 0.69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2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entrada cambia a bajo: retardo = 0.69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nsición alto a 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mbas entradas cambian a alto: retardo = 0.69 2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1892160" y="3468600"/>
            <a:ext cx="715320" cy="643320"/>
            <a:chOff x="1892160" y="3468600"/>
            <a:chExt cx="715320" cy="643320"/>
          </a:xfrm>
        </p:grpSpPr>
        <p:grpSp>
          <p:nvGrpSpPr>
            <p:cNvPr id="1050" name=""/>
            <p:cNvGrpSpPr/>
            <p:nvPr/>
          </p:nvGrpSpPr>
          <p:grpSpPr>
            <a:xfrm>
              <a:off x="1892160" y="3978360"/>
              <a:ext cx="308160" cy="50760"/>
              <a:chOff x="1892160" y="3978360"/>
              <a:chExt cx="308160" cy="50760"/>
            </a:xfrm>
          </p:grpSpPr>
          <p:sp>
            <p:nvSpPr>
              <p:cNvPr id="1051" name=""/>
              <p:cNvSpPr/>
              <p:nvPr/>
            </p:nvSpPr>
            <p:spPr>
              <a:xfrm>
                <a:off x="1892160" y="3978360"/>
                <a:ext cx="308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943280" y="4029120"/>
                <a:ext cx="205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>
              <a:off x="2046240" y="3468600"/>
              <a:ext cx="0" cy="25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892160" y="3723480"/>
              <a:ext cx="30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892160" y="3774600"/>
              <a:ext cx="30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046240" y="3774600"/>
              <a:ext cx="0" cy="20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160000" y="36712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1550880" y="3646440"/>
            <a:ext cx="155520" cy="417600"/>
            <a:chOff x="1550880" y="3646440"/>
            <a:chExt cx="155520" cy="417600"/>
          </a:xfrm>
        </p:grpSpPr>
        <p:sp>
          <p:nvSpPr>
            <p:cNvPr id="1059" name=""/>
            <p:cNvSpPr/>
            <p:nvPr/>
          </p:nvSpPr>
          <p:spPr>
            <a:xfrm>
              <a:off x="1628280" y="3646440"/>
              <a:ext cx="7776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1550880" y="3688200"/>
              <a:ext cx="155520" cy="8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550880" y="3771720"/>
              <a:ext cx="15552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1550880" y="3813480"/>
              <a:ext cx="155520" cy="8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550880" y="3897000"/>
              <a:ext cx="15552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1550880" y="3938760"/>
              <a:ext cx="155520" cy="8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550880" y="4022280"/>
              <a:ext cx="7740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>
            <a:off x="1604880" y="4361040"/>
            <a:ext cx="50760" cy="60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449360" y="4124160"/>
            <a:ext cx="155520" cy="23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1604880" y="346860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604880" y="4421160"/>
            <a:ext cx="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293840" y="4064040"/>
            <a:ext cx="23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231920" y="360828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2" name=""/>
          <p:cNvGrpSpPr/>
          <p:nvPr/>
        </p:nvGrpSpPr>
        <p:grpSpPr>
          <a:xfrm>
            <a:off x="826920" y="2349360"/>
            <a:ext cx="818640" cy="1087200"/>
            <a:chOff x="826920" y="2349360"/>
            <a:chExt cx="818640" cy="1087200"/>
          </a:xfrm>
        </p:grpSpPr>
        <p:grpSp>
          <p:nvGrpSpPr>
            <p:cNvPr id="1073" name=""/>
            <p:cNvGrpSpPr/>
            <p:nvPr/>
          </p:nvGrpSpPr>
          <p:grpSpPr>
            <a:xfrm>
              <a:off x="1085040" y="2527200"/>
              <a:ext cx="155520" cy="416880"/>
              <a:chOff x="1085040" y="2527200"/>
              <a:chExt cx="155520" cy="416880"/>
            </a:xfrm>
          </p:grpSpPr>
          <p:sp>
            <p:nvSpPr>
              <p:cNvPr id="1074" name=""/>
              <p:cNvSpPr/>
              <p:nvPr/>
            </p:nvSpPr>
            <p:spPr>
              <a:xfrm>
                <a:off x="1162440" y="2527200"/>
                <a:ext cx="77760" cy="4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H="1">
                <a:off x="1085040" y="2568960"/>
                <a:ext cx="15552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1085040" y="2652120"/>
                <a:ext cx="155520" cy="4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H="1">
                <a:off x="1085040" y="2693880"/>
                <a:ext cx="15552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085040" y="2777040"/>
                <a:ext cx="155520" cy="4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H="1">
                <a:off x="1085040" y="2818800"/>
                <a:ext cx="15552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085040" y="2902320"/>
                <a:ext cx="77400" cy="4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1" name=""/>
            <p:cNvSpPr/>
            <p:nvPr/>
          </p:nvSpPr>
          <p:spPr>
            <a:xfrm>
              <a:off x="1137600" y="3241440"/>
              <a:ext cx="51480" cy="59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982440" y="3003840"/>
              <a:ext cx="155160" cy="23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1137600" y="234936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826920" y="2944080"/>
              <a:ext cx="23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198080" y="25282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26920" y="2979000"/>
              <a:ext cx="26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1159920" y="32587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026720" y="2349360"/>
              <a:ext cx="26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1625760" y="2349360"/>
            <a:ext cx="820800" cy="1087200"/>
            <a:chOff x="1625760" y="2349360"/>
            <a:chExt cx="820800" cy="1087200"/>
          </a:xfrm>
        </p:grpSpPr>
        <p:grpSp>
          <p:nvGrpSpPr>
            <p:cNvPr id="1090" name=""/>
            <p:cNvGrpSpPr/>
            <p:nvPr/>
          </p:nvGrpSpPr>
          <p:grpSpPr>
            <a:xfrm>
              <a:off x="1884960" y="2527200"/>
              <a:ext cx="155520" cy="416880"/>
              <a:chOff x="1884960" y="2527200"/>
              <a:chExt cx="155520" cy="416880"/>
            </a:xfrm>
          </p:grpSpPr>
          <p:sp>
            <p:nvSpPr>
              <p:cNvPr id="1091" name=""/>
              <p:cNvSpPr/>
              <p:nvPr/>
            </p:nvSpPr>
            <p:spPr>
              <a:xfrm>
                <a:off x="1962720" y="2527200"/>
                <a:ext cx="77760" cy="4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H="1">
                <a:off x="1884960" y="2568960"/>
                <a:ext cx="15516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885320" y="2652120"/>
                <a:ext cx="155160" cy="4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H="1">
                <a:off x="1884960" y="2693880"/>
                <a:ext cx="15516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885320" y="2777040"/>
                <a:ext cx="155160" cy="4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1884960" y="2818800"/>
                <a:ext cx="15516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885320" y="2902320"/>
                <a:ext cx="77400" cy="4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8" name=""/>
            <p:cNvSpPr/>
            <p:nvPr/>
          </p:nvSpPr>
          <p:spPr>
            <a:xfrm>
              <a:off x="1937880" y="3241440"/>
              <a:ext cx="51480" cy="59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782720" y="3003840"/>
              <a:ext cx="154800" cy="23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1937880" y="234936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625760" y="2944080"/>
              <a:ext cx="23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999080" y="25282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627200" y="2979000"/>
              <a:ext cx="26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1960200" y="32587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827000" y="2349360"/>
              <a:ext cx="26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6" name=""/>
          <p:cNvSpPr/>
          <p:nvPr/>
        </p:nvSpPr>
        <p:spPr>
          <a:xfrm>
            <a:off x="1160640" y="3468600"/>
            <a:ext cx="10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7" name=""/>
          <p:cNvGrpSpPr/>
          <p:nvPr/>
        </p:nvGrpSpPr>
        <p:grpSpPr>
          <a:xfrm>
            <a:off x="1232280" y="4519080"/>
            <a:ext cx="527760" cy="1258920"/>
            <a:chOff x="1232280" y="4519080"/>
            <a:chExt cx="527760" cy="1258920"/>
          </a:xfrm>
        </p:grpSpPr>
        <p:grpSp>
          <p:nvGrpSpPr>
            <p:cNvPr id="1108" name=""/>
            <p:cNvGrpSpPr/>
            <p:nvPr/>
          </p:nvGrpSpPr>
          <p:grpSpPr>
            <a:xfrm>
              <a:off x="1551960" y="4696920"/>
              <a:ext cx="155520" cy="416160"/>
              <a:chOff x="1551960" y="4696920"/>
              <a:chExt cx="155520" cy="416160"/>
            </a:xfrm>
          </p:grpSpPr>
          <p:sp>
            <p:nvSpPr>
              <p:cNvPr id="1109" name=""/>
              <p:cNvSpPr/>
              <p:nvPr/>
            </p:nvSpPr>
            <p:spPr>
              <a:xfrm>
                <a:off x="1629360" y="4696920"/>
                <a:ext cx="7776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H="1">
                <a:off x="1551960" y="4738320"/>
                <a:ext cx="15552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551960" y="4821840"/>
                <a:ext cx="15552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H="1">
                <a:off x="1551960" y="4863600"/>
                <a:ext cx="15552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551960" y="4946760"/>
                <a:ext cx="15552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H="1">
                <a:off x="1551960" y="4988520"/>
                <a:ext cx="155520" cy="8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551960" y="5071680"/>
                <a:ext cx="7740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6" name=""/>
            <p:cNvSpPr/>
            <p:nvPr/>
          </p:nvSpPr>
          <p:spPr>
            <a:xfrm>
              <a:off x="1604520" y="5411160"/>
              <a:ext cx="51480" cy="59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449000" y="5173560"/>
              <a:ext cx="155160" cy="23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V="1">
              <a:off x="1604520" y="4519080"/>
              <a:ext cx="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604520" y="5470920"/>
              <a:ext cx="0" cy="23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294560" y="5113800"/>
              <a:ext cx="23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232280" y="46591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1493640" y="5708160"/>
              <a:ext cx="266400" cy="69840"/>
              <a:chOff x="1493640" y="5708160"/>
              <a:chExt cx="266400" cy="69840"/>
            </a:xfrm>
          </p:grpSpPr>
          <p:sp>
            <p:nvSpPr>
              <p:cNvPr id="1123" name=""/>
              <p:cNvSpPr/>
              <p:nvPr/>
            </p:nvSpPr>
            <p:spPr>
              <a:xfrm>
                <a:off x="1493640" y="5708160"/>
                <a:ext cx="266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1560240" y="5778000"/>
                <a:ext cx="13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5" name=""/>
          <p:cNvGrpSpPr/>
          <p:nvPr/>
        </p:nvGrpSpPr>
        <p:grpSpPr>
          <a:xfrm>
            <a:off x="1892160" y="4589640"/>
            <a:ext cx="789480" cy="642600"/>
            <a:chOff x="1892160" y="4589640"/>
            <a:chExt cx="789480" cy="642600"/>
          </a:xfrm>
        </p:grpSpPr>
        <p:grpSp>
          <p:nvGrpSpPr>
            <p:cNvPr id="1126" name=""/>
            <p:cNvGrpSpPr/>
            <p:nvPr/>
          </p:nvGrpSpPr>
          <p:grpSpPr>
            <a:xfrm>
              <a:off x="1892160" y="5097960"/>
              <a:ext cx="308520" cy="50400"/>
              <a:chOff x="1892160" y="5097960"/>
              <a:chExt cx="308520" cy="50400"/>
            </a:xfrm>
          </p:grpSpPr>
          <p:sp>
            <p:nvSpPr>
              <p:cNvPr id="1127" name=""/>
              <p:cNvSpPr/>
              <p:nvPr/>
            </p:nvSpPr>
            <p:spPr>
              <a:xfrm>
                <a:off x="1892160" y="5097960"/>
                <a:ext cx="308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1943640" y="5148360"/>
                <a:ext cx="205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9" name=""/>
            <p:cNvSpPr/>
            <p:nvPr/>
          </p:nvSpPr>
          <p:spPr>
            <a:xfrm>
              <a:off x="2046240" y="458964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892160" y="4843800"/>
              <a:ext cx="30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892160" y="4894560"/>
              <a:ext cx="30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046240" y="4894560"/>
              <a:ext cx="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159640" y="4791600"/>
              <a:ext cx="52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1627200" y="458964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tar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6" name=""/>
          <p:cNvGraphicFramePr/>
          <p:nvPr/>
        </p:nvGraphicFramePr>
        <p:xfrm>
          <a:off x="212760" y="1268280"/>
          <a:ext cx="59436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760" y="1268280"/>
                    <a:ext cx="5943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8" name=""/>
          <p:cNvGraphicFramePr/>
          <p:nvPr/>
        </p:nvGraphicFramePr>
        <p:xfrm>
          <a:off x="6051600" y="1557360"/>
          <a:ext cx="2743200" cy="3429000"/>
        </p:xfrm>
        <a:graphic>
          <a:graphicData uri="http://schemas.openxmlformats.org/drawingml/2006/table">
            <a:tbl>
              <a:tblPr/>
              <a:tblGrid>
                <a:gridCol w="1600200"/>
                <a:gridCol w="1143000"/>
              </a:tblGrid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a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ar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se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=B=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=1, B=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= 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B=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=B=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=1, B=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= 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B=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9" name=""/>
          <p:cNvSpPr/>
          <p:nvPr/>
        </p:nvSpPr>
        <p:spPr>
          <a:xfrm>
            <a:off x="5594400" y="5291280"/>
            <a:ext cx="31240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OS = 0.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/0.2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MOS = 0.7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/0.2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 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438280" y="4979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 [p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rot="16200000">
            <a:off x="-562320" y="310356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oltaje [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gebra de Bo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463920" y="1715040"/>
            <a:ext cx="222912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0" spc="-1" strike="noStrike">
                <a:solidFill>
                  <a:srgbClr val="808080"/>
                </a:solidFill>
                <a:latin typeface="Arial"/>
              </a:rPr>
              <a:t>?</a:t>
            </a:r>
            <a:endParaRPr b="0" lang="en-US" sz="2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gunas Defin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ntérmino: Es una función booleana AND conteniendo exactamente una instancia de cada variable de entrada o su inver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xtérmino: Es una función booleana OR conteniendo exactamente una instancia de cada variable de entrada o su inver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gunas Defin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la función es verdadera en la línea i de la tabla de verdad , el mintérmino existe y se denomina m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la función es falsa en la línea i de la tabla de verdad , el maxtérmino existe y se denomina M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9" name=""/>
          <p:cNvGraphicFramePr/>
          <p:nvPr/>
        </p:nvGraphicFramePr>
        <p:xfrm>
          <a:off x="971640" y="1844640"/>
          <a:ext cx="2819160" cy="4100400"/>
        </p:xfrm>
        <a:graphic>
          <a:graphicData uri="http://schemas.openxmlformats.org/drawingml/2006/table">
            <a:tbl>
              <a:tblPr/>
              <a:tblGrid>
                <a:gridCol w="442440"/>
                <a:gridCol w="503280"/>
                <a:gridCol w="504720"/>
                <a:gridCol w="576360"/>
                <a:gridCol w="79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s-ES_tradn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s-ES_tradn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s-ES_tradn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s-ES_tradn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s-ES_tradn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s-ES_tradn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s-ES_tradn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s-ES_tradn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0" name=""/>
          <p:cNvSpPr/>
          <p:nvPr/>
        </p:nvSpPr>
        <p:spPr>
          <a:xfrm>
            <a:off x="4284720" y="1916280"/>
            <a:ext cx="42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función de los mintérm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308840" y="3451320"/>
            <a:ext cx="43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función de los maxtérm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003640" y="3500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3" name=""/>
              <p:cNvSpPr txBox="1"/>
              <p:nvPr/>
            </p:nvSpPr>
            <p:spPr>
              <a:xfrm>
                <a:off x="4376880" y="2330280"/>
                <a:ext cx="41050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4" name=""/>
              <p:cNvSpPr txBox="1"/>
              <p:nvPr/>
            </p:nvSpPr>
            <p:spPr>
              <a:xfrm>
                <a:off x="4305240" y="3857760"/>
                <a:ext cx="4176720" cy="16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⋅</m:t>
                        </m:r>
                      </m:e>
                      <m:e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ás Defin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 implicante es un término que cubre al menos un valor verdadero y ningún valor falso de la fu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7" name=""/>
          <p:cNvGraphicFramePr/>
          <p:nvPr/>
        </p:nvGraphicFramePr>
        <p:xfrm>
          <a:off x="1116000" y="3703680"/>
          <a:ext cx="1008000" cy="1741320"/>
        </p:xfrm>
        <a:graphic>
          <a:graphicData uri="http://schemas.openxmlformats.org/drawingml/2006/table">
            <a:tbl>
              <a:tblPr/>
              <a:tblGrid>
                <a:gridCol w="311040"/>
                <a:gridCol w="360360"/>
                <a:gridCol w="336600"/>
              </a:tblGrid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58" name=""/>
              <p:cNvSpPr txBox="1"/>
              <p:nvPr/>
            </p:nvSpPr>
            <p:spPr>
              <a:xfrm>
                <a:off x="2843280" y="3573360"/>
                <a:ext cx="1441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159" name=""/>
          <p:cNvSpPr/>
          <p:nvPr/>
        </p:nvSpPr>
        <p:spPr>
          <a:xfrm>
            <a:off x="2827800" y="402444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implicantes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2916360" y="4437000"/>
                <a:ext cx="20872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,</m:t>
                    </m:r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161" name=""/>
          <p:cNvSpPr/>
          <p:nvPr/>
        </p:nvSpPr>
        <p:spPr>
          <a:xfrm>
            <a:off x="2826000" y="483552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no implicantes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2916360" y="5157720"/>
                <a:ext cx="10792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ás Defin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implicante primo es un implicante que cubre uno o más mintérminos de modo que los mintérminos no están todos cubiertos por otro implic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5" name=""/>
          <p:cNvGraphicFramePr/>
          <p:nvPr/>
        </p:nvGraphicFramePr>
        <p:xfrm>
          <a:off x="1116000" y="3703680"/>
          <a:ext cx="1008000" cy="1741320"/>
        </p:xfrm>
        <a:graphic>
          <a:graphicData uri="http://schemas.openxmlformats.org/drawingml/2006/table">
            <a:tbl>
              <a:tblPr/>
              <a:tblGrid>
                <a:gridCol w="311040"/>
                <a:gridCol w="360360"/>
                <a:gridCol w="336600"/>
              </a:tblGrid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66" name=""/>
              <p:cNvSpPr txBox="1"/>
              <p:nvPr/>
            </p:nvSpPr>
            <p:spPr>
              <a:xfrm>
                <a:off x="2843280" y="3573360"/>
                <a:ext cx="1441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167" name=""/>
          <p:cNvSpPr/>
          <p:nvPr/>
        </p:nvSpPr>
        <p:spPr>
          <a:xfrm>
            <a:off x="2828160" y="4024440"/>
            <a:ext cx="29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implicantes primos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8" name=""/>
              <p:cNvSpPr txBox="1"/>
              <p:nvPr/>
            </p:nvSpPr>
            <p:spPr>
              <a:xfrm>
                <a:off x="2916360" y="4437000"/>
                <a:ext cx="5824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ás Defin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 implicante primo esencial es un implicante primo que cubre un implicante no cubierto por otros implicantes pr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1" name=""/>
          <p:cNvGraphicFramePr/>
          <p:nvPr/>
        </p:nvGraphicFramePr>
        <p:xfrm>
          <a:off x="1116000" y="3703680"/>
          <a:ext cx="1008000" cy="1741320"/>
        </p:xfrm>
        <a:graphic>
          <a:graphicData uri="http://schemas.openxmlformats.org/drawingml/2006/table">
            <a:tbl>
              <a:tblPr/>
              <a:tblGrid>
                <a:gridCol w="311040"/>
                <a:gridCol w="360360"/>
                <a:gridCol w="336600"/>
              </a:tblGrid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2843280" y="3573360"/>
                <a:ext cx="1441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173" name=""/>
          <p:cNvSpPr/>
          <p:nvPr/>
        </p:nvSpPr>
        <p:spPr>
          <a:xfrm>
            <a:off x="2829600" y="4024440"/>
            <a:ext cx="41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implicantes primos esenciales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2987640" y="4437000"/>
                <a:ext cx="5824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lases de Circuitos Lóg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ircuitos Est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alida de una puerta está conectada a Vdd o Vss en cualquier momento a través un camino con baja resis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alida corresponde al resultado de la función booleana, ignorando los efectos trans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ircuitos Diná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enden del almacenamiento temporal de los valores de la señal en un condens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inimización Lóg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función de un circuito lógico combinatorio puede ser descrita por una o más expresiones boolea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general, estas expresiones no están en su forma mínima, por lo que la cantidad de hardware necesario para su implementación es excesiva (no es míni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nimizar significa encontrar el conjunto de implicantes primos de la función necesarios para describirla complet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inimización Lóg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gebra de Bo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ductor de err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pas de Karna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áciles de u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limitado d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goritmo de Quine-McClus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puede hacer a mano pero es preferible a través de programas comput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ncia de Espr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lgoritmo de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Quine-McCluskey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umerar en una tabla todos los mintérminos en forma binaria, organizados según el número de unos que conten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tre los grupos adyacentes buscar los mintérminos que sólo difieren en un bit en la misma posición, para hallar los primeros implicantes pri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truir una tabla que enumere los implicantes primos y los mintérminos contenidos por cada implicante pr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busca los primeros implicados esenciales, es decir aquellos implicantes que cubren sólo un mintér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lgoritmo de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Quine-McCluskey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leccionar los mínterminos que están cubiertos por los primeros implicados esen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dentificar los míntérminos no cubier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leccionar otros implicantes primos que cubran a estos mintérm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4" name=""/>
              <p:cNvSpPr txBox="1"/>
              <p:nvPr/>
            </p:nvSpPr>
            <p:spPr>
              <a:xfrm>
                <a:off x="250920" y="1700280"/>
                <a:ext cx="69850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6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7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8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9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d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c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bcd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c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185" name=""/>
          <p:cNvGraphicFramePr/>
          <p:nvPr/>
        </p:nvGraphicFramePr>
        <p:xfrm>
          <a:off x="2627280" y="2997360"/>
          <a:ext cx="3457440" cy="3109680"/>
        </p:xfrm>
        <a:graphic>
          <a:graphicData uri="http://schemas.openxmlformats.org/drawingml/2006/table">
            <a:tbl>
              <a:tblPr/>
              <a:tblGrid>
                <a:gridCol w="1152720"/>
                <a:gridCol w="287280"/>
                <a:gridCol w="288720"/>
                <a:gridCol w="287280"/>
                <a:gridCol w="289080"/>
                <a:gridCol w="1152360"/>
              </a:tblGrid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tér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o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o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o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o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7" name=""/>
          <p:cNvGraphicFramePr/>
          <p:nvPr/>
        </p:nvGraphicFramePr>
        <p:xfrm>
          <a:off x="3276720" y="2133720"/>
          <a:ext cx="2305080" cy="3413160"/>
        </p:xfrm>
        <a:graphic>
          <a:graphicData uri="http://schemas.openxmlformats.org/drawingml/2006/table">
            <a:tbl>
              <a:tblPr/>
              <a:tblGrid>
                <a:gridCol w="1152720"/>
                <a:gridCol w="287280"/>
                <a:gridCol w="289080"/>
                <a:gridCol w="287280"/>
                <a:gridCol w="288720"/>
              </a:tblGrid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tér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6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7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7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8" name=""/>
          <p:cNvGraphicFramePr/>
          <p:nvPr/>
        </p:nvGraphicFramePr>
        <p:xfrm>
          <a:off x="324000" y="2131920"/>
          <a:ext cx="2305080" cy="3110040"/>
        </p:xfrm>
        <a:graphic>
          <a:graphicData uri="http://schemas.openxmlformats.org/drawingml/2006/table">
            <a:tbl>
              <a:tblPr/>
              <a:tblGrid>
                <a:gridCol w="1152360"/>
                <a:gridCol w="287280"/>
                <a:gridCol w="289080"/>
                <a:gridCol w="287280"/>
                <a:gridCol w="289080"/>
              </a:tblGrid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tér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9" name=""/>
          <p:cNvGraphicFramePr/>
          <p:nvPr/>
        </p:nvGraphicFramePr>
        <p:xfrm>
          <a:off x="6156360" y="2133720"/>
          <a:ext cx="2305080" cy="987480"/>
        </p:xfrm>
        <a:graphic>
          <a:graphicData uri="http://schemas.openxmlformats.org/drawingml/2006/table">
            <a:tbl>
              <a:tblPr/>
              <a:tblGrid>
                <a:gridCol w="1152360"/>
                <a:gridCol w="287640"/>
                <a:gridCol w="288720"/>
                <a:gridCol w="287280"/>
                <a:gridCol w="289080"/>
              </a:tblGrid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tér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6 – 3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– 6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1" name=""/>
          <p:cNvGraphicFramePr/>
          <p:nvPr/>
        </p:nvGraphicFramePr>
        <p:xfrm>
          <a:off x="3132000" y="2133720"/>
          <a:ext cx="2808360" cy="3413160"/>
        </p:xfrm>
        <a:graphic>
          <a:graphicData uri="http://schemas.openxmlformats.org/drawingml/2006/table">
            <a:tbl>
              <a:tblPr/>
              <a:tblGrid>
                <a:gridCol w="1152360"/>
                <a:gridCol w="287280"/>
                <a:gridCol w="289080"/>
                <a:gridCol w="287280"/>
                <a:gridCol w="289080"/>
                <a:gridCol w="503280"/>
              </a:tblGrid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tér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2" name=""/>
          <p:cNvGraphicFramePr/>
          <p:nvPr/>
        </p:nvGraphicFramePr>
        <p:xfrm>
          <a:off x="324000" y="2131920"/>
          <a:ext cx="2593800" cy="3109680"/>
        </p:xfrm>
        <a:graphic>
          <a:graphicData uri="http://schemas.openxmlformats.org/drawingml/2006/table">
            <a:tbl>
              <a:tblPr/>
              <a:tblGrid>
                <a:gridCol w="1152000"/>
                <a:gridCol w="287640"/>
                <a:gridCol w="288720"/>
                <a:gridCol w="287280"/>
                <a:gridCol w="289080"/>
                <a:gridCol w="289080"/>
              </a:tblGrid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tér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3" name=""/>
          <p:cNvGraphicFramePr/>
          <p:nvPr/>
        </p:nvGraphicFramePr>
        <p:xfrm>
          <a:off x="6156360" y="2133720"/>
          <a:ext cx="2808360" cy="987480"/>
        </p:xfrm>
        <a:graphic>
          <a:graphicData uri="http://schemas.openxmlformats.org/drawingml/2006/table">
            <a:tbl>
              <a:tblPr/>
              <a:tblGrid>
                <a:gridCol w="1152720"/>
                <a:gridCol w="287280"/>
                <a:gridCol w="289080"/>
                <a:gridCol w="287280"/>
                <a:gridCol w="288720"/>
                <a:gridCol w="503280"/>
              </a:tblGrid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tér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6 – 3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– 6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5" name=""/>
          <p:cNvGraphicFramePr/>
          <p:nvPr/>
        </p:nvGraphicFramePr>
        <p:xfrm>
          <a:off x="755640" y="1700280"/>
          <a:ext cx="3960720" cy="2681280"/>
        </p:xfrm>
        <a:graphic>
          <a:graphicData uri="http://schemas.openxmlformats.org/drawingml/2006/table">
            <a:tbl>
              <a:tblPr/>
              <a:tblGrid>
                <a:gridCol w="1152360"/>
                <a:gridCol w="287640"/>
                <a:gridCol w="288720"/>
                <a:gridCol w="287280"/>
                <a:gridCol w="289080"/>
                <a:gridCol w="289080"/>
                <a:gridCol w="288720"/>
                <a:gridCol w="289080"/>
                <a:gridCol w="396720"/>
                <a:gridCol w="39204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ic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96" name=""/>
          <p:cNvGraphicFramePr/>
          <p:nvPr/>
        </p:nvGraphicFramePr>
        <p:xfrm>
          <a:off x="5508720" y="1700280"/>
          <a:ext cx="2414520" cy="2074680"/>
        </p:xfrm>
        <a:graphic>
          <a:graphicData uri="http://schemas.openxmlformats.org/drawingml/2006/table">
            <a:tbl>
              <a:tblPr/>
              <a:tblGrid>
                <a:gridCol w="1152360"/>
                <a:gridCol w="287280"/>
                <a:gridCol w="289080"/>
                <a:gridCol w="288720"/>
                <a:gridCol w="39708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ic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755640" y="4724280"/>
                <a:ext cx="367200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I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I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I</m:t>
                            </m:r>
                            <m:r>
                              <m:t xml:space="preserve">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I</m:t>
                            </m:r>
                            <m:r>
                              <m:t xml:space="preserve">7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c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c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nimize usando mapas de Karnaugh y luego por el algoritmo de Quine-McClus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900000" y="3416400"/>
                <a:ext cx="525636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b>
                        </m:sSub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actores Tempo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da puerta produce un retardo finito entre un cambio en una señal de entrada y el cambio en la señal de sal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utilización de puertas en un circuito produce diversos caminos para las señales por lo que existen diversos retar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bujar diagramas de tiempo ayuda a entender esta sit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ircuito de tipo est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uesto de dos re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ull up network (PU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ull down network (PD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lo una de las redes conduce en un estado d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número de transistores necesario para implementar una puerta de n entradas es de 2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92880" y="26892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7440" y="268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97440" y="3832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97440" y="5127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8840" y="55087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45160" y="5584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21480" y="56610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97440" y="4137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10160" y="2281320"/>
            <a:ext cx="487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326720" y="395748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In1,In2,…In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83040" y="3146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51680" y="2967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64280" y="3070080"/>
            <a:ext cx="1066680" cy="7621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64280" y="4441680"/>
            <a:ext cx="1066680" cy="7621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83040" y="3375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83040" y="37558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83040" y="4518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83040" y="47466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83040" y="51274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51680" y="3271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51680" y="372888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51680" y="43387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51680" y="46432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51680" y="50245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18360" y="32227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18360" y="45943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36960" y="3070080"/>
            <a:ext cx="9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P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36600" y="482292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N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5343000">
            <a:off x="4823640" y="33130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5343000">
            <a:off x="4823640" y="46846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25240" y="1792440"/>
            <a:ext cx="57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a la fu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valor de C es generado a través de la inversión d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5" name=""/>
              <p:cNvSpPr txBox="1"/>
              <p:nvPr/>
            </p:nvSpPr>
            <p:spPr>
              <a:xfrm>
                <a:off x="2195640" y="1844640"/>
                <a:ext cx="1224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206" name=""/>
          <p:cNvSpPr/>
          <p:nvPr/>
        </p:nvSpPr>
        <p:spPr>
          <a:xfrm>
            <a:off x="1763640" y="24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7" name="" descr=""/>
          <p:cNvPicPr/>
          <p:nvPr/>
        </p:nvPicPr>
        <p:blipFill>
          <a:blip r:embed="rId1"/>
          <a:stretch/>
        </p:blipFill>
        <p:spPr>
          <a:xfrm>
            <a:off x="2698920" y="3201840"/>
            <a:ext cx="293184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25960" y="1792440"/>
            <a:ext cx="47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a posible implementación de la función 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0" name="" descr=""/>
          <p:cNvPicPr/>
          <p:nvPr/>
        </p:nvPicPr>
        <p:blipFill>
          <a:blip r:embed="rId1"/>
          <a:stretch/>
        </p:blipFill>
        <p:spPr>
          <a:xfrm>
            <a:off x="1476360" y="3127320"/>
            <a:ext cx="578016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519120" y="1792440"/>
            <a:ext cx="27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diagrama de tiempo equivalente 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3" name="" descr=""/>
          <p:cNvPicPr/>
          <p:nvPr/>
        </p:nvPicPr>
        <p:blipFill>
          <a:blip r:embed="rId1"/>
          <a:stretch/>
        </p:blipFill>
        <p:spPr>
          <a:xfrm>
            <a:off x="3994200" y="1052640"/>
            <a:ext cx="4178160" cy="5025960"/>
          </a:xfrm>
          <a:prstGeom prst="rect">
            <a:avLst/>
          </a:prstGeom>
          <a:ln w="0">
            <a:noFill/>
          </a:ln>
        </p:spPr>
      </p:pic>
      <p:grpSp>
        <p:nvGrpSpPr>
          <p:cNvPr id="1214" name=""/>
          <p:cNvGrpSpPr/>
          <p:nvPr/>
        </p:nvGrpSpPr>
        <p:grpSpPr>
          <a:xfrm>
            <a:off x="5580000" y="5157720"/>
            <a:ext cx="3164040" cy="1150920"/>
            <a:chOff x="5580000" y="5157720"/>
            <a:chExt cx="3164040" cy="1150920"/>
          </a:xfrm>
        </p:grpSpPr>
        <p:sp>
          <p:nvSpPr>
            <p:cNvPr id="1215" name=""/>
            <p:cNvSpPr/>
            <p:nvPr/>
          </p:nvSpPr>
          <p:spPr>
            <a:xfrm>
              <a:off x="5580000" y="5157720"/>
              <a:ext cx="1152720" cy="115092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787800" y="5608800"/>
              <a:ext cx="195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Arial"/>
                </a:rPr>
                <a:t>Hazard estático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az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8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2197080" cy="3818160"/>
          </a:xfrm>
          <a:prstGeom prst="rect">
            <a:avLst/>
          </a:prstGeom>
          <a:ln w="0">
            <a:noFill/>
          </a:ln>
        </p:spPr>
      </p:pic>
      <p:sp>
        <p:nvSpPr>
          <p:cNvPr id="1219" name=""/>
          <p:cNvSpPr/>
          <p:nvPr/>
        </p:nvSpPr>
        <p:spPr>
          <a:xfrm>
            <a:off x="4146480" y="2133720"/>
            <a:ext cx="41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 Estático, ocurre en lógicas AND-OR o NAND-N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146480" y="3141720"/>
            <a:ext cx="40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 Estático, ocurre en lógicas OR-AND o NOR-N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076640" y="4292640"/>
            <a:ext cx="416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 Dinámico, ocurre en lógicas de más de dos nive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076640" y="5300640"/>
            <a:ext cx="416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 Dinámico , ocurre en lógicas de más de dos nive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az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hazard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inámico ocurre cuando la factorización multinivel es m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hazard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estático puede ser evitado poniendo lógica redundante, considerando el ejemplo anter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" descr=""/>
          <p:cNvPicPr/>
          <p:nvPr/>
        </p:nvPicPr>
        <p:blipFill>
          <a:blip r:embed="rId1"/>
          <a:stretch/>
        </p:blipFill>
        <p:spPr>
          <a:xfrm>
            <a:off x="971640" y="4292640"/>
            <a:ext cx="2557440" cy="1517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26" name=""/>
              <p:cNvSpPr txBox="1"/>
              <p:nvPr/>
            </p:nvSpPr>
            <p:spPr>
              <a:xfrm>
                <a:off x="4067280" y="4724280"/>
                <a:ext cx="2665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+</m:t>
                    </m:r>
                    <m:r>
                      <m:t xml:space="preserve">B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istores N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transistores pueden ser considerados como un switch controlados por la señal del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switch NMOS se cierra cuando la señal de entrada del gate está en nivel a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transistores NMOS pasan un 0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strong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y un 1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w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200560" y="2060640"/>
            <a:ext cx="2835360" cy="865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11080" y="285264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 = X si A and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200560" y="3440160"/>
          <a:ext cx="1827360" cy="164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00560" y="3440160"/>
                    <a:ext cx="1827360" cy="16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5310360" y="51498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 = X si A or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istores P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transistores pueden ser considerados como un switch controlados por la señal del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switch PMOS se cierra cuando la señal de entrada del gate está en nivel 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transistores NMOS pasan un 1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strong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y un 0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w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435640" y="2060640"/>
          <a:ext cx="23320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2060640"/>
                    <a:ext cx="23320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5581080" y="2924280"/>
            <a:ext cx="27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 = X si not(A) and not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t(A or 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435640" y="3868560"/>
            <a:ext cx="1682640" cy="16480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5580720" y="5516640"/>
            <a:ext cx="26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 = X si not(A) or not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t(A and 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: Puerta N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506920" y="2421000"/>
          <a:ext cx="1728720" cy="2319120"/>
        </p:xfrm>
        <a:graphic>
          <a:graphicData uri="http://schemas.openxmlformats.org/drawingml/2006/table">
            <a:tbl>
              <a:tblPr/>
              <a:tblGrid>
                <a:gridCol w="432000"/>
                <a:gridCol w="431640"/>
                <a:gridCol w="86508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2327400" cy="3801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535720" y="5013360"/>
                <a:ext cx="16714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ut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: Puerta N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506920" y="2421000"/>
          <a:ext cx="1728720" cy="2319120"/>
        </p:xfrm>
        <a:graphic>
          <a:graphicData uri="http://schemas.openxmlformats.org/drawingml/2006/table">
            <a:tbl>
              <a:tblPr/>
              <a:tblGrid>
                <a:gridCol w="432000"/>
                <a:gridCol w="431640"/>
                <a:gridCol w="86508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508720" y="5013360"/>
                <a:ext cx="17272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ut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153360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: Función Comple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4295880" y="3687840"/>
                <a:ext cx="30016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ut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2027160" cy="44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8-01T16:27:41Z</dcterms:modified>
  <cp:revision>215</cp:revision>
  <dc:subject/>
  <dc:title>EL 6XX</dc:title>
</cp:coreProperties>
</file>